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A8A7-4FBE-4B31-8EA8-F25025DF14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F62-501C-4A38-AB90-3F06E6340E9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C86-D561-473D-B945-EF152BCF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A45-2B2D-4E54-B62D-45237856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87E-442C-4BA8-9F5B-8B81E674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DB3-8C25-499A-B68A-8DAA4D5D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E34B-8057-490B-88B0-8FF37E49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B849-0E44-431F-BA4F-6325B777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2BDF-1AAB-492E-975E-DEEB9DA3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C2CB-FE20-428F-9793-FC53B0FD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4A63-BCD5-4137-97EE-99EE9F68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9586-ADA8-4D4B-80CD-0C3CAE67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A43C-43C0-4C22-9B4E-9A2BCAB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90E-6361-4A30-82D2-C2CA64D2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3EE8-6EEC-466D-B744-5DBB3B9A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E3B1-06CB-41C0-AADF-9C76D878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E3FC-1E89-4105-9E6F-4074EEE2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EFA2-2B56-4E82-AA05-789349CA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2FBA-B142-4282-A7B5-0A81775F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9E3-6F71-4662-89B2-9DB30E26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762-26A2-4951-A1E5-9843FE84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799-BA64-4BE3-9BB9-D85BEABC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5BD-914F-496F-934A-83F027BD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2B1-809B-49AB-8DC7-BAE3A6B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C42-5B40-4E11-96A8-F31AF77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0BA-98D8-4A4E-98CF-D104F1CF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6BAC-2B75-4503-ADC4-ABF1255802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F4AB-548E-4942-9A29-BD3A1F54C329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5880" y="-35748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871"/>
                </a:solidFill>
                <a:latin typeface="Times New Roman"/>
              </a:rPr>
              <a:t>Муниципальное бюджетное  </a:t>
            </a:r>
            <a:br>
              <a:rPr sz="2400"/>
            </a:br>
            <a:r>
              <a:rPr b="0" lang="ru-RU" sz="2400" spc="-1" strike="noStrike">
                <a:solidFill>
                  <a:srgbClr val="004871"/>
                </a:solidFill>
                <a:latin typeface="Times New Roman"/>
              </a:rPr>
              <a:t>дошкольное образовательное учреждение </a:t>
            </a:r>
            <a:br>
              <a:rPr sz="2400"/>
            </a:br>
            <a:r>
              <a:rPr b="0" lang="ru-RU" sz="2400" spc="-1" strike="noStrike">
                <a:solidFill>
                  <a:srgbClr val="004871"/>
                </a:solidFill>
                <a:latin typeface="Times New Roman"/>
              </a:rPr>
              <a:t>«Детский сад  № 5» </a:t>
            </a:r>
            <a:endParaRPr b="0" lang="en-US" sz="2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28480" y="1285920"/>
            <a:ext cx="6986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ородское методическое объединение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ема: «Права ребенка»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Заголовок 2"/>
          <p:cNvSpPr/>
          <p:nvPr/>
        </p:nvSpPr>
        <p:spPr>
          <a:xfrm>
            <a:off x="2286000" y="6238800"/>
            <a:ext cx="4572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871"/>
                </a:solidFill>
                <a:latin typeface="Times New Roman"/>
              </a:rPr>
              <a:t>26 февраля 2015 г.</a:t>
            </a:r>
            <a:r>
              <a:rPr b="0" lang="ru-RU" sz="3200" spc="-1" strike="noStrike">
                <a:solidFill>
                  <a:srgbClr val="00487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3071880" y="3071880"/>
            <a:ext cx="3521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-357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Беседа «Что означает моё имя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3" name="Picture 2" descr="E:\ФОТО\день имени\Беседа.JPG"/>
          <p:cNvPicPr/>
          <p:nvPr/>
        </p:nvPicPr>
        <p:blipFill>
          <a:blip r:embed="rId1"/>
          <a:stretch/>
        </p:blipFill>
        <p:spPr>
          <a:xfrm>
            <a:off x="857160" y="1000080"/>
            <a:ext cx="79898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71680"/>
            <a:ext cx="9144000" cy="11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Аппликация «Ромашка с именем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5" name="Picture 3" descr="E:\ФОТО\день имени\DSC_0081 (2).JPG"/>
          <p:cNvPicPr/>
          <p:nvPr/>
        </p:nvPicPr>
        <p:blipFill>
          <a:blip r:embed="rId1"/>
          <a:stretch/>
        </p:blipFill>
        <p:spPr>
          <a:xfrm>
            <a:off x="2143080" y="642960"/>
            <a:ext cx="45896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Пятница-понедельник</a:t>
            </a:r>
            <a:br>
              <a:rPr sz="4400"/>
            </a:b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«День семьи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4200" y="1357200"/>
          <a:ext cx="8715600" cy="5286600"/>
        </p:xfrm>
        <a:graphic>
          <a:graphicData uri="http://schemas.openxmlformats.org/drawingml/2006/table">
            <a:tbl>
              <a:tblPr/>
              <a:tblGrid>
                <a:gridCol w="4214880"/>
                <a:gridCol w="2357640"/>
                <a:gridCol w="2143080"/>
              </a:tblGrid>
              <a:tr h="35244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17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воспитывать у детей чувство любви и привязанности к самым близким людям, воспитывать интерес к своей семье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ить детей понимать свою роль в семье, ценить хорошие отношения, получать радость от общения со своими близкими и предлагать им посильную помощь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С кем ты живешь?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Что такое семья?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Семейная фотография »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Генеалогическое дерево »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НОД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 «Моя семья 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Чтение стихотворени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Игра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«Найди свою маму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Выставка рисунков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Моя семья 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Совместные работы с детьми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енеалогическое дерево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ая история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ый альбом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Заголовок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Беседа «Моя семья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Picture 1" descr="E:\ФОТО\день семьи\Беседа.JPG"/>
          <p:cNvPicPr/>
          <p:nvPr/>
        </p:nvPicPr>
        <p:blipFill>
          <a:blip r:embed="rId1"/>
          <a:stretch/>
        </p:blipFill>
        <p:spPr>
          <a:xfrm>
            <a:off x="214200" y="785880"/>
            <a:ext cx="5137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Выставка рисунков и фотографий «Моя семья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4" descr="E:\ФОТО\день семьи\выставка.JPG"/>
          <p:cNvPicPr/>
          <p:nvPr/>
        </p:nvPicPr>
        <p:blipFill>
          <a:blip r:embed="rId1"/>
          <a:stretch/>
        </p:blipFill>
        <p:spPr>
          <a:xfrm>
            <a:off x="2857680" y="1495440"/>
            <a:ext cx="3578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Вторник – среда</a:t>
            </a:r>
            <a:br>
              <a:rPr sz="4400"/>
            </a:b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«День национальности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4200" y="1428840"/>
          <a:ext cx="8715600" cy="5430600"/>
        </p:xfrm>
        <a:graphic>
          <a:graphicData uri="http://schemas.openxmlformats.org/drawingml/2006/table">
            <a:tbl>
              <a:tblPr/>
              <a:tblGrid>
                <a:gridCol w="3295800"/>
                <a:gridCol w="3662280"/>
                <a:gridCol w="1757520"/>
              </a:tblGrid>
              <a:tr h="28404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25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 познакомить детей с различными народами мира, с их костюмами, играми, кухней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Формировать сознание о том, что все дети сходны независимо от их национальности, что все дети имеют прав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Формировать коммуникативные навыки, воспитывать дружеские отношения в коллективе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НОД</a:t>
                      </a: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:  «Россия - наш общий дом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О  людях разных национальностей, живущих на Урале. Их обычаи и традиции»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Что такое национальность?»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Народы мира: схожесть и различия »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Национальная кухня 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Национальные костюмы 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Игры народов мир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Русские народные игры</a:t>
                      </a: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У медведя во бору»,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Жмурки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Эстонские народные игры:</a:t>
                      </a: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Море волнуется »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Дагестанские народные игры: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Слепой медведь 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Помощь родителей в сборе информации о национальных костюмах, особенностях своей национальности, в приготовлении блюд национальной кухн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Беседы о традициях и обычаях людей разных национальностей.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4" descr="E:\ФОТО\день национальности\DSC_0105.JPG"/>
          <p:cNvPicPr/>
          <p:nvPr/>
        </p:nvPicPr>
        <p:blipFill>
          <a:blip r:embed="rId1"/>
          <a:stretch/>
        </p:blipFill>
        <p:spPr>
          <a:xfrm>
            <a:off x="1785960" y="1357200"/>
            <a:ext cx="492912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35632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1"/>
                </a:solidFill>
                <a:latin typeface="Times New Roman"/>
              </a:rPr>
              <a:t>Четверг</a:t>
            </a:r>
            <a:br>
              <a:rPr sz="4000"/>
            </a:br>
            <a:r>
              <a:rPr b="1" lang="ru-RU" sz="4000" spc="-1" strike="noStrike">
                <a:solidFill>
                  <a:srgbClr val="004871"/>
                </a:solidFill>
                <a:latin typeface="Times New Roman"/>
              </a:rPr>
              <a:t>«День дружбы»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285920"/>
          <a:ext cx="8929800" cy="5578560"/>
        </p:xfrm>
        <a:graphic>
          <a:graphicData uri="http://schemas.openxmlformats.org/drawingml/2006/table">
            <a:tbl>
              <a:tblPr/>
              <a:tblGrid>
                <a:gridCol w="2847960"/>
                <a:gridCol w="2156040"/>
                <a:gridCol w="1923840"/>
                <a:gridCol w="2001960"/>
              </a:tblGrid>
              <a:tr h="351000">
                <a:tc rowSpan="2"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педагога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908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огатить представления детей о различных способах коммуникации с окружающими, развивать способность к эмпати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ормировать умения устанавливать и поддерживать контакты. Формировать позитивное отношение к сверстникам, чувство принадлежности к группе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С кем бы я хотел дружить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Наши отношения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Игры, упражнения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Найди свою пару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Назови соседа ласково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Развлечение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Давайте жить дружно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Чтение стихотворений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Анкетирование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дагогов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Круглый стол по подведению итогов акции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рава ребенка»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Анкетирование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родителей по правам ребенк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0008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. «Декларация прав ребенка» — принята ООН в 1959 году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2. «Конвенция о правах ребенка» — принята ООН в 1989 году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3. «Всемирная декларация об обеспечении выживания, защиты и развития детей» — принята ООН в 1990 году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Основные </a:t>
            </a:r>
            <a:r>
              <a:rPr b="1" lang="ru-RU" sz="36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международные</a:t>
            </a: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 документы</a:t>
            </a:r>
            <a:br>
              <a:rPr sz="4000"/>
            </a:b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 по защите прав детей: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8001000" cy="39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. Конституция РФ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. Семейный кодекс РФ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3. Закон "Об основных гарантиях и правах ребенка в РФ"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4. Закон "Об образовании"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57120" y="540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Нормативно-правовые</a:t>
            </a:r>
            <a:r>
              <a:rPr b="1" lang="ru-RU" sz="36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документы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федерального  уровня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185724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образование и развитие физических и творческих способностей ребенка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игру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жизнь и здоровье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защиту интересов и нужд ребенка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полноценное питание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раво на защиту от всех форм жестокого обращения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85840" y="36396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871"/>
                </a:solidFill>
                <a:latin typeface="Times New Roman"/>
              </a:rPr>
              <a:t>Права ребёнка в детском саду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Акция «Права ребенка»</a:t>
            </a:r>
            <a:br>
              <a:rPr sz="4400"/>
            </a:b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1" name="Содержимое 4"/>
          <p:cNvSpPr/>
          <p:nvPr/>
        </p:nvSpPr>
        <p:spPr>
          <a:xfrm>
            <a:off x="357120" y="1071720"/>
            <a:ext cx="84297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071720" y="1795680"/>
            <a:ext cx="77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 акции: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рмирование знаний правовой культуры детей, педагогов, родителей по защите прав детей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Понедельник-вторник  </a:t>
            </a:r>
            <a:br>
              <a:rPr sz="4400"/>
            </a:b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«Мои права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4" name="Содержимое 4"/>
          <p:cNvSpPr/>
          <p:nvPr/>
        </p:nvSpPr>
        <p:spPr>
          <a:xfrm>
            <a:off x="357120" y="1785960"/>
            <a:ext cx="842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760" y="1571760"/>
          <a:ext cx="8358120" cy="5149800"/>
        </p:xfrm>
        <a:graphic>
          <a:graphicData uri="http://schemas.openxmlformats.org/drawingml/2006/table">
            <a:tbl>
              <a:tblPr/>
              <a:tblGrid>
                <a:gridCol w="2244600"/>
                <a:gridCol w="2244600"/>
                <a:gridCol w="1933560"/>
                <a:gridCol w="1935360"/>
              </a:tblGrid>
              <a:tr h="420480">
                <a:tc rowSpan="2"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педагога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знакомить детей с законами о правах ребен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 на темы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рава ребенка в ДОУ»,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Конвенция о правах ребенка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Просмотр серии мультфильмов о правах ребен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Д  «Права детей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Д  «Право ребенка жить и воспитываться в семье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Консультация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рава ребенка в детском саду»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Деловая игра: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Знаем ли мы права ребёнка?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змещение консультаций о правах ребенка в родительских уголках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Родительское собра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Тема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 «Права детей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960" y="-28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НОД «Права детей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17" name="Picture 6" descr="E:\ФОТО\мои права\DSC_0147.JPG"/>
          <p:cNvPicPr/>
          <p:nvPr/>
        </p:nvPicPr>
        <p:blipFill>
          <a:blip r:embed="rId1"/>
          <a:stretch/>
        </p:blipFill>
        <p:spPr>
          <a:xfrm>
            <a:off x="4325760" y="1071720"/>
            <a:ext cx="4818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Родительское собрание. Тема: «Права детей в детском саду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19" name="Picture 2" descr="E:\ФОТО\мои права\родит собрание.JPG"/>
          <p:cNvPicPr/>
          <p:nvPr/>
        </p:nvPicPr>
        <p:blipFill>
          <a:blip r:embed="rId1"/>
          <a:stretch/>
        </p:blipFill>
        <p:spPr>
          <a:xfrm>
            <a:off x="2143080" y="2021040"/>
            <a:ext cx="657216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5"/>
          <p:cNvSpPr/>
          <p:nvPr/>
        </p:nvSpPr>
        <p:spPr>
          <a:xfrm>
            <a:off x="1214280" y="0"/>
            <a:ext cx="671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Среда- четверг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«День имени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28760" y="1500120"/>
          <a:ext cx="8429400" cy="5273640"/>
        </p:xfrm>
        <a:graphic>
          <a:graphicData uri="http://schemas.openxmlformats.org/drawingml/2006/table">
            <a:tbl>
              <a:tblPr/>
              <a:tblGrid>
                <a:gridCol w="2023920"/>
                <a:gridCol w="3203640"/>
                <a:gridCol w="3201840"/>
              </a:tblGrid>
              <a:tr h="42876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6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пособствовать осознанию ребенком своего имени, формировать позитивное отношение к своему «Я», гармонизировать потребность ребенка в социальном признании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 с детьми на темы: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Что означает мое имя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Объясни имя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Взрослое имя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Ласковые имена»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Конкурс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«Кто знает больше имен»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Оформление личной визитной карточки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Выставка работ по аппликации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 «Ромашка с именем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Игра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оляна имен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а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родителей с детьми о значении их имен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готовление визитки с именем ребен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ВЛАДИМИР</cp:lastModifiedBy>
  <dcterms:modified xsi:type="dcterms:W3CDTF">2015-10-15T11:52:33Z</dcterms:modified>
  <cp:revision>98</cp:revision>
  <dc:subject/>
  <dc:title>PowerPoint Presentation</dc:title>
</cp:coreProperties>
</file>