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45EE-AEE4-4D52-B6F4-B1AFB1B2C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492-43B0-46C1-83DB-DC7FA76D7C8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72F-FAA4-44F0-BF81-03920ABB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F67-3E0E-49EE-A83B-1C231C7D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6F9-ACB7-4BC9-9B66-2B28F6E4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252-4DE7-41FD-B428-346C0987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CE8C-8180-417E-93E8-B3497791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7604-9395-453D-B28A-E2B7FA8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4941-6981-4DA0-BD39-9564586E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43D7-F968-438A-A045-5DDCCFA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301E-6F73-4D0B-9B13-5DB3FDF9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E62F-C9C1-4722-B2AD-9B7CEE0D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9B90-BCA9-411C-98AE-38630868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1F1-E384-4135-B667-569CF4EE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E9F3-DFEA-47D1-93BD-EAF9012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0BC5-40D9-4C7C-8003-F680712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BAA-950F-431D-B34B-0EDFFB2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3A2-6B4A-41F9-805B-5DFA8F28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949-60A4-4F11-9F92-0BECF95E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416-DEDB-4A20-964C-02958B6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302-5604-4461-94F4-FA796D1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4DA-9DE5-4028-A835-B8E40F28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3F4-0B71-4DCC-A396-B1BDEBD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0FB-3FA5-4495-8D8C-AD2351B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619-2F24-4082-BB47-AF6C0B2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115-141C-4DB8-805B-8358E43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07B7-C5CB-4AF6-BADE-59688CDE8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C4D1-D27E-4C17-83FA-940C7550E340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880" y="-35748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Муниципальное бюджетное  </a:t>
            </a:r>
            <a:br>
              <a:rPr sz="2400"/>
            </a:b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дошкольное 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004871"/>
                </a:solidFill>
                <a:latin typeface="Times New Roman"/>
              </a:rPr>
              <a:t>«Детский сад  № 5» </a:t>
            </a:r>
            <a:endParaRPr b="0" lang="en-US" sz="2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28480" y="1285920"/>
            <a:ext cx="6986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ородское методическое объединение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: «Права ребенка»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2286000" y="6238800"/>
            <a:ext cx="4572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871"/>
                </a:solidFill>
                <a:latin typeface="Times New Roman"/>
              </a:rPr>
              <a:t>26 февраля 2015 г.</a:t>
            </a:r>
            <a:r>
              <a:rPr b="0" lang="ru-RU" sz="3200" spc="-1" strike="noStrike">
                <a:solidFill>
                  <a:srgbClr val="00487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071880" y="3071880"/>
            <a:ext cx="3521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-357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а «Что означает моё имя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3" name="Picture 2" descr="E:\ФОТО\день имени\Беседа.JPG"/>
          <p:cNvPicPr/>
          <p:nvPr/>
        </p:nvPicPr>
        <p:blipFill>
          <a:blip r:embed="rId1"/>
          <a:stretch/>
        </p:blipFill>
        <p:spPr>
          <a:xfrm>
            <a:off x="857160" y="1000080"/>
            <a:ext cx="79898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9144000" cy="11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Аппликация «Ромашка с именем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5" name="Picture 3" descr="E:\ФОТО\день имени\DSC_0081 (2).JPG"/>
          <p:cNvPicPr/>
          <p:nvPr/>
        </p:nvPicPr>
        <p:blipFill>
          <a:blip r:embed="rId1"/>
          <a:stretch/>
        </p:blipFill>
        <p:spPr>
          <a:xfrm>
            <a:off x="2143080" y="642960"/>
            <a:ext cx="45896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Пятница-понедельник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семьи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4200" y="1357200"/>
          <a:ext cx="8715600" cy="5286600"/>
        </p:xfrm>
        <a:graphic>
          <a:graphicData uri="http://schemas.openxmlformats.org/drawingml/2006/table">
            <a:tbl>
              <a:tblPr/>
              <a:tblGrid>
                <a:gridCol w="4214880"/>
                <a:gridCol w="2357640"/>
                <a:gridCol w="2143080"/>
              </a:tblGrid>
              <a:tr h="35244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воспитывать у детей чувство любви и привязанности к самым близким людям, воспитывать интерес к своей семье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ь детей понимать свою роль в семье, ценить хорошие отношения, получать радость от общения со своими близкими и предлагать им посильную помощь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 кем ты живешь?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Что такое семья?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емейная фотография »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Генеалогическое дерево »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НОД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Моя семья 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стихотворе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а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«Найди свою маму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Выставка рисунков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Моя семья 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Совместные работы с детьми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енеалогическое дерево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ая истор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ый альбом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а «Моя семья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Picture 1" descr="E:\ФОТО\день семьи\Беседа.JPG"/>
          <p:cNvPicPr/>
          <p:nvPr/>
        </p:nvPicPr>
        <p:blipFill>
          <a:blip r:embed="rId1"/>
          <a:stretch/>
        </p:blipFill>
        <p:spPr>
          <a:xfrm>
            <a:off x="214200" y="785880"/>
            <a:ext cx="513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Выставка рисунков и фотографий «Моя семья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4" descr="E:\ФОТО\день семьи\выставка.JPG"/>
          <p:cNvPicPr/>
          <p:nvPr/>
        </p:nvPicPr>
        <p:blipFill>
          <a:blip r:embed="rId1"/>
          <a:stretch/>
        </p:blipFill>
        <p:spPr>
          <a:xfrm>
            <a:off x="2857680" y="1495440"/>
            <a:ext cx="3578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Вторник – среда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национальности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428840"/>
          <a:ext cx="8715600" cy="5430600"/>
        </p:xfrm>
        <a:graphic>
          <a:graphicData uri="http://schemas.openxmlformats.org/drawingml/2006/table">
            <a:tbl>
              <a:tblPr/>
              <a:tblGrid>
                <a:gridCol w="3295800"/>
                <a:gridCol w="3662280"/>
                <a:gridCol w="1757520"/>
              </a:tblGrid>
              <a:tr h="28404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25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 познакомить детей с различными народами мира, с их костюмами, играми, кухне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Формировать сознание о том, что все дети сходны независимо от их национальности, что все дети имеют прав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Формировать коммуникативные навыки, воспитывать дружеские отношения в коллектив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НОД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:  «Россия - наш общий дом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О  людях разных национальностей, живущих на Урале. Их обычаи и традиции»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Что такое национальность?»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роды мира: схожесть и различия 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циональная кухня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Национальные костюмы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Игры народов мир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Русские народные игры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У медведя во бору»,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Жмурки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Эстонские народные игры:</a:t>
                      </a: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Море волнуется 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4871"/>
                          </a:solidFill>
                          <a:uFillTx/>
                          <a:latin typeface="Times New Roman"/>
                          <a:ea typeface="Times New Roman"/>
                        </a:rPr>
                        <a:t>Дагестанские народные игры: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«Слепой медведь 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4871"/>
                          </a:solidFill>
                          <a:latin typeface="Times New Roman"/>
                          <a:ea typeface="Times New Roman"/>
                        </a:rPr>
                        <a:t>Помощь родителей в сборе информации о национальных костюмах, особенностях своей национальности, в приготовлении блюд национальной кухн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Беседы о традициях и обычаях людей разных национальностей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4" descr="E:\ФОТО\день национальности\DSC_0105.JPG"/>
          <p:cNvPicPr/>
          <p:nvPr/>
        </p:nvPicPr>
        <p:blipFill>
          <a:blip r:embed="rId1"/>
          <a:stretch/>
        </p:blipFill>
        <p:spPr>
          <a:xfrm>
            <a:off x="1785960" y="1357200"/>
            <a:ext cx="49291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35632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</a:rPr>
              <a:t>Четверг</a:t>
            </a:r>
            <a:br>
              <a:rPr sz="4000"/>
            </a:br>
            <a:r>
              <a:rPr b="1" lang="ru-RU" sz="4000" spc="-1" strike="noStrike">
                <a:solidFill>
                  <a:srgbClr val="004871"/>
                </a:solidFill>
                <a:latin typeface="Times New Roman"/>
              </a:rPr>
              <a:t>«День дружбы»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85920"/>
          <a:ext cx="8929800" cy="5578560"/>
        </p:xfrm>
        <a:graphic>
          <a:graphicData uri="http://schemas.openxmlformats.org/drawingml/2006/table">
            <a:tbl>
              <a:tblPr/>
              <a:tblGrid>
                <a:gridCol w="2847960"/>
                <a:gridCol w="2156040"/>
                <a:gridCol w="1923840"/>
                <a:gridCol w="2001960"/>
              </a:tblGrid>
              <a:tr h="351000">
                <a:tc rowSpan="2"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педагога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908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огатить представления детей о различных способах коммуникации с окружающими, развивать способность к эмпат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ормировать умения устанавливать и поддерживать контакты. Формировать позитивное отношение к сверстникам, чувство принадлежности к группе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 кем бы я хотел дружить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ши отношения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ы, упражнения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йди свою пару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азови соседа ласково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Развлечение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Давайте жить дружно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Чтение стихотворений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Анкетирование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дагогов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руглый стол по подведению итогов акции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Анкетирование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родителей по правам ребенк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0008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. «Декларация прав ребенка» — принята ООН в 1959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2. «Конвенция о правах ребенка» — принята ООН в 1989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3. «Всемирная декларация об обеспечении выживания, защиты и развития детей» — принята ООН в 1990 году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151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Основные </a:t>
            </a:r>
            <a:r>
              <a:rPr b="1" lang="ru-RU" sz="36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международные</a:t>
            </a: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документы</a:t>
            </a:r>
            <a:br>
              <a:rPr sz="4000"/>
            </a:b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по защите прав детей: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800100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. Конституция РФ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. Семейный кодекс РФ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3. Закон "Об основных гарантиях и правах ребенка в РФ"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4. Закон "Об образовании"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57120" y="54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Нормативно-правовые</a:t>
            </a:r>
            <a:r>
              <a:rPr b="1" lang="ru-RU" sz="36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документы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1"/>
                </a:solidFill>
                <a:latin typeface="Times New Roman"/>
                <a:ea typeface="Times New Roman"/>
              </a:rPr>
              <a:t>федерального  уровня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образование и развитие физических и творческих способностей ребенк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игру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жизнь и здоровь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защиту интересов и нужд ребенк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 на полноценное питани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аво на защиту от всех форм жестокого обращения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5840" y="3639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871"/>
                </a:solidFill>
                <a:latin typeface="Times New Roman"/>
              </a:rPr>
              <a:t>Права ребёнка в детском саду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Акция «Права ребенка»</a:t>
            </a:r>
            <a:br>
              <a:rPr sz="4400"/>
            </a:b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1" name="Содержимое 4"/>
          <p:cNvSpPr/>
          <p:nvPr/>
        </p:nvSpPr>
        <p:spPr>
          <a:xfrm>
            <a:off x="357120" y="1071720"/>
            <a:ext cx="84297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071720" y="1795680"/>
            <a:ext cx="77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акции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рмирование знаний правовой культуры детей, педагогов, родителей по защите прав детей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Понедельник-вторник  </a:t>
            </a:r>
            <a:br>
              <a:rPr sz="4400"/>
            </a:b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Мои права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4" name="Содержимое 4"/>
          <p:cNvSpPr/>
          <p:nvPr/>
        </p:nvSpPr>
        <p:spPr>
          <a:xfrm>
            <a:off x="357120" y="1785960"/>
            <a:ext cx="842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1571760"/>
          <a:ext cx="8358120" cy="5149800"/>
        </p:xfrm>
        <a:graphic>
          <a:graphicData uri="http://schemas.openxmlformats.org/drawingml/2006/table">
            <a:tbl>
              <a:tblPr/>
              <a:tblGrid>
                <a:gridCol w="2244600"/>
                <a:gridCol w="2244600"/>
                <a:gridCol w="1933560"/>
                <a:gridCol w="1935360"/>
              </a:tblGrid>
              <a:tr h="420480">
                <a:tc rowSpan="2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педагога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знакомить детей с законами о правах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 на темы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 в ДОУ»,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Конвенция о правах ребенка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смотр серии мультфильмов о правах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Д  «Права дете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Д  «Право ребенка жить и воспитываться в семье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онсультация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рава ребенка в детском саду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Деловая игра: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Знаем ли мы права ребёнка?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змещение консультаций о правах ребенка в родительских уголках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Родительское собра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Тема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Права детей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96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НОД «Права детей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7" name="Picture 6" descr="E:\ФОТО\мои права\DSC_0147.JPG"/>
          <p:cNvPicPr/>
          <p:nvPr/>
        </p:nvPicPr>
        <p:blipFill>
          <a:blip r:embed="rId1"/>
          <a:stretch/>
        </p:blipFill>
        <p:spPr>
          <a:xfrm>
            <a:off x="4325760" y="1071720"/>
            <a:ext cx="4818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3384"/>
                </a:solidFill>
                <a:latin typeface="Times New Roman"/>
              </a:rPr>
              <a:t>Родительское собрание. Тема: «Права детей в детском саду»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9" name="Picture 2" descr="E:\ФОТО\мои права\родит собрание.JPG"/>
          <p:cNvPicPr/>
          <p:nvPr/>
        </p:nvPicPr>
        <p:blipFill>
          <a:blip r:embed="rId1"/>
          <a:stretch/>
        </p:blipFill>
        <p:spPr>
          <a:xfrm>
            <a:off x="2143080" y="2021040"/>
            <a:ext cx="65721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1214280" y="0"/>
            <a:ext cx="671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Среда- четверг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871"/>
                </a:solidFill>
                <a:latin typeface="Times New Roman"/>
              </a:rPr>
              <a:t>«День имени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500120"/>
          <a:ext cx="8429400" cy="5273640"/>
        </p:xfrm>
        <a:graphic>
          <a:graphicData uri="http://schemas.openxmlformats.org/drawingml/2006/table">
            <a:tbl>
              <a:tblPr/>
              <a:tblGrid>
                <a:gridCol w="2023920"/>
                <a:gridCol w="3203640"/>
                <a:gridCol w="3201840"/>
              </a:tblGrid>
              <a:tr h="4287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деть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пособствовать осознанию ребенком своего имени, формировать позитивное отношение к своему «Я», гармонизировать потребность ребенка в социальном признани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ы с детьми на темы: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Что означает мое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Объясни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Взрослое имя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Ласковые имена»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Конкурс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«Кто знает больше имен»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Оформление личной визитной карточк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Выставка работ по аппликации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 «Ромашка с именем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Игра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оляна имен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Беседа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родителей с детьми о значении их имен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готовление визитки с именем ребен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ВЛАДИМИР</cp:lastModifiedBy>
  <dcterms:modified xsi:type="dcterms:W3CDTF">2015-10-15T11:52:33Z</dcterms:modified>
  <cp:revision>98</cp:revision>
  <dc:subject/>
  <dc:title>PowerPoint Presentation</dc:title>
</cp:coreProperties>
</file>