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8E76-6577-4CB2-ACE0-22ECD985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04A0-68A0-4A56-B73E-7CDE5C36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6E8C-D055-47AB-BC4B-FB64221EC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F896-18CE-4BDF-9C03-D6D2E698E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31F5-C761-4B35-BF5A-76BB269BF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BFB1-203C-4DE7-85AF-26C6F862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F7CA-5CD4-4CC0-9047-1F61CAC6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3EF9-E3EE-40D4-AD1B-D9F138F2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F407-96FD-43CA-AF26-E23997D6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A397-4FC2-40F4-8E33-170A19C4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4704-48D1-48A2-BCEA-E4E8F8C1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CE38-953E-4E80-AD26-4D6EEC9A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2174-F5EC-4296-91C7-8C1E6008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5AEC-C3F4-4FCF-84E3-A694CF15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D70C-34B7-4333-8C9F-92DC1B7F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F4A9-0D6D-4461-A8EB-9599CE4C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FBD7-5C15-4753-9106-8B6B6A118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9C39-2E29-4F84-BCF5-93DC3980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1A6E-2E8B-4BAA-914C-2F055282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DCEE-9E54-4B07-A835-E57CD352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945B-A831-4C24-9452-6402FD35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F251-818D-4F5C-ADFF-788B4E14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48FF-2433-4EDC-8C7F-C500DC12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7A8B-0209-472E-AB3C-E151F4D5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03CA-250E-433C-ADC4-CF0F064F59E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1B42-218C-4DF6-8B39-CEC94FF3C0E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mic Sans MS"/>
              </a:rPr>
              <a:t>Н и НН в суффиксах кратких страдательных причастий и кратких отглагольных прилагательных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02060"/>
                </a:solidFill>
                <a:latin typeface="Monotype Corsiva"/>
              </a:rPr>
              <a:t>Учитель русского языка 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Хисамова Фания Фаузятовна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МБОУ «Аллабердинская СОШ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Интернет ресурс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http://fcior.edu.ru/card/15495/pravopisanie-n-i-nn-v-suffiksah-prilagatelnyh.htm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Влодавская Е.А. Диктанты и изложения по русскому языку.Экзамен, М.2012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Русский язык Баранов М.Т...М.,Просвещение,2010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научиться отличать краткие причастия от кратких отглагольных прилагательных, знать условия выбора Н-НН в словах, названных частей реч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250920" y="47592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Дочь умна и воспита…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Девочка хорошо воспита…а бабушк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Море взволнова…о 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Лицо девочки было взволнова…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Некоторые люди очень рассея…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Семена рассея…ы по пол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Дочь умна и воспита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нн</a:t>
            </a: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Девочка хорошо воспита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н</a:t>
            </a: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а бабушк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Море взволнова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н</a:t>
            </a: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о. 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Лицо девочки было взволнова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нн</a:t>
            </a: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Некоторые люди очень рассея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нн</a:t>
            </a: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Семена рассея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н</a:t>
            </a: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ы по пол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Задача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будем проверять, с какой частью речи мы имеем дело(с кратким причастием или с кратким прилагательным),и в зависимости от этого писать  Н или НН в суффиксах данных сл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50920" y="404640"/>
            <a:ext cx="86421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лово отвечает на вопрос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КАКОВ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нет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действия                     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есть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действ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это краткое                    это краткое причаст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прилагательное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 отглаг. прилагательно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ишется столько </a:t>
            </a: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Н               </a:t>
            </a: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чем проще и быстре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сколько в полной форме       заменить их глаголо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краткое причаст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                       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8" name="Прямая со стрелкой 4"/>
          <p:cNvCxnSpPr/>
          <p:nvPr/>
        </p:nvCxnSpPr>
        <p:spPr>
          <a:xfrm flipH="1">
            <a:off x="2999520" y="1214280"/>
            <a:ext cx="715320" cy="2865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9" name="Прямая со стрелкой 6"/>
          <p:cNvCxnSpPr/>
          <p:nvPr/>
        </p:nvCxnSpPr>
        <p:spPr>
          <a:xfrm>
            <a:off x="3929040" y="1214280"/>
            <a:ext cx="714960" cy="28656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60" name="Стрелка вниз 10"/>
          <p:cNvSpPr/>
          <p:nvPr/>
        </p:nvSpPr>
        <p:spPr>
          <a:xfrm>
            <a:off x="1285920" y="2000160"/>
            <a:ext cx="357120" cy="42876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ffef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Стрелка вниз 11"/>
          <p:cNvSpPr/>
          <p:nvPr/>
        </p:nvSpPr>
        <p:spPr>
          <a:xfrm>
            <a:off x="5857920" y="2071800"/>
            <a:ext cx="357120" cy="42840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ffef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Стрелка вниз 12"/>
          <p:cNvSpPr/>
          <p:nvPr/>
        </p:nvSpPr>
        <p:spPr>
          <a:xfrm>
            <a:off x="1357200" y="3214800"/>
            <a:ext cx="357480" cy="50004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ffef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Стрелка вниз 13"/>
          <p:cNvSpPr/>
          <p:nvPr/>
        </p:nvSpPr>
        <p:spPr>
          <a:xfrm>
            <a:off x="5929200" y="3214800"/>
            <a:ext cx="357480" cy="428400"/>
          </a:xfrm>
          <a:prstGeom prst="downArrow">
            <a:avLst>
              <a:gd name="adj1" fmla="val 50000"/>
              <a:gd name="adj2" fmla="val 49933"/>
            </a:avLst>
          </a:prstGeom>
          <a:solidFill>
            <a:srgbClr val="ffef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Стрелка вниз 14"/>
          <p:cNvSpPr/>
          <p:nvPr/>
        </p:nvSpPr>
        <p:spPr>
          <a:xfrm>
            <a:off x="5929200" y="4429080"/>
            <a:ext cx="357480" cy="42876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fef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Стрелка вниз 15"/>
          <p:cNvSpPr/>
          <p:nvPr/>
        </p:nvSpPr>
        <p:spPr>
          <a:xfrm>
            <a:off x="6000840" y="5286240"/>
            <a:ext cx="357120" cy="3574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ffef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Распределительный диктан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раскрашенные картинки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подстриженные  волосы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спокойные зрители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единственная возможность 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ветреная   девица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отшлифованная поверхность, 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похищенная вещь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овери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85800" y="1828800"/>
          <a:ext cx="7696080" cy="1709640"/>
        </p:xfrm>
        <a:graphic>
          <a:graphicData uri="http://schemas.openxmlformats.org/drawingml/2006/table">
            <a:tbl>
              <a:tblPr/>
              <a:tblGrid>
                <a:gridCol w="641160"/>
                <a:gridCol w="641520"/>
                <a:gridCol w="641160"/>
                <a:gridCol w="641520"/>
                <a:gridCol w="641160"/>
                <a:gridCol w="641520"/>
                <a:gridCol w="641160"/>
                <a:gridCol w="641520"/>
                <a:gridCol w="641160"/>
                <a:gridCol w="641520"/>
                <a:gridCol w="641160"/>
                <a:gridCol w="641520"/>
              </a:tblGrid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н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Домашнее задание: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.22, Упр.№12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** Найдите фразеологизмы, в состав которых входят причастия прошедшего времени или образованные от них прилагательные. (Делить шкуру неубитого медведя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6T13:36:16Z</dcterms:created>
  <dc:creator>Мегабайт</dc:creator>
  <dc:description/>
  <dc:language>en-US</dc:language>
  <cp:lastModifiedBy>Hewlett-Packard Company</cp:lastModifiedBy>
  <dcterms:modified xsi:type="dcterms:W3CDTF">2015-10-14T14:14:50Z</dcterms:modified>
  <cp:revision>22</cp:revision>
  <dc:subject/>
  <dc:title>Слайд 1</dc:title>
</cp:coreProperties>
</file>