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5E8-4293-4879-91C7-D2FE017D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659-9F76-46C3-B6B7-FE80F6D4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80A-964D-4FD8-86C8-0393DA38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02B-3338-460B-B30E-999DD437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4987-3418-4308-B6FB-10C581E6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35E2-161B-456A-A98B-AEC68B42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E4E2-685C-4905-A301-D7A953E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104F-928D-4F25-B078-84D485DD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E90A-EEB3-4117-AF92-96947B5A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2AD5-FDF6-46F3-BD1E-4F73D571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137B-0004-40AF-90F4-936C9AA6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AC6-5C40-4C41-BDA8-02F35889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058A-7146-498C-9314-FC6A09E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C1F0-E1B1-4325-B93F-0E96E27C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DAB8-95CA-4ECB-B3FF-1C60ACB0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21D3-A1D2-4AC1-84C4-34C544BC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66B2-2C35-4124-8D10-F6B8C225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7EA-A9C2-4624-AD9D-E69A68EF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2FC-55CA-4F8F-946D-C5EF5844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9B5-71F8-4403-AAB6-05B552C0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F5F-713F-4A14-837B-D2C54DF7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E15-B179-46E3-AFC1-ECB0A3A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F35-13AA-49E5-AFFA-B477D7CC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96E-EA5A-42C0-B31F-A4763D7C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4AC-721E-49F3-852B-0212D39255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8DCC-5427-4B0F-B094-DF0E9EB15B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Н и НН в суффиксах кратких страдательных причастий и кратких отглагольных прилагательных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2060"/>
                </a:solidFill>
                <a:latin typeface="Monotype Corsiva"/>
              </a:rPr>
              <a:t>Учитель русского языка 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Хисамова Фания Фаузятовна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МБОУ «Аллабердинская СОШ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Интернет ресур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http://fcior.edu.ru/card/15495/pravopisanie-n-i-nn-v-suffiksah-prilagatelnyh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Влодавская Е.А. Диктанты и изложения по русскому языку.Экзамен, М.20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Русский язык Баранов М.Т...М.,Просвещение,201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научиться отличать краткие причастия от кратких отглагольных прилагательных, знать условия выбора Н-НН в словах, названных частей ре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очь умна и воспита…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евочка хорошо воспита…а бабушк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Море взволнова…о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Лицо девочки было взволнова…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Некоторые люди очень рассея…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Семена рассея…ы по по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очь умна и воспит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Девочка хорошо воспит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а бабушк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Море взволнов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о.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Лицо девочки было взволнов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Некоторые люди очень рассея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Семена рассея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ы по по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Задача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будем проверять, с какой частью речи мы имеем дело(с кратким причастием или с кратким прилагательным),и в зависимости от этого писать  Н или НН в суффиксах данных с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во отвечает на вопрос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А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нет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действия                    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есть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действ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это краткое                    это краткое причаст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прилагательное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отглаг. прилагательно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ишется столько </a:t>
            </a: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Н               </a:t>
            </a: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ем проще и быстре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сколько в полной форме       заменить их глагол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раткое причаст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Прямая со стрелкой 4"/>
          <p:cNvCxnSpPr/>
          <p:nvPr/>
        </p:nvCxnSpPr>
        <p:spPr>
          <a:xfrm flipH="1">
            <a:off x="2999520" y="1214280"/>
            <a:ext cx="715320" cy="2865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9" name="Прямая со стрелкой 6"/>
          <p:cNvCxnSpPr/>
          <p:nvPr/>
        </p:nvCxnSpPr>
        <p:spPr>
          <a:xfrm>
            <a:off x="3929040" y="1214280"/>
            <a:ext cx="714960" cy="2865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60" name="Стрелка вниз 10"/>
          <p:cNvSpPr/>
          <p:nvPr/>
        </p:nvSpPr>
        <p:spPr>
          <a:xfrm>
            <a:off x="1285920" y="200016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Стрелка вниз 11"/>
          <p:cNvSpPr/>
          <p:nvPr/>
        </p:nvSpPr>
        <p:spPr>
          <a:xfrm>
            <a:off x="5857920" y="207180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Стрелка вниз 12"/>
          <p:cNvSpPr/>
          <p:nvPr/>
        </p:nvSpPr>
        <p:spPr>
          <a:xfrm>
            <a:off x="1357200" y="3214800"/>
            <a:ext cx="357480" cy="50004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Стрелка вниз 13"/>
          <p:cNvSpPr/>
          <p:nvPr/>
        </p:nvSpPr>
        <p:spPr>
          <a:xfrm>
            <a:off x="5929200" y="3214800"/>
            <a:ext cx="357480" cy="42840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Стрелка вниз 14"/>
          <p:cNvSpPr/>
          <p:nvPr/>
        </p:nvSpPr>
        <p:spPr>
          <a:xfrm>
            <a:off x="5929200" y="4429080"/>
            <a:ext cx="357480" cy="4287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Стрелка вниз 15"/>
          <p:cNvSpPr/>
          <p:nvPr/>
        </p:nvSpPr>
        <p:spPr>
          <a:xfrm>
            <a:off x="6000840" y="5286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Распределительный дикта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скрашенные картинк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дстриженные  волосы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покойные зрител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единственная возможность 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ветреная   девиц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шлифованная поверхность, 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хищенная вещ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828800"/>
          <a:ext cx="7696080" cy="170964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Домашнее задание: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.22, Упр.№12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** Найдите фразеологизмы, в состав которых входят причастия прошедшего времени или образованные от них прилагательные. (Делить шкуру неубитого медвед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3:36:16Z</dcterms:created>
  <dc:creator>Мегабайт</dc:creator>
  <dc:description/>
  <dc:language>en-US</dc:language>
  <cp:lastModifiedBy>Hewlett-Packard Company</cp:lastModifiedBy>
  <dcterms:modified xsi:type="dcterms:W3CDTF">2015-10-14T14:14:50Z</dcterms:modified>
  <cp:revision>22</cp:revision>
  <dc:subject/>
  <dc:title>Слайд 1</dc:title>
</cp:coreProperties>
</file>