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15.gif" ContentType="image/gif"/>
  <Override PartName="/ppt/media/image5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416-6EE6-4B23-986D-1E71230C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733-5553-4D71-9388-654FE90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08B-DA6A-4B9A-8A30-7A1405BD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D5A-2AB4-42B1-B7C1-A91C8D8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D21-2AD7-4FB9-B700-27EFF141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F36-F0CD-4AC5-A5FD-C335492C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6B1-B357-4BB4-B2BA-EA5E2D9F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FE3-619F-4163-BBBA-247A52E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7E7-083D-4C14-8976-D167D4E1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C15-733D-4F30-99F9-3A6AACC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D08-82B6-4565-A1DA-1627A41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754-929C-4BE0-9299-3FE7C68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839-2502-414B-AD5A-9E7838C3E3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ets.ru/data/cache/2011may/17/07/221058_70055-700x50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ts.ru/data/cache/2011may/17/07/221058_70055-700x500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328680"/>
            <a:ext cx="64771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ауку все глубж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стигнуть стремись,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знанием вечн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жаждой томись.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ишь первых позна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леснет тебе свет,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знаешь: предела для знания н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2c0227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c0227"/>
                </a:solidFill>
                <a:latin typeface="Arial"/>
              </a:rPr>
              <a:t>Фирдоуси, персидский поэт 940-1030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42200" cy="982440"/>
          </a:xfrm>
          <a:prstGeom prst="rect">
            <a:avLst/>
          </a:prstGeom>
          <a:ln w="0">
            <a:noFill/>
          </a:ln>
        </p:spPr>
      </p:pic>
      <p:sp>
        <p:nvSpPr>
          <p:cNvPr id="73" name="Текст 2"/>
          <p:cNvSpPr/>
          <p:nvPr/>
        </p:nvSpPr>
        <p:spPr>
          <a:xfrm>
            <a:off x="1295280" y="5791320"/>
            <a:ext cx="6858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66400" indent="-18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Всем известна трагическая история «Титаника»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740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642160" cy="3048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Физический эксперимент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2667240" cy="253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25640" y="3108240"/>
            <a:ext cx="60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333399"/>
                </a:solidFill>
                <a:latin typeface="Tahoma"/>
              </a:rPr>
              <a:t>« 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Лучше один раз увидеть, 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чем сто раз услышать </a:t>
            </a:r>
            <a:r>
              <a:rPr b="1" i="1" lang="en" sz="36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648320" y="1828800"/>
            <a:ext cx="3382920" cy="3527280"/>
            <a:chOff x="4648320" y="1828800"/>
            <a:chExt cx="3382920" cy="3527280"/>
          </a:xfrm>
        </p:grpSpPr>
        <p:sp>
          <p:nvSpPr>
            <p:cNvPr id="79" name=""/>
            <p:cNvSpPr/>
            <p:nvPr/>
          </p:nvSpPr>
          <p:spPr>
            <a:xfrm>
              <a:off x="4648320" y="2116080"/>
              <a:ext cx="3382920" cy="3239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48320" y="1828800"/>
              <a:ext cx="0" cy="3527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19600" y="5356080"/>
              <a:ext cx="33116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031240" y="1828800"/>
              <a:ext cx="0" cy="3527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3240" y="2908080"/>
              <a:ext cx="1513080" cy="15127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58039"/>
                  </a:srgbClr>
                </a:gs>
                <a:gs pos="100000">
                  <a:srgbClr val="00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6324480" y="2437920"/>
            <a:ext cx="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581280"/>
            <a:ext cx="0" cy="12286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716160" y="22096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935760" y="4419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495680"/>
            <a:ext cx="217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228600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152280" y="2590920"/>
                <a:ext cx="4343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33520" y="152280"/>
            <a:ext cx="7772400" cy="198144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0"/>
            <a:ext cx="8642160" cy="3048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Физический эксперимент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2895840" cy="275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19520" y="320040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«Хорошо  подумав, отвеча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На опыте проверив, утверждай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2133720"/>
          <a:ext cx="8497800" cy="3946320"/>
        </p:xfrm>
        <a:graphic>
          <a:graphicData uri="http://schemas.openxmlformats.org/drawingml/2006/table">
            <a:tbl>
              <a:tblPr/>
              <a:tblGrid>
                <a:gridCol w="2833560"/>
                <a:gridCol w="2830680"/>
                <a:gridCol w="28335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8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gt;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8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=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8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lt;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11280" y="3645000"/>
            <a:ext cx="2519280" cy="23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5948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2408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19640" y="3429000"/>
            <a:ext cx="2519280" cy="2519280"/>
            <a:chOff x="3419640" y="3429000"/>
            <a:chExt cx="2519280" cy="2519280"/>
          </a:xfrm>
        </p:grpSpPr>
        <p:sp>
          <p:nvSpPr>
            <p:cNvPr id="101" name=""/>
            <p:cNvSpPr/>
            <p:nvPr/>
          </p:nvSpPr>
          <p:spPr>
            <a:xfrm>
              <a:off x="3419640" y="3645000"/>
              <a:ext cx="2519280" cy="230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64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5948280"/>
              <a:ext cx="25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3892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227640" y="3429000"/>
            <a:ext cx="2519640" cy="2519280"/>
            <a:chOff x="6227640" y="3429000"/>
            <a:chExt cx="2519640" cy="2519280"/>
          </a:xfrm>
        </p:grpSpPr>
        <p:sp>
          <p:nvSpPr>
            <p:cNvPr id="106" name=""/>
            <p:cNvSpPr/>
            <p:nvPr/>
          </p:nvSpPr>
          <p:spPr>
            <a:xfrm>
              <a:off x="6227640" y="3645000"/>
              <a:ext cx="2519640" cy="2303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2764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27640" y="5948280"/>
              <a:ext cx="2519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74728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4764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ff0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35280" y="3789360"/>
            <a:ext cx="598320" cy="1592280"/>
            <a:chOff x="1835280" y="3789360"/>
            <a:chExt cx="598320" cy="1592280"/>
          </a:xfrm>
        </p:grpSpPr>
        <p:sp>
          <p:nvSpPr>
            <p:cNvPr id="112" name=""/>
            <p:cNvSpPr/>
            <p:nvPr/>
          </p:nvSpPr>
          <p:spPr>
            <a:xfrm>
              <a:off x="1835280" y="4724280"/>
              <a:ext cx="0" cy="505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3200" y="378936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9800" y="5013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35280" y="3860280"/>
              <a:ext cx="0" cy="863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2692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00ff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724280"/>
            <a:ext cx="0" cy="505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075560" y="407664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97080" y="5013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3280" y="4221000"/>
            <a:ext cx="0" cy="503280"/>
          </a:xfrm>
          <a:prstGeom prst="line">
            <a:avLst/>
          </a:prstGeom>
          <a:ln w="572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35280" y="3789360"/>
            <a:ext cx="598320" cy="1592280"/>
            <a:chOff x="1835280" y="3789360"/>
            <a:chExt cx="598320" cy="1592280"/>
          </a:xfrm>
        </p:grpSpPr>
        <p:sp>
          <p:nvSpPr>
            <p:cNvPr id="123" name=""/>
            <p:cNvSpPr/>
            <p:nvPr/>
          </p:nvSpPr>
          <p:spPr>
            <a:xfrm>
              <a:off x="1835280" y="4724280"/>
              <a:ext cx="0" cy="505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43200" y="378936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9800" y="5013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835280" y="3860280"/>
              <a:ext cx="0" cy="863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236000" y="4365720"/>
            <a:ext cx="576000" cy="57600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003366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523280" y="3718080"/>
            <a:ext cx="598320" cy="1798560"/>
            <a:chOff x="7523280" y="3718080"/>
            <a:chExt cx="598320" cy="1798560"/>
          </a:xfrm>
        </p:grpSpPr>
        <p:sp>
          <p:nvSpPr>
            <p:cNvPr id="129" name=""/>
            <p:cNvSpPr/>
            <p:nvPr/>
          </p:nvSpPr>
          <p:spPr>
            <a:xfrm>
              <a:off x="7523280" y="4653000"/>
              <a:ext cx="1440" cy="8636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1560" y="371808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7800" y="4941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523280" y="4076280"/>
              <a:ext cx="1440" cy="57636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44364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637000"/>
            <a:ext cx="2087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сплыв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637000"/>
            <a:ext cx="2087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в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2637000"/>
            <a:ext cx="2087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о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789360"/>
            <a:ext cx="217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508464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4076640"/>
            <a:ext cx="217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508464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3716280"/>
            <a:ext cx="217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501336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52280"/>
            <a:ext cx="7772400" cy="129564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01992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ведение тела в жидкости зависит от соотношения силы тяжести и архимедовой си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13873E-006 L 0.00035 0.14682 E">
                                      <p:cBhvr>
                                        <p:cTn id="5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8555E-006 L -4.44444E-006 -0.15722 E">
                                      <p:cBhvr>
                                        <p:cTn id="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601992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ведение тела в жидкости зависит от соотношения плотности   тела и плотности жидк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773360"/>
          <a:ext cx="8497800" cy="4306680"/>
        </p:xfrm>
        <a:graphic>
          <a:graphicData uri="http://schemas.openxmlformats.org/drawingml/2006/table">
            <a:tbl>
              <a:tblPr/>
              <a:tblGrid>
                <a:gridCol w="2833560"/>
                <a:gridCol w="2830680"/>
                <a:gridCol w="283356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ж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gt;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т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ж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=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ж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lt;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11280" y="3645000"/>
            <a:ext cx="2519280" cy="23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948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429000" y="3429000"/>
            <a:ext cx="2519280" cy="2519280"/>
            <a:chOff x="3429000" y="3429000"/>
            <a:chExt cx="2519280" cy="2519280"/>
          </a:xfrm>
        </p:grpSpPr>
        <p:sp>
          <p:nvSpPr>
            <p:cNvPr id="152" name=""/>
            <p:cNvSpPr/>
            <p:nvPr/>
          </p:nvSpPr>
          <p:spPr>
            <a:xfrm>
              <a:off x="3429000" y="3645000"/>
              <a:ext cx="2519280" cy="230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5948280"/>
              <a:ext cx="25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94828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27640" y="3429000"/>
            <a:ext cx="2519640" cy="2519280"/>
            <a:chOff x="6227640" y="3429000"/>
            <a:chExt cx="2519640" cy="2519280"/>
          </a:xfrm>
        </p:grpSpPr>
        <p:sp>
          <p:nvSpPr>
            <p:cNvPr id="157" name=""/>
            <p:cNvSpPr/>
            <p:nvPr/>
          </p:nvSpPr>
          <p:spPr>
            <a:xfrm>
              <a:off x="6227640" y="3645000"/>
              <a:ext cx="2519640" cy="2303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2764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27640" y="5948280"/>
              <a:ext cx="2519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74728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5564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00ff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2492280"/>
            <a:ext cx="2087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в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492280"/>
            <a:ext cx="2087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сплыв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492280"/>
            <a:ext cx="2087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о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cc0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4365720"/>
            <a:ext cx="576000" cy="57600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003366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52280"/>
            <a:ext cx="7772400" cy="12193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13873E-006 L 0.00018 0.14682 E">
                                      <p:cBhvr>
                                        <p:cTn id="7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8555E-006 L -4.44444E-006 -0.15722 E">
                                      <p:cBhvr>
                                        <p:cTn id="7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37920" y="1690200"/>
            <a:ext cx="6220800" cy="2106000"/>
          </a:xfrm>
          <a:prstGeom prst="rect">
            <a:avLst/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ahoma"/>
              </a:rPr>
              <a:t>Физкультминут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Почему айсберг 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не тонет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1280" y="380880"/>
            <a:ext cx="62755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ЫБ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095880" y="2408400"/>
            <a:ext cx="30481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952880" cy="2782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24433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5329080" cy="3610080"/>
          </a:xfrm>
          <a:prstGeom prst="rect">
            <a:avLst/>
          </a:prstGeom>
          <a:ln w="0">
            <a:noFill/>
          </a:ln>
        </p:spPr>
      </p:pic>
      <p:sp>
        <p:nvSpPr>
          <p:cNvPr id="45" name="Стрелка вниз 97"/>
          <p:cNvSpPr/>
          <p:nvPr/>
        </p:nvSpPr>
        <p:spPr>
          <a:xfrm>
            <a:off x="4191120" y="1371600"/>
            <a:ext cx="285480" cy="7142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410080" cy="3038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1771560"/>
            <a:ext cx="7620120" cy="5086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0"/>
            <a:ext cx="8642160" cy="3048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Физический эксперимент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2895840" cy="2751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819520" y="320040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«Хорошо  подумав, отвеча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На опыте проверив, утверждай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504960" y="297180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0"/>
            <a:ext cx="8610480" cy="6858000"/>
          </a:xfrm>
          <a:prstGeom prst="horizontalScroll">
            <a:avLst>
              <a:gd name="adj" fmla="val 19421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Домашнее зада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§ .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Рассчитать , какая часть айсбер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находится под вод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33520"/>
            <a:ext cx="8381880" cy="480060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40054"/>
                </a:solidFill>
                <a:latin typeface="Times New Roman"/>
                <a:ea typeface="Arial"/>
              </a:rPr>
              <a:t>Плавание тел.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5335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353040" cy="18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5880" y="41911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2209680"/>
            <a:ext cx="3505320" cy="192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220968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57200" y="228600"/>
            <a:ext cx="2666880" cy="196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429000" y="247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248520" y="2286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55512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Наблю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Экспериме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0" algn="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Calibri"/>
              </a:rPr>
              <a:t>М.В.Ломоносов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52280"/>
            <a:ext cx="8305920" cy="1905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Методы позн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94920" y="7617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Сегодня над морем       большая жара, а в море плывет ледяная гора. Плывет и, наверно, считает, она и в жару не растае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2443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90440"/>
            <a:ext cx="3962160" cy="298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419720" cy="2954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15000" y="3809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14800" y="68544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Айсберг - </a:t>
            </a:r>
            <a:br>
              <a:rPr sz="4400"/>
            </a:b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огромная масса льда, плавающая на воде в океане.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b5481"/>
                </a:solidFill>
                <a:latin typeface="Tahoma"/>
              </a:rPr>
              <a:t>Они плавают в море по 6-12 л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97440" cy="1942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3095640" cy="2089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9640" y="4581360"/>
            <a:ext cx="3116520" cy="2087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Почему айсберг 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не тонет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5-10-15T04:06:00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