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DCC-0874-4547-96D9-F9AC272C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9C4-CF5D-4DAF-8529-45693693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680-EACA-4385-A5FA-15CC4433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798-A616-4C96-BACF-00B1FADB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4A7-1366-4DB1-BB2D-283BD445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1E45-93FD-468E-9BEF-2638BDD4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ECC5-F9B5-4ACC-8F5C-5783918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4B64-09C9-48E0-AD44-15E4012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C4FC-4FD2-4C44-8623-86AB9939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C5F7-25F6-48A5-9F3C-CC0B1F71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5BB6-65A2-4BF0-954C-C4BFAA9F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C57-3E1D-4AB0-9F11-852193F9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2E84-4221-4EF4-A439-CD856E8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6569-63B1-4556-8D33-5B7CD98F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3157-1FFB-4CD7-9E4F-B0ABD61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E6EA-B76D-4418-AA22-56CFDD82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5B00-8CAB-4F97-AFEF-91E1CD03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DED-2A6A-480B-8ABA-841455B4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079-FCB5-494C-BCC6-0E26B2E6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166-5227-4FAD-92E7-BEDB5893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F4C-4BF3-4640-A054-1038E177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094-C0B1-4F64-B9A2-FE4E110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85A-1E6B-454B-9333-C09CE0FA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622-E0E8-4999-9CC4-D01DBBFD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2EB2-60D5-413A-B540-3EBFE2779A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777-6ADF-4132-8E8A-3775DB02C220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0080" y="85680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d9c24"/>
                </a:solidFill>
                <a:latin typeface="Times New Roman"/>
              </a:rPr>
              <a:t>Проектная деятельность в детском саду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9720" y="4714920"/>
            <a:ext cx="698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8369280" cy="11872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714240" y="114300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а этом этапе педагоги  определяют источники для планирования проектной деятельности,  формы, сроки реализации проекта и осуществляют непосредственное планирование проектной деятельност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оставляя план реализации проекта, учитывают необходимые  принципы: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истемность;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езонность;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возрастные особенности детей;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интеграция различных видов детской деятельности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3384"/>
                </a:solidFill>
                <a:latin typeface="Times New Roman"/>
              </a:rPr>
              <a:t>При составлении собственно проекта необходимо соблюдать его структуру</a:t>
            </a:r>
            <a:r>
              <a:rPr b="0" lang="ru-RU" sz="2000" spc="-1" strike="noStrike">
                <a:solidFill>
                  <a:srgbClr val="4b3384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214280" y="1143000"/>
            <a:ext cx="7429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ктуальность выбранной темы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аспорт проекта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тип проекта (по количеству участников, по длительности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по содержанию (исследовательско-творческий, ролевой, игровой, ознакомительно-ориентировочный, практико-ориентировочный, творческий) 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участники проекта (возрастная категория детей, родители, педагоги)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рок реализации проекта (по продолжительности бывают краткосрочными и долгосрочными- от нескольких дней до учебного года)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Цели и задачи проекта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ловия успешной реализации проекта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руктура и содержание проекта;  ( из чего состоит данный проект)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едполагаемый результат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ы работы по проекту и их взаимосвязь с образовательными областями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бота с родителями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одукт проектной деятельности (результат в зависимости от вида проекта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8400960" cy="288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G:\Новая папка (5)\SAM_2437.JPG"/>
          <p:cNvPicPr/>
          <p:nvPr/>
        </p:nvPicPr>
        <p:blipFill>
          <a:blip r:embed="rId2"/>
          <a:stretch/>
        </p:blipFill>
        <p:spPr>
          <a:xfrm>
            <a:off x="4143240" y="3571920"/>
            <a:ext cx="3998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1133640" y="281160"/>
            <a:ext cx="7785000" cy="1328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2"/>
          <p:cNvSpPr/>
          <p:nvPr/>
        </p:nvSpPr>
        <p:spPr>
          <a:xfrm>
            <a:off x="1802160" y="157176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Calibri"/>
              </a:rPr>
              <a:t>Презентация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33"/>
                </a:solidFill>
                <a:latin typeface="Calibri"/>
              </a:rPr>
              <a:t>готовых продуктов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2"/>
          <a:stretch/>
        </p:blipFill>
        <p:spPr>
          <a:xfrm>
            <a:off x="1706400" y="2193840"/>
            <a:ext cx="6108840" cy="4091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17.gif"/>
          <p:cNvPicPr/>
          <p:nvPr/>
        </p:nvPicPr>
        <p:blipFill>
          <a:blip r:embed="rId3"/>
          <a:stretch/>
        </p:blipFill>
        <p:spPr>
          <a:xfrm>
            <a:off x="4143240" y="3714840"/>
            <a:ext cx="1009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2142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Times New Roman"/>
              </a:rPr>
              <a:t>СПАСИБО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Times New Roman"/>
              </a:rPr>
              <a:t>ЗА ВНИМАНИ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ТВОРЧЕСКИХ УСПЕХОВ !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4" name="Рисунок 5" descr="D:\Коллекция картинок (Microsoft)\395.gif"/>
          <p:cNvPicPr/>
          <p:nvPr/>
        </p:nvPicPr>
        <p:blipFill>
          <a:blip r:embed="rId1"/>
          <a:stretch/>
        </p:blipFill>
        <p:spPr>
          <a:xfrm>
            <a:off x="4286160" y="41432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66"/>
                </a:solidFill>
                <a:uFillTx/>
                <a:latin typeface="Calibri"/>
                <a:ea typeface="Times New Roman"/>
              </a:rPr>
              <a:t>«Проект»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( 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лат.</a:t>
            </a:r>
            <a:r>
              <a:rPr b="0" lang="en-US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 «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выброшенный вперёд»</a:t>
            </a:r>
            <a:r>
              <a:rPr b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 «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выступающий»</a:t>
            </a:r>
            <a:r>
              <a:rPr b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, «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бросающийся в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глаза»</a:t>
            </a:r>
            <a:r>
              <a:rPr b="0" lang="ru-RU" sz="2800" spc="-1" strike="noStrike">
                <a:solidFill>
                  <a:srgbClr val="cc6600"/>
                </a:solidFill>
                <a:latin typeface="Calibri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4240" y="21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6600"/>
                </a:solidFill>
                <a:latin typeface="Arial"/>
              </a:rPr>
              <a:t>«Все, что я познаю, я знаю, для   чего это  мне надо и где и как я могу эти знания применить»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-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от основной тезис современного понимания метода проектов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67723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Метод проектов –способ организации педагогического процесса, основанный на взаимодействии педагога и воспитанника,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особ взаимодействия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с окружающей средой,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этапная практическая деятельность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о достижению поставленной цел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9" descr="image21"/>
          <p:cNvPicPr/>
          <p:nvPr/>
        </p:nvPicPr>
        <p:blipFill>
          <a:blip r:embed="rId1"/>
          <a:stretch/>
        </p:blipFill>
        <p:spPr>
          <a:xfrm>
            <a:off x="6711840" y="4638600"/>
            <a:ext cx="2438640" cy="222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b3384"/>
                </a:solidFill>
                <a:uFillTx/>
                <a:latin typeface="Times New Roman"/>
              </a:rPr>
              <a:t>Основной целью проектного метода являетс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азвитие свободной творческой личности ребенка.</a:t>
            </a:r>
            <a:br>
              <a:rPr sz="3200"/>
            </a:br>
            <a:endParaRPr b="0" lang="en-US" sz="28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99" name="Содержимое 5" descr=""/>
          <p:cNvPicPr/>
          <p:nvPr/>
        </p:nvPicPr>
        <p:blipFill>
          <a:blip r:embed="rId1"/>
          <a:stretch/>
        </p:blipFill>
        <p:spPr>
          <a:xfrm>
            <a:off x="907920" y="2408400"/>
            <a:ext cx="7809120" cy="415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детсад\photo1548.gif"/>
          <p:cNvPicPr/>
          <p:nvPr/>
        </p:nvPicPr>
        <p:blipFill>
          <a:blip r:embed="rId2"/>
          <a:stretch/>
        </p:blipFill>
        <p:spPr>
          <a:xfrm>
            <a:off x="7929720" y="35712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1109520" y="244440"/>
            <a:ext cx="8040960" cy="172404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3" descr=""/>
          <p:cNvPicPr/>
          <p:nvPr/>
        </p:nvPicPr>
        <p:blipFill>
          <a:blip r:embed="rId2"/>
          <a:stretch/>
        </p:blipFill>
        <p:spPr>
          <a:xfrm>
            <a:off x="2071800" y="1643040"/>
            <a:ext cx="5694120" cy="4406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3c6.gif"/>
          <p:cNvPicPr/>
          <p:nvPr/>
        </p:nvPicPr>
        <p:blipFill>
          <a:blip r:embed="rId3"/>
          <a:stretch/>
        </p:blipFill>
        <p:spPr>
          <a:xfrm>
            <a:off x="6215040" y="3857760"/>
            <a:ext cx="24861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85360" cy="1779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285920" y="2143080"/>
            <a:ext cx="7643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8b71c8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8b71c8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Подготовительный</a:t>
            </a: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этап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I </a:t>
            </a:r>
            <a:r>
              <a:rPr b="1" lang="ru-RU" sz="4000" spc="-1" strike="noStrike">
                <a:solidFill>
                  <a:srgbClr val="8b71c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Организация проектирования</a:t>
            </a:r>
            <a:r>
              <a:rPr b="1" lang="ru-RU" sz="4000" spc="-1" strike="noStrike">
                <a:solidFill>
                  <a:srgbClr val="8b71c8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II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 Проектирование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b71c8"/>
                </a:solidFill>
                <a:latin typeface="Calibri"/>
              </a:rPr>
              <a:t>IV </a:t>
            </a:r>
            <a:r>
              <a:rPr b="1" lang="ru-RU" sz="4000" spc="-1" strike="noStrike">
                <a:solidFill>
                  <a:srgbClr val="8b71c8"/>
                </a:solidFill>
                <a:latin typeface="Calibri"/>
              </a:rPr>
              <a:t> Презентация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Picture 4" descr="pic28_2"/>
          <p:cNvPicPr/>
          <p:nvPr/>
        </p:nvPicPr>
        <p:blipFill>
          <a:blip r:embed="rId2"/>
          <a:stretch/>
        </p:blipFill>
        <p:spPr>
          <a:xfrm>
            <a:off x="6786720" y="457200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5" descr=""/>
          <p:cNvPicPr/>
          <p:nvPr/>
        </p:nvPicPr>
        <p:blipFill>
          <a:blip r:embed="rId1"/>
          <a:stretch/>
        </p:blipFill>
        <p:spPr>
          <a:xfrm>
            <a:off x="1116000" y="341280"/>
            <a:ext cx="6894360" cy="11034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785880" y="1143000"/>
            <a:ext cx="77868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Определить вид проект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Определить цели и задачи развития обучения, воспитан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Обеспечить информационное, учебно-материально-техническое оснащение проект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Изучить опыт педагогов-новаторов по теме проект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Составить  технологическую карт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Продумать каким образом можно включить детей и родителей в проек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1170000" y="281160"/>
            <a:ext cx="7980480" cy="1236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1000080" y="150012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b71c8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Тем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Цели и задач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Планируемый продукт проектной деятельност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Необходимые материалы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b71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b71c8"/>
                </a:solidFill>
                <a:latin typeface="Calibri"/>
              </a:rPr>
              <a:t>Планирование мероприятий с учётом их интеграции с образовательными областям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3384"/>
                </a:solidFill>
                <a:latin typeface="Franklin Gothic Book"/>
              </a:rPr>
              <a:t>Продукт проектной деятельности планируется в технологическую карту с учётом вида проекта.</a:t>
            </a:r>
            <a:br>
              <a:rPr sz="2400"/>
            </a:br>
            <a:endParaRPr b="0" lang="en-US" sz="2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785880" y="1287360"/>
            <a:ext cx="7929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Исследовательско-творческий -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лностью подчинен логике исследования и имеет структуру, приближенную или полностью совпадающим с подлинным научным исследованием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олевой, игровой-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(участники принимают на себя определенные роли, обусловленные характером и содержанием проекта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Ознакомительно-ориентировочный (информационный)- 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сбор информации о каком-то объекте, явлении; предполагается ознакомление участников проекта с этой информацией, ее анализ и обобщение фактов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Практико-ориентировочный (прикладной)- 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(результат обязательно ориентирован на социальные интересы самих участников)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Творческий-</a:t>
            </a:r>
            <a:r>
              <a:rPr b="1" lang="ru-RU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езультат  такого проекта может быть спектакль, сказка, постановка, детский праздник, детский дизайн, например «Театральная неделя»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Petrak</cp:lastModifiedBy>
  <dcterms:modified xsi:type="dcterms:W3CDTF">2014-11-17T06:44:07Z</dcterms:modified>
  <cp:revision>84</cp:revision>
  <dc:subject/>
  <dc:title>PowerPoint Presentation</dc:title>
</cp:coreProperties>
</file>