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0C0-8CC2-4902-9F25-48027AAF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EBC-079B-4F7E-B376-DAD888C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3DC-21ED-447B-9699-35CEF109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46D-F811-4A7A-90D1-91FF088D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BFEF-04FA-4B7F-8F85-33662C6F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85DA-224B-4688-BF55-DA024601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6ABD-3510-48A6-BDBB-E50E5171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5561-E341-43DA-9E0D-EE03DDAE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0E2C-94BF-4392-B8D8-3BD85EE3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03D3-04DB-44C5-B218-538A3F61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7224-73BE-47BC-B449-F6F5E325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F98-E27B-4F92-A720-6405DA1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8346-A958-43D4-93D9-3702B75C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2DD9-B47E-4436-9056-BF16DEEE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3E3-B7D9-44E3-BDD8-2B281E08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B1AF-BBE8-4903-81CB-7C579D8F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1DEC-C4F1-4143-876A-1270D81E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A6A-7B58-4A1A-A81F-1DC1FFD6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749-0CCF-4DA2-8FD7-48662025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DBE-3A5B-4E5A-885F-AA03BBA2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F24-3E1D-42DA-B45E-83E8E1DA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CF0-B1CE-48DB-B294-0740026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AC4-CAF0-4714-BDA0-ABC014E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E4E-B81A-4390-9E51-B920509D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60F9-9E2A-4FA8-A2E9-657C07E2E5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E664-0007-44C8-A106-BCAD302F09F3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0080" y="85680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d9c24"/>
                </a:solidFill>
                <a:latin typeface="Times New Roman"/>
              </a:rPr>
              <a:t>Проектная деятельность в детском саду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9720" y="4714920"/>
            <a:ext cx="698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8369280" cy="11872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714240" y="1143000"/>
            <a:ext cx="800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а этом этапе педагоги  определяют источники для планирования проектной деятельности,  формы, сроки реализации проекта и осуществляют непосредственное планирование проектной деятельност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оставляя план реализации проекта, учитывают необходимые  принципы: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истемность;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езонность;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возрастные особенности детей;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интеграция различных видов детской деятельности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3384"/>
                </a:solidFill>
                <a:latin typeface="Times New Roman"/>
              </a:rPr>
              <a:t>При составлении собственно проекта необходимо соблюдать его структуру</a:t>
            </a:r>
            <a:r>
              <a:rPr b="0" lang="ru-RU" sz="2000" spc="-1" strike="noStrike">
                <a:solidFill>
                  <a:srgbClr val="4b3384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214280" y="1143000"/>
            <a:ext cx="7429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ктуальность выбранной темы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аспорт проекта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тип проекта (по количеству участников, по длительности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по содержанию (исследовательско-творческий, ролевой, игровой, ознакомительно-ориентировочный, практико-ориентировочный, творческий) 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участники проекта (возрастная категория детей, родители, педагоги)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рок реализации проекта (по продолжительности бывают краткосрочными и долгосрочными- от нескольких дней до учебного года)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Цели и задачи проекта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словия успешной реализации проекта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труктура и содержание проекта;  ( из чего состоит данный проект)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едполагаемый результат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ы работы по проекту и их взаимосвязь с образовательными областями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бота с родителями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одукт проектной деятельности (результат в зависимости от вида проекта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8400960" cy="288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G:\Новая папка (5)\SAM_2437.JPG"/>
          <p:cNvPicPr/>
          <p:nvPr/>
        </p:nvPicPr>
        <p:blipFill>
          <a:blip r:embed="rId2"/>
          <a:stretch/>
        </p:blipFill>
        <p:spPr>
          <a:xfrm>
            <a:off x="4143240" y="3571920"/>
            <a:ext cx="3998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1133640" y="281160"/>
            <a:ext cx="7785000" cy="1328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2"/>
          <p:cNvSpPr/>
          <p:nvPr/>
        </p:nvSpPr>
        <p:spPr>
          <a:xfrm>
            <a:off x="1802160" y="1571760"/>
            <a:ext cx="60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Calibri"/>
              </a:rPr>
              <a:t>Презентация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33"/>
                </a:solidFill>
                <a:latin typeface="Calibri"/>
              </a:rPr>
              <a:t>готовых продуктов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Схема 3" descr=""/>
          <p:cNvPicPr/>
          <p:nvPr/>
        </p:nvPicPr>
        <p:blipFill>
          <a:blip r:embed="rId2"/>
          <a:stretch/>
        </p:blipFill>
        <p:spPr>
          <a:xfrm>
            <a:off x="1706400" y="2193840"/>
            <a:ext cx="6108840" cy="4091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17.gif"/>
          <p:cNvPicPr/>
          <p:nvPr/>
        </p:nvPicPr>
        <p:blipFill>
          <a:blip r:embed="rId3"/>
          <a:stretch/>
        </p:blipFill>
        <p:spPr>
          <a:xfrm>
            <a:off x="4143240" y="3714840"/>
            <a:ext cx="1009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2142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Times New Roman"/>
              </a:rPr>
              <a:t>СПАСИБО</a:t>
            </a:r>
            <a:br>
              <a:rPr sz="4400"/>
            </a:br>
            <a:r>
              <a:rPr b="0" lang="ru-RU" sz="4400" spc="-1" strike="noStrike">
                <a:solidFill>
                  <a:srgbClr val="006633"/>
                </a:solidFill>
                <a:latin typeface="Times New Roman"/>
              </a:rPr>
              <a:t>ЗА ВНИМАНИЕ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ТВОРЧЕСКИХ УСПЕХОВ !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4" name="Рисунок 5" descr="D:\Коллекция картинок (Microsoft)\395.gif"/>
          <p:cNvPicPr/>
          <p:nvPr/>
        </p:nvPicPr>
        <p:blipFill>
          <a:blip r:embed="rId1"/>
          <a:stretch/>
        </p:blipFill>
        <p:spPr>
          <a:xfrm>
            <a:off x="4286160" y="41432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366"/>
                </a:solidFill>
                <a:uFillTx/>
                <a:latin typeface="Calibri"/>
                <a:ea typeface="Times New Roman"/>
              </a:rPr>
              <a:t>«Проект»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( 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лат.</a:t>
            </a:r>
            <a:r>
              <a:rPr b="0" lang="en-US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 «</a:t>
            </a:r>
            <a:r>
              <a:rPr b="1" i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выброшенный вперёд»</a:t>
            </a:r>
            <a:r>
              <a:rPr b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 «</a:t>
            </a:r>
            <a:r>
              <a:rPr b="1" i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выступающий»</a:t>
            </a:r>
            <a:r>
              <a:rPr b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, «</a:t>
            </a:r>
            <a:r>
              <a:rPr b="1" i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бросающийся в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глаза»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4240" y="214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6600"/>
                </a:solidFill>
                <a:latin typeface="Arial"/>
              </a:rPr>
              <a:t>«Все, что я познаю, я знаю, для   чего это  мне надо и где и как я могу эти знания применить»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-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от основной тезис современного понимания метода проектов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67723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Метод проектов –способ организации педагогического процесса, основанный на взаимодействии педагога и воспитанника,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особ взаимодействия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с окружающей средой,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этапная практическая деятельность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о достижению поставленной цел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9" descr="image21"/>
          <p:cNvPicPr/>
          <p:nvPr/>
        </p:nvPicPr>
        <p:blipFill>
          <a:blip r:embed="rId1"/>
          <a:stretch/>
        </p:blipFill>
        <p:spPr>
          <a:xfrm>
            <a:off x="6711840" y="4638600"/>
            <a:ext cx="2438640" cy="222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b3384"/>
                </a:solidFill>
                <a:uFillTx/>
                <a:latin typeface="Times New Roman"/>
              </a:rPr>
              <a:t>Основной целью проектного метода являетс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развитие свободной творческой личности ребенка.</a:t>
            </a:r>
            <a:br>
              <a:rPr sz="3200"/>
            </a:br>
            <a:endParaRPr b="0" lang="en-US" sz="28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99" name="Содержимое 5" descr=""/>
          <p:cNvPicPr/>
          <p:nvPr/>
        </p:nvPicPr>
        <p:blipFill>
          <a:blip r:embed="rId1"/>
          <a:stretch/>
        </p:blipFill>
        <p:spPr>
          <a:xfrm>
            <a:off x="907920" y="2408400"/>
            <a:ext cx="7809120" cy="415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детсад\photo1548.gif"/>
          <p:cNvPicPr/>
          <p:nvPr/>
        </p:nvPicPr>
        <p:blipFill>
          <a:blip r:embed="rId2"/>
          <a:stretch/>
        </p:blipFill>
        <p:spPr>
          <a:xfrm>
            <a:off x="7929720" y="35712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1109520" y="244440"/>
            <a:ext cx="8040960" cy="172404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3" descr=""/>
          <p:cNvPicPr/>
          <p:nvPr/>
        </p:nvPicPr>
        <p:blipFill>
          <a:blip r:embed="rId2"/>
          <a:stretch/>
        </p:blipFill>
        <p:spPr>
          <a:xfrm>
            <a:off x="2071800" y="1643040"/>
            <a:ext cx="5694120" cy="44067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3c6.gif"/>
          <p:cNvPicPr/>
          <p:nvPr/>
        </p:nvPicPr>
        <p:blipFill>
          <a:blip r:embed="rId3"/>
          <a:stretch/>
        </p:blipFill>
        <p:spPr>
          <a:xfrm>
            <a:off x="6215040" y="3857760"/>
            <a:ext cx="24861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785360" cy="1779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285920" y="2143080"/>
            <a:ext cx="76438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I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8b71c8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8b71c8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Подготовительный</a:t>
            </a: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этап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II </a:t>
            </a:r>
            <a:r>
              <a:rPr b="1" lang="ru-RU" sz="4000" spc="-1" strike="noStrike">
                <a:solidFill>
                  <a:srgbClr val="8b71c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 Организация проектирования</a:t>
            </a:r>
            <a:r>
              <a:rPr b="1" lang="ru-RU" sz="4000" spc="-1" strike="noStrike">
                <a:solidFill>
                  <a:srgbClr val="8b71c8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III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  Проектирование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IV 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 Презентация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Picture 4" descr="pic28_2"/>
          <p:cNvPicPr/>
          <p:nvPr/>
        </p:nvPicPr>
        <p:blipFill>
          <a:blip r:embed="rId2"/>
          <a:stretch/>
        </p:blipFill>
        <p:spPr>
          <a:xfrm>
            <a:off x="6786720" y="457200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5" descr=""/>
          <p:cNvPicPr/>
          <p:nvPr/>
        </p:nvPicPr>
        <p:blipFill>
          <a:blip r:embed="rId1"/>
          <a:stretch/>
        </p:blipFill>
        <p:spPr>
          <a:xfrm>
            <a:off x="1116000" y="341280"/>
            <a:ext cx="6894360" cy="11034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785880" y="1143000"/>
            <a:ext cx="77868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Определить вид проект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Определить цели и задачи развития обучения, воспитан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Обеспечить информационное, учебно-материально-техническое оснащение проект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Изучить опыт педагогов-новаторов по теме проект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Составить  технологическую карт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Продумать каким образом можно включить детей и родителей в проек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1170000" y="281160"/>
            <a:ext cx="7980480" cy="1236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1000080" y="150012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b71c8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Тем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Цели и задачи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Планируемый продукт проектной деятельности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Необходимые материалы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Планирование мероприятий с учётом их интеграции с образовательными областями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3384"/>
                </a:solidFill>
                <a:latin typeface="Franklin Gothic Book"/>
              </a:rPr>
              <a:t>Продукт проектной деятельности планируется в технологическую карту с учётом вида проекта.</a:t>
            </a:r>
            <a:br>
              <a:rPr sz="2400"/>
            </a:br>
            <a:endParaRPr b="0" lang="en-US" sz="2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785880" y="1287360"/>
            <a:ext cx="7929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Исследовательско-творческий -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лностью подчинен логике исследования и имеет структуру, приближенную или полностью совпадающим с подлинным научным исследованием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Ролевой, игровой-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(участники принимают на себя определенные роли, обусловленные характером и содержанием проекта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Ознакомительно-ориентировочный (информационный)- 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сбор информации о каком-то объекте, явлении; предполагается ознакомление участников проекта с этой информацией, ее анализ и обобщение фактов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Практико-ориентировочный (прикладной)- 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(результат обязательно ориентирован на социальные интересы самих участников)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Творческий-</a:t>
            </a:r>
            <a:r>
              <a:rPr b="1" lang="ru-RU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езультат  такого проекта может быть спектакль, сказка, постановка, детский праздник, детский дизайн, например «Театральная неделя»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Petrak</cp:lastModifiedBy>
  <dcterms:modified xsi:type="dcterms:W3CDTF">2014-11-17T06:44:07Z</dcterms:modified>
  <cp:revision>84</cp:revision>
  <dc:subject/>
  <dc:title>PowerPoint Presentation</dc:title>
</cp:coreProperties>
</file>