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686-309E-40D1-9E69-3AFC812D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FF5-D103-42A0-8C86-678EEB79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E6CE-CD4C-42EE-8EC9-58382E22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AB4-C04E-48C2-A7E9-4B8B65CF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F78-E689-4A03-8E1A-4C2FA5F9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1994-3441-47CA-AE97-7BFED437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0CBA-D38D-4769-BE57-E465CD94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EBC6-3949-4BD8-A6FA-4088CB58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CF77-96E5-438D-AE48-4586CA69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DF5-70F2-4E39-A857-CA58DD3B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759-4F3F-4A11-929D-CE98D4B3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3B5-EBE9-4B46-B03C-2F4B78F2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5ECF-EBEB-4B3F-A144-19F0026E617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27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ДОПОЛНИТЕЛЬНАЯ ПРЕДПРОФЕССИОНАЛЬНАЯ ОБЩЕОБРАЗОВАТЕЛЬНАЯ ПРОГРАММА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В ОБЛАСТИ МУЗЫКАЛЬНОГО ИСКУССТВА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«НАРОДНЫЕ ИНСТРУМЕНТЫ»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редметная область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МУЗЫКАЛЬНОЕ ИСПОЛНИТЕЛЬСТВО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3789360"/>
            <a:ext cx="4825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ГРАМ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учебному предмету «СПЕЦИАЛЬН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гитара)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8" descr="1365503462_Kuda-poiyti-Festivali-dlya-deteiy-ezoterikov-bardov"/>
          <p:cNvPicPr/>
          <p:nvPr/>
        </p:nvPicPr>
        <p:blipFill>
          <a:blip r:embed="rId2"/>
          <a:stretch/>
        </p:blipFill>
        <p:spPr>
          <a:xfrm>
            <a:off x="5076720" y="3429000"/>
            <a:ext cx="3745080" cy="30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340200"/>
            <a:ext cx="5761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итары звонкая душ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з тишины рождая зву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труною трепетно дрож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не дарит радости и му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 пусть утихнет в сердце б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йдут тревоги и сомнень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сть у гитары эта роль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грать в театре наслажд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 призрак музыки плывё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коны суеты разрушив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труна гитары мне поё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 песней – исцеляет душу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information_items_60041"/>
          <p:cNvPicPr/>
          <p:nvPr/>
        </p:nvPicPr>
        <p:blipFill>
          <a:blip r:embed="rId2"/>
          <a:stretch/>
        </p:blipFill>
        <p:spPr>
          <a:xfrm>
            <a:off x="5724360" y="836640"/>
            <a:ext cx="341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5ffff"/>
                </a:solidFill>
                <a:uFillTx/>
                <a:latin typeface="Tahoma"/>
              </a:rPr>
              <a:t>Срок реализации программы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о учебному предмету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«СПЕЦИАЛЬНОСТЬ 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(гитара)»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92000" y="1628640"/>
            <a:ext cx="56516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грамма рассчита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 5 лет обу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зраст поступивших в 1 клас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 10 лет до 12 л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Рекомендуемый объём часов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 академических часа в недел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ля учащихся   1 - 4 классо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 академических часа в недел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ля  учащихся 5 клас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родолжительность учебного года: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3 учебные недели – для  уч-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 - 5 клас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6" descr="imgFull"/>
          <p:cNvPicPr/>
          <p:nvPr/>
        </p:nvPicPr>
        <p:blipFill>
          <a:blip r:embed="rId2"/>
          <a:stretch/>
        </p:blipFill>
        <p:spPr>
          <a:xfrm>
            <a:off x="179280" y="2133720"/>
            <a:ext cx="345600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IMG_8137"/>
          <p:cNvPicPr/>
          <p:nvPr/>
        </p:nvPicPr>
        <p:blipFill>
          <a:blip r:embed="rId2"/>
          <a:stretch/>
        </p:blipFill>
        <p:spPr>
          <a:xfrm>
            <a:off x="3444840" y="0"/>
            <a:ext cx="5699160" cy="3798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108000" y="62064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Форма проведения учебных занят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250920" y="3715920"/>
            <a:ext cx="871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орма проведения учебных занятий – индивидуальная. Она позволяет построить содержание программы  с учетом особенностей развития каждого  учащего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должительность урока  – 40 мину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рок отличается подвижность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нутренней структуры, варьирование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спользуемых средств и методов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380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5ffff"/>
                </a:solidFill>
                <a:uFillTx/>
                <a:latin typeface="Tahoma"/>
              </a:rPr>
              <a:t>Актуальность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данной образовательной программы выражается в гуманизации и демократизации образовательного процесса, и его индивидуализации. Сегодня, в условиях современного мира, с его основной информационно-технической составляющей, важно помнить, что эстетическое развитие является средством для реализации заложенных в ребенке творческих начал и созданием условий для самовыражения, способствующего формированию таких качеств, как самоконтроль, уважение к окружающим, целеустремленность, трудолюбие, чувство собственного достоинства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Tahoma"/>
              </a:rPr>
              <a:t>Обоснование структуры программы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учебного предмета </a:t>
            </a: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«Специальность (гитара)».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8930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снованием структуры программы являются  ФГТ, отражающие все аспекты работ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подавателя с ученик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грамма содержит следующие раздел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едения о затратах учебного времени, предусмотренного на освоение учебного предмет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пределение учебного материала п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дам обуч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е дидактических единиц учебного предме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бования к уровню подготовки учащих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ы и методы контроля, система оценок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одическое обеспечение учебного процесс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оответствии с данными направления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оится основной раздел програм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одержание учебного предмет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Структура программы учебного предмета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1125000"/>
            <a:ext cx="547200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Пояснительная записка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одержание учебного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предмета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Требования к уровню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подготовки учащихся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Формы и методы контроля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истема оценок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Методическое обеспечение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учебного процесса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I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писки рекомендуемо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нотной и методической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литературы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6" descr="QEf5RnURvc-preview"/>
          <p:cNvPicPr/>
          <p:nvPr/>
        </p:nvPicPr>
        <p:blipFill>
          <a:blip r:embed="rId2"/>
          <a:stretch/>
        </p:blipFill>
        <p:spPr>
          <a:xfrm>
            <a:off x="5435640" y="1557360"/>
            <a:ext cx="3529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88000" y="0"/>
            <a:ext cx="4176720" cy="27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Цели учебного предмета 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«Специальность (гитара)»</a:t>
            </a: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3214800"/>
            <a:ext cx="91440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учение учащихся исполнению на инструменте и овладение знаниями, умениями и навыками игры на гитаре, позволяющими выпускникам приобретать собственный опыт музицировани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бретение учащимися опыта творческой деятельно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публичных выступле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ирование у учащихся осознанной мотивации обучения и подготовка к продолжению обучения  в профессиональную образовательную организац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10" descr="IMG_8086"/>
          <p:cNvPicPr/>
          <p:nvPr/>
        </p:nvPicPr>
        <p:blipFill>
          <a:blip r:embed="rId2"/>
          <a:stretch/>
        </p:blipFill>
        <p:spPr>
          <a:xfrm>
            <a:off x="142920" y="142920"/>
            <a:ext cx="481644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4572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адачи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чебного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едмета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«Специальность (гитара)»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0" y="0"/>
            <a:ext cx="45720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развитие интереса к классической музыке и музыкальному творчеств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ие музыкальных способностей: слуха, ритма, памяти, музыкальности и артистиз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формирование у учащихся комплекса исполнительских навыков, позволяющих воспринимать, осваивать и исполнять на гитаре произведения различных жанров и форм 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овладение учащимися основными исполнительскими навыками игры на гитаре, позволяющими грамотно исполнять музыкальное произведение как соло, так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ансамбле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5" descr="IMG_8062"/>
          <p:cNvPicPr/>
          <p:nvPr/>
        </p:nvPicPr>
        <p:blipFill>
          <a:blip r:embed="rId2"/>
          <a:stretch/>
        </p:blipFill>
        <p:spPr>
          <a:xfrm>
            <a:off x="142920" y="3429000"/>
            <a:ext cx="43210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7T08:07:51Z</dcterms:created>
  <dc:creator>User</dc:creator>
  <dc:description/>
  <dc:language>en-US</dc:language>
  <cp:lastModifiedBy>User</cp:lastModifiedBy>
  <dcterms:modified xsi:type="dcterms:W3CDTF">2015-10-15T14:52:55Z</dcterms:modified>
  <cp:revision>57</cp:revision>
  <dc:subject/>
  <dc:title>ДОПОЛНИТЕЛЬНАЯ ПРЕДПРОФЕССИОНАЛЬНАЯ ПРОГРАММА  В ОБЛАСТИ МУЗЫКАЛЬНОГО ИСКУССТВА  «НАРОДНЫЕ ИНСТРУМЕНТЫ» Предметная область  ПО.01. МУЗЫКАЛЬНОЕ ИСПОЛНИТЕЛЬСТВО </dc:title>
</cp:coreProperties>
</file>