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1A5A-74EC-4EDE-9D38-D6C98DF2C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C79F-8ABB-4994-98C8-21271154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3CFD-0131-4B34-941D-5D0F166A4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6541-9EA8-4E99-9496-132A9FB96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D349-77D6-4FDB-906E-3EB3697E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FF33-09B6-48D2-B007-2FEBD678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A050-1801-49A5-99C2-3B6748C5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0DA4-EECD-42D9-A3A5-C2069856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64DA-0596-4A2D-A9AE-247208E1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BC1B-EFB6-470E-A9FE-A3920376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31B5-1643-4DE9-B611-4C179CA0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1B42-60EC-4799-BF5C-F3688D63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F56E-6498-454B-A851-7CA5684E36B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27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ДОПОЛНИТЕЛЬНАЯ ПРЕДПРОФЕССИОНАЛЬНАЯ ОБЩЕОБРАЗОВАТЕЛЬНАЯ ПРОГРАММА </a:t>
            </a:r>
            <a:br>
              <a:rPr sz="2800"/>
            </a:b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В ОБЛАСТИ МУЗЫКАЛЬНОГО ИСКУССТВА </a:t>
            </a:r>
            <a:br>
              <a:rPr sz="2800"/>
            </a:b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«НАРОДНЫЕ ИНСТРУМЕНТЫ»</a:t>
            </a:r>
            <a:br>
              <a:rPr sz="2800"/>
            </a:b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Предметная область </a:t>
            </a:r>
            <a:br>
              <a:rPr sz="2800"/>
            </a:b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МУЗЫКАЛЬНОЕ ИСПОЛНИТЕЛЬСТВО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560" y="3789360"/>
            <a:ext cx="48258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ОГРАМ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 учебному предмету «СПЕЦИАЛЬНОС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(гитара)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8" descr="1365503462_Kuda-poiyti-Festivali-dlya-deteiy-ezoterikov-bardov"/>
          <p:cNvPicPr/>
          <p:nvPr/>
        </p:nvPicPr>
        <p:blipFill>
          <a:blip r:embed="rId2"/>
          <a:stretch/>
        </p:blipFill>
        <p:spPr>
          <a:xfrm>
            <a:off x="5076720" y="3429000"/>
            <a:ext cx="3745080" cy="30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340200"/>
            <a:ext cx="5761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итары звонкая душ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з тишины рождая зву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труною трепетно дрож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не дарит радости и му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 пусть утихнет в сердце бо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Уйдут тревоги и сомнень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Есть у гитары эта роль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грать в театре наслажд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 призрак музыки плывё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Законы суеты разрушив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труна гитары мне поё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 песней – исцеляет душу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4" descr="information_items_60041"/>
          <p:cNvPicPr/>
          <p:nvPr/>
        </p:nvPicPr>
        <p:blipFill>
          <a:blip r:embed="rId2"/>
          <a:stretch/>
        </p:blipFill>
        <p:spPr>
          <a:xfrm>
            <a:off x="5724360" y="836640"/>
            <a:ext cx="34196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0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5ffff"/>
                </a:solidFill>
                <a:uFillTx/>
                <a:latin typeface="Tahoma"/>
              </a:rPr>
              <a:t>Срок реализации программы</a:t>
            </a:r>
            <a:br>
              <a:rPr sz="2800"/>
            </a:b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по учебному предмету </a:t>
            </a:r>
            <a:br>
              <a:rPr sz="2800"/>
            </a:b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«СПЕЦИАЛЬНОСТЬ </a:t>
            </a: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(гитара)»</a:t>
            </a:r>
            <a:br>
              <a:rPr sz="36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92000" y="1628640"/>
            <a:ext cx="56516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ограмма рассчита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а  5 лет обуч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зраст поступивших в 1 класс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 10 лет до 12 л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Рекомендуемый объём часов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2 академических часа в неделю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ля учащихся   1 - 4 классов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3 академических часа в неделю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ля  учащихся 5 класс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Продолжительность учебного года: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33 учебные недели – для  уч-с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1 - 5 класс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6" descr="imgFull"/>
          <p:cNvPicPr/>
          <p:nvPr/>
        </p:nvPicPr>
        <p:blipFill>
          <a:blip r:embed="rId2"/>
          <a:stretch/>
        </p:blipFill>
        <p:spPr>
          <a:xfrm>
            <a:off x="179280" y="2133720"/>
            <a:ext cx="345600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IMG_8137"/>
          <p:cNvPicPr/>
          <p:nvPr/>
        </p:nvPicPr>
        <p:blipFill>
          <a:blip r:embed="rId2"/>
          <a:stretch/>
        </p:blipFill>
        <p:spPr>
          <a:xfrm>
            <a:off x="3444840" y="0"/>
            <a:ext cx="5699160" cy="3798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108000" y="620640"/>
            <a:ext cx="316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Форма проведения учебных занят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250920" y="3715920"/>
            <a:ext cx="871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Форма проведения учебных занятий – индивидуальная. Она позволяет построить содержание программы  с учетом особенностей развития каждого  учащегос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одолжительность урока  – 40 мину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рок отличается подвижностью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нутренней структуры, варьирование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спользуемых средств и методов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713800" cy="56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5ffff"/>
                </a:solidFill>
                <a:uFillTx/>
                <a:latin typeface="Tahoma"/>
              </a:rPr>
              <a:t>Актуальность</a:t>
            </a: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 данной образовательной программы выражается в гуманизации и демократизации образовательного процесса, и его индивидуализации. Сегодня, в условиях современного мира, с его основной информационно-технической составляющей, важно помнить, что эстетическое развитие является средством для реализации заложенных в ребенке творческих начал и созданием условий для самовыражения, способствующего формированию таких качеств, как самоконтроль, уважение к окружающим, целеустремленность, трудолюбие, чувство собственного достоинства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5ffff"/>
                </a:solidFill>
                <a:latin typeface="Tahoma"/>
              </a:rPr>
              <a:t>Обоснование структуры программы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 учебного предмета </a:t>
            </a:r>
            <a:br>
              <a:rPr sz="3200"/>
            </a:b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«Специальность (гитара)».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8930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основанием структуры программы являются  ФГТ, отражающие все аспекты работ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7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подавателя с ученико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грамма содержит следующие раздел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едения о затратах учебного времени, предусмотренного на освоение учебного предмета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пределение учебного материала по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дам обуч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исание дидактических единиц учебного предме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ебования к уровню подготовки учащихся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ормы и методы контроля, система оценок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тодическое обеспечение учебного процесс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7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оответствии с данными направлениям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7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роится основной раздел программ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7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Содержание учебного предмета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Структура программы учебного предмета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0" y="1125000"/>
            <a:ext cx="5472000" cy="597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Пояснительная записка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Содержание учебного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предмета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Требования к уровню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подготовки учащихся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V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Формы и методы контроля,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система оценок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Методическое обеспечение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учебного процесса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VI 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Списки рекомендуемой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нотной и методической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литературы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6" descr="QEf5RnURvc-preview"/>
          <p:cNvPicPr/>
          <p:nvPr/>
        </p:nvPicPr>
        <p:blipFill>
          <a:blip r:embed="rId2"/>
          <a:stretch/>
        </p:blipFill>
        <p:spPr>
          <a:xfrm>
            <a:off x="5435640" y="1557360"/>
            <a:ext cx="3529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88000" y="0"/>
            <a:ext cx="4176720" cy="27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Цели учебного предмета 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«Специальность (гитара)»</a:t>
            </a:r>
            <a:r>
              <a:rPr b="0" lang="ru-RU" sz="48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0" y="3214800"/>
            <a:ext cx="91440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учение учащихся исполнению на инструменте и овладение знаниями, умениями и навыками игры на гитаре, позволяющими выпускникам приобретать собственный опыт музицирования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обретение учащимися опыта творческой деятельност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публичных выступлен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ормирование у учащихся осознанной мотивации обучения и подготовка к продолжению обучения  в профессиональную образовательную организаци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" name="Picture 10" descr="IMG_8086"/>
          <p:cNvPicPr/>
          <p:nvPr/>
        </p:nvPicPr>
        <p:blipFill>
          <a:blip r:embed="rId2"/>
          <a:stretch/>
        </p:blipFill>
        <p:spPr>
          <a:xfrm>
            <a:off x="142920" y="142920"/>
            <a:ext cx="4816440" cy="30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45720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Задачи 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учебного 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редмета 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«Специальность (гитара)»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0" y="0"/>
            <a:ext cx="457200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 развитие интереса к классической музыке и музыкальному творчеств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витие музыкальных способностей: слуха, ритма, памяти, музыкальности и артистизм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формирование у учащихся комплекса исполнительских навыков, позволяющих воспринимать, осваивать и исполнять на гитаре произведения различных жанров и форм 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овладение учащимися основными исполнительскими навыками игры на гитаре, позволяющими грамотно исполнять музыкальное произведение как соло, так 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ансамбле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5" descr="IMG_8062"/>
          <p:cNvPicPr/>
          <p:nvPr/>
        </p:nvPicPr>
        <p:blipFill>
          <a:blip r:embed="rId2"/>
          <a:stretch/>
        </p:blipFill>
        <p:spPr>
          <a:xfrm>
            <a:off x="142920" y="3429000"/>
            <a:ext cx="4321080" cy="302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7T08:07:51Z</dcterms:created>
  <dc:creator>User</dc:creator>
  <dc:description/>
  <dc:language>en-US</dc:language>
  <cp:lastModifiedBy>User</cp:lastModifiedBy>
  <dcterms:modified xsi:type="dcterms:W3CDTF">2015-10-15T14:52:55Z</dcterms:modified>
  <cp:revision>57</cp:revision>
  <dc:subject/>
  <dc:title>ДОПОЛНИТЕЛЬНАЯ ПРЕДПРОФЕССИОНАЛЬНАЯ ПРОГРАММА  В ОБЛАСТИ МУЗЫКАЛЬНОГО ИСКУССТВА  «НАРОДНЫЕ ИНСТРУМЕНТЫ» Предметная область  ПО.01. МУЗЫКАЛЬНОЕ ИСПОЛНИТЕЛЬСТВО </dc:title>
</cp:coreProperties>
</file>