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BEE-54D3-41F2-9321-85D6C93B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224-898A-4D5D-B6DB-89B95103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830-0BFB-4F1A-B30A-1E03575F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990-7517-42F1-9D1B-25ED7742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15A-EE4C-4FA6-8B93-01F0FC3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B96-A3F7-4CCC-84EB-6DE306E6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687-61B7-452A-9BC1-F1380559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7F1-CAF6-4B41-9896-71F28B5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265-2008-4BCD-ADC5-DA51DDB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074-8E42-47B7-8698-4685EF4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46C-E23D-49A2-BEC0-C3C657D7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3D0-A199-4DB1-8B1A-E23E603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579-8E3C-4FB3-BE91-EEB05EA9A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5076720" cy="68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ление творческих способностей учащихся и их развитие в области исполнительства на гита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 уровня подготовки, достаточного для творческого самовыражения и самореализации, на основе приобретенных ими знаний, умений и навы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ление наиболее одаренных детей и их дальнейшая подготовка к продолжению обучения в профессиональных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8" descr="IMG_8084"/>
          <p:cNvPicPr/>
          <p:nvPr/>
        </p:nvPicPr>
        <p:blipFill>
          <a:blip r:embed="rId2"/>
          <a:stretch/>
        </p:blipFill>
        <p:spPr>
          <a:xfrm>
            <a:off x="4500720" y="3643200"/>
            <a:ext cx="4430520" cy="3071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4427640" y="142920"/>
            <a:ext cx="471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ч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чеб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мета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Специальность (гитара)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5ffff"/>
                </a:solidFill>
                <a:uFillTx/>
                <a:latin typeface="Tahoma"/>
              </a:rPr>
              <a:t>Методы обучения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ловес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глядно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лух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ктиче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алитиче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ти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IMG_8093"/>
          <p:cNvPicPr/>
          <p:nvPr/>
        </p:nvPicPr>
        <p:blipFill>
          <a:blip r:embed="rId2"/>
          <a:stretch/>
        </p:blipFill>
        <p:spPr>
          <a:xfrm>
            <a:off x="4572000" y="2205000"/>
            <a:ext cx="43578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Формы и методы контроля, 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истема оцено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кущий контроль успеваем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ежуточная аттестация учащихс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тоговая  аттестация 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из видов контро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ваемости учащих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ет свои цели, задачи и форм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ные уро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че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кадемические концер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водные экзаме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тоговая аттестация (экзам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imgFull"/>
          <p:cNvPicPr/>
          <p:nvPr/>
        </p:nvPicPr>
        <p:blipFill>
          <a:blip r:embed="rId2"/>
          <a:stretch/>
        </p:blipFill>
        <p:spPr>
          <a:xfrm>
            <a:off x="6227640" y="2852640"/>
            <a:ext cx="2737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ЕТОДИЧЕСКОЕ ОБЕСПЕЧЕНИЕ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ЧЕБ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етодические рекомендации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едагогическим работникам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372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ЩИЕ ТРЕБ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адка гитарис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ановка правой ру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тановка левой ру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собы звукоизвлеч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емы игр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трих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одические рекоменд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чтению нот с лис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гра в ансамб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тие технических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тие творческих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ление индивидуального пл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images-12vb75gRBX"/>
          <p:cNvPicPr/>
          <p:nvPr/>
        </p:nvPicPr>
        <p:blipFill>
          <a:blip r:embed="rId2"/>
          <a:stretch/>
        </p:blipFill>
        <p:spPr>
          <a:xfrm>
            <a:off x="5510160" y="2924280"/>
            <a:ext cx="3454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Ожидаемые результаты</a:t>
            </a: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владение основными навыками исполнения на гита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 умение самостоятельно разбирать, разучивать и исполнять музыкальные произведения различных жанров и стилей, умение читать с листа, подбирать по слух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умение аккомпанировать несложные вокальные и инструментальные произве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знание и понимание мелодической  и гармонической структуры  исполняемого произведения, </a:t>
            </a: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умение создавать художественный образ и реализовывать исполнительский замысел произве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</a:rPr>
              <a:t>- знание  музыкальной терминологии, музыкальных жанров, стилей, направлений в искусств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IMG_8122"/>
          <p:cNvPicPr/>
          <p:nvPr/>
        </p:nvPicPr>
        <p:blipFill>
          <a:blip r:embed="rId2"/>
          <a:stretch/>
        </p:blipFill>
        <p:spPr>
          <a:xfrm>
            <a:off x="2268360" y="3573360"/>
            <a:ext cx="482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Авторский проект  «Мастер класс»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5 издание сборник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ервые шаги гитарист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ое пособие для начинающи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ервые шаги гитариста: репертуар для 1-2 года обуч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роль Артур. Сюита для гитар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000"/>
          <p:cNvPicPr/>
          <p:nvPr/>
        </p:nvPicPr>
        <p:blipFill>
          <a:blip r:embed="rId2"/>
          <a:stretch/>
        </p:blipFill>
        <p:spPr>
          <a:xfrm>
            <a:off x="236520" y="2421000"/>
            <a:ext cx="2765520" cy="37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00"/>
          <p:cNvPicPr/>
          <p:nvPr/>
        </p:nvPicPr>
        <p:blipFill>
          <a:blip r:embed="rId3"/>
          <a:stretch/>
        </p:blipFill>
        <p:spPr>
          <a:xfrm>
            <a:off x="6191280" y="2492280"/>
            <a:ext cx="2736720" cy="36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00-001"/>
          <p:cNvPicPr/>
          <p:nvPr/>
        </p:nvPicPr>
        <p:blipFill>
          <a:blip r:embed="rId4"/>
          <a:stretch/>
        </p:blipFill>
        <p:spPr>
          <a:xfrm>
            <a:off x="3132000" y="2852640"/>
            <a:ext cx="2928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Авторский проект  «Мастер класс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IMG_7408"/>
          <p:cNvPicPr/>
          <p:nvPr/>
        </p:nvPicPr>
        <p:blipFill>
          <a:blip r:embed="rId2"/>
          <a:stretch/>
        </p:blipFill>
        <p:spPr>
          <a:xfrm>
            <a:off x="179280" y="3865680"/>
            <a:ext cx="4248360" cy="2832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6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3-4 года обучения, часть 1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3-4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7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5-6 года обучения, часть 1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5-6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нсамбль гитарист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018 издание сбор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7-8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кзамен в музыкальной школе: репертуар 7-8 года обучения, часть 2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DSC_2174"/>
          <p:cNvPicPr/>
          <p:nvPr/>
        </p:nvPicPr>
        <p:blipFill>
          <a:blip r:embed="rId3"/>
          <a:stretch/>
        </p:blipFill>
        <p:spPr>
          <a:xfrm>
            <a:off x="4716360" y="3865680"/>
            <a:ext cx="4248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SC_2186"/>
          <p:cNvPicPr/>
          <p:nvPr/>
        </p:nvPicPr>
        <p:blipFill>
          <a:blip r:embed="rId2"/>
          <a:stretch/>
        </p:blipFill>
        <p:spPr>
          <a:xfrm>
            <a:off x="179280" y="2060640"/>
            <a:ext cx="2830680" cy="4259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7" descr="ансамбль гитаристов"/>
          <p:cNvPicPr/>
          <p:nvPr/>
        </p:nvPicPr>
        <p:blipFill>
          <a:blip r:embed="rId3"/>
          <a:stretch/>
        </p:blipFill>
        <p:spPr>
          <a:xfrm>
            <a:off x="3132000" y="2060640"/>
            <a:ext cx="5796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08:07:51Z</dcterms:created>
  <dc:creator>User</dc:creator>
  <dc:description/>
  <dc:language>en-US</dc:language>
  <cp:lastModifiedBy>User</cp:lastModifiedBy>
  <dcterms:modified xsi:type="dcterms:W3CDTF">2015-10-15T17:24:12Z</dcterms:modified>
  <cp:revision>57</cp:revision>
  <dc:subject/>
  <dc:title>ДОПОЛНИТЕЛЬНАЯ ПРЕДПРОФЕССИОНАЛЬНАЯ ПРОГРАММА  В ОБЛАСТИ МУЗЫКАЛЬНОГО ИСКУССТВА  «НАРОДНЫЕ ИНСТРУМЕНТЫ» Предметная область  ПО.01. МУЗЫКАЛЬНОЕ ИСПОЛНИТЕЛЬСТВО </dc:title>
</cp:coreProperties>
</file>