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AA3-A6BF-4BF0-9B42-FFBC00C7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888-AEC5-4DF4-96BD-C07BA77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864-FAFD-45A4-9D5D-599F7D24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398-83C8-4F9C-9850-16750874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89D-C0C8-434E-8345-EB26BDE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0E-1B8B-4978-A20B-6FE21C6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C29-CCEE-4F99-8114-CD65D60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697-8B2D-45E1-89D1-83BEDC34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6D8-2886-449B-BAC3-2B1F669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DB1-E406-45AF-9DE9-7D07512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3CC-2ADA-4BE0-B549-CBB7241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390-5ADC-4500-98CC-424F38C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F18-8394-40FB-B34D-05D447470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5076720" cy="68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ление творческих способностей учащихся и их развитие в области исполнительства на гита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 уровня подготовки, достаточного для творческого самовыражения и самореализации, на основе приобретенных ими знаний, умений и навы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ление наиболее одаренных детей и их дальнейшая подготовка к продолжению обучения в профессиональных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8" descr="IMG_8084"/>
          <p:cNvPicPr/>
          <p:nvPr/>
        </p:nvPicPr>
        <p:blipFill>
          <a:blip r:embed="rId2"/>
          <a:stretch/>
        </p:blipFill>
        <p:spPr>
          <a:xfrm>
            <a:off x="4500720" y="3643200"/>
            <a:ext cx="4430520" cy="3071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4427640" y="142920"/>
            <a:ext cx="471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ч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чеб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мета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Специальность (гитара)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5ffff"/>
                </a:solidFill>
                <a:uFillTx/>
                <a:latin typeface="Tahoma"/>
              </a:rPr>
              <a:t>Методы обучения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ловес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глядно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лух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ктиче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алитиче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ти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IMG_8093"/>
          <p:cNvPicPr/>
          <p:nvPr/>
        </p:nvPicPr>
        <p:blipFill>
          <a:blip r:embed="rId2"/>
          <a:stretch/>
        </p:blipFill>
        <p:spPr>
          <a:xfrm>
            <a:off x="4572000" y="2205000"/>
            <a:ext cx="43578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Формы и методы контроля, 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истема оцено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кущий контроль успеваем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ежуточная аттестация учащихс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тоговая  аттестация 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из видов контро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ваемости учащих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ет свои цели, задачи и форм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ные уро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ч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кадемические концер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водные экзаме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тоговая аттестация (экзам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imgFull"/>
          <p:cNvPicPr/>
          <p:nvPr/>
        </p:nvPicPr>
        <p:blipFill>
          <a:blip r:embed="rId2"/>
          <a:stretch/>
        </p:blipFill>
        <p:spPr>
          <a:xfrm>
            <a:off x="6227640" y="2852640"/>
            <a:ext cx="2737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ЕТОДИЧЕСКОЕ ОБЕСПЕЧЕНИЕ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ЧЕБ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етодические рекомендации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едагогическим работникам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372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ЩИЕ ТРЕБ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адка гитарис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ановка правой ру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ановка левой ру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ы звукоизвлеч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емы игр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трих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одические рекоменд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чтению нот с лис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гра в ансамб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тие технических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тие творческих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ление индивидуального пл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images-12vb75gRBX"/>
          <p:cNvPicPr/>
          <p:nvPr/>
        </p:nvPicPr>
        <p:blipFill>
          <a:blip r:embed="rId2"/>
          <a:stretch/>
        </p:blipFill>
        <p:spPr>
          <a:xfrm>
            <a:off x="5510160" y="2924280"/>
            <a:ext cx="3454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Ожидаемые результаты</a:t>
            </a: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владение основными навыками исполнения на гита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 умение самостоятельно разбирать, разучивать и исполнять музыкальные произведения различных жанров и стилей, умение читать с листа, подбирать по слух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умение аккомпанировать несложные вокальные и инструментальные произве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знание и понимание мелодической  и гармонической структуры  исполняемого произведения, 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умение создавать художественный образ и реализовывать исполнительский замысел произве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знание  музыкальной терминологии, музыкальных жанров, стилей, направлений в искусств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IMG_8122"/>
          <p:cNvPicPr/>
          <p:nvPr/>
        </p:nvPicPr>
        <p:blipFill>
          <a:blip r:embed="rId2"/>
          <a:stretch/>
        </p:blipFill>
        <p:spPr>
          <a:xfrm>
            <a:off x="2268360" y="3573360"/>
            <a:ext cx="482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Авторский проект  «Мастер класс»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5 издание сборник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ервые шаги гитарист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ое пособие для начинающи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ервые шаги гитариста: репертуар для 1-2 года обуч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роль Артур. Сюита для гитар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000"/>
          <p:cNvPicPr/>
          <p:nvPr/>
        </p:nvPicPr>
        <p:blipFill>
          <a:blip r:embed="rId2"/>
          <a:stretch/>
        </p:blipFill>
        <p:spPr>
          <a:xfrm>
            <a:off x="236520" y="2421000"/>
            <a:ext cx="2765520" cy="37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00"/>
          <p:cNvPicPr/>
          <p:nvPr/>
        </p:nvPicPr>
        <p:blipFill>
          <a:blip r:embed="rId3"/>
          <a:stretch/>
        </p:blipFill>
        <p:spPr>
          <a:xfrm>
            <a:off x="6191280" y="2492280"/>
            <a:ext cx="2736720" cy="36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00-001"/>
          <p:cNvPicPr/>
          <p:nvPr/>
        </p:nvPicPr>
        <p:blipFill>
          <a:blip r:embed="rId4"/>
          <a:stretch/>
        </p:blipFill>
        <p:spPr>
          <a:xfrm>
            <a:off x="3132000" y="2852640"/>
            <a:ext cx="2928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Авторский проект  «Мастер класс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IMG_7408"/>
          <p:cNvPicPr/>
          <p:nvPr/>
        </p:nvPicPr>
        <p:blipFill>
          <a:blip r:embed="rId2"/>
          <a:stretch/>
        </p:blipFill>
        <p:spPr>
          <a:xfrm>
            <a:off x="179280" y="3865680"/>
            <a:ext cx="4248360" cy="2832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6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3-4 года обучения, часть 1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3-4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7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5-6 года обучения, часть 1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5-6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нсамбль гитарист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8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7-8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7-8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DSC_2174"/>
          <p:cNvPicPr/>
          <p:nvPr/>
        </p:nvPicPr>
        <p:blipFill>
          <a:blip r:embed="rId3"/>
          <a:stretch/>
        </p:blipFill>
        <p:spPr>
          <a:xfrm>
            <a:off x="4716360" y="3865680"/>
            <a:ext cx="4248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SC_2186"/>
          <p:cNvPicPr/>
          <p:nvPr/>
        </p:nvPicPr>
        <p:blipFill>
          <a:blip r:embed="rId2"/>
          <a:stretch/>
        </p:blipFill>
        <p:spPr>
          <a:xfrm>
            <a:off x="179280" y="2060640"/>
            <a:ext cx="2830680" cy="4259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7" descr="ансамбль гитаристов"/>
          <p:cNvPicPr/>
          <p:nvPr/>
        </p:nvPicPr>
        <p:blipFill>
          <a:blip r:embed="rId3"/>
          <a:stretch/>
        </p:blipFill>
        <p:spPr>
          <a:xfrm>
            <a:off x="3132000" y="2060640"/>
            <a:ext cx="5796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08:07:51Z</dcterms:created>
  <dc:creator>User</dc:creator>
  <dc:description/>
  <dc:language>en-US</dc:language>
  <cp:lastModifiedBy>User</cp:lastModifiedBy>
  <dcterms:modified xsi:type="dcterms:W3CDTF">2015-10-15T17:24:12Z</dcterms:modified>
  <cp:revision>57</cp:revision>
  <dc:subject/>
  <dc:title>ДОПОЛНИТЕЛЬНАЯ ПРЕДПРОФЕССИОНАЛЬНАЯ ПРОГРАММА  В ОБЛАСТИ МУЗЫКАЛЬНОГО ИСКУССТВА  «НАРОДНЫЕ ИНСТРУМЕНТЫ» Предметная область  ПО.01. МУЗЫКАЛЬНОЕ ИСПОЛНИТЕЛЬСТВО </dc:title>
</cp:coreProperties>
</file>