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70D-0012-456C-8484-66166D38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172-D39D-4A16-ADF6-F6F1D6B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80D-D247-404A-94F4-4CAB6151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36D-E0FA-46B0-9728-0B4FEB83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D6D-FC13-434B-A510-EDE5302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ADE-9553-48CD-B6FD-B18070A2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E2D-E099-4E3B-8047-DCF83416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FEC-9D67-4893-AC4B-46AC6CC3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8D3-A5E4-40A1-B306-F6960127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8CB-B192-4859-AC45-68EF5A4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CBE-796C-41CB-BCF0-4647A62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AA3-D93A-4783-9F4D-1D9D572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082-03EB-42C0-9E8A-0B74BB892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Nd9GcT8Mwm9Yredv3YQ5hGLEz4dMhXZjmV5tTYghtPktl_i-dxFJiVjmA"/>
          <p:cNvPicPr/>
          <p:nvPr/>
        </p:nvPicPr>
        <p:blipFill>
          <a:blip r:embed="rId1"/>
          <a:stretch/>
        </p:blipFill>
        <p:spPr>
          <a:xfrm>
            <a:off x="4284720" y="3211560"/>
            <a:ext cx="403236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79280" y="260280"/>
            <a:ext cx="896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ЛЕТНИЙ С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55 году был поставлен памятник русскому баснописцу И.А. Крылов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дестал памятника представляет собой гранитный куб, со всех сторон покрытый изображениями героев басен И.А. Кры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rilov_2"/>
          <p:cNvPicPr/>
          <p:nvPr/>
        </p:nvPicPr>
        <p:blipFill>
          <a:blip r:embed="rId1"/>
          <a:stretch/>
        </p:blipFill>
        <p:spPr>
          <a:xfrm>
            <a:off x="468360" y="1700280"/>
            <a:ext cx="37875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85672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ями государь Петр Алексеевич гордился даже больше чем фонтан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ле Летнего дворца Петра находится скульптурная групп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ир и Победа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была поставлена в саду в память победы над шве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img8"/>
          <p:cNvPicPr/>
          <p:nvPr/>
        </p:nvPicPr>
        <p:blipFill>
          <a:blip r:embed="rId1"/>
          <a:srcRect l="11227" t="13961" r="52164" b="13575"/>
          <a:stretch/>
        </p:blipFill>
        <p:spPr>
          <a:xfrm>
            <a:off x="468360" y="1600200"/>
            <a:ext cx="3887640" cy="456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e94157c0874f"/>
          <p:cNvPicPr/>
          <p:nvPr/>
        </p:nvPicPr>
        <p:blipFill>
          <a:blip r:embed="rId2"/>
          <a:stretch/>
        </p:blipFill>
        <p:spPr>
          <a:xfrm>
            <a:off x="4859280" y="1600200"/>
            <a:ext cx="38768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шное наводнение перемешало с грязью и поломало садовые деревья. Фонтаны забило илом так, что их решили разоб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Nd9GcSpY0DP3JodzUUPaq7jDp7NC2eSYcpSloxLTmADlrd3XIVgG_TV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 в то, что Летний сад омывается водой со всех четырех сто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1" descr=""/>
          <p:cNvPicPr/>
          <p:nvPr/>
        </p:nvPicPr>
        <p:blipFill>
          <a:blip r:embed="rId1"/>
          <a:stretch/>
        </p:blipFill>
        <p:spPr>
          <a:xfrm>
            <a:off x="611280" y="389268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3933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i?id=944445063-71-72&amp;n=21"/>
          <p:cNvPicPr/>
          <p:nvPr/>
        </p:nvPicPr>
        <p:blipFill>
          <a:blip r:embed="rId2"/>
          <a:stretch/>
        </p:blipFill>
        <p:spPr>
          <a:xfrm>
            <a:off x="4572000" y="1557360"/>
            <a:ext cx="4103640" cy="23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98b4401fdc5cf7d9dce074d138a6de4e"/>
          <p:cNvPicPr/>
          <p:nvPr/>
        </p:nvPicPr>
        <p:blipFill>
          <a:blip r:embed="rId3"/>
          <a:stretch/>
        </p:blipFill>
        <p:spPr>
          <a:xfrm>
            <a:off x="4572000" y="3933720"/>
            <a:ext cx="41036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летний сад решетка фото"/>
          <p:cNvPicPr/>
          <p:nvPr/>
        </p:nvPicPr>
        <p:blipFill>
          <a:blip r:embed="rId4"/>
          <a:stretch/>
        </p:blipFill>
        <p:spPr>
          <a:xfrm>
            <a:off x="611280" y="162864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дворец находится в Летнем са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н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раморны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н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3191929_thumb"/>
          <p:cNvPicPr/>
          <p:nvPr/>
        </p:nvPicPr>
        <p:blipFill>
          <a:blip r:embed="rId1"/>
          <a:stretch/>
        </p:blipFill>
        <p:spPr>
          <a:xfrm>
            <a:off x="324000" y="3284640"/>
            <a:ext cx="45687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и героев 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rcRect l="22105" t="3510" r="5583" b="3266"/>
          <a:stretch/>
        </p:blipFill>
        <p:spPr>
          <a:xfrm>
            <a:off x="125280" y="1011240"/>
            <a:ext cx="2840040" cy="2301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"/>
          <p:cNvPicPr/>
          <p:nvPr/>
        </p:nvPicPr>
        <p:blipFill>
          <a:blip r:embed="rId2"/>
          <a:srcRect l="0" t="0" r="81016" b="0"/>
          <a:stretch/>
        </p:blipFill>
        <p:spPr>
          <a:xfrm>
            <a:off x="2328840" y="3789360"/>
            <a:ext cx="1689120" cy="5587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3"/>
          <a:srcRect l="28553" t="0" r="0" b="0"/>
          <a:stretch/>
        </p:blipFill>
        <p:spPr>
          <a:xfrm>
            <a:off x="7209000" y="460440"/>
            <a:ext cx="1896840" cy="2655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4"/>
          <a:srcRect l="0" t="0" r="67101" b="82086"/>
          <a:stretch/>
        </p:blipFill>
        <p:spPr>
          <a:xfrm>
            <a:off x="4668840" y="5289480"/>
            <a:ext cx="167940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5"/>
          <a:srcRect l="0" t="36007" r="50009" b="0"/>
          <a:stretch/>
        </p:blipFill>
        <p:spPr>
          <a:xfrm>
            <a:off x="331920" y="429264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"/>
          <p:cNvPicPr/>
          <p:nvPr/>
        </p:nvPicPr>
        <p:blipFill>
          <a:blip r:embed="rId6"/>
          <a:srcRect l="56916" t="0" r="0" b="73101"/>
          <a:stretch/>
        </p:blipFill>
        <p:spPr>
          <a:xfrm>
            <a:off x="5508720" y="1135080"/>
            <a:ext cx="208908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"/>
          <p:cNvPicPr/>
          <p:nvPr/>
        </p:nvPicPr>
        <p:blipFill>
          <a:blip r:embed="rId7"/>
          <a:srcRect l="0" t="40399" r="63130" b="6202"/>
          <a:stretch/>
        </p:blipFill>
        <p:spPr>
          <a:xfrm>
            <a:off x="3360600" y="831960"/>
            <a:ext cx="193212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"/>
          <p:cNvPicPr/>
          <p:nvPr/>
        </p:nvPicPr>
        <p:blipFill>
          <a:blip r:embed="rId8"/>
          <a:srcRect l="51637" t="42319" r="10284" b="0"/>
          <a:stretch/>
        </p:blipFill>
        <p:spPr>
          <a:xfrm>
            <a:off x="6659640" y="4508640"/>
            <a:ext cx="2179440" cy="24764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25"/>
          <p:cNvCxnSpPr/>
          <p:nvPr/>
        </p:nvCxnSpPr>
        <p:spPr>
          <a:xfrm>
            <a:off x="2555640" y="3115800"/>
            <a:ext cx="805320" cy="20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27"/>
          <p:cNvCxnSpPr/>
          <p:nvPr/>
        </p:nvCxnSpPr>
        <p:spPr>
          <a:xfrm flipH="1">
            <a:off x="5147640" y="2439720"/>
            <a:ext cx="2602440" cy="307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16384"/>
          <p:cNvCxnSpPr/>
          <p:nvPr/>
        </p:nvCxnSpPr>
        <p:spPr>
          <a:xfrm>
            <a:off x="4500360" y="2990520"/>
            <a:ext cx="2159640" cy="187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6388"/>
          <p:cNvCxnSpPr/>
          <p:nvPr/>
        </p:nvCxnSpPr>
        <p:spPr>
          <a:xfrm flipH="1">
            <a:off x="1907280" y="2162160"/>
            <a:ext cx="4249080" cy="2923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ий сад считается одним из символов города. Он поражает посетителей своим величием и гармонией, это одно из любимейших мест прогулок многих горо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ANd9GcRttv7m69usbJAUgHIZuszAz2t6wNmg4ffK5L9GWpZo0ZAXrlCR"/>
          <p:cNvPicPr/>
          <p:nvPr/>
        </p:nvPicPr>
        <p:blipFill>
          <a:blip r:embed="rId1"/>
          <a:stretch/>
        </p:blipFill>
        <p:spPr>
          <a:xfrm>
            <a:off x="900000" y="1413000"/>
            <a:ext cx="7704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ий сад – самый первый сад Петер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piter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был создан  по повелению Петра 1 в 1704году всего через год после основания 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72798406_1301456799_petr2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ый парк – место, где у каждого куста и цветка было строго определенн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80893"/>
          <p:cNvPicPr/>
          <p:nvPr/>
        </p:nvPicPr>
        <p:blipFill>
          <a:blip r:embed="rId1"/>
          <a:srcRect l="0" t="-14005" r="1715" b="9333"/>
          <a:stretch/>
        </p:blipFill>
        <p:spPr>
          <a:xfrm>
            <a:off x="539640" y="765000"/>
            <a:ext cx="792000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82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ний сад получил свое имя потому, что первоначально здесь выращивали только «летники» - растения, которые каждый год необходимо сажать заново. Но очень скоро по специальному царскому указу в Петербург повезли из Европы невиданные до сих пор в этих краях многолетние растения: тюльпаны, лилии, апельсиновые и лимонные дере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дный вход со стороны набережной Невы украшает знаменитая ограда Юрия Фельт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ДС\Desktop\Юля курсы\post-12991-1149697840.jpg"/>
          <p:cNvPicPr/>
          <p:nvPr/>
        </p:nvPicPr>
        <p:blipFill>
          <a:blip r:embed="rId1"/>
          <a:srcRect l="0" t="0" r="0" b="3787"/>
          <a:stretch/>
        </p:blipFill>
        <p:spPr>
          <a:xfrm>
            <a:off x="1116000" y="1557360"/>
            <a:ext cx="62866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южной стороны   Летний сад огораживает чугунная решетка, украшенной арматурой и щитами с головой Медуз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1348030920l_sad_sharlema"/>
          <p:cNvPicPr/>
          <p:nvPr/>
        </p:nvPicPr>
        <p:blipFill>
          <a:blip r:embed="rId1"/>
          <a:stretch/>
        </p:blipFill>
        <p:spPr>
          <a:xfrm>
            <a:off x="611280" y="1557360"/>
            <a:ext cx="81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дский король в знак вечной дружбы подарил российскому императору Никола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ую вазу из розового гран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09021_or"/>
          <p:cNvPicPr/>
          <p:nvPr/>
        </p:nvPicPr>
        <p:blipFill>
          <a:blip r:embed="rId1"/>
          <a:stretch/>
        </p:blipFill>
        <p:spPr>
          <a:xfrm>
            <a:off x="468360" y="1619280"/>
            <a:ext cx="8424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3348000" y="620640"/>
            <a:ext cx="2567160" cy="1935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478800" y="40464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и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17587 0 0.31909 0.13889 0.31909 0.31065 C 0.31909 0.48194 0.17587 0.6213 3.05556E-006 0.6213 C -0.17604 0.6213 -0.3191 0.48194 -0.3191 0.31065 C -0.3191 0.13889 -0.17604 0 3.05556E-006 0 Z">
                                      <p:cBhvr>
                                        <p:cTn id="24" dur="7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8:01:23Z</dcterms:created>
  <dc:creator>Master</dc:creator>
  <dc:description/>
  <dc:language>en-US</dc:language>
  <cp:lastModifiedBy>ДС</cp:lastModifiedBy>
  <dcterms:modified xsi:type="dcterms:W3CDTF">2015-10-08T07:00:46Z</dcterms:modified>
  <cp:revision>30</cp:revision>
  <dc:subject/>
  <dc:title>Слайд 1</dc:title>
</cp:coreProperties>
</file>