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9C0-C8F4-4EA3-87A4-A036A0E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7FB-B7A8-43C6-B981-1A198B0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DB8-57BC-41F5-A4A9-A62AAFD6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445-02AE-4C29-8851-26F01969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63C-B8F6-4CE7-8069-784C12C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965-3DF2-49C6-943A-1A570B36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EFA-2715-4646-B756-BF605B6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FB9-84E7-402E-94ED-00A53A0F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1D6-096F-4BEB-B332-386CA048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080-4EC5-4B1E-B93E-C032DE7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E2C-B77D-4F29-AF1D-B3062A7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1E2-42CB-425E-A759-161AF943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E4B7-884E-4D67-83B2-1BD1681DC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Nd9GcT8Mwm9Yredv3YQ5hGLEz4dMhXZjmV5tTYghtPktl_i-dxFJiVjmA"/>
          <p:cNvPicPr/>
          <p:nvPr/>
        </p:nvPicPr>
        <p:blipFill>
          <a:blip r:embed="rId1"/>
          <a:stretch/>
        </p:blipFill>
        <p:spPr>
          <a:xfrm>
            <a:off x="4284720" y="3211560"/>
            <a:ext cx="403236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79280" y="260280"/>
            <a:ext cx="896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ЛЕТНИЙ С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55 году был поставлен памятник русскому баснописцу И.А. Крылов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дестал памятника представляет собой гранитный куб, со всех сторон покрытый изображениями героев басен И.А. Кры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rilov_2"/>
          <p:cNvPicPr/>
          <p:nvPr/>
        </p:nvPicPr>
        <p:blipFill>
          <a:blip r:embed="rId1"/>
          <a:stretch/>
        </p:blipFill>
        <p:spPr>
          <a:xfrm>
            <a:off x="468360" y="1700280"/>
            <a:ext cx="37875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8567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ями государь Петр Алексеевич гордился даже больше чем фонтан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е Летнего дворца Петра находится скульптурная групп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ир и Победа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была поставлена в саду в память победы над шве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img8"/>
          <p:cNvPicPr/>
          <p:nvPr/>
        </p:nvPicPr>
        <p:blipFill>
          <a:blip r:embed="rId1"/>
          <a:srcRect l="11227" t="13961" r="52164" b="13575"/>
          <a:stretch/>
        </p:blipFill>
        <p:spPr>
          <a:xfrm>
            <a:off x="468360" y="1600200"/>
            <a:ext cx="3887640" cy="456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e94157c0874f"/>
          <p:cNvPicPr/>
          <p:nvPr/>
        </p:nvPicPr>
        <p:blipFill>
          <a:blip r:embed="rId2"/>
          <a:stretch/>
        </p:blipFill>
        <p:spPr>
          <a:xfrm>
            <a:off x="4859280" y="1600200"/>
            <a:ext cx="38768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шное наводнение перемешало с грязью и поломало садовые деревья. Фонтаны забило илом так, что их решили разо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SpY0DP3JodzUUPaq7jDp7NC2eSYcpSloxLTmADlrd3XIVgG_TV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 в то, что Летний сад омывается водой со всех четырех сто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1" descr=""/>
          <p:cNvPicPr/>
          <p:nvPr/>
        </p:nvPicPr>
        <p:blipFill>
          <a:blip r:embed="rId1"/>
          <a:stretch/>
        </p:blipFill>
        <p:spPr>
          <a:xfrm>
            <a:off x="611280" y="389268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3933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i?id=944445063-71-72&amp;n=21"/>
          <p:cNvPicPr/>
          <p:nvPr/>
        </p:nvPicPr>
        <p:blipFill>
          <a:blip r:embed="rId2"/>
          <a:stretch/>
        </p:blipFill>
        <p:spPr>
          <a:xfrm>
            <a:off x="4572000" y="1557360"/>
            <a:ext cx="4103640" cy="23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98b4401fdc5cf7d9dce074d138a6de4e"/>
          <p:cNvPicPr/>
          <p:nvPr/>
        </p:nvPicPr>
        <p:blipFill>
          <a:blip r:embed="rId3"/>
          <a:stretch/>
        </p:blipFill>
        <p:spPr>
          <a:xfrm>
            <a:off x="4572000" y="3933720"/>
            <a:ext cx="41036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летний сад решетка фото"/>
          <p:cNvPicPr/>
          <p:nvPr/>
        </p:nvPicPr>
        <p:blipFill>
          <a:blip r:embed="rId4"/>
          <a:stretch/>
        </p:blipFill>
        <p:spPr>
          <a:xfrm>
            <a:off x="611280" y="162864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дворец находится в Летнем са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раморны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3191929_thumb"/>
          <p:cNvPicPr/>
          <p:nvPr/>
        </p:nvPicPr>
        <p:blipFill>
          <a:blip r:embed="rId1"/>
          <a:stretch/>
        </p:blipFill>
        <p:spPr>
          <a:xfrm>
            <a:off x="324000" y="3284640"/>
            <a:ext cx="45687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и героев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rcRect l="22105" t="3510" r="5583" b="3266"/>
          <a:stretch/>
        </p:blipFill>
        <p:spPr>
          <a:xfrm>
            <a:off x="125280" y="1011240"/>
            <a:ext cx="2840040" cy="2301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2"/>
          <a:srcRect l="0" t="0" r="81016" b="0"/>
          <a:stretch/>
        </p:blipFill>
        <p:spPr>
          <a:xfrm>
            <a:off x="2328840" y="3789360"/>
            <a:ext cx="1689120" cy="5587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3"/>
          <a:srcRect l="28553" t="0" r="0" b="0"/>
          <a:stretch/>
        </p:blipFill>
        <p:spPr>
          <a:xfrm>
            <a:off x="7209000" y="460440"/>
            <a:ext cx="189684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4"/>
          <a:srcRect l="0" t="0" r="67101" b="82086"/>
          <a:stretch/>
        </p:blipFill>
        <p:spPr>
          <a:xfrm>
            <a:off x="4668840" y="5289480"/>
            <a:ext cx="167940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5"/>
          <a:srcRect l="0" t="36007" r="50009" b="0"/>
          <a:stretch/>
        </p:blipFill>
        <p:spPr>
          <a:xfrm>
            <a:off x="331920" y="429264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"/>
          <p:cNvPicPr/>
          <p:nvPr/>
        </p:nvPicPr>
        <p:blipFill>
          <a:blip r:embed="rId6"/>
          <a:srcRect l="56916" t="0" r="0" b="73101"/>
          <a:stretch/>
        </p:blipFill>
        <p:spPr>
          <a:xfrm>
            <a:off x="5508720" y="1135080"/>
            <a:ext cx="208908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"/>
          <p:cNvPicPr/>
          <p:nvPr/>
        </p:nvPicPr>
        <p:blipFill>
          <a:blip r:embed="rId7"/>
          <a:srcRect l="0" t="40399" r="63130" b="6202"/>
          <a:stretch/>
        </p:blipFill>
        <p:spPr>
          <a:xfrm>
            <a:off x="3360600" y="831960"/>
            <a:ext cx="193212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"/>
          <p:cNvPicPr/>
          <p:nvPr/>
        </p:nvPicPr>
        <p:blipFill>
          <a:blip r:embed="rId8"/>
          <a:srcRect l="51637" t="42319" r="10284" b="0"/>
          <a:stretch/>
        </p:blipFill>
        <p:spPr>
          <a:xfrm>
            <a:off x="6659640" y="4508640"/>
            <a:ext cx="2179440" cy="24764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25"/>
          <p:cNvCxnSpPr/>
          <p:nvPr/>
        </p:nvCxnSpPr>
        <p:spPr>
          <a:xfrm>
            <a:off x="2555640" y="3115800"/>
            <a:ext cx="805320" cy="20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7"/>
          <p:cNvCxnSpPr/>
          <p:nvPr/>
        </p:nvCxnSpPr>
        <p:spPr>
          <a:xfrm flipH="1">
            <a:off x="5147640" y="2439720"/>
            <a:ext cx="2602440" cy="307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16384"/>
          <p:cNvCxnSpPr/>
          <p:nvPr/>
        </p:nvCxnSpPr>
        <p:spPr>
          <a:xfrm>
            <a:off x="4500360" y="2990520"/>
            <a:ext cx="2159640" cy="187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6388"/>
          <p:cNvCxnSpPr/>
          <p:nvPr/>
        </p:nvCxnSpPr>
        <p:spPr>
          <a:xfrm flipH="1">
            <a:off x="1907280" y="2162160"/>
            <a:ext cx="4249080" cy="2923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й сад считается одним из символов города. Он поражает посетителей своим величием и гармонией, это одно из любимейших мест прогулок многих горо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ANd9GcRttv7m69usbJAUgHIZuszAz2t6wNmg4ffK5L9GWpZo0ZAXrlCR"/>
          <p:cNvPicPr/>
          <p:nvPr/>
        </p:nvPicPr>
        <p:blipFill>
          <a:blip r:embed="rId1"/>
          <a:stretch/>
        </p:blipFill>
        <p:spPr>
          <a:xfrm>
            <a:off x="900000" y="1413000"/>
            <a:ext cx="7704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й сад – самый первый сад 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piter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был создан  по повелению Петра 1 в 1704году всего через год после основания 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72798406_1301456799_petr2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й парк – место, где у каждого куста и цветка было строго определенн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80893"/>
          <p:cNvPicPr/>
          <p:nvPr/>
        </p:nvPicPr>
        <p:blipFill>
          <a:blip r:embed="rId1"/>
          <a:srcRect l="0" t="-14005" r="1715" b="9333"/>
          <a:stretch/>
        </p:blipFill>
        <p:spPr>
          <a:xfrm>
            <a:off x="539640" y="765000"/>
            <a:ext cx="792000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й сад получил свое имя потому, что первоначально здесь выращивали только «летники» - растения, которые каждый год необходимо сажать заново. Но очень скоро по специальному царскому указу в Петербург повезли из Европы невиданные до сих пор в этих краях многолетние растения: тюльпаны, лилии, апельсиновые и лимонные дере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дный вход со стороны набережной Невы украшает знаменитая ограда Юрия Фельт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ДС\Desktop\Юля курсы\post-12991-1149697840.jpg"/>
          <p:cNvPicPr/>
          <p:nvPr/>
        </p:nvPicPr>
        <p:blipFill>
          <a:blip r:embed="rId1"/>
          <a:srcRect l="0" t="0" r="0" b="3787"/>
          <a:stretch/>
        </p:blipFill>
        <p:spPr>
          <a:xfrm>
            <a:off x="1116000" y="1557360"/>
            <a:ext cx="6286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южной стороны   Летний сад огораживает чугунная решетка, украшенной арматурой и щитами с головой Медуз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1348030920l_sad_sharlema"/>
          <p:cNvPicPr/>
          <p:nvPr/>
        </p:nvPicPr>
        <p:blipFill>
          <a:blip r:embed="rId1"/>
          <a:stretch/>
        </p:blipFill>
        <p:spPr>
          <a:xfrm>
            <a:off x="611280" y="155736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ский король в знак вечной дружбы подарил российскому императору Никола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ую вазу из розового гра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09021_or"/>
          <p:cNvPicPr/>
          <p:nvPr/>
        </p:nvPicPr>
        <p:blipFill>
          <a:blip r:embed="rId1"/>
          <a:stretch/>
        </p:blipFill>
        <p:spPr>
          <a:xfrm>
            <a:off x="468360" y="1619280"/>
            <a:ext cx="8424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3348000" y="620640"/>
            <a:ext cx="2567160" cy="1935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478800" y="4046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17587 0 0.31909 0.13889 0.31909 0.31065 C 0.31909 0.48194 0.17587 0.6213 3.05556E-006 0.6213 C -0.17604 0.6213 -0.3191 0.48194 -0.3191 0.31065 C -0.3191 0.13889 -0.17604 0 3.05556E-006 0 Z">
                                      <p:cBhvr>
                                        <p:cTn id="24" dur="7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8:01:23Z</dcterms:created>
  <dc:creator>Master</dc:creator>
  <dc:description/>
  <dc:language>en-US</dc:language>
  <cp:lastModifiedBy>ДС</cp:lastModifiedBy>
  <dcterms:modified xsi:type="dcterms:W3CDTF">2015-10-08T07:00:46Z</dcterms:modified>
  <cp:revision>30</cp:revision>
  <dc:subject/>
  <dc:title>Слайд 1</dc:title>
</cp:coreProperties>
</file>