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053-BF91-4CB1-93D3-B30497B5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C07-AE4B-4399-9EE9-C23AD042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92C-3D6C-4524-A0C5-25D6F01D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EBF-C65F-4F78-B35A-9EEBFD66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4A6-93C7-42BD-8CD2-A09D4036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FC4-7B2F-4A4D-9771-E775E078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0CE-EECE-46FA-B67D-44DA8356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D93-F844-4AE0-9101-9B8BA9EB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54F-44D2-4957-80A5-4E3C15B8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290-7C8D-4AF7-9CE8-76402180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328-00D6-4C86-B5A7-686B4250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C64-F935-426C-B616-1EA4477F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6BC7-9D36-4BAD-901C-EC7777433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8.xml"/><Relationship Id="rId3" Type="http://schemas.openxmlformats.org/officeDocument/2006/relationships/slide" Target="slide21.xml"/><Relationship Id="rId4" Type="http://schemas.openxmlformats.org/officeDocument/2006/relationships/slide" Target="slide25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ru.wikipedia.org/" TargetMode="External"/><Relationship Id="rId2" Type="http://schemas.openxmlformats.org/officeDocument/2006/relationships/hyperlink" Target="http://nsportal.ru/ap/library/literaturnoe-tvorchestvo" TargetMode="External"/><Relationship Id="rId3" Type="http://schemas.openxmlformats.org/officeDocument/2006/relationships/hyperlink" Target="http://marianna-mir.com/writers_portrait.html" TargetMode="External"/><Relationship Id="rId4" Type="http://schemas.openxmlformats.org/officeDocument/2006/relationships/hyperlink" Target="http://festival.1september.ru/articles" TargetMode="External"/><Relationship Id="rId5" Type="http://schemas.openxmlformats.org/officeDocument/2006/relationships/hyperlink" Target="http://www.tulapressa.ru/2014/12/90-letnyaya-pisatelnica-natalya-parygina-nagrazhdena-medalyu-za-osobyj-vklad-v-razvitie-tulskoj-oblasti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990720"/>
            <a:ext cx="6096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 </a:t>
            </a:r>
            <a:endParaRPr b="0" lang="en-US" sz="4000" spc="1" strike="noStrike">
              <a:ln w="1908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ТУЛЬСКОМУ КРАЮ</a:t>
            </a:r>
            <a:endParaRPr b="0" lang="en-US" sz="4000" spc="1" strike="noStrike">
              <a:ln w="1908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362320" y="3124080"/>
            <a:ext cx="4343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007a"/>
                </a:solidFill>
                <a:latin typeface="Arial"/>
              </a:rPr>
              <a:t>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267080" y="4267080"/>
            <a:ext cx="4648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готовила: Сухинина Н. А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«Бельковская С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>
            <a:hlinkClick r:id="" action="ppaction://hlinkshowjump?jump=nextslide"/>
          </p:cNvPr>
          <p:cNvSpPr/>
          <p:nvPr/>
        </p:nvSpPr>
        <p:spPr>
          <a:xfrm>
            <a:off x="2971800" y="5943600"/>
            <a:ext cx="2819520" cy="4572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>
            <a:hlinkClick r:id="" action="ppaction://hlinkshowjump?jump=nextslide"/>
          </p:cNvPr>
          <p:cNvSpPr/>
          <p:nvPr/>
        </p:nvSpPr>
        <p:spPr>
          <a:xfrm>
            <a:off x="2971800" y="5943600"/>
            <a:ext cx="2819520" cy="4572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пишите. Выделенные слова разберите по соста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кий и ручной ос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к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ё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ида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учно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ошё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нему и стал хвалить 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ь: как и телом-то он гладок и какой ему корм сладкий. Потом как навьючили ручного осла, да как сзади ста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гонщ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гонять его дубинкой, дикий осёл и говорит: «Нет, брат, теперь не завидуя вижу: твоё житьё тебе боком достает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37960" y="4416480"/>
            <a:ext cx="8524800" cy="1459800"/>
            <a:chOff x="237960" y="4416480"/>
            <a:chExt cx="8524800" cy="1459800"/>
          </a:xfrm>
        </p:grpSpPr>
        <p:grpSp>
          <p:nvGrpSpPr>
            <p:cNvPr id="125" name=""/>
            <p:cNvGrpSpPr/>
            <p:nvPr/>
          </p:nvGrpSpPr>
          <p:grpSpPr>
            <a:xfrm>
              <a:off x="380880" y="4572000"/>
              <a:ext cx="8381880" cy="1218960"/>
              <a:chOff x="380880" y="4572000"/>
              <a:chExt cx="8381880" cy="1218960"/>
            </a:xfrm>
          </p:grpSpPr>
          <p:sp>
            <p:nvSpPr>
              <p:cNvPr id="126" name=""/>
              <p:cNvSpPr/>
              <p:nvPr/>
            </p:nvSpPr>
            <p:spPr>
              <a:xfrm>
                <a:off x="456840" y="4800600"/>
                <a:ext cx="830592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9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0880" y="4572000"/>
                <a:ext cx="83055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48000"/>
              </a:bodyPr>
              <a:p>
                <a:pPr>
                  <a:lnSpc>
                    <a:spcPct val="9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Дикий,  увидал   , осла ,  подошёл   ,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погонщик   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37960" y="4416480"/>
              <a:ext cx="6467400" cy="1459800"/>
              <a:chOff x="237960" y="4416480"/>
              <a:chExt cx="6467400" cy="1459800"/>
            </a:xfrm>
          </p:grpSpPr>
          <p:sp>
            <p:nvSpPr>
              <p:cNvPr id="129" name=""/>
              <p:cNvSpPr/>
              <p:nvPr/>
            </p:nvSpPr>
            <p:spPr>
              <a:xfrm>
                <a:off x="2285640" y="5333760"/>
                <a:ext cx="22860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599840" y="5181120"/>
                <a:ext cx="532800" cy="152640"/>
                <a:chOff x="1599840" y="5181120"/>
                <a:chExt cx="532800" cy="15264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1599840" y="5181120"/>
                  <a:ext cx="26604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65880" y="5181480"/>
                  <a:ext cx="26676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 rot="20238600">
                <a:off x="595440" y="52606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533160" y="5257800"/>
                <a:ext cx="380880" cy="75960"/>
                <a:chOff x="533160" y="5257800"/>
                <a:chExt cx="380880" cy="759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33160" y="525780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914040" y="525780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56840" y="5638680"/>
                <a:ext cx="1752120" cy="76320"/>
                <a:chOff x="456840" y="5638680"/>
                <a:chExt cx="1752120" cy="763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56840" y="5715000"/>
                  <a:ext cx="175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2208960" y="5638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456840" y="5638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6476760" y="4647960"/>
                <a:ext cx="22860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238600">
                <a:off x="5396040" y="45748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257440" y="4647960"/>
                <a:ext cx="381240" cy="76320"/>
                <a:chOff x="5257440" y="4647960"/>
                <a:chExt cx="381240" cy="76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257440" y="4647960"/>
                  <a:ext cx="38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38680" y="464796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800240" y="4647960"/>
                <a:ext cx="381240" cy="76320"/>
                <a:chOff x="4800240" y="4647960"/>
                <a:chExt cx="381240" cy="763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800240" y="4647960"/>
                  <a:ext cx="38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81480" y="464796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800240" y="5028840"/>
                <a:ext cx="1599480" cy="76320"/>
                <a:chOff x="4800240" y="5028840"/>
                <a:chExt cx="1599480" cy="763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800240" y="5105160"/>
                  <a:ext cx="1599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639972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480024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4267080" y="4647960"/>
                <a:ext cx="22860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38600">
                <a:off x="3338640" y="45748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3581280" y="5028840"/>
                <a:ext cx="685800" cy="76320"/>
                <a:chOff x="3581280" y="5028840"/>
                <a:chExt cx="685800" cy="763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581280" y="5105160"/>
                  <a:ext cx="685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426708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358128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3200040" y="4647960"/>
                <a:ext cx="22860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19160" y="4495320"/>
                <a:ext cx="304920" cy="152640"/>
                <a:chOff x="2819160" y="4495320"/>
                <a:chExt cx="304920" cy="152640"/>
              </a:xfrm>
            </p:grpSpPr>
            <p:sp>
              <p:nvSpPr>
                <p:cNvPr id="161" name=""/>
                <p:cNvSpPr/>
                <p:nvPr/>
              </p:nvSpPr>
              <p:spPr>
                <a:xfrm flipV="1">
                  <a:off x="2819160" y="4495320"/>
                  <a:ext cx="15228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971440" y="4495680"/>
                  <a:ext cx="15264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 rot="20238600">
                <a:off x="1814760" y="45748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1904760" y="4647960"/>
                <a:ext cx="228600" cy="76320"/>
                <a:chOff x="1904760" y="4647960"/>
                <a:chExt cx="228600" cy="763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904760" y="464796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133360" y="464796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981080" y="5028840"/>
                <a:ext cx="1142640" cy="76320"/>
                <a:chOff x="1981080" y="5028840"/>
                <a:chExt cx="1142640" cy="763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981080" y="5105160"/>
                  <a:ext cx="1142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312372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198108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1218960" y="4647960"/>
                <a:ext cx="45720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238600">
                <a:off x="290520" y="45748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533160" y="5028840"/>
                <a:ext cx="685800" cy="76320"/>
                <a:chOff x="533160" y="5028840"/>
                <a:chExt cx="685800" cy="763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33160" y="5105160"/>
                  <a:ext cx="685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121896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53316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6"/>
          <p:cNvSpPr txBox="1"/>
          <p:nvPr/>
        </p:nvSpPr>
        <p:spPr>
          <a:xfrm>
            <a:off x="3962520" y="228600"/>
            <a:ext cx="3733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. Н. Толстой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3048120" y="1066680"/>
            <a:ext cx="5867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дился 28 августа (9 сентября н.с.) 1828 г. в имении Ясная Поляна Тульской губернии. Здесь он прожил большую часть своей жизни. Здесь же, в лесу, «Старом Заказе», на краю оврага, под сенью деревьев, находится его могила. В Ясной Поляне были задуманы и написаны многие из его бессмертных произве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Без своей Ясной Поляны, - писал Толстой, - я трудно могу себе представить Россию и мое отношение к ней. Без Ясной Поляны, я, может быть, яснее увижу общие законы, необходимые для моего отечества, но я не буду до пристрастия любить ег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380880" y="53341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828-19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5334120"/>
            <a:ext cx="5791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Yasnaya_Polyana_Estate_of_Tolstoy"/>
          <p:cNvPicPr/>
          <p:nvPr/>
        </p:nvPicPr>
        <p:blipFill>
          <a:blip r:embed="rId1"/>
          <a:stretch/>
        </p:blipFill>
        <p:spPr>
          <a:xfrm>
            <a:off x="380880" y="3049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1984320" cy="2828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пишите,   вставляя   в  слова  нужные согласные из скобок, подберите к ним провероч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ет  он был  в  поношенный   сюртук с ме(д,т)ными гла(д,т)кими пуговицами. Пря-мо против него ла(в,ф)ке  сидел   соперник Яшки. Это был невысокого роста му(ж,ш)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на, … рябой и курчавый, с живыми   карими гла(з,с)ками и жи(д,т)кой боро(д,т)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04920" y="2895480"/>
            <a:ext cx="8305560" cy="2971800"/>
            <a:chOff x="304920" y="2895480"/>
            <a:chExt cx="8305560" cy="2971800"/>
          </a:xfrm>
        </p:grpSpPr>
        <p:sp>
          <p:nvSpPr>
            <p:cNvPr id="192" name=""/>
            <p:cNvSpPr/>
            <p:nvPr/>
          </p:nvSpPr>
          <p:spPr>
            <a:xfrm>
              <a:off x="304920" y="4876920"/>
              <a:ext cx="830556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Из ме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и, гла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енький, ла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в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очка, му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ж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ик, гла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, жи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енький, боро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920" y="44956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4495680"/>
              <a:ext cx="60984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90720" y="44956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38880" y="3657600"/>
              <a:ext cx="68580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9880" y="3352680"/>
              <a:ext cx="68580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14400" y="28954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29000" y="28954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04920" y="2895480"/>
            <a:ext cx="8305560" cy="2971800"/>
            <a:chOff x="304920" y="2895480"/>
            <a:chExt cx="8305560" cy="2971800"/>
          </a:xfrm>
        </p:grpSpPr>
        <p:sp>
          <p:nvSpPr>
            <p:cNvPr id="201" name=""/>
            <p:cNvSpPr/>
            <p:nvPr/>
          </p:nvSpPr>
          <p:spPr>
            <a:xfrm>
              <a:off x="304920" y="4876920"/>
              <a:ext cx="830556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Из ме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и, гла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енький, ла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в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очка, му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ж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ик, гла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, жи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енький, боро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9920" y="44956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280" y="4495680"/>
              <a:ext cx="60984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90720" y="44956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8880" y="3657600"/>
              <a:ext cx="68580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09880" y="3352680"/>
              <a:ext cx="68580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4400" y="28954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29000" y="28954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6"/>
          <p:cNvSpPr txBox="1"/>
          <p:nvPr/>
        </p:nvSpPr>
        <p:spPr>
          <a:xfrm>
            <a:off x="2666880" y="22860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. С. Тургенев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2438280" y="914400"/>
            <a:ext cx="6553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271440"/>
                <a:tab algn="l" pos="361800"/>
                <a:tab algn="l" pos="450720"/>
                <a:tab algn="l" pos="63180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ый русский писатель Иван Сергеевич Тургенев  родился 28 октября (9 ноября) 1818 года в городе Орле в семье потомственного дворянина  С.Н. Тургенева,  родовое  имение которого находилось  в  селе  Тургеневе  Чернского уезда Тульской губернии. И.С. Тургенев не раз бывал в этом имении в  детские,  юношеские и зрелые годы, прекрасно знал его окрестности, а также многие  села,   деревни,   рощи,  урочища  Тульского края, места на его реках и речуш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271440"/>
                <a:tab algn="l" pos="361800"/>
                <a:tab algn="l" pos="450720"/>
                <a:tab algn="l" pos="63180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ульском крае Тургенев был знаком с очень широким кругом лиц из разных сословий, писате-лями. Сохранилась его обширная переписка с ними.   В  биографии  Тургенева  занимают  особую страницу взаимоотношения с Л.Н. Толстым. Тур-генев не раз бывал у Толстого  в  Ясной Поляне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0" y="449568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818-1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200320" cy="281916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пишите. Выделите приставки. Выполни-те звукобуквенный анализ слова бло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тали все подходить и смотреть: блоха, действительно, на все ноги подкована на настоящие подковы, а Левша доложил…, что и это ещё не все удивительное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0880" y="1981080"/>
            <a:ext cx="8305920" cy="2667240"/>
            <a:chOff x="380880" y="1981080"/>
            <a:chExt cx="8305920" cy="2667240"/>
          </a:xfrm>
        </p:grpSpPr>
        <p:sp>
          <p:nvSpPr>
            <p:cNvPr id="221" name=""/>
            <p:cNvSpPr/>
            <p:nvPr/>
          </p:nvSpPr>
          <p:spPr>
            <a:xfrm>
              <a:off x="380880" y="3657600"/>
              <a:ext cx="8305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0000"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лоха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лах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2 слог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согл., звон. парн., тв. пар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согл., звон. непарн., тв. пар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глас., безуд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согл., глух. непарн., тв. пар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а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[</a:t>
              </a: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а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]</a:t>
              </a: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-глас., уд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5б., 5 з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048120" y="3124080"/>
              <a:ext cx="228600" cy="76320"/>
              <a:chOff x="3048120" y="3124080"/>
              <a:chExt cx="228600" cy="76320"/>
            </a:xfrm>
          </p:grpSpPr>
          <p:sp>
            <p:nvSpPr>
              <p:cNvPr id="223" name=""/>
              <p:cNvSpPr/>
              <p:nvPr/>
            </p:nvSpPr>
            <p:spPr>
              <a:xfrm>
                <a:off x="3048120" y="31240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276720" y="312408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638680" y="2743200"/>
              <a:ext cx="457200" cy="76320"/>
              <a:chOff x="5638680" y="2743200"/>
              <a:chExt cx="457200" cy="76320"/>
            </a:xfrm>
          </p:grpSpPr>
          <p:sp>
            <p:nvSpPr>
              <p:cNvPr id="226" name=""/>
              <p:cNvSpPr/>
              <p:nvPr/>
            </p:nvSpPr>
            <p:spPr>
              <a:xfrm>
                <a:off x="5638680" y="27432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095880" y="274320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5257800" y="2362320"/>
              <a:ext cx="609480" cy="75960"/>
              <a:chOff x="5257800" y="2362320"/>
              <a:chExt cx="609480" cy="75960"/>
            </a:xfrm>
          </p:grpSpPr>
          <p:sp>
            <p:nvSpPr>
              <p:cNvPr id="229" name=""/>
              <p:cNvSpPr/>
              <p:nvPr/>
            </p:nvSpPr>
            <p:spPr>
              <a:xfrm>
                <a:off x="5257800" y="236232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67280" y="2362320"/>
                <a:ext cx="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362320" y="2743200"/>
              <a:ext cx="609480" cy="76320"/>
              <a:chOff x="2362320" y="2743200"/>
              <a:chExt cx="609480" cy="76320"/>
            </a:xfrm>
          </p:grpSpPr>
          <p:sp>
            <p:nvSpPr>
              <p:cNvPr id="232" name=""/>
              <p:cNvSpPr/>
              <p:nvPr/>
            </p:nvSpPr>
            <p:spPr>
              <a:xfrm>
                <a:off x="2362320" y="274320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71800" y="274320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 flipV="1">
              <a:off x="1371600" y="3581280"/>
              <a:ext cx="763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438280" y="3581280"/>
              <a:ext cx="763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200400" y="1981080"/>
              <a:ext cx="533520" cy="76320"/>
              <a:chOff x="3200400" y="1981080"/>
              <a:chExt cx="533520" cy="76320"/>
            </a:xfrm>
          </p:grpSpPr>
          <p:sp>
            <p:nvSpPr>
              <p:cNvPr id="237" name=""/>
              <p:cNvSpPr/>
              <p:nvPr/>
            </p:nvSpPr>
            <p:spPr>
              <a:xfrm>
                <a:off x="3200400" y="198108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33920" y="198108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380880" y="1981080"/>
            <a:ext cx="8305920" cy="2667240"/>
            <a:chOff x="380880" y="1981080"/>
            <a:chExt cx="8305920" cy="2667240"/>
          </a:xfrm>
        </p:grpSpPr>
        <p:sp>
          <p:nvSpPr>
            <p:cNvPr id="240" name=""/>
            <p:cNvSpPr/>
            <p:nvPr/>
          </p:nvSpPr>
          <p:spPr>
            <a:xfrm>
              <a:off x="380880" y="3657600"/>
              <a:ext cx="8305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0000"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лоха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лах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2 слог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согл., звон. парн., тв. пар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согл., звон. непарн., тв. пар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глас., безуд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согл., глух. непарн., тв. пар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а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[</a:t>
              </a: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а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]</a:t>
              </a: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-глас., уд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5б., 5 з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048120" y="3124080"/>
              <a:ext cx="228600" cy="76320"/>
              <a:chOff x="3048120" y="3124080"/>
              <a:chExt cx="228600" cy="76320"/>
            </a:xfrm>
          </p:grpSpPr>
          <p:sp>
            <p:nvSpPr>
              <p:cNvPr id="242" name=""/>
              <p:cNvSpPr/>
              <p:nvPr/>
            </p:nvSpPr>
            <p:spPr>
              <a:xfrm>
                <a:off x="3048120" y="31240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76720" y="312408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638680" y="2743200"/>
              <a:ext cx="457200" cy="76320"/>
              <a:chOff x="5638680" y="2743200"/>
              <a:chExt cx="457200" cy="76320"/>
            </a:xfrm>
          </p:grpSpPr>
          <p:sp>
            <p:nvSpPr>
              <p:cNvPr id="245" name=""/>
              <p:cNvSpPr/>
              <p:nvPr/>
            </p:nvSpPr>
            <p:spPr>
              <a:xfrm>
                <a:off x="5638680" y="27432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95880" y="274320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257800" y="2362320"/>
              <a:ext cx="609480" cy="75960"/>
              <a:chOff x="5257800" y="2362320"/>
              <a:chExt cx="609480" cy="75960"/>
            </a:xfrm>
          </p:grpSpPr>
          <p:sp>
            <p:nvSpPr>
              <p:cNvPr id="248" name=""/>
              <p:cNvSpPr/>
              <p:nvPr/>
            </p:nvSpPr>
            <p:spPr>
              <a:xfrm>
                <a:off x="5257800" y="236232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67280" y="2362320"/>
                <a:ext cx="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362320" y="2743200"/>
              <a:ext cx="609480" cy="76320"/>
              <a:chOff x="2362320" y="2743200"/>
              <a:chExt cx="609480" cy="76320"/>
            </a:xfrm>
          </p:grpSpPr>
          <p:sp>
            <p:nvSpPr>
              <p:cNvPr id="251" name=""/>
              <p:cNvSpPr/>
              <p:nvPr/>
            </p:nvSpPr>
            <p:spPr>
              <a:xfrm>
                <a:off x="2362320" y="274320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71800" y="274320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V="1">
              <a:off x="1371600" y="3581280"/>
              <a:ext cx="763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438280" y="3581280"/>
              <a:ext cx="763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200400" y="1981080"/>
              <a:ext cx="533520" cy="76320"/>
              <a:chOff x="3200400" y="1981080"/>
              <a:chExt cx="533520" cy="76320"/>
            </a:xfrm>
          </p:grpSpPr>
          <p:sp>
            <p:nvSpPr>
              <p:cNvPr id="256" name=""/>
              <p:cNvSpPr/>
              <p:nvPr/>
            </p:nvSpPr>
            <p:spPr>
              <a:xfrm>
                <a:off x="3200400" y="198108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33920" y="198108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6"/>
          <p:cNvSpPr txBox="1"/>
          <p:nvPr/>
        </p:nvSpPr>
        <p:spPr>
          <a:xfrm>
            <a:off x="152280" y="228600"/>
            <a:ext cx="8763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каз о Тульском косом Левше 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о стальной блохе"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2743200" y="1523880"/>
            <a:ext cx="6095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ый персонаж, созданный писателем Николаем Лесковым, являет-ся  символом  тульских мастеровых лю-дей.   У Левши был  реальный прототип: мастер   Тульского  оружейного   завод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южет рассказа очень близок к  со-бытиям   жизни   тульских   оружейников А. Сурнина  и  А. Леонть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ляки гордятся этим историческим фактом.  Более 300 лет в Туле процве-тает оружейное производство.  Левша - символ людей, которые делали оружие для защиты нашей род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541008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амятник Лев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5334120"/>
            <a:ext cx="5791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284200" cy="342900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рочитайте пословицы. Объясните их смысл. Спишите и подчеркните раздели-тельный твердый знак в слов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сть без зубов, а с костями съ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но пташка запела, как бы кошка не съ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о собирает, зима съед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3200400"/>
            <a:ext cx="7620120" cy="1828800"/>
            <a:chOff x="457200" y="3200400"/>
            <a:chExt cx="7620120" cy="1828800"/>
          </a:xfrm>
        </p:grpSpPr>
        <p:sp>
          <p:nvSpPr>
            <p:cNvPr id="273" name=""/>
            <p:cNvSpPr/>
            <p:nvPr/>
          </p:nvSpPr>
          <p:spPr>
            <a:xfrm>
              <a:off x="7924680" y="411480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32004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57200" y="4191120"/>
              <a:ext cx="6019560" cy="838080"/>
              <a:chOff x="457200" y="4191120"/>
              <a:chExt cx="6019560" cy="838080"/>
            </a:xfrm>
          </p:grpSpPr>
          <p:sp>
            <p:nvSpPr>
              <p:cNvPr id="276" name=""/>
              <p:cNvSpPr/>
              <p:nvPr/>
            </p:nvSpPr>
            <p:spPr>
              <a:xfrm>
                <a:off x="609480" y="4191120"/>
                <a:ext cx="586728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cc"/>
                    </a:solidFill>
                    <a:latin typeface="Times New Roman"/>
                  </a:rPr>
                  <a:t>сущ.               глаг.                    сущ.              глаг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95680" y="5029200"/>
                <a:ext cx="1447920" cy="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95680" y="4952880"/>
                <a:ext cx="1447920" cy="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29000" y="4952880"/>
                <a:ext cx="838080" cy="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523880" y="5029200"/>
                <a:ext cx="1600200" cy="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57200" y="4952880"/>
                <a:ext cx="838080" cy="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3880" y="4952880"/>
                <a:ext cx="1600200" cy="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4724280" y="487692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04920" y="510552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оследнюю пословицу разберите по членам предложения и частям реч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6"/>
          <p:cNvSpPr txBox="1"/>
          <p:nvPr/>
        </p:nvSpPr>
        <p:spPr>
          <a:xfrm>
            <a:off x="2590920" y="304920"/>
            <a:ext cx="3733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сная Поляна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3352680" y="1219320"/>
            <a:ext cx="5257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сная Поляна — усадьба в Щёкинском районе Тульской области (в 14 км к юго-западу от Тулы), основанная в XVII веке и принадлежавшая сначала роду Карцевых, затем роду Волконских и Толстых. В ней 28 августа (9 сентября) 1828 родился Лев Николаевич Толстой, здесь он жил, творил (в Ясной Поляне были написаны «Война и мир», «Анна Каренина» и др.), здесь же находится его могила. Главную роль в создании облика усадьбы сыграл дед писателя Н. С. Волконс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5334120"/>
            <a:ext cx="5791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2971800" cy="2420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005280" cy="2004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248520" y="32004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335268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53080" y="350532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36576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Times New Roman"/>
              </a:rPr>
              <a:t>Спишите. Определите падеж имён существительны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 радость и на счасть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ак ветер паруса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 наследство тульский маст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армонь оставил нам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верно, мудрый маст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умел в тебя вдохну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 раннее ненасть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 долгий зимний пу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1219320"/>
            <a:ext cx="6324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В.п.                                   В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В.п.                   Д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В.п.                                                   И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В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И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                              </a:t>
            </a: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В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                                              </a:t>
            </a: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В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6"/>
          <p:cNvSpPr txBox="1"/>
          <p:nvPr/>
        </p:nvSpPr>
        <p:spPr>
          <a:xfrm>
            <a:off x="3886200" y="30492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. И. Белобородов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29718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ажнейшее изобретение Николая Ивановича - хроматическая гармонь. С этого изобретения началось знаменитое производство тульских гармоник. Тульская гармонь – один из символов Тулы, наравне с тульским пряником и тульским самоваром. Белобородов так-же известен как создатель первого в мире оркестра гармонис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зобретение Белобородова обеспе-чило гармоникам новое звучание, что позволило  известному русскому ком-позитору П.И. Чайковскому впервые ввести их в состав симфонического оркест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95480" y="5334120"/>
            <a:ext cx="5791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2716200" cy="36576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2"/>
          <p:cNvSpPr/>
          <p:nvPr/>
        </p:nvSpPr>
        <p:spPr>
          <a:xfrm>
            <a:off x="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зобретатель тульской гармо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>
            <a:hlinkClick r:id="" action="ppaction://hlinkshowjump?jump=nextslide"/>
          </p:cNvPr>
          <p:cNvSpPr/>
          <p:nvPr/>
        </p:nvSpPr>
        <p:spPr>
          <a:xfrm>
            <a:off x="1371600" y="60958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2590920" y="152280"/>
            <a:ext cx="4114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</a:t>
            </a:r>
            <a:endParaRPr b="0" lang="en-US" sz="6000" spc="1" strike="noStrike">
              <a:ln w="2844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ествовательные, вопросительны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будительные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е и второстепенные члены пре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осочета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писание слов с глухими и звонк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 согласными в кор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писание приста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>
            <a:hlinkClick r:id="rId1" action="ppaction://hlinksldjump"/>
          </p:cNvPr>
          <p:cNvSpPr/>
          <p:nvPr/>
        </p:nvSpPr>
        <p:spPr>
          <a:xfrm>
            <a:off x="6477120" y="12193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>
            <a:hlinkClick r:id="" action="ppaction://hlinkshowjump?jump=lastslide"/>
          </p:cNvPr>
          <p:cNvSpPr/>
          <p:nvPr/>
        </p:nvSpPr>
        <p:spPr>
          <a:xfrm>
            <a:off x="5029200" y="6095880"/>
            <a:ext cx="213372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>
            <a:hlinkClick r:id="" action="ppaction://hlinkshowjump?jump=endshow"/>
          </p:cNvPr>
          <p:cNvSpPr/>
          <p:nvPr/>
        </p:nvSpPr>
        <p:spPr>
          <a:xfrm>
            <a:off x="7391520" y="6095880"/>
            <a:ext cx="15238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>
            <a:hlinkClick r:id="rId2" action="ppaction://hlinksldjump"/>
          </p:cNvPr>
          <p:cNvSpPr/>
          <p:nvPr/>
        </p:nvSpPr>
        <p:spPr>
          <a:xfrm>
            <a:off x="6477120" y="2057400"/>
            <a:ext cx="24382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3" action="ppaction://hlinksldjump"/>
          </p:cNvPr>
          <p:cNvSpPr/>
          <p:nvPr/>
        </p:nvSpPr>
        <p:spPr>
          <a:xfrm>
            <a:off x="6477120" y="2895480"/>
            <a:ext cx="24382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>
            <a:hlinkClick r:id="" action="ppaction://hlinkshowjump?jump=nextslide"/>
          </p:cNvPr>
          <p:cNvSpPr/>
          <p:nvPr/>
        </p:nvSpPr>
        <p:spPr>
          <a:xfrm>
            <a:off x="457200" y="601992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>
            <a:hlinkClick r:id="rId4" action="ppaction://hlinksldjump"/>
          </p:cNvPr>
          <p:cNvSpPr/>
          <p:nvPr/>
        </p:nvSpPr>
        <p:spPr>
          <a:xfrm>
            <a:off x="6477120" y="37339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>
            <a:hlinkClick r:id="rId5" action="ppaction://hlinksldjump"/>
          </p:cNvPr>
          <p:cNvSpPr/>
          <p:nvPr/>
        </p:nvSpPr>
        <p:spPr>
          <a:xfrm>
            <a:off x="6477120" y="4495680"/>
            <a:ext cx="24382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>
            <a:hlinkClick r:id="rId6" action="ppaction://hlinksldjump"/>
          </p:cNvPr>
          <p:cNvSpPr/>
          <p:nvPr/>
        </p:nvSpPr>
        <p:spPr>
          <a:xfrm>
            <a:off x="6477120" y="5257800"/>
            <a:ext cx="24382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6"/>
          <p:cNvSpPr txBox="1"/>
          <p:nvPr/>
        </p:nvSpPr>
        <p:spPr>
          <a:xfrm>
            <a:off x="1219320" y="152280"/>
            <a:ext cx="7086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Н. И. Белобородова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228600" y="990720"/>
            <a:ext cx="8534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мориальный    музей    Н. И.  Белобородова – единственный музыкальный  музей  в Тульской области! Музей носит имя Николая Ивановича Белобородова и был открыт для посетителей в память о знаменитом туля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зей Белобородова в Туле отражает в своей экспозиции музы-кальную  культурную  среду  Тулы  начала  XX века, где проходили жизнь  и   творчество  Николая  Ивановича  Белобородова.   Музей интересен  не  только музыкантам-профессионалам, но и детям. В «музее гармони», как часто дети называют музей Белобородова в Туле, представлены различные гармони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только тульская гармонь, но и знаме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я венская, но главным экспонатом явл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тся  тульская  «хромка»  или  хромат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я гармонь, изготовленная в 1878 г. по з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зу Н.И. Белобородова «гармонных де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тером» Л.А. Чулков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486400" y="3657600"/>
            <a:ext cx="3429000" cy="267984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Прочитайте. Напишите по памяти. Обозначьте числа и падеж имен прилагательных, выдели-те окон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дремлют пташки не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d007a"/>
                </a:solidFill>
                <a:latin typeface="Times New Roman"/>
              </a:rPr>
              <a:t>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эти вихри сне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d007a"/>
                </a:solidFill>
                <a:latin typeface="Times New Roman"/>
              </a:rPr>
              <a:t>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ерзлого ок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d007a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 снится им прекрасн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d007a"/>
                </a:solidFill>
                <a:latin typeface="Times New Roman"/>
              </a:rPr>
              <a:t>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улыбках солнца яс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расавица вес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676520" y="2133720"/>
            <a:ext cx="4800600" cy="4190760"/>
            <a:chOff x="1676520" y="2133720"/>
            <a:chExt cx="4800600" cy="4190760"/>
          </a:xfrm>
        </p:grpSpPr>
        <p:sp>
          <p:nvSpPr>
            <p:cNvPr id="322" name=""/>
            <p:cNvSpPr/>
            <p:nvPr/>
          </p:nvSpPr>
          <p:spPr>
            <a:xfrm>
              <a:off x="1676520" y="2133720"/>
              <a:ext cx="4800600" cy="41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                                                    </a:t>
              </a: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мн. ч.,  И. п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                                         </a:t>
              </a: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мн. ч., В. п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ед. ч., Р. п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                                         </a:t>
              </a: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ед. ч., В. п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                                                     </a:t>
              </a: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ед. ч., В. п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2590920" y="2514600"/>
              <a:ext cx="3200400" cy="2590920"/>
              <a:chOff x="2590920" y="2514600"/>
              <a:chExt cx="3200400" cy="2590920"/>
            </a:xfrm>
          </p:grpSpPr>
          <p:sp>
            <p:nvSpPr>
              <p:cNvPr id="324" name=""/>
              <p:cNvSpPr/>
              <p:nvPr/>
            </p:nvSpPr>
            <p:spPr>
              <a:xfrm>
                <a:off x="5105520" y="4800600"/>
                <a:ext cx="533160" cy="304920"/>
              </a:xfrm>
              <a:prstGeom prst="rect">
                <a:avLst/>
              </a:prstGeom>
              <a:noFill/>
              <a:ln w="25560">
                <a:solidFill>
                  <a:srgbClr val="3d0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029200" y="4191120"/>
                <a:ext cx="533520" cy="304560"/>
              </a:xfrm>
              <a:prstGeom prst="rect">
                <a:avLst/>
              </a:prstGeom>
              <a:noFill/>
              <a:ln w="25560">
                <a:solidFill>
                  <a:srgbClr val="3d0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90920" y="3657600"/>
                <a:ext cx="533160" cy="304920"/>
              </a:xfrm>
              <a:prstGeom prst="rect">
                <a:avLst/>
              </a:prstGeom>
              <a:noFill/>
              <a:ln w="25560">
                <a:solidFill>
                  <a:srgbClr val="3d0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48320" y="3048120"/>
                <a:ext cx="533160" cy="304560"/>
              </a:xfrm>
              <a:prstGeom prst="rect">
                <a:avLst/>
              </a:prstGeom>
              <a:noFill/>
              <a:ln w="25560">
                <a:solidFill>
                  <a:srgbClr val="3d0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257800" y="2514600"/>
                <a:ext cx="533520" cy="304920"/>
              </a:xfrm>
              <a:prstGeom prst="rect">
                <a:avLst/>
              </a:prstGeom>
              <a:noFill/>
              <a:ln w="25560">
                <a:solidFill>
                  <a:srgbClr val="3d0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6"/>
          <p:cNvSpPr txBox="1"/>
          <p:nvPr/>
        </p:nvSpPr>
        <p:spPr>
          <a:xfrm>
            <a:off x="4267080" y="228600"/>
            <a:ext cx="28195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. Есенин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2819520" y="838080"/>
            <a:ext cx="6095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just"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ргей Александрови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ени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895-1925), русский поэт. С первых сборников ("Радуница", 1916; "Сельский часослов", 1918) выступил как тонкий лирик, мастер глубоко психологизированного пейзажа, певец крестьянской Руси, знаток народного языка и народной душ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уляки очень любят и чтят Есенина, а вот о связях его с Тульским краем известно очень мало. Оказывается, поэт бывал в Туле много р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 он гостил у своих друзей. Его женой в 1925 году стала внучка Л.Н.Толстого – Софья Андреевна Толстая-Есенина. В этой связи он посетил Ясную Поля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854360" cy="2590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2187720" cy="346716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пишите. Определите в каком времени и числе употреблён каждый глаго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ый день Митя катался на санках с ле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й горы и на коньках по ре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. Д. 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400" spc="-1" strike="noStrike">
                <a:solidFill>
                  <a:srgbClr val="3d007a"/>
                </a:solidFill>
                <a:latin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Мальчик стоял и глядел на бегущие по тё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му стеклу струи и слушал шум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. Пары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62320" y="1752480"/>
            <a:ext cx="2971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007a"/>
                </a:solidFill>
                <a:latin typeface="Times New Roman"/>
              </a:rPr>
              <a:t>                                       </a:t>
            </a:r>
            <a:r>
              <a:rPr b="1" lang="en-US" sz="1400" spc="-1" strike="noStrike">
                <a:solidFill>
                  <a:srgbClr val="3d007a"/>
                </a:solidFill>
                <a:latin typeface="Times New Roman"/>
              </a:rPr>
              <a:t>ед. ч., пр.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007a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3d007a"/>
                </a:solidFill>
                <a:latin typeface="Times New Roman"/>
              </a:rPr>
              <a:t>ед. ч., пр. в.         ед. ч., пр.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007a"/>
                </a:solidFill>
                <a:latin typeface="Times New Roman"/>
              </a:rPr>
              <a:t>                                      </a:t>
            </a:r>
            <a:r>
              <a:rPr b="1" lang="en-US" sz="1400" spc="-1" strike="noStrike">
                <a:solidFill>
                  <a:srgbClr val="3d007a"/>
                </a:solidFill>
                <a:latin typeface="Times New Roman"/>
              </a:rPr>
              <a:t>ед. ч., пр.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6"/>
          <p:cNvSpPr txBox="1"/>
          <p:nvPr/>
        </p:nvSpPr>
        <p:spPr>
          <a:xfrm>
            <a:off x="2743200" y="152280"/>
            <a:ext cx="34290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. Парыгина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2971800" y="838080"/>
            <a:ext cx="58672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талья  Деомидовна  Парыгина  ро-дилась на станции  Борзя Читинской об-ласти 22 мая 1924 года. Творческий путь писательницы начался после окончания Томского политехнического института во время  её  преподавательской работы  в техникуме,  а  затем — в  родном вузе. В 1954 году вышла её первая книга — «За-писки педагог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ом же году Наталья Парыгина пере-ехала  в  Тулу,  через четыре года  стала членом  Союза писателей  СССР,  участ-вовала в создании  тульской  писательс-кой  организации.   Училась  на  Высших литературных  курсах при Литературном институте им.А.М. Горьк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талью    Парыгину    наградили   ме-далью   «За   особый   вклад  в  развитие Тульской области»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2577960" cy="18954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Спишите пословицы  о родном крае. Выпишите глаголы и поставьте их в неопределенную фор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дной свой край люби и з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ульская винтовка стреляет лов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тульской винтовкой в бою не пропа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41911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юби – любиш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реляет – стрел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падёшь – пропада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WordArt 6"/>
          <p:cNvSpPr txBox="1"/>
          <p:nvPr/>
        </p:nvSpPr>
        <p:spPr>
          <a:xfrm>
            <a:off x="3124080" y="228600"/>
            <a:ext cx="28195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. И. Мосин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2743200" y="990720"/>
            <a:ext cx="6172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зобретатель Сергей Иванович Мосин родился в Воронежской области в селе Рамонь. Он окончил военное и артиллерийское училище, академию артиллерии. В 1875 г. он становится начальником инструментальной мастерской оружейного завода в Туле. К 1880 году он уже разрабатывал однозарядные винтовки и являлся знатоком оружейного дела. В 1894 году он становится начальником Сестрорецкого оружейного заво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>
            <a:hlinkClick r:id="" action="ppaction://hlinkshowjump?jump=nextslide"/>
          </p:cNvPr>
          <p:cNvSpPr/>
          <p:nvPr/>
        </p:nvSpPr>
        <p:spPr>
          <a:xfrm>
            <a:off x="1371600" y="6019920"/>
            <a:ext cx="990720" cy="533160"/>
          </a:xfrm>
          <a:prstGeom prst="rightArrow">
            <a:avLst>
              <a:gd name="adj1" fmla="val 50000"/>
              <a:gd name="adj2" fmla="val 4645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228600" y="457200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оздатель знаменитой трехлинейной 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279880" cy="312444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7">
            <a:hlinkClick r:id="" action="ppaction://hlinkshowjump?jump=previousslide"/>
          </p:cNvPr>
          <p:cNvSpPr/>
          <p:nvPr/>
        </p:nvSpPr>
        <p:spPr>
          <a:xfrm>
            <a:off x="380880" y="6019920"/>
            <a:ext cx="914400" cy="533160"/>
          </a:xfrm>
          <a:prstGeom prst="leftArrow">
            <a:avLst>
              <a:gd name="adj1" fmla="val 50000"/>
              <a:gd name="adj2" fmla="val 42876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6"/>
          <p:cNvSpPr txBox="1"/>
          <p:nvPr/>
        </p:nvSpPr>
        <p:spPr>
          <a:xfrm>
            <a:off x="2133720" y="228600"/>
            <a:ext cx="43434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нтовка Мосина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2743200" y="990720"/>
            <a:ext cx="6172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тория создания «трехлинейки» была непростой. В создании лучшей магазинной винтовки мира приняли участие несколько конструкторов, но самый весомый вклад внес С. И. Мосин. История была во многом не справедлива к нему, ведь его винтовка при его жизни не носила имени Мосина, это сильно огорчало конструктора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нтовка Мосина, также известная, как знаменитая «трехлинейка», была основным оружием революции 1917 года, а так же Великой Отечественной войны. Именно винтовка Мосина образца 1891 года считается по праву одним из знаменитейших образцов русского оружия. Царская трехлинейка приняла участие в русско-японской, а потом и в Первой Мировой войн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514600" cy="18936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2514600" cy="167652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Напишите по памяти. Подчеркните глаголы с частицей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ихо дремлет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р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ёмный бор не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ловей н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дергач не кри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04920" y="3276720"/>
            <a:ext cx="8305560" cy="1981080"/>
            <a:chOff x="304920" y="3276720"/>
            <a:chExt cx="8305560" cy="1981080"/>
          </a:xfrm>
        </p:grpSpPr>
        <p:sp>
          <p:nvSpPr>
            <p:cNvPr id="372" name=""/>
            <p:cNvSpPr/>
            <p:nvPr/>
          </p:nvSpPr>
          <p:spPr>
            <a:xfrm>
              <a:off x="304920" y="4267080"/>
              <a:ext cx="8305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8000"/>
            </a:bodyPr>
            <a:p>
              <a:pPr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Дремлет – глаг. (что делает?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Н. Ф. дрем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Н. в., ед. ч.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Главн. Ч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62520" y="3276720"/>
              <a:ext cx="175248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52680" y="4191120"/>
              <a:ext cx="175284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6"/>
          <p:cNvSpPr txBox="1"/>
          <p:nvPr/>
        </p:nvSpPr>
        <p:spPr>
          <a:xfrm>
            <a:off x="3124080" y="228600"/>
            <a:ext cx="28195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. Есенин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Rectangle 12"/>
          <p:cNvSpPr/>
          <p:nvPr/>
        </p:nvSpPr>
        <p:spPr>
          <a:xfrm>
            <a:off x="2743200" y="990720"/>
            <a:ext cx="6172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амять о пребывании С.А.Есенина в Туле на стене дома, где он жил несколько недель, укреплена мемориальная доска. В центральном парке культуры и отдыха Тулы установлен бюст поэта на аллее, называемой туляками Есенин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центральном парке культуры и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дыха   Тулы     установлен бюс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а   на     аллее,    называе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ляками Есенин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903680" cy="27432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3200400" cy="23986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2590920" y="152280"/>
            <a:ext cx="4114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</a:t>
            </a:r>
            <a:endParaRPr b="0" lang="en-US" sz="6000" spc="1" strike="noStrike">
              <a:ln w="2844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елительный твердый 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существительное. Падежи имё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ите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прилагательное. Изменение прилаг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ьных по падежам и чис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гол. Изменение глагола по чис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нение глагола в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пределенная форма глаг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 глаголами. Морфологический раз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>
            <a:hlinkClick r:id="rId1" action="ppaction://hlinksldjump"/>
          </p:cNvPr>
          <p:cNvSpPr/>
          <p:nvPr/>
        </p:nvSpPr>
        <p:spPr>
          <a:xfrm>
            <a:off x="6477120" y="1143000"/>
            <a:ext cx="24382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>
            <a:hlinkClick r:id="" action="ppaction://hlinkshowjump?jump=lastslide"/>
          </p:cNvPr>
          <p:cNvSpPr/>
          <p:nvPr/>
        </p:nvSpPr>
        <p:spPr>
          <a:xfrm>
            <a:off x="5029200" y="6095880"/>
            <a:ext cx="213372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>
            <a:hlinkClick r:id="" action="ppaction://hlinkshowjump?jump=endshow"/>
          </p:cNvPr>
          <p:cNvSpPr/>
          <p:nvPr/>
        </p:nvSpPr>
        <p:spPr>
          <a:xfrm>
            <a:off x="7391520" y="6095880"/>
            <a:ext cx="15238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>
            <a:hlinkClick r:id="rId2" action="ppaction://hlinksldjump"/>
          </p:cNvPr>
          <p:cNvSpPr/>
          <p:nvPr/>
        </p:nvSpPr>
        <p:spPr>
          <a:xfrm>
            <a:off x="6477120" y="1828800"/>
            <a:ext cx="24382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>
            <a:hlinkClick r:id="rId3" action="ppaction://hlinksldjump"/>
          </p:cNvPr>
          <p:cNvSpPr/>
          <p:nvPr/>
        </p:nvSpPr>
        <p:spPr>
          <a:xfrm>
            <a:off x="6477120" y="25909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>
            <a:hlinkClick r:id="rId4" action="ppaction://hlinksldjump"/>
          </p:cNvPr>
          <p:cNvSpPr/>
          <p:nvPr/>
        </p:nvSpPr>
        <p:spPr>
          <a:xfrm>
            <a:off x="6477120" y="39625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>
            <a:hlinkClick r:id="rId5" action="ppaction://hlinksldjump"/>
          </p:cNvPr>
          <p:cNvSpPr/>
          <p:nvPr/>
        </p:nvSpPr>
        <p:spPr>
          <a:xfrm>
            <a:off x="6477120" y="32767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>
            <a:hlinkClick r:id="rId6" action="ppaction://hlinksldjump"/>
          </p:cNvPr>
          <p:cNvSpPr/>
          <p:nvPr/>
        </p:nvSpPr>
        <p:spPr>
          <a:xfrm>
            <a:off x="6477120" y="46483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>
            <a:hlinkClick r:id="rId7" action="ppaction://hlinksldjump"/>
          </p:cNvPr>
          <p:cNvSpPr/>
          <p:nvPr/>
        </p:nvSpPr>
        <p:spPr>
          <a:xfrm>
            <a:off x="6477120" y="53341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Напишите по памяти. Подчеркните орф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то в космос устремится зав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орее радио включ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 каждым новым космонав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таёт его родимый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38080" y="3048120"/>
            <a:ext cx="4800600" cy="1600200"/>
            <a:chOff x="838080" y="3048120"/>
            <a:chExt cx="4800600" cy="1600200"/>
          </a:xfrm>
        </p:grpSpPr>
        <p:sp>
          <p:nvSpPr>
            <p:cNvPr id="387" name=""/>
            <p:cNvSpPr/>
            <p:nvPr/>
          </p:nvSpPr>
          <p:spPr>
            <a:xfrm>
              <a:off x="2666880" y="4648320"/>
              <a:ext cx="15264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0080" y="4114800"/>
              <a:ext cx="15264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24280" y="4114800"/>
              <a:ext cx="15264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38480" y="4114800"/>
              <a:ext cx="15264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91120" y="3581280"/>
              <a:ext cx="15228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43200" y="3581280"/>
              <a:ext cx="15228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8080" y="3581280"/>
              <a:ext cx="15264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486400" y="3048120"/>
              <a:ext cx="15228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7600" y="3048120"/>
              <a:ext cx="15228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86000" y="3048120"/>
              <a:ext cx="15228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WordArt 6"/>
          <p:cNvSpPr txBox="1"/>
          <p:nvPr/>
        </p:nvSpPr>
        <p:spPr>
          <a:xfrm>
            <a:off x="2133720" y="228600"/>
            <a:ext cx="51814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ульские космонавты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152280" y="3352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. В. Хрун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3200400" y="33526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. В. Поля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095880" y="33526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. В. Залёт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905120" cy="23875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1905120" cy="2387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505320" y="990720"/>
            <a:ext cx="1904760" cy="23875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2"/>
          <p:cNvSpPr/>
          <p:nvPr/>
        </p:nvSpPr>
        <p:spPr>
          <a:xfrm>
            <a:off x="152280" y="3886200"/>
            <a:ext cx="8763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полётов человека в космос насчитывает чуть более пятидесяти лет, но за это короткое историческое время уже трое наших земляков побывали в космосе, причём двое из них – Валерий Поляков и Сергей Залётин путешествовали в глубины Вселенной по два раза. А первым был Евгений Васильевич Хрунов. Очень жаль, что его уже нет с нами на этой Зем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6"/>
          <p:cNvSpPr txBox="1"/>
          <p:nvPr/>
        </p:nvSpPr>
        <p:spPr>
          <a:xfrm>
            <a:off x="4267080" y="228600"/>
            <a:ext cx="33530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 В. Хрунов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2666880" y="914400"/>
            <a:ext cx="62485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затерянной среди полей Воловского района деревушки Пруды, где Е. В. Хрунов родился 10 сентября 1933 года, он дошёл до космических вершин, стал лётчиком-космонавтом, кандидатом технических наук, Героем Советского Союза, почётным гражданином Тулы, Калуги, других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377800" cy="27432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2"/>
          <p:cNvSpPr/>
          <p:nvPr/>
        </p:nvSpPr>
        <p:spPr>
          <a:xfrm>
            <a:off x="228600" y="3276720"/>
            <a:ext cx="8610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60 году он был зачислен в первый отряд космонавтов вместе с Ю.Гагариным, Г.Титовым, другими первопроходцами косм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 космический подвиг совершил 15 - 18 января 1969 года, когда взлетел на корабле "Союз-5". 37 минут провёл в открытом космосе, впервые перейдя из одного космического корабля в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гений Васильевич Хрунов ушёл из жизни 20 мая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0 года. Его именем ещё при жизни назва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а, где он учился, улица в Воло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6"/>
          <p:cNvSpPr txBox="1"/>
          <p:nvPr/>
        </p:nvSpPr>
        <p:spPr>
          <a:xfrm>
            <a:off x="4267080" y="228600"/>
            <a:ext cx="33530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. В. Поляков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2743200" y="914400"/>
            <a:ext cx="6172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лерий Владимирович Поляков по рождению туляк. Он космонавт-исследователь, врач, доктор медицинских наук. В отряде космонавтов с 1968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29 августа 1988 года по 27 апреля 1989 года в космосе провёл 241 сутк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152280" y="3124080"/>
            <a:ext cx="8763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абле "Союз-ТМ6" и орбительной станции "Мир" в качестве космонавта-исследов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8 января 1994 года по 22 марта 1995 года совершил второй полёт. Установил рекорд продолжительности – 437 суток и 18 часов, смоделировав полёт человека на Ма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, академик, Герой Советского Союза, Герой Российской Федерации, кавалер ордена Почётного Легиона (Франция), других наград, почётный гражданин Ту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443320" cy="281916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7"/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6"/>
          <p:cNvSpPr txBox="1"/>
          <p:nvPr/>
        </p:nvSpPr>
        <p:spPr>
          <a:xfrm>
            <a:off x="4267080" y="228600"/>
            <a:ext cx="33530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. В. Залетин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2666880" y="914400"/>
            <a:ext cx="6324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й Викторович Залётин родился в городе Щёкино Тульской области. Военный лётчик первого класса, полковник, герой Российской Федерац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4 апреля по 16 июня 2000 года выполнил космический полёт в кач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228600" y="30481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ира корабля "Союз-ТМ-30" и орбитального комплекса "Мир". На орбите проработал 73 дня. Совершил выход в открытый косм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30 октября по 10 ноября 2002 года совершил второй полёт в космос в качестве командира экспедиции на Международную космическую стан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валер ордена "За заслуги перед Отечеством" 4-й степени. Лауреат премии Правительства Российской Федерации за 2000 год. Депутат Тульской областной Ду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311560" cy="26668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7"/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ru.wiki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sportal.ru/ap/library/literaturnoe-tvorche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rianna-mir.com/writers_portrai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estival.1september.ru/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tulapressa.ru/2014/12/90-letnyaya-pisatelnica-natalya-parygina-nagrazhdena-medalyu-za-osobyj-vklad-v-razvitie-tulskoj-oblast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гиональный компонент на уроках родного языка в начальной школе / Н. С. Чернякова. – Тула: ИПК и ППРО ТО, 200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00 тульских достопримечательностей. – Тула: Свамия, 201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тория тульского края: Учебное пособие для начальной и средней школы / С. Н. Семушкин. – Тула: Приок. Кн. Изд-во, 2007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WordArt 4"/>
          <p:cNvSpPr txBox="1"/>
          <p:nvPr/>
        </p:nvSpPr>
        <p:spPr>
          <a:xfrm>
            <a:off x="2514600" y="228600"/>
            <a:ext cx="4876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ТЕРАТУРА</a:t>
            </a:r>
            <a:endParaRPr b="0" lang="en-US" sz="6000" spc="1" strike="noStrike">
              <a:ln w="2844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7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Прочитайте. Какие знаки стоят в конце предложения?     Почему? Спиш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олько лет от тебя я вд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твоей первозданной теплы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е бы горсточку Тульско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е бы веточку тульской полы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6483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конце первого и последнего предложений стоят точки,  в конце второго – восклица-тельный зна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6"/>
          <p:cNvSpPr txBox="1"/>
          <p:nvPr/>
        </p:nvSpPr>
        <p:spPr>
          <a:xfrm>
            <a:off x="3124080" y="228600"/>
            <a:ext cx="28195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. Л. Браун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2837160" cy="37335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2"/>
          <p:cNvSpPr/>
          <p:nvPr/>
        </p:nvSpPr>
        <p:spPr>
          <a:xfrm>
            <a:off x="2971800" y="762120"/>
            <a:ext cx="5943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н учителя. Родился  в  селе  Парахино Белёвского   уезда  Тульской  губернии  (ныне Арсеньевский район Тульской облас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ность провел в средней России, учился в школе в Орле. В 1929 окончил литературный факультет Педагогического института в Ленин-граде, где в 1926  вышел первый  сборник его сти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л учителем  и  сотрудничал в  раз-личных ленинградских журна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 время  войны  служил во флоте, позд-нее был назначен военным корреспондентом в осажденный Ленингр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яя   лирика   Брауна   написана   под влиянием  Б. Пастернака, О. Мандельштама и Н.   Тихонова.   Поздняя   поэзия   становится реалистичес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304920" y="4800600"/>
            <a:ext cx="281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902-197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сский совет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э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Спишите.  Подчеркните  подлежа-щее и сказуем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ась с ершом спорил. Карась гов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л, что можно на свете одною правдо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жить. Ерш утверждал, что нельз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3124080"/>
            <a:ext cx="7772400" cy="1219320"/>
            <a:chOff x="685800" y="3124080"/>
            <a:chExt cx="7772400" cy="1219320"/>
          </a:xfrm>
        </p:grpSpPr>
        <p:sp>
          <p:nvSpPr>
            <p:cNvPr id="87" name=""/>
            <p:cNvSpPr/>
            <p:nvPr/>
          </p:nvSpPr>
          <p:spPr>
            <a:xfrm>
              <a:off x="3429000" y="42670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29000" y="43434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14600" y="42670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" y="43434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426708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" y="38098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3733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96080" y="320040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96080" y="31240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24480" y="312408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00600" y="32004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76520" y="312408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0600" y="312408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6"/>
          <p:cNvSpPr txBox="1"/>
          <p:nvPr/>
        </p:nvSpPr>
        <p:spPr>
          <a:xfrm>
            <a:off x="1295280" y="228600"/>
            <a:ext cx="69343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. Е. Салтыков-Щедрин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819520" y="1219320"/>
            <a:ext cx="5867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ый    писатель-сатирик    Михаил Евграфович Салтыков (псевданим  Н.Щедрин) родился  15 (27)  января 1826 г. в с.Спас-Угол Калязинского     уезда    Тверской     губернии. Выходец из старинного дворянского, по матери - купеческого род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русский писатель-сатирик, автор едких  и  метких  портретов российских чинов-ников,  сам  без  малого  четверть  века отдал государственной  гражданской  службе.  Тула стала   предпоследним   городом   в   карьере генерала от сати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Туле  Салтыков  написал  памфлет на губернатора     Шидловского    "Губернатор   с фаршированной головой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0" y="46483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826-188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662200" cy="3124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рочитайте. Выпишите словосоче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ляки – люди умные  и  сведующие  в металлическом деле… Тульские мастера… в   это   время   свою   работу    оканчивали. Вынесли  из-за  печки  шкатулку…, а  в ней блоха лежи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6576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юди умные, люди сведающие, сведающие в  деле,  в  металлическом  деле,  тульские мастера, оканчивали работу, оканчивали в это   время,   свою   работу,  вынесли  из-за печки, вынесли шкатулку, лежит  в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6"/>
          <p:cNvSpPr txBox="1"/>
          <p:nvPr/>
        </p:nvSpPr>
        <p:spPr>
          <a:xfrm>
            <a:off x="3962520" y="228600"/>
            <a:ext cx="3581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. С. Лесков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2819520" y="838080"/>
            <a:ext cx="60195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усский писатель Николай Семенович Лес-ков родился 4 (16) февраля 1831 г. в с. Горохово Орловской губернии, в семье мелкого чиновника. Проза  и  публицистика  этого  своеобразного ху-дожника-реалиста  вошли  в  сокровищницу рус-ской литературы 2-й половины XIX века, отразив широкую картину российской действительности, жизнь русского наро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.С. Лесков бывал и в Тульском крае. Поз-накомившись в 1887 г. в Москве с Л.Н. Толстым, он  в   1890  г.   приезжал   в   Ясную   Поляну.  С Тульским краем, конкретно с Тулой, связано одно из     лучших     произведений    Н. С.  Лескова  –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"Сказ о Тульском косом Левше и о стальной блохе" (1881г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0" y="32767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831-189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327040" cy="287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1908000" cy="19335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7:47:06Z</dcterms:created>
  <dc:creator>Нинель</dc:creator>
  <dc:description/>
  <dc:language>en-US</dc:language>
  <cp:lastModifiedBy>пользова</cp:lastModifiedBy>
  <dcterms:modified xsi:type="dcterms:W3CDTF">2015-10-15T15:17:44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