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D16-6326-4F3F-95D4-889F2D32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7D4-C1DE-4E01-8B3E-5C5C3B0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2CD-31AE-4E20-A9B0-39015159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954-8280-48D5-8650-843C8881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623D-ABF7-4902-B651-4903C7AD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65BB-5356-4401-8AF7-53E6A45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C11-6458-4D82-8E76-94F33197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60D-F91B-4C1E-B50D-BC76CF10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AEED-AA51-4791-A841-6E34B351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5484-5B7F-4FE2-BA8A-A31C8AE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584A-B497-4DC2-95F4-DB1DAE7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BAC-1638-41F3-AF26-A867E7E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8DAB-5845-4178-933E-0238388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6D3-4230-44AC-977A-D3AB2CC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322-2A4B-4AAE-BCCE-67DBDB5A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CF2-A9D6-48D5-8C1B-89DFB6A7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E76A-4784-4A77-8CFB-C8F3F7A6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0E6-6D33-4ADC-89E2-3968436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9FB-67A6-4375-B870-DE52664D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452-70DB-492D-8759-C03BF1CE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57A-7389-400F-ACB1-EB329B05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6EA-A2AA-4892-A855-59B04D5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7C0-4CB9-4432-9F40-75B1784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F9F-6BA0-464F-8B5C-707D4B7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E4D9-5844-46D7-828A-32DFB2C439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FE48-73F7-4789-8695-7E24B84340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ссийские учёные-биолог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х вклад в наук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ван Михайлович Сечен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29-1905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083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дающийся русский физиолог и мыслитель-материалист, создатель физиологической школы; заслуженный ординарный профессор, член-корреспондент по биологическому разряду (1869—1904), почётный член (1904) Императорской Академии наук. Открыл явления центрального торможения, суммации в нервной системе, установил наличие ритмических биоэлектрических процессов в центральной нервной системе, обосновал значение процессов обмена веществ в осуществлении возбуждения. Исследовал дыхательную функцию крови. Создатель объективной теории поведения, заложил основы физиологии труда, возрастной, сравнительной и эволюционной физиологии. Труды Сеченова оказали большое влияние на развитие естествознания и теории познания. Кроме того, он установил закон растворимости газов в водных растворах электроли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лья Ильич Мечник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45-1916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1471680"/>
            <a:ext cx="7561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ссийский и французский биолог (зоолог, эмбриолог, иммунолог, физиолог и патолог). Один из основоположников эволюционной эмбриологии, первооткрыватель фагоцитоза и внутриклеточного пищеварения, создатель сравнительной патологии воспаления, фагоцитарной теории иммунитета, основатель научной геронтологии. Лауреат Нобелевской премии в области физиологии и медицины (1908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имирязев Климент Аркадьев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1843-192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594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ий ботаник-физиолог. По окончании Петербургского университета продолжил научную деятельность под рук. А. Н. Бекетова. Его основная научная заслуга состояла в экспериментальной и теоретической разработке проблемы фотосинтеза растений. Высказал ряд теоретических положений по различным разделам физиологии растений: о водном режиме, минеральном питании и пр. Имя Тимирязева присвоено бывшей Петровской сельскохозяйственной академии и Институту физиологии растений в Моск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иколай Иванович Вавило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87-194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62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й и советский учёный-генетик, ботаник, селекционер, географ, академик АН СССР, АН УССР и ВАСХНИЛ[2]. Президент (1929—1935), вице-президент (1935—1940) ВАСХНИЛ, президент Всесоюзного географического общества (1931—1940), основатель (1920) и бессменный до момента ареста директор Всесоюзного института растениеводства (1930—1940), директор Института генетики АН СССР (1930—1940), член Экспедиционной комиссии АН СССР, член коллегии Наркомзема СССР, член президиума Всесоюзной ассоциации востоковедения. В 1926—1935 годах член Центрального исполнительного комитета СССР, в 1927—1929 — член Всероссийского Центрального Исполнительного Комит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ван Петрович Павл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49-1936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849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ин из авторитетнейших учёных России, физиолог, психолог, создатель науки о высшей нервной деятельности и представлений о процессах регуляции пищеварения; основатель крупнейшей российской физиологической школы; лауреат Нобелевской премии в области медицины и физиологии 1904 года «за работу по физиологии пищеваре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рл Эрнст фон Бэр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792-1876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28 году появился в печати первый том знаменитой «Истории развития животных». Бэр, изучая эмбриологию цыплёнка, наблюдал ту раннюю стадию развития, когда на зародышевой пластинке образуются два параллельных валика, впоследствии смыкающиеся и образующие мозговую трубку. Бэр считал, что в процессе развития каждое новое образование возникает из более простой предсуществующей основы. Таким образом, в зародыше появляются сначала общие основы, и из них обособляются всё более и более специальные части. Этот процесс постепенного движения от общего к специальному известен под именем дифференциации. В 1826 году Бэр открыл яйцеклетку млекопитающих. Это открытие было им обнародовано в форме послания на имя Санкт-Петербургской академии наук, которая избрала его своим членом-корреспондентом. Другая очень важная находка, сделанная Бэром, — это открытие спинной струны (хорды), основы внутреннего скелета позвон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иколай Алексеевич Северцов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1827-1885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708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ель, описавший ряд зоологических таксонов. Для указания авторства, названия этих таксонов сопровождают обозначением «Severtzov». За последние 6 лет жизни Северцов напечатал несколько работ: «О пролетных путях птиц через Туркестан», о помесях в группе уток, монография орлов (для которой он собирал материалы с 1857 г.), и, наконец, «Распределение птиц палеарктической области» (приготовлено к печати, но осталось в рукописи). В своей научной деятельности Северцов является, во-первых, как путешественник-исследователь, самостоятельно изучивший громадный участок Средней Азии и открывший здесь много нового, до него неизвестного, во-вторых — как учёный: Северцов с большим талантом и широтой взгляда обработал очень большой, лично им добытый материал и сделал на основании этих наблюдений весьма общие и тщательно проверенные вы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ладимир Иванович Вернадский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63-1945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60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м делом его жизни стало учение о биосфере Земли (1926), вызвавшее напряженные споры, но вошедшее с тех пор в научный лексикон всей планеты. Биосферой Вернадский называл оболочку Земли, где протекают биохимические процессы. По мысли Вернадского, в результате человеческой деятельности биосфера перейдет в новое состояние - ноосферу, то есть сферу разума, когда люди будут не только черпать из нее ресурсы, но и преобразовывать ее для умножения взятого. Труды Вернадского принципиально изменили научное мировоззрение XX 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ван Владимирович Мичурин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55-1935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218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ский биолог и селекционер, автор многих сортов плодово-ягодных культур, доктор биологии, заслуженный деятель науки и техники, почётный член АН СССР (1935), академик ВАСХНИЛ (1935). Награждён орденами Св. Анны 3-й степени (1913), Ленина (1931) и Трудового Красного Знамени. Три прижизненных издания собраний сочи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32:13Z</dcterms:created>
  <dc:creator>никита</dc:creator>
  <dc:description/>
  <dc:language>en-US</dc:language>
  <cp:lastModifiedBy>никита</cp:lastModifiedBy>
  <dcterms:modified xsi:type="dcterms:W3CDTF">2011-03-22T20:35:14Z</dcterms:modified>
  <cp:revision>2</cp:revision>
  <dc:subject/>
  <dc:title>Российские учёные-биологи.</dc:title>
</cp:coreProperties>
</file>