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28-6FF8-41F0-8B93-590EB8A9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DA2-3854-4C49-85DD-B708F5F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D43-95D7-4425-B823-150DDEA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5DA-B066-4401-81AE-BEB86E8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887-B750-4AB1-A3D4-110AFFB3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94E-5AA7-4906-A65D-5E62D20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FF6-CC2B-4A70-9BF1-9B500A57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D04F-78D7-4C43-A768-689A5DA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685-CDE4-42F4-90C6-9556F85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7079-F80C-477F-88EF-25C74E45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4710-042D-4849-8400-D8A5BAC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F4A-2065-4EEE-B0C6-9D26EB01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8A0-7BCC-44DB-9197-8C1C32C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8EA8-8736-43B2-A72A-44CC89D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29E-6637-41F4-8EEB-22C34DA0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D203-8EA7-44D7-B32E-AC9BB3B2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2532-54A3-466D-BD03-BC4BC358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2C4-844A-4B0D-9047-3226DBE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D37-E98F-45F3-91A3-211FA5E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567-790C-44E2-8960-AA5AC7AC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62F-34C6-49E5-9C08-D55B205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8FF-FBEE-4C8C-88F7-0A46F517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01A-A69D-499C-BB12-1056C8F4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E6C-C431-40E4-9577-ADED35F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DCF-AC49-4B38-B587-32493CA71C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B08-0B0A-4266-A63B-50686A8B82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ссийские учёные-биолог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х вклад в наук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Михайлович Сечен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29-190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дающийся русский физиолог и мыслитель-материалист, создатель физиологической школы; заслуженный ординарный профессор, член-корреспондент по биологическому разряду (1869—1904), почётный член (1904) Императорской Академии наук. Открыл явления центрального торможения, суммации в нервной системе, установил наличие ритмических биоэлектрических процессов в центральной нервной системе, обосновал значение процессов обмена веществ в осуществлении возбуждения. Исследовал дыхательную функцию крови. Создатель объективной теории поведения, заложил основы физиологии труда, возрастной, сравнительной и эволюционной физиологии. Труды Сеченова оказали большое влияние на развитие естествознания и теории познания. Кроме того, он установил закон растворимости газов в водных растворах электроли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лья Ильич Мечник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45-191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471680"/>
            <a:ext cx="7561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ссийский и французский биолог (зоолог, эмбриолог, иммунолог, физиолог и патолог). Один из основоположников эволюционной эмбриологии, первооткрыватель фагоцитоза и внутриклеточного пищеварения, создатель сравнительной патологии воспаления, фагоцитарной теории иммунитета, основатель научной геронтологии. Лауреат Нобелевской премии в области физиологии и медицины (1908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имирязев Климент Аркадье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843-192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594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ий ботаник-физиолог. По окончании Петербургского университета продолжил научную деятельность под рук. А. Н. Бекетова. Его основная научная заслуга состояла в экспериментальной и теоретической разработке проблемы фотосинтеза растений. Высказал ряд теоретических положений по различным разделам физиологии растений: о водном режиме, минеральном питании и пр. Имя Тимирязева присвоено бывшей Петровской сельскохозяйственной академии и Институту физиологии растений в Моск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иколай Иванович Вавило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87-194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62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й и советский учёный-генетик, ботаник, селекционер, географ, академик АН СССР, АН УССР и ВАСХНИЛ[2]. Президент (1929—1935), вице-президент (1935—1940) ВАСХНИЛ, президент Всесоюзного географического общества (1931—1940), основатель (1920) и бессменный до момента ареста директор Всесоюзного института растениеводства (1930—1940), директор Института генетики АН СССР (1930—1940), член Экспедиционной комиссии АН СССР, член коллегии Наркомзема СССР, член президиума Всесоюзной ассоциации востоковедения. В 1926—1935 годах член Центрального исполнительного комитета СССР, в 1927—1929 — член Всероссийского Центрального Исполнительного Комит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Петрович Павл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49-193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849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ин из авторитетнейших учёных России, физиолог, психолог, создатель науки о высшей нервной деятельности и представлений о процессах регуляции пищеварения; основатель крупнейшей российской физиологической школы; лауреат Нобелевской премии в области медицины и физиологии 1904 года «за работу по физиологии пищеваре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рл Эрнст фон Бэр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792-187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28 году появился в печати первый том знаменитой «Истории развития животных». Бэр, изучая эмбриологию цыплёнка, наблюдал ту раннюю стадию развития, когда на зародышевой пластинке образуются два параллельных валика, впоследствии смыкающиеся и образующие мозговую трубку. Бэр считал, что в процессе развития каждое новое образование возникает из более простой предсуществующей основы. Таким образом, в зародыше появляются сначала общие основы, и из них обособляются всё более и более специальные части. Этот процесс постепенного движения от общего к специальному известен под именем дифференциации. В 1826 году Бэр открыл яйцеклетку млекопитающих. Это открытие было им обнародовано в форме послания на имя Санкт-Петербургской академии наук, которая избрала его своим членом-корреспондентом. Другая очень важная находка, сделанная Бэром, — это открытие спинной струны (хорды), основы внутреннего скелета позвон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олай Алексеевич Северц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827-188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ель, описавший ряд зоологических таксонов. Для указания авторства, названия этих таксонов сопровождают обозначением «Severtzov». За последние 6 лет жизни Северцов напечатал несколько работ: «О пролетных путях птиц через Туркестан», о помесях в группе уток, монография орлов (для которой он собирал материалы с 1857 г.), и, наконец, «Распределение птиц палеарктической области» (приготовлено к печати, но осталось в рукописи). В своей научной деятельности Северцов является, во-первых, как путешественник-исследователь, самостоятельно изучивший громадный участок Средней Азии и открывший здесь много нового, до него неизвестного, во-вторых — как учёный: Северцов с большим талантом и широтой взгляда обработал очень большой, лично им добытый материал и сделал на основании этих наблюдений весьма общие и тщательно проверенные вы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ладимир Иванович Вернадски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63-1945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60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м делом его жизни стало учение о биосфере Земли (1926), вызвавшее напряженные споры, но вошедшее с тех пор в научный лексикон всей планеты. Биосферой Вернадский называл оболочку Земли, где протекают биохимические процессы. По мысли Вернадского, в результате человеческой деятельности биосфера перейдет в новое состояние - ноосферу, то есть сферу разума, когда люди будут не только черпать из нее ресурсы, но и преобразовывать ее для умножения взятого. Труды Вернадского принципиально изменили научное мировоззрение XX 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Владимирович Мичурин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55-193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218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ский биолог и селекционер, автор многих сортов плодово-ягодных культур, доктор биологии, заслуженный деятель науки и техники, почётный член АН СССР (1935), академик ВАСХНИЛ (1935). Награждён орденами Св. Анны 3-й степени (1913), Ленина (1931) и Трудового Красного Знамени. Три прижизненных издания собраний соч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32:13Z</dcterms:created>
  <dc:creator>никита</dc:creator>
  <dc:description/>
  <dc:language>en-US</dc:language>
  <cp:lastModifiedBy>никита</cp:lastModifiedBy>
  <dcterms:modified xsi:type="dcterms:W3CDTF">2011-03-22T20:35:14Z</dcterms:modified>
  <cp:revision>2</cp:revision>
  <dc:subject/>
  <dc:title>Российские учёные-биологи.</dc:title>
</cp:coreProperties>
</file>