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AAA-7B72-4B69-AE51-112DBA3D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378-F301-4794-9766-36480384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B9D-3770-49C5-86A7-8E0A391B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81F-D5E8-4954-8FCF-2E1A97F6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F25-CAB3-4A02-BAA5-193D5CF1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3BEE-9FDD-4C0C-8CF0-AF15FB5C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A37B-2200-4CE2-B4D8-FD9F52D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A447-7C77-478D-BD42-E56470D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59D7-9F07-4DA5-A6BC-0115725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F76F-ADF2-467B-9AE1-BAD50C1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6C0D-DF72-443B-889E-7DD20103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FC3-3605-4136-AD54-8C4C4C1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0A6-27EE-4D23-8DD2-9C9A51B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38BF-C5F2-4922-98A5-76FF3512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513-5599-40DC-BCC8-F3B0D700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70B3-4592-4B2A-8DA1-F326FFC6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D1F0-7CC9-4572-A938-6C974806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898B-F873-45A1-A6BF-AA9C3131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060F-28EE-440A-83E2-08FCD38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3F4A-8315-4501-945B-1795ADB4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9D6F-EEE2-4C11-A594-92ED9997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67A8-B10B-44D1-A49C-7D34780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1D8-DFC6-4A3C-AF80-6AB61BD8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521A-0407-431C-A3A9-868EAD7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CE93-581A-4E22-B07D-64B8A395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0349-5FA1-4F33-8096-4303E47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8909-00FB-4788-AA5C-B1AF2FA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558D-3B02-4BC6-A9E8-9FD292ED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9D4C-4738-4419-829B-926AA8E2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2084-EFD3-4C2E-B0FF-36490EFF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066E-4F0B-4B30-8671-70C5ABF9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1B58-BA94-48FC-9B0B-E3B079AC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DB5D-4F52-4B5F-BCB7-E76ED591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B4A-09EA-4A87-93A6-D56BB2C9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C8F9-9A10-47B9-8D4F-7F227E6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775B-413B-4CD7-AA71-CA201E95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AA51-5E83-448D-9E65-920E1A0B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47D9-5904-49DE-975D-DA59200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E2EC-C2F9-4442-8D04-38F019B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A979-C5D4-4AFD-9112-23EE7E6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B0E9-CF33-419F-AA5D-D14D1A9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6CB4-A14D-4A9F-B4F2-147DBEFF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DC64-8D0A-4519-A407-42770050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C2B-DFFA-46A3-9955-5156977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341-143F-48D2-8E3F-1EA762D2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260-EAB0-4B4F-BB67-47E6C2B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561-AD81-4204-AADC-3658C30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D4F-6C17-4999-A9DC-8891652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86C7-790B-409E-81BD-E2EDBD2C9C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9D6-E644-40B6-8DF8-BA1F9995DA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83D-D675-4D2F-B7A5-CDC8057C79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262-F686-460F-B17D-2D7EC8F13A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6178680" y="857160"/>
            <a:ext cx="57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7186680" y="857160"/>
            <a:ext cx="743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4881600" y="857160"/>
            <a:ext cx="79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714680" y="8571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865600" y="85716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873600" y="85716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7c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3" descr="C:\Users\Владелец\AppData\Local\Microsoft\Windows\Temporary Internet Files\Content.IE5\WT9IOB9I\MCj03521820000[1].wmf"/>
          <p:cNvPicPr/>
          <p:nvPr/>
        </p:nvPicPr>
        <p:blipFill>
          <a:blip r:embed="rId1"/>
          <a:stretch/>
        </p:blipFill>
        <p:spPr>
          <a:xfrm>
            <a:off x="3786120" y="4429080"/>
            <a:ext cx="13240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4.10405E-006 L -0.56302 4.10405E-006 E">
                                      <p:cBhvr>
                                        <p:cTn id="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5434 4.10405E-006 E">
                                      <p:cBhvr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L -0.14166 6.7052E-006 E">
                                      <p:cBhvr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10405E-006 L 0.42135 4.10405E-006 E">
                                      <p:cBhvr>
                                        <p:cTn id="12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62428E-007 L 0.42517 4.62428E-007 E">
                                      <p:cBhvr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4.91329E-006 L 0.42518 -4.91329E-006 E">
                                      <p:cBhvr>
                                        <p:cTn id="16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3440160" y="428760"/>
            <a:ext cx="1825200" cy="642600"/>
          </a:xfrm>
          <a:prstGeom prst="rect">
            <a:avLst/>
          </a:prstGeom>
          <a:gradFill rotWithShape="0">
            <a:gsLst>
              <a:gs pos="0">
                <a:srgbClr val="b6d2fa"/>
              </a:gs>
              <a:gs pos="100000">
                <a:srgbClr val="eaf2fe"/>
              </a:gs>
            </a:gsLst>
            <a:lin ang="16200000"/>
          </a:gra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D:\3 класс\окружайка\семейный бюджет\eda70.png"/>
          <p:cNvPicPr/>
          <p:nvPr/>
        </p:nvPicPr>
        <p:blipFill>
          <a:blip r:embed="rId1"/>
          <a:stretch/>
        </p:blipFill>
        <p:spPr>
          <a:xfrm>
            <a:off x="2928960" y="3286080"/>
            <a:ext cx="3214800" cy="29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2789640" y="785880"/>
            <a:ext cx="2986560" cy="581400"/>
          </a:xfrm>
          <a:prstGeom prst="rect">
            <a:avLst/>
          </a:prstGeom>
          <a:gradFill rotWithShape="0">
            <a:gsLst>
              <a:gs pos="0">
                <a:srgbClr val="ffbbd0"/>
              </a:gs>
              <a:gs pos="100000">
                <a:srgbClr val="ffebf1"/>
              </a:gs>
            </a:gsLst>
            <a:lin ang="16200000"/>
          </a:gradFill>
          <a:ln w="9360">
            <a:solidFill>
              <a:srgbClr val="cd8da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жда и обу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D:\3 класс\окружайка\семейный бюджет\одежда.png"/>
          <p:cNvPicPr/>
          <p:nvPr/>
        </p:nvPicPr>
        <p:blipFill>
          <a:blip r:embed="rId1"/>
          <a:stretch/>
        </p:blipFill>
        <p:spPr>
          <a:xfrm>
            <a:off x="1785960" y="1571760"/>
            <a:ext cx="5786280" cy="511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2295720" y="1285920"/>
            <a:ext cx="4420440" cy="581400"/>
          </a:xfrm>
          <a:prstGeom prst="rect">
            <a:avLst/>
          </a:prstGeom>
          <a:gradFill rotWithShape="0">
            <a:gsLst>
              <a:gs pos="0">
                <a:srgbClr val="d9eac6"/>
              </a:gs>
              <a:gs pos="100000">
                <a:srgbClr val="f4faef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альные 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D:\3 класс\окружайка\семейный бюджет\ванна.png"/>
          <p:cNvPicPr/>
          <p:nvPr/>
        </p:nvPicPr>
        <p:blipFill>
          <a:blip r:embed="rId1"/>
          <a:stretch/>
        </p:blipFill>
        <p:spPr>
          <a:xfrm>
            <a:off x="2786040" y="2571840"/>
            <a:ext cx="328788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2926800" y="1000080"/>
            <a:ext cx="2884320" cy="520560"/>
          </a:xfrm>
          <a:prstGeom prst="rect">
            <a:avLst/>
          </a:prstGeom>
          <a:gradFill rotWithShape="0">
            <a:gsLst>
              <a:gs pos="0">
                <a:srgbClr val="ffbbd0"/>
              </a:gs>
              <a:gs pos="100000">
                <a:srgbClr val="ffebf1"/>
              </a:gs>
            </a:gsLst>
            <a:lin ang="16200000"/>
          </a:gradFill>
          <a:ln w="9360">
            <a:solidFill>
              <a:srgbClr val="cd8da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ьтурный дос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D:\3 класс\окружайка\семейный бюджет\досуг.png"/>
          <p:cNvPicPr/>
          <p:nvPr/>
        </p:nvPicPr>
        <p:blipFill>
          <a:blip r:embed="rId1"/>
          <a:stretch/>
        </p:blipFill>
        <p:spPr>
          <a:xfrm>
            <a:off x="1428840" y="2643120"/>
            <a:ext cx="5838840" cy="37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214200" y="1214280"/>
            <a:ext cx="87156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4c376b"/>
                </a:solidFill>
                <a:latin typeface="+mn-lt"/>
              </a:rPr>
              <a:t>Семейная экономика -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4c376b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4c376b"/>
                </a:solidFill>
                <a:latin typeface="+mn-lt"/>
              </a:rPr>
              <a:t>это правильное ведение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4c376b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4c376b"/>
                </a:solidFill>
                <a:latin typeface="+mn-lt"/>
              </a:rPr>
              <a:t>семейного хозяйства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4c376b"/>
              </a:solidFill>
              <a:latin typeface="+mn-lt"/>
              <a:ea typeface="+mn-l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4"/>
          <p:cNvSpPr/>
          <p:nvPr/>
        </p:nvSpPr>
        <p:spPr>
          <a:xfrm>
            <a:off x="285840" y="2000160"/>
            <a:ext cx="800100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я из дома, не забывайте выключать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я новую игрушку, подумай о семейном бюдж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и у родителей новую игрушку к каждому празд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я семейный бюджет – откажись от экскурсии в м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одил в магазин, оставь сдачу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жно относись к своим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минай родителям о своевременной оплате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пользуйтесь услугами так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уйтесь услугами доставки горячей пиц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разговаривай по сотовому телефону с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142920" y="642960"/>
            <a:ext cx="885816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йте семейный бюджет исходя из дох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D:\3 класс\окружайка\семейный бюджет\работа.png"/>
          <p:cNvPicPr/>
          <p:nvPr/>
        </p:nvPicPr>
        <p:blipFill>
          <a:blip r:embed="rId1"/>
          <a:stretch/>
        </p:blipFill>
        <p:spPr>
          <a:xfrm>
            <a:off x="2500200" y="1714680"/>
            <a:ext cx="4718160" cy="42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5" descr="D:\3 класс\окружайка\семейный бюджет\девочка.png"/>
          <p:cNvPicPr/>
          <p:nvPr/>
        </p:nvPicPr>
        <p:blipFill>
          <a:blip r:embed="rId1"/>
          <a:stretch/>
        </p:blipFill>
        <p:spPr>
          <a:xfrm>
            <a:off x="0" y="3143160"/>
            <a:ext cx="2071800" cy="259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D:\3 класс\окружайка\семейный бюджет\скрипка.png"/>
          <p:cNvPicPr/>
          <p:nvPr/>
        </p:nvPicPr>
        <p:blipFill>
          <a:blip r:embed="rId2"/>
          <a:stretch/>
        </p:blipFill>
        <p:spPr>
          <a:xfrm>
            <a:off x="1714680" y="1643040"/>
            <a:ext cx="4500360" cy="182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D:\3 класс\окружайка\семейный бюджет\лыжник.png"/>
          <p:cNvPicPr/>
          <p:nvPr/>
        </p:nvPicPr>
        <p:blipFill>
          <a:blip r:embed="rId3"/>
          <a:stretch/>
        </p:blipFill>
        <p:spPr>
          <a:xfrm>
            <a:off x="1928880" y="3357720"/>
            <a:ext cx="4381560" cy="3333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D:\3 класс\окружайка\семейный бюджет\sobaka83.png"/>
          <p:cNvPicPr/>
          <p:nvPr/>
        </p:nvPicPr>
        <p:blipFill>
          <a:blip r:embed="rId4"/>
          <a:stretch/>
        </p:blipFill>
        <p:spPr>
          <a:xfrm>
            <a:off x="6143760" y="3000240"/>
            <a:ext cx="2538360" cy="3243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8"/>
          <p:cNvSpPr/>
          <p:nvPr/>
        </p:nvSpPr>
        <p:spPr>
          <a:xfrm>
            <a:off x="3299760" y="357120"/>
            <a:ext cx="3009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у помо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9"/>
          <p:cNvSpPr txBox="1"/>
          <p:nvPr/>
        </p:nvSpPr>
        <p:spPr>
          <a:xfrm>
            <a:off x="5500800" y="4357800"/>
            <a:ext cx="2859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55475"/>
                </a:solidFill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55475"/>
              </a:solidFill>
              <a:latin typeface="Arial"/>
              <a:ea typeface="Arial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785880" y="450072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55475"/>
                </a:solidFill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55475"/>
              </a:solidFill>
              <a:latin typeface="Arial"/>
              <a:ea typeface="Arial"/>
            </a:endParaRPr>
          </a:p>
        </p:txBody>
      </p:sp>
      <p:pic>
        <p:nvPicPr>
          <p:cNvPr id="173" name="Picture 3" descr="C:\Users\Владелец\AppData\Local\Microsoft\Windows\Temporary Internet Files\Content.IE5\WT9IOB9I\MCj03521820000[1].wmf"/>
          <p:cNvPicPr/>
          <p:nvPr/>
        </p:nvPicPr>
        <p:blipFill>
          <a:blip r:embed="rId1"/>
          <a:stretch/>
        </p:blipFill>
        <p:spPr>
          <a:xfrm>
            <a:off x="3786120" y="1643040"/>
            <a:ext cx="1324080" cy="164304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9"/>
          <p:cNvCxnSpPr/>
          <p:nvPr/>
        </p:nvCxnSpPr>
        <p:spPr>
          <a:xfrm flipV="1">
            <a:off x="1285920" y="3071160"/>
            <a:ext cx="19296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10"/>
          <p:cNvCxnSpPr/>
          <p:nvPr/>
        </p:nvCxnSpPr>
        <p:spPr>
          <a:xfrm>
            <a:off x="5286240" y="2857320"/>
            <a:ext cx="2144160" cy="12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357120" y="260280"/>
            <a:ext cx="83901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eb160"/>
                </a:solidFill>
                <a:latin typeface="Arial"/>
              </a:rPr>
              <a:t>Семейный бюджет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eb160"/>
              </a:solidFill>
              <a:latin typeface="Arial"/>
              <a:ea typeface="Arial"/>
            </a:endParaRPr>
          </a:p>
        </p:txBody>
      </p:sp>
      <p:pic>
        <p:nvPicPr>
          <p:cNvPr id="177" name="Picture 8" descr="D:\3 класс\окружайка\бюджет\семья.jpg"/>
          <p:cNvPicPr/>
          <p:nvPr/>
        </p:nvPicPr>
        <p:blipFill>
          <a:blip r:embed="rId1"/>
          <a:stretch/>
        </p:blipFill>
        <p:spPr>
          <a:xfrm>
            <a:off x="2500200" y="2928960"/>
            <a:ext cx="4050000" cy="221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000080" y="285840"/>
          <a:ext cx="7067520" cy="5851440"/>
        </p:xfrm>
        <a:graphic>
          <a:graphicData uri="http://schemas.openxmlformats.org/drawingml/2006/table">
            <a:tbl>
              <a:tblPr/>
              <a:tblGrid>
                <a:gridCol w="3529080"/>
                <a:gridCol w="3538440"/>
              </a:tblGrid>
              <a:tr h="90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55475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55475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WordArt 41"/>
          <p:cNvSpPr txBox="1"/>
          <p:nvPr/>
        </p:nvSpPr>
        <p:spPr>
          <a:xfrm>
            <a:off x="5572080" y="278604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42"/>
          <p:cNvSpPr txBox="1"/>
          <p:nvPr/>
        </p:nvSpPr>
        <p:spPr>
          <a:xfrm>
            <a:off x="1857240" y="2857680"/>
            <a:ext cx="1729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571680" y="428760"/>
            <a:ext cx="70722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153a1"/>
                </a:solidFill>
                <a:latin typeface="Impact"/>
              </a:rPr>
              <a:t>доход семьи</a:t>
            </a:r>
            <a:endParaRPr b="0" lang="en-US" sz="1800" spc="1" strike="noStrike">
              <a:ln w="0">
                <a:noFill/>
              </a:ln>
              <a:solidFill>
                <a:srgbClr val="7153a1"/>
              </a:solidFill>
              <a:latin typeface="Impact"/>
              <a:ea typeface="Impact"/>
            </a:endParaRPr>
          </a:p>
        </p:txBody>
      </p:sp>
      <p:pic>
        <p:nvPicPr>
          <p:cNvPr id="182" name="Picture 8" descr="D:\3 класс\окружайка\бюджет\семья.jpg"/>
          <p:cNvPicPr/>
          <p:nvPr/>
        </p:nvPicPr>
        <p:blipFill>
          <a:blip r:embed="rId1"/>
          <a:stretch/>
        </p:blipFill>
        <p:spPr>
          <a:xfrm>
            <a:off x="4714920" y="2643120"/>
            <a:ext cx="4049640" cy="221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3" name="TextBox 13"/>
          <p:cNvSpPr/>
          <p:nvPr/>
        </p:nvSpPr>
        <p:spPr>
          <a:xfrm>
            <a:off x="371520" y="1571760"/>
            <a:ext cx="32288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363960" y="2286000"/>
            <a:ext cx="1531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н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366480" y="2928960"/>
            <a:ext cx="2046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пе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363600" y="3571920"/>
            <a:ext cx="167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о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360000" y="4357800"/>
            <a:ext cx="11638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365040" y="5000760"/>
            <a:ext cx="1931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366840" y="5715000"/>
            <a:ext cx="1752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285920" y="303120"/>
          <a:ext cx="6718320" cy="5983560"/>
        </p:xfrm>
        <a:graphic>
          <a:graphicData uri="http://schemas.openxmlformats.org/drawingml/2006/table">
            <a:tbl>
              <a:tblPr/>
              <a:tblGrid>
                <a:gridCol w="3529080"/>
                <a:gridCol w="318924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44e6d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44e6d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6633"/>
                          </a:solidFill>
                          <a:latin typeface="Monotype Corsiva"/>
                          <a:ea typeface="Times New Roman"/>
                        </a:rPr>
                        <a:t>  </a:t>
                      </a:r>
                      <a:r>
                        <a:rPr b="0" lang="ru-RU" sz="4000" spc="-1" strike="noStrike">
                          <a:solidFill>
                            <a:srgbClr val="222613"/>
                          </a:solidFill>
                          <a:latin typeface="Calibri"/>
                          <a:ea typeface="Times New Roman"/>
                        </a:rPr>
                        <a:t>зарплата пенсия стипендия пособие проценты рен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222613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222613"/>
                          </a:solidFill>
                          <a:latin typeface="Calibri"/>
                          <a:ea typeface="Times New Roman"/>
                        </a:rPr>
                        <a:t>прибы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WordArt 26" descr=""/>
          <p:cNvPicPr/>
          <p:nvPr/>
        </p:nvPicPr>
        <p:blipFill>
          <a:blip r:embed="rId1"/>
          <a:stretch/>
        </p:blipFill>
        <p:spPr>
          <a:xfrm>
            <a:off x="5473800" y="2620800"/>
            <a:ext cx="1817640" cy="2372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42960" y="274680"/>
          <a:ext cx="8250120" cy="6300720"/>
        </p:xfrm>
        <a:graphic>
          <a:graphicData uri="http://schemas.openxmlformats.org/drawingml/2006/table">
            <a:tbl>
              <a:tblPr/>
              <a:tblGrid>
                <a:gridCol w="3000240"/>
                <a:gridCol w="524988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c376b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c376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Box 13"/>
          <p:cNvSpPr/>
          <p:nvPr/>
        </p:nvSpPr>
        <p:spPr>
          <a:xfrm>
            <a:off x="4152960" y="1928880"/>
            <a:ext cx="44204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альные плат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714960" y="1833480"/>
            <a:ext cx="2843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774720" y="2405160"/>
            <a:ext cx="1360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н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752400" y="2976480"/>
            <a:ext cx="1808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пе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793080" y="3571920"/>
            <a:ext cx="1485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о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789480" y="4214880"/>
            <a:ext cx="10386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794520" y="4857840"/>
            <a:ext cx="1707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795240" y="5500800"/>
            <a:ext cx="1552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3864240" y="2571840"/>
            <a:ext cx="13374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о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3793680" y="3214800"/>
            <a:ext cx="1460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3783960" y="3857760"/>
            <a:ext cx="2884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ьтурный дос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4"/>
          <p:cNvSpPr/>
          <p:nvPr/>
        </p:nvSpPr>
        <p:spPr>
          <a:xfrm>
            <a:off x="3795120" y="4500720"/>
            <a:ext cx="1557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5"/>
          <p:cNvSpPr/>
          <p:nvPr/>
        </p:nvSpPr>
        <p:spPr>
          <a:xfrm>
            <a:off x="3796200" y="5072040"/>
            <a:ext cx="2219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теше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6"/>
          <p:cNvSpPr/>
          <p:nvPr/>
        </p:nvSpPr>
        <p:spPr>
          <a:xfrm>
            <a:off x="5583240" y="2571840"/>
            <a:ext cx="254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товая 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6363000" y="5072040"/>
            <a:ext cx="14547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б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8"/>
          <p:cNvSpPr/>
          <p:nvPr/>
        </p:nvSpPr>
        <p:spPr>
          <a:xfrm>
            <a:off x="5718600" y="4429080"/>
            <a:ext cx="26312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ежда и обу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9"/>
          <p:cNvSpPr/>
          <p:nvPr/>
        </p:nvSpPr>
        <p:spPr>
          <a:xfrm>
            <a:off x="5428080" y="3214800"/>
            <a:ext cx="1828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0"/>
          <p:cNvSpPr/>
          <p:nvPr/>
        </p:nvSpPr>
        <p:spPr>
          <a:xfrm>
            <a:off x="3875400" y="5715000"/>
            <a:ext cx="4258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c8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меты лич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6"/>
          <p:cNvSpPr/>
          <p:nvPr/>
        </p:nvSpPr>
        <p:spPr>
          <a:xfrm>
            <a:off x="1785960" y="1000080"/>
            <a:ext cx="58579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ходы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расход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1785960" y="2241720"/>
            <a:ext cx="60008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ходы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рас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1857240" y="3500280"/>
            <a:ext cx="57769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ходы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&lt;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рас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568320" y="1071720"/>
            <a:ext cx="2066040" cy="581400"/>
          </a:xfrm>
          <a:prstGeom prst="rect">
            <a:avLst/>
          </a:prstGeom>
          <a:gradFill rotWithShape="0">
            <a:gsLst>
              <a:gs pos="0">
                <a:srgbClr val="cfbaf7"/>
              </a:gs>
              <a:gs pos="100000">
                <a:srgbClr val="f1ebfd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D:\3 класс\окружайка\семейный бюджет\tehno16.png"/>
          <p:cNvPicPr/>
          <p:nvPr/>
        </p:nvPicPr>
        <p:blipFill>
          <a:blip r:embed="rId1"/>
          <a:stretch/>
        </p:blipFill>
        <p:spPr>
          <a:xfrm>
            <a:off x="2643120" y="3214800"/>
            <a:ext cx="3657600" cy="245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03:05Z</dcterms:created>
  <dc:creator/>
  <dc:description/>
  <dc:language>en-US</dc:language>
  <cp:lastModifiedBy>k64</cp:lastModifiedBy>
  <dcterms:modified xsi:type="dcterms:W3CDTF">2015-10-15T11:47:24Z</dcterms:modified>
  <cp:revision>54</cp:revision>
  <dc:subject/>
  <dc:title>Слайд 1</dc:title>
</cp:coreProperties>
</file>