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4E0-DED0-4130-B472-326DCA7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C72-9FFD-4697-BE77-73534EA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FBF-EEF1-4792-85D3-495A5AA1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E0A-292F-4331-94D9-38A71996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BB4D-AB8D-410E-9B93-FE57A5C6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B306-A1C0-4F37-8996-D1FE767D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B5B-9BC8-4FA1-85E8-7EF7EC3E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FC2-8A6C-435A-A8E8-1451959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88C9-2566-4BD3-BB8E-F9A52B6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9504-D677-449B-8891-CF3B2E62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25F-1E8F-43FF-A6ED-B8F85FE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57F-F880-4C7E-B380-F712DCF8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41C-6E3A-4956-8C51-EB24CBE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656D-6EDB-45A6-9324-D234D62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125D-B63E-430F-AD7A-69156F5E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9EB-D5C1-4C13-B9C9-CE6A67F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4286-05C7-4667-AA59-ED0F8A6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ED56-C502-462C-88E9-F6BCC0F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BA8D-41AF-4194-A9D8-0132C521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906B-ED2B-4183-9307-268BB64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898D-4722-4E82-98A6-BB7EAB6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76D8-9605-4BB9-B9DD-63431AE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511-9347-4190-AA20-011D2527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F1CB-5454-4002-9E39-6A5AB28F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6963-410A-44D8-8041-572A94C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4BE3-6BA1-4885-A330-F23D4FBC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1B63-63CA-4175-A89A-833B855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15FA-D99C-4084-BF3E-7D3CEAD9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CE52-85BE-4282-A0D3-F97D378B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2F92-7D8E-401F-A496-1FB75AC5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0449-79BB-48FF-BFD6-2FA57132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6A81-6026-4515-A6BD-B772B00A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B865-ACE6-44BD-9114-5EBBFB7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3D4-3E64-4396-8395-14ACAE8E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9583-0867-43DE-95CF-1849ACA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CF72-C0B1-4144-B048-035EF69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BF9E-03AA-4343-9B85-6C3916EE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8B56-79C6-4102-9186-4855760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8312-7336-4748-A559-135C27B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C361-AB1B-46E0-8957-DC89E1B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3FAB-640C-4EE6-B46E-FF188D1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EB96-816E-454A-81B3-3BFA4014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3EBF-CC4E-4407-928D-1534BDEA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5FF-94C1-432F-9791-61F36B0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741-7D1B-4578-AC8B-A99B51A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438-6FDF-46F8-83C2-D264D20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AE2-A295-41A0-B9E2-5635339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5F6-9943-465A-9EDD-4267891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C9E3-118B-47E6-8F15-765298BD01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159-299E-4C59-9DBA-1C20EF64FB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0469-5997-46C3-AFB4-A6FF170A03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9B7-03FF-43FF-89AC-744D334A43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6178680" y="857160"/>
            <a:ext cx="57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7186680" y="857160"/>
            <a:ext cx="74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4881600" y="857160"/>
            <a:ext cx="79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714680" y="8571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865600" y="85716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873600" y="85716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3" descr="C:\Users\Владелец\AppData\Local\Microsoft\Windows\Temporary Internet Files\Content.IE5\WT9IOB9I\MCj03521820000[1].wmf"/>
          <p:cNvPicPr/>
          <p:nvPr/>
        </p:nvPicPr>
        <p:blipFill>
          <a:blip r:embed="rId1"/>
          <a:stretch/>
        </p:blipFill>
        <p:spPr>
          <a:xfrm>
            <a:off x="3786120" y="4429080"/>
            <a:ext cx="13240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4.10405E-006 L -0.56302 4.10405E-006 E">
                                      <p:cBhvr>
                                        <p:cTn id="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5434 4.10405E-006 E">
                                      <p:cBhvr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L -0.14166 6.7052E-006 E">
                                      <p:cBhvr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10405E-006 L 0.42135 4.10405E-006 E">
                                      <p:cBhvr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62428E-007 L 0.42517 4.62428E-007 E">
                                      <p:cBhvr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4.91329E-006 L 0.42518 -4.91329E-006 E">
                                      <p:cBhvr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3440160" y="428760"/>
            <a:ext cx="1825200" cy="642600"/>
          </a:xfrm>
          <a:prstGeom prst="rect">
            <a:avLst/>
          </a:prstGeom>
          <a:gradFill rotWithShape="0">
            <a:gsLst>
              <a:gs pos="0">
                <a:srgbClr val="b6d2fa"/>
              </a:gs>
              <a:gs pos="100000">
                <a:srgbClr val="eaf2fe"/>
              </a:gs>
            </a:gsLst>
            <a:lin ang="16200000"/>
          </a:gra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D:\3 класс\окружайка\семейный бюджет\eda70.png"/>
          <p:cNvPicPr/>
          <p:nvPr/>
        </p:nvPicPr>
        <p:blipFill>
          <a:blip r:embed="rId1"/>
          <a:stretch/>
        </p:blipFill>
        <p:spPr>
          <a:xfrm>
            <a:off x="2928960" y="3286080"/>
            <a:ext cx="3214800" cy="29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2789640" y="785880"/>
            <a:ext cx="2986560" cy="581400"/>
          </a:xfrm>
          <a:prstGeom prst="rect">
            <a:avLst/>
          </a:prstGeom>
          <a:gradFill rotWithShape="0">
            <a:gsLst>
              <a:gs pos="0">
                <a:srgbClr val="ffbbd0"/>
              </a:gs>
              <a:gs pos="100000">
                <a:srgbClr val="ffebf1"/>
              </a:gs>
            </a:gsLst>
            <a:lin ang="16200000"/>
          </a:gradFill>
          <a:ln w="9360">
            <a:solidFill>
              <a:srgbClr val="cd8da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жда и обу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D:\3 класс\окружайка\семейный бюджет\одежда.png"/>
          <p:cNvPicPr/>
          <p:nvPr/>
        </p:nvPicPr>
        <p:blipFill>
          <a:blip r:embed="rId1"/>
          <a:stretch/>
        </p:blipFill>
        <p:spPr>
          <a:xfrm>
            <a:off x="1785960" y="1571760"/>
            <a:ext cx="5786280" cy="511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295720" y="1285920"/>
            <a:ext cx="4420440" cy="581400"/>
          </a:xfrm>
          <a:prstGeom prst="rect">
            <a:avLst/>
          </a:prstGeom>
          <a:gradFill rotWithShape="0">
            <a:gsLst>
              <a:gs pos="0">
                <a:srgbClr val="d9eac6"/>
              </a:gs>
              <a:gs pos="100000">
                <a:srgbClr val="f4faef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аль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:\3 класс\окружайка\семейный бюджет\ванна.png"/>
          <p:cNvPicPr/>
          <p:nvPr/>
        </p:nvPicPr>
        <p:blipFill>
          <a:blip r:embed="rId1"/>
          <a:stretch/>
        </p:blipFill>
        <p:spPr>
          <a:xfrm>
            <a:off x="2786040" y="2571840"/>
            <a:ext cx="328788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2926800" y="1000080"/>
            <a:ext cx="2884320" cy="520560"/>
          </a:xfrm>
          <a:prstGeom prst="rect">
            <a:avLst/>
          </a:prstGeom>
          <a:gradFill rotWithShape="0">
            <a:gsLst>
              <a:gs pos="0">
                <a:srgbClr val="ffbbd0"/>
              </a:gs>
              <a:gs pos="100000">
                <a:srgbClr val="ffebf1"/>
              </a:gs>
            </a:gsLst>
            <a:lin ang="16200000"/>
          </a:gradFill>
          <a:ln w="9360">
            <a:solidFill>
              <a:srgbClr val="cd8da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ьтурный 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D:\3 класс\окружайка\семейный бюджет\досуг.png"/>
          <p:cNvPicPr/>
          <p:nvPr/>
        </p:nvPicPr>
        <p:blipFill>
          <a:blip r:embed="rId1"/>
          <a:stretch/>
        </p:blipFill>
        <p:spPr>
          <a:xfrm>
            <a:off x="1428840" y="2643120"/>
            <a:ext cx="5838840" cy="37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14200" y="1214280"/>
            <a:ext cx="87156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Семейная экономика -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это правильное ведение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семейного хозяйства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>
            <a:off x="285840" y="2000160"/>
            <a:ext cx="800100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я из дома, не забывайте выключать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я новую игрушку, подумай о семейном бюдж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и у родителей новую игрушку к каждому празд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я семейный бюджет – откажись от экскурсии в м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одил в магазин, оставь сдач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жно относись к своим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минай родителям о своевременной оплате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пользуйтесь услугами так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уйтесь услугами доставки горячей пиц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разговаривай по сотовому телефону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142920" y="642960"/>
            <a:ext cx="885816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йте семейный бюджет исходя из дох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D:\3 класс\окружайка\семейный бюджет\работа.png"/>
          <p:cNvPicPr/>
          <p:nvPr/>
        </p:nvPicPr>
        <p:blipFill>
          <a:blip r:embed="rId1"/>
          <a:stretch/>
        </p:blipFill>
        <p:spPr>
          <a:xfrm>
            <a:off x="2500200" y="1714680"/>
            <a:ext cx="4718160" cy="42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5" descr="D:\3 класс\окружайка\семейный бюджет\девочка.png"/>
          <p:cNvPicPr/>
          <p:nvPr/>
        </p:nvPicPr>
        <p:blipFill>
          <a:blip r:embed="rId1"/>
          <a:stretch/>
        </p:blipFill>
        <p:spPr>
          <a:xfrm>
            <a:off x="0" y="3143160"/>
            <a:ext cx="20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D:\3 класс\окружайка\семейный бюджет\скрипка.png"/>
          <p:cNvPicPr/>
          <p:nvPr/>
        </p:nvPicPr>
        <p:blipFill>
          <a:blip r:embed="rId2"/>
          <a:stretch/>
        </p:blipFill>
        <p:spPr>
          <a:xfrm>
            <a:off x="1714680" y="1643040"/>
            <a:ext cx="4500360" cy="182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:\3 класс\окружайка\семейный бюджет\лыжник.png"/>
          <p:cNvPicPr/>
          <p:nvPr/>
        </p:nvPicPr>
        <p:blipFill>
          <a:blip r:embed="rId3"/>
          <a:stretch/>
        </p:blipFill>
        <p:spPr>
          <a:xfrm>
            <a:off x="1928880" y="3357720"/>
            <a:ext cx="4381560" cy="3333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D:\3 класс\окружайка\семейный бюджет\sobaka83.png"/>
          <p:cNvPicPr/>
          <p:nvPr/>
        </p:nvPicPr>
        <p:blipFill>
          <a:blip r:embed="rId4"/>
          <a:stretch/>
        </p:blipFill>
        <p:spPr>
          <a:xfrm>
            <a:off x="6143760" y="3000240"/>
            <a:ext cx="2538360" cy="3243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8"/>
          <p:cNvSpPr/>
          <p:nvPr/>
        </p:nvSpPr>
        <p:spPr>
          <a:xfrm>
            <a:off x="3299760" y="357120"/>
            <a:ext cx="3009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у помо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9"/>
          <p:cNvSpPr txBox="1"/>
          <p:nvPr/>
        </p:nvSpPr>
        <p:spPr>
          <a:xfrm>
            <a:off x="5500800" y="4357800"/>
            <a:ext cx="2859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785880" y="450072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pic>
        <p:nvPicPr>
          <p:cNvPr id="173" name="Picture 3" descr="C:\Users\Владелец\AppData\Local\Microsoft\Windows\Temporary Internet Files\Content.IE5\WT9IOB9I\MCj03521820000[1].wmf"/>
          <p:cNvPicPr/>
          <p:nvPr/>
        </p:nvPicPr>
        <p:blipFill>
          <a:blip r:embed="rId1"/>
          <a:stretch/>
        </p:blipFill>
        <p:spPr>
          <a:xfrm>
            <a:off x="3786120" y="1643040"/>
            <a:ext cx="1324080" cy="164304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9"/>
          <p:cNvCxnSpPr/>
          <p:nvPr/>
        </p:nvCxnSpPr>
        <p:spPr>
          <a:xfrm flipV="1">
            <a:off x="1285920" y="3071160"/>
            <a:ext cx="19296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10"/>
          <p:cNvCxnSpPr/>
          <p:nvPr/>
        </p:nvCxnSpPr>
        <p:spPr>
          <a:xfrm>
            <a:off x="5286240" y="2857320"/>
            <a:ext cx="214416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357120" y="260280"/>
            <a:ext cx="83901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eb160"/>
                </a:solidFill>
                <a:latin typeface="Arial"/>
              </a:rPr>
              <a:t>Семейный бюдже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eb160"/>
              </a:solidFill>
              <a:latin typeface="Arial"/>
              <a:ea typeface="Arial"/>
            </a:endParaRPr>
          </a:p>
        </p:txBody>
      </p:sp>
      <p:pic>
        <p:nvPicPr>
          <p:cNvPr id="177" name="Picture 8" descr="D:\3 класс\окружайка\бюджет\семья.jpg"/>
          <p:cNvPicPr/>
          <p:nvPr/>
        </p:nvPicPr>
        <p:blipFill>
          <a:blip r:embed="rId1"/>
          <a:stretch/>
        </p:blipFill>
        <p:spPr>
          <a:xfrm>
            <a:off x="2500200" y="2928960"/>
            <a:ext cx="4050000" cy="221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000080" y="285840"/>
          <a:ext cx="7067520" cy="5851440"/>
        </p:xfrm>
        <a:graphic>
          <a:graphicData uri="http://schemas.openxmlformats.org/drawingml/2006/table">
            <a:tbl>
              <a:tblPr/>
              <a:tblGrid>
                <a:gridCol w="3529080"/>
                <a:gridCol w="3538440"/>
              </a:tblGrid>
              <a:tr h="90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55475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55475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WordArt 41"/>
          <p:cNvSpPr txBox="1"/>
          <p:nvPr/>
        </p:nvSpPr>
        <p:spPr>
          <a:xfrm>
            <a:off x="5572080" y="278604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42"/>
          <p:cNvSpPr txBox="1"/>
          <p:nvPr/>
        </p:nvSpPr>
        <p:spPr>
          <a:xfrm>
            <a:off x="1857240" y="2857680"/>
            <a:ext cx="1729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571680" y="428760"/>
            <a:ext cx="70722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153a1"/>
                </a:solidFill>
                <a:latin typeface="Impact"/>
              </a:rPr>
              <a:t>доход семьи</a:t>
            </a:r>
            <a:endParaRPr b="0" lang="en-US" sz="1800" spc="1" strike="noStrike">
              <a:ln w="0">
                <a:noFill/>
              </a:ln>
              <a:solidFill>
                <a:srgbClr val="7153a1"/>
              </a:solidFill>
              <a:latin typeface="Impact"/>
              <a:ea typeface="Impact"/>
            </a:endParaRPr>
          </a:p>
        </p:txBody>
      </p:sp>
      <p:pic>
        <p:nvPicPr>
          <p:cNvPr id="182" name="Picture 8" descr="D:\3 класс\окружайка\бюджет\семья.jpg"/>
          <p:cNvPicPr/>
          <p:nvPr/>
        </p:nvPicPr>
        <p:blipFill>
          <a:blip r:embed="rId1"/>
          <a:stretch/>
        </p:blipFill>
        <p:spPr>
          <a:xfrm>
            <a:off x="4714920" y="2643120"/>
            <a:ext cx="4049640" cy="221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3" name="TextBox 13"/>
          <p:cNvSpPr/>
          <p:nvPr/>
        </p:nvSpPr>
        <p:spPr>
          <a:xfrm>
            <a:off x="371520" y="1571760"/>
            <a:ext cx="3228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363960" y="2286000"/>
            <a:ext cx="1531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н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366480" y="2928960"/>
            <a:ext cx="2046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пе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363600" y="3571920"/>
            <a:ext cx="167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360000" y="4357800"/>
            <a:ext cx="1163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365040" y="5000760"/>
            <a:ext cx="1931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366840" y="5715000"/>
            <a:ext cx="1752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285920" y="303120"/>
          <a:ext cx="6718320" cy="5983560"/>
        </p:xfrm>
        <a:graphic>
          <a:graphicData uri="http://schemas.openxmlformats.org/drawingml/2006/table">
            <a:tbl>
              <a:tblPr/>
              <a:tblGrid>
                <a:gridCol w="3529080"/>
                <a:gridCol w="318924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44e6d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44e6d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зарплата пенсия стипендия пособие проценты рен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прибы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WordArt 26" descr=""/>
          <p:cNvPicPr/>
          <p:nvPr/>
        </p:nvPicPr>
        <p:blipFill>
          <a:blip r:embed="rId1"/>
          <a:stretch/>
        </p:blipFill>
        <p:spPr>
          <a:xfrm>
            <a:off x="5473800" y="2620800"/>
            <a:ext cx="1817640" cy="237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42960" y="274680"/>
          <a:ext cx="8250120" cy="6300720"/>
        </p:xfrm>
        <a:graphic>
          <a:graphicData uri="http://schemas.openxmlformats.org/drawingml/2006/table">
            <a:tbl>
              <a:tblPr/>
              <a:tblGrid>
                <a:gridCol w="3000240"/>
                <a:gridCol w="524988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c376b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c376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Box 13"/>
          <p:cNvSpPr/>
          <p:nvPr/>
        </p:nvSpPr>
        <p:spPr>
          <a:xfrm>
            <a:off x="4152960" y="1928880"/>
            <a:ext cx="44204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аль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714960" y="1833480"/>
            <a:ext cx="2843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74720" y="2405160"/>
            <a:ext cx="1360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н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752400" y="2976480"/>
            <a:ext cx="1808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пе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793080" y="3571920"/>
            <a:ext cx="1485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789480" y="4214880"/>
            <a:ext cx="10386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794520" y="4857840"/>
            <a:ext cx="1707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795240" y="5500800"/>
            <a:ext cx="1552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3864240" y="2571840"/>
            <a:ext cx="13374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о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3793680" y="3214800"/>
            <a:ext cx="1460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3783960" y="3857760"/>
            <a:ext cx="2884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ьтурный 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4"/>
          <p:cNvSpPr/>
          <p:nvPr/>
        </p:nvSpPr>
        <p:spPr>
          <a:xfrm>
            <a:off x="3795120" y="4500720"/>
            <a:ext cx="1557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5"/>
          <p:cNvSpPr/>
          <p:nvPr/>
        </p:nvSpPr>
        <p:spPr>
          <a:xfrm>
            <a:off x="3796200" y="5072040"/>
            <a:ext cx="2219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6"/>
          <p:cNvSpPr/>
          <p:nvPr/>
        </p:nvSpPr>
        <p:spPr>
          <a:xfrm>
            <a:off x="5583240" y="2571840"/>
            <a:ext cx="254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овая 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6363000" y="5072040"/>
            <a:ext cx="1454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б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5718600" y="4429080"/>
            <a:ext cx="26312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ежда и обу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9"/>
          <p:cNvSpPr/>
          <p:nvPr/>
        </p:nvSpPr>
        <p:spPr>
          <a:xfrm>
            <a:off x="5428080" y="3214800"/>
            <a:ext cx="1828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0"/>
          <p:cNvSpPr/>
          <p:nvPr/>
        </p:nvSpPr>
        <p:spPr>
          <a:xfrm>
            <a:off x="3875400" y="5715000"/>
            <a:ext cx="4258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меты лич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6"/>
          <p:cNvSpPr/>
          <p:nvPr/>
        </p:nvSpPr>
        <p:spPr>
          <a:xfrm>
            <a:off x="1785960" y="1000080"/>
            <a:ext cx="58579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расход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1785960" y="2241720"/>
            <a:ext cx="60008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рас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857240" y="3500280"/>
            <a:ext cx="57769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рас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568320" y="1071720"/>
            <a:ext cx="2066040" cy="581400"/>
          </a:xfrm>
          <a:prstGeom prst="rect">
            <a:avLst/>
          </a:prstGeom>
          <a:gradFill rotWithShape="0">
            <a:gsLst>
              <a:gs pos="0">
                <a:srgbClr val="cfbaf7"/>
              </a:gs>
              <a:gs pos="100000">
                <a:srgbClr val="f1ebfd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D:\3 класс\окружайка\семейный бюджет\tehno16.png"/>
          <p:cNvPicPr/>
          <p:nvPr/>
        </p:nvPicPr>
        <p:blipFill>
          <a:blip r:embed="rId1"/>
          <a:stretch/>
        </p:blipFill>
        <p:spPr>
          <a:xfrm>
            <a:off x="2643120" y="3214800"/>
            <a:ext cx="3657600" cy="245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03:05Z</dcterms:created>
  <dc:creator/>
  <dc:description/>
  <dc:language>en-US</dc:language>
  <cp:lastModifiedBy>k64</cp:lastModifiedBy>
  <dcterms:modified xsi:type="dcterms:W3CDTF">2015-10-15T11:47:24Z</dcterms:modified>
  <cp:revision>54</cp:revision>
  <dc:subject/>
  <dc:title>Слайд 1</dc:title>
</cp:coreProperties>
</file>