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73D-FB84-45B0-BA40-243A4ADB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071-E299-4BED-8006-49FFC12E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0C8-C274-4338-A089-EF4B873D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BC9-3AAA-466F-AFDD-B1DB0101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01E4-6F0A-4672-A41A-19746D7C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1275-4756-466C-83A6-7E2E605E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C913-1A1B-40A6-A4A2-75578C3A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255F-A06F-427E-A40F-28FFD0F8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2BDF-EEBB-4D2E-B77B-7DE932F8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5AEC-B697-4F9A-831E-DC59CF2E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238E-670D-48FC-99C1-ADE0C33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9C1-5249-4958-A218-17944996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FB28-FF30-4BEB-B181-985EFC0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FE11-7283-4BE0-86A6-C4623614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014D-22C7-432E-A853-75B30D19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6790-762D-4B13-896B-1FDB2EBC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7CE-1A2B-492D-945E-76E446D2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6547-F5AF-48E8-AA1E-75457613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A775-5A80-4D82-A696-45FF6DBF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A124-2044-400F-810A-4EA72906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B9A9-0977-4BDD-8146-97D5D879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514F0-ADD6-4D0F-B009-05659E45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E75-2F91-4681-9B86-6F893FA1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369B-7FB0-4D3F-AE83-CB6D2800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8C86-B61D-46CA-AD3D-BE7B1B53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15E74-5519-4A5B-B6EF-400FBC30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A0D3-D2C1-4D3D-9D9A-AAF6F88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5632-0123-4989-8FA9-C0AA6D70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5D62-376A-4A78-96AC-2D5D964A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F782-7FFA-44FA-930D-8DA7E808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22E8B-EF45-4F2E-865A-BB03EA9D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B967-225F-4EAA-9AA2-4CB29867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64AA-9B40-4EEF-BF92-D8D7A008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E29-C1CA-4E5D-AF41-0EBEE2FE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ED62-5BD0-4C44-B56C-99BC1A2F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3A6AD-0883-40E8-B1C8-9325E112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7C64-8E30-4A4E-B7C2-3555D05A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4BEB-00F6-4D3F-B938-90215EA1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230B-9A7F-41BF-8CF9-BEDB9E51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0422-2129-43FB-940B-91EED6F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B8EE-38FB-41D9-A01E-BCB5AA3A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B689D-89FC-4CDF-805F-C82E7DA2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DDF8-DDED-4431-B01E-B8242A7F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113DE-44B8-4D8A-B7E9-4C27C07A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E98-C902-408C-AFAA-4B518FF5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F788-A34F-453E-A51A-CBC8B29A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C9742-560A-4243-93A5-39A2DCE2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5CE59-20D6-4199-B6BC-5E0F68E6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9803-7773-4EE3-A1FB-767879DE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08B6-E4B1-4D0A-802F-9830B7ED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1F1C-26F5-43A6-AE9E-FDD001B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0954-6786-49F5-B3B5-50D55077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80DF8-6F2A-404E-89C6-DA089AA5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817C1-35FE-46A8-AE3B-16D09FE2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B44E5-6222-4AC5-B8AE-2D5C2367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962-CDC6-4A90-A9F3-42F8D9BA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EDA31-C85E-4B6D-AB3A-343EAA0F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41C-0006-40C7-B607-D3833420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B34-D675-411F-876C-CCFA6620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548-0E9A-46CF-A61C-18C0601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DB15-5A7E-4248-AA78-D5468D36F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F567-64C5-4F87-86E1-0D72698FC4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15FB-BD3D-4F01-879D-C202E9F438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4725-2199-4494-AD4E-41E1A6AF3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C0AD-1CAE-4569-932E-0DFFC937D68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820360" cy="3157200"/>
          </a:xfrm>
          <a:prstGeom prst="rect">
            <a:avLst/>
          </a:prstGeom>
          <a:ln w="0">
            <a:noFill/>
          </a:ln>
        </p:spPr>
      </p:pic>
      <p:grpSp>
        <p:nvGrpSpPr>
          <p:cNvPr id="217" name="TextBox 3"/>
          <p:cNvGrpSpPr/>
          <p:nvPr/>
        </p:nvGrpSpPr>
        <p:grpSpPr>
          <a:xfrm>
            <a:off x="981000" y="4011480"/>
            <a:ext cx="7516800" cy="2247840"/>
            <a:chOff x="981000" y="4011480"/>
            <a:chExt cx="7516800" cy="2247840"/>
          </a:xfrm>
        </p:grpSpPr>
        <p:pic>
          <p:nvPicPr>
            <p:cNvPr id="218" name="TextBox 3" descr=""/>
            <p:cNvPicPr/>
            <p:nvPr/>
          </p:nvPicPr>
          <p:blipFill>
            <a:blip r:embed="rId2"/>
            <a:stretch/>
          </p:blipFill>
          <p:spPr>
            <a:xfrm>
              <a:off x="981000" y="4011480"/>
              <a:ext cx="75168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071720" y="4214880"/>
              <a:ext cx="735804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0000"/>
                  </a:solidFill>
                  <a:latin typeface="Constantia"/>
                </a:rPr>
                <a:t>Краснова Ирина Николаевн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nstantia"/>
                </a:rPr>
                <a:t>Учитель русского языка и литератур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nstantia"/>
                </a:rPr>
                <a:t>ГКВОУ ЦО отделение №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Приемы здоровьесберегающей технологии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Социоигровое обуч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Интересные и познавательные текст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Работа в парах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Работа в группах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Дифференцированное обуч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Карточки- помощницы, план отве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Составление синквейна, кластеро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Нетрадиционная форма уро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Исследовательская рабо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353880" y="-60480"/>
            <a:ext cx="8552160" cy="18226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13840" y="228600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00"/>
                </a:solidFill>
                <a:uFillTx/>
                <a:latin typeface="Century Gothic"/>
              </a:rPr>
              <a:t>Ортобиотика</a:t>
            </a: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 – новая наука о самосбережении здоровья, разумом образе жизн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ffff"/>
                </a:solidFill>
                <a:uFillTx/>
                <a:latin typeface="Century Gothic"/>
              </a:rPr>
              <a:t>Ортобиотика</a:t>
            </a:r>
            <a:r>
              <a:rPr b="1" lang="ru-RU" sz="3000" spc="-1" strike="noStrike">
                <a:solidFill>
                  <a:srgbClr val="00ffff"/>
                </a:solidFill>
                <a:latin typeface="Century Gothic"/>
              </a:rPr>
              <a:t> – единство трех составляющих: физического, психологического, нравственного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7"/>
          <p:cNvSpPr/>
          <p:nvPr/>
        </p:nvSpPr>
        <p:spPr>
          <a:xfrm>
            <a:off x="2808360" y="5532480"/>
            <a:ext cx="2643120" cy="1008720"/>
          </a:xfrm>
          <a:prstGeom prst="rect">
            <a:avLst/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Универса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способы самосбере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Группа 14"/>
          <p:cNvGrpSpPr/>
          <p:nvPr/>
        </p:nvGrpSpPr>
        <p:grpSpPr>
          <a:xfrm>
            <a:off x="214200" y="1571760"/>
            <a:ext cx="8759880" cy="4876200"/>
            <a:chOff x="214200" y="1571760"/>
            <a:chExt cx="8759880" cy="4876200"/>
          </a:xfrm>
        </p:grpSpPr>
        <p:sp>
          <p:nvSpPr>
            <p:cNvPr id="260" name="5-конечная звезда 12"/>
            <p:cNvSpPr/>
            <p:nvPr/>
          </p:nvSpPr>
          <p:spPr>
            <a:xfrm>
              <a:off x="2734920" y="2435040"/>
              <a:ext cx="3143160" cy="2714400"/>
            </a:xfrm>
            <a:prstGeom prst="pie">
              <a:avLst/>
            </a:prstGeom>
            <a:solidFill>
              <a:srgbClr val="ff388c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3"/>
            <p:cNvSpPr/>
            <p:nvPr/>
          </p:nvSpPr>
          <p:spPr>
            <a:xfrm>
              <a:off x="3357360" y="3429000"/>
              <a:ext cx="2000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2776"/>
                  </a:solidFill>
                  <a:latin typeface="Arial"/>
                </a:rPr>
                <a:t>Принципы ортобиоз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Box 4"/>
            <p:cNvSpPr/>
            <p:nvPr/>
          </p:nvSpPr>
          <p:spPr>
            <a:xfrm>
              <a:off x="214200" y="1571760"/>
              <a:ext cx="2714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«Терапия средой»: вижу, слышу, ощущаю – основан на игре, интересе, позитивном настро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Box 5"/>
            <p:cNvSpPr/>
            <p:nvPr/>
          </p:nvSpPr>
          <p:spPr>
            <a:xfrm>
              <a:off x="214200" y="3443400"/>
              <a:ext cx="2214360" cy="703800"/>
            </a:xfrm>
            <a:prstGeom prst="rect">
              <a:avLst/>
            </a:prstGeom>
            <a:solidFill>
              <a:srgbClr val="005bd3"/>
            </a:solidFill>
            <a:ln w="25560">
              <a:solidFill>
                <a:srgbClr val="004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Гигиениче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прави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6"/>
            <p:cNvSpPr/>
            <p:nvPr/>
          </p:nvSpPr>
          <p:spPr>
            <a:xfrm>
              <a:off x="502920" y="4811760"/>
              <a:ext cx="207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Разнообразие впечатл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Box 8"/>
            <p:cNvSpPr/>
            <p:nvPr/>
          </p:nvSpPr>
          <p:spPr>
            <a:xfrm>
              <a:off x="5830920" y="4524480"/>
              <a:ext cx="31431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Формула выживаемости (научно обоснованный ориентир для постро-ения каждым своего разумного образа жизни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Box 9"/>
            <p:cNvSpPr/>
            <p:nvPr/>
          </p:nvSpPr>
          <p:spPr>
            <a:xfrm>
              <a:off x="6191280" y="3443400"/>
              <a:ext cx="2071440" cy="703800"/>
            </a:xfrm>
            <a:prstGeom prst="rect">
              <a:avLst/>
            </a:prstGeom>
            <a:solidFill>
              <a:srgbClr val="005bd3"/>
            </a:solidFill>
            <a:ln w="25560">
              <a:solidFill>
                <a:srgbClr val="004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Разумны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образ жизн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Box 10"/>
            <p:cNvSpPr/>
            <p:nvPr/>
          </p:nvSpPr>
          <p:spPr>
            <a:xfrm>
              <a:off x="5830920" y="1716120"/>
              <a:ext cx="27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Системообразующие условия долголетней работоспособности 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Box 11"/>
            <p:cNvSpPr/>
            <p:nvPr/>
          </p:nvSpPr>
          <p:spPr>
            <a:xfrm>
              <a:off x="3311280" y="1643040"/>
              <a:ext cx="1785960" cy="703800"/>
            </a:xfrm>
            <a:prstGeom prst="rect">
              <a:avLst/>
            </a:prstGeom>
            <a:solidFill>
              <a:srgbClr val="005bd3"/>
            </a:solidFill>
            <a:ln w="25560">
              <a:solidFill>
                <a:srgbClr val="004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Философи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оптимизм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TextBox 13"/>
          <p:cNvSpPr/>
          <p:nvPr/>
        </p:nvSpPr>
        <p:spPr>
          <a:xfrm>
            <a:off x="642960" y="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менты ортобиоза здоровьесберегающей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493560" y="-146160"/>
            <a:ext cx="8242560" cy="18226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17859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редотвращает усталость и утомляемост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овышает мотивацию к учебн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рирост учебных достижени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овышает умственную работоспособност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овышает познавательный интерес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Вызывает положительные эмоци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357120" y="1571760"/>
          <a:ext cx="8429760" cy="4857480"/>
        </p:xfrm>
        <a:graphic>
          <a:graphicData uri="http://schemas.openxmlformats.org/drawingml/2006/table">
            <a:tbl>
              <a:tblPr/>
              <a:tblGrid>
                <a:gridCol w="1054080"/>
                <a:gridCol w="1052640"/>
                <a:gridCol w="1054080"/>
                <a:gridCol w="1054080"/>
                <a:gridCol w="1054080"/>
                <a:gridCol w="1054080"/>
                <a:gridCol w="1052640"/>
                <a:gridCol w="1054080"/>
              </a:tblGrid>
              <a:tr h="101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Кол-во опрош учен-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Высокая мотив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Хорошая мотива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изкая мотива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669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5c9c"/>
                </a:solidFill>
                <a:latin typeface="Arial"/>
              </a:rPr>
              <a:t>Компетентностно-ориентированный подход в обучении:</a:t>
            </a:r>
            <a:endParaRPr b="0" lang="en-US" sz="29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Компетенция- (от лат.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mpetere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- добиваться, соответствовать, подходить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ключает в себя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Знания, которые должны быть усвоен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Умения и навыки, которые должны быть сформирован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Развитие личности учащегос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омпетентностный подход выдвигает на первое место не информированность ученика, а способность организовывать свою работ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ый путь, ведущий к знанию, - это деятельность. (Б.Шоу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Arial"/>
              </a:rPr>
              <a:t>Главная цель компетентностного подхода в преподавании русского языка и литературы заключается в формировании всесторонне развитой личности учащегося, его теоретического мышления, языковой интуиции и способностей, овладение культурой речевого общения и поведени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286000" y="1285920"/>
            <a:ext cx="4286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Компетен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642960" y="2214720"/>
            <a:ext cx="3071880" cy="1191240"/>
          </a:xfrm>
          <a:prstGeom prst="rect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языков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5429160" y="2214720"/>
            <a:ext cx="3143520" cy="119124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культуро-ведче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5500800" y="4071960"/>
            <a:ext cx="3000240" cy="1191240"/>
          </a:xfrm>
          <a:prstGeom prst="rect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лингвисти-че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714240" y="4214880"/>
            <a:ext cx="3071880" cy="1191240"/>
          </a:xfrm>
          <a:prstGeom prst="rect">
            <a:avLst/>
          </a:prstGeom>
          <a:solidFill>
            <a:srgbClr val="00349e"/>
          </a:solidFill>
          <a:ln w="25560">
            <a:solidFill>
              <a:srgbClr val="002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коммуника-тив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2" name="Прямая со стрелкой 12"/>
          <p:cNvCxnSpPr>
            <a:stCxn id="277" idx="1"/>
          </p:cNvCxnSpPr>
          <p:nvPr/>
        </p:nvCxnSpPr>
        <p:spPr>
          <a:xfrm flipH="1">
            <a:off x="1571400" y="1609560"/>
            <a:ext cx="714960" cy="534240"/>
          </a:xfrm>
          <a:prstGeom prst="straightConnector1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83" name="Прямая со стрелкой 13"/>
          <p:cNvCxnSpPr/>
          <p:nvPr/>
        </p:nvCxnSpPr>
        <p:spPr>
          <a:xfrm flipH="1">
            <a:off x="3642480" y="2000160"/>
            <a:ext cx="715320" cy="2215440"/>
          </a:xfrm>
          <a:prstGeom prst="straightConnector1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84" name="Прямая со стрелкой 16"/>
          <p:cNvCxnSpPr/>
          <p:nvPr/>
        </p:nvCxnSpPr>
        <p:spPr>
          <a:xfrm>
            <a:off x="4570920" y="1999800"/>
            <a:ext cx="1072440" cy="2072520"/>
          </a:xfrm>
          <a:prstGeom prst="straightConnector1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85" name="Прямая со стрелкой 19"/>
          <p:cNvCxnSpPr/>
          <p:nvPr/>
        </p:nvCxnSpPr>
        <p:spPr>
          <a:xfrm>
            <a:off x="6572160" y="1643040"/>
            <a:ext cx="572400" cy="534240"/>
          </a:xfrm>
          <a:prstGeom prst="straightConnector1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Century Gothic"/>
              </a:rPr>
              <a:t>Овладение нормами русского литературного языка, его функциональными стилями, умением пользоваться ими в реч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Century Gothic"/>
              </a:rPr>
              <a:t>Обогащение словарного запаса и грамматического ст</a:t>
            </a: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ро</a:t>
            </a:r>
            <a:r>
              <a:rPr b="1" i="1" lang="en-US" sz="2000" spc="-1" strike="noStrike">
                <a:solidFill>
                  <a:srgbClr val="ffc000"/>
                </a:solidFill>
                <a:latin typeface="Century Gothic"/>
              </a:rPr>
              <a:t>я реч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Century Gothic"/>
              </a:rPr>
              <a:t>Формирование способности к анализу и оценке языковых явлений и фактов, умения пользоваться различными лингвистическими словаря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5000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entury Gothic"/>
              </a:rPr>
              <a:t>Обеспечивает познавательную культуру личности учащегося, развития логического мышления, памяти, воображения, овладение навыками самоанализа и самооценк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entury Gothic"/>
              </a:rPr>
              <a:t>Усвоение знаний о языке и речи, речеведческих понятий, теоретических основ культуры реч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453960" y="380880"/>
            <a:ext cx="373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34120" y="228600"/>
          <a:ext cx="3657600" cy="9907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  <a:ea typeface="Arial"/>
                        </a:rPr>
                        <a:t>Лингвистическая компетенция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57200" y="228600"/>
          <a:ext cx="3352680" cy="99072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Arial"/>
                        </a:rPr>
                        <a:t>Языковая компетенция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Развитие речевой деятельности(говор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слушание и понимание, чтение, письмо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Овладение основными умениями и навыками использования языка в разных сферах и ситуациях общен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Развитие умения создавать и воспринимать текст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Осознание языка как формы выражения национальной культуры, взаимосвязи языка и истории народа, национально-культурной специфики русского язык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владение нормами русского речевого этикета, культурой межнационального обще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304920"/>
          <a:ext cx="4190760" cy="114300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  <a:ea typeface="Arial"/>
                        </a:rPr>
                        <a:t>Коммуникативная компетенция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724280" y="304920"/>
          <a:ext cx="4191120" cy="11430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ff"/>
                          </a:solidFill>
                          <a:latin typeface="Tahoma"/>
                          <a:ea typeface="Arial"/>
                        </a:rPr>
                        <a:t>Культуроведческая компетенция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-360" y="620280"/>
            <a:ext cx="89298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 u="sng">
                <a:solidFill>
                  <a:srgbClr val="ffff00"/>
                </a:solidFill>
                <a:uFillTx/>
                <a:latin typeface="Century Gothic"/>
              </a:rPr>
              <a:t>Человек</a:t>
            </a: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 – саморазвивающа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яся</a:t>
            </a: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 личность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Его нельзя научить, он учится сам;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Его можно обучать, создавая поле деятельности и среду общения для саморазвития и жизнетворчества.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179280" algn="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(Кристи Ли)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00"/>
                </a:solidFill>
                <a:latin typeface="Arial"/>
              </a:rPr>
              <a:t>Основной подход в реализации компетентностно-ориентированного обучения</a:t>
            </a:r>
            <a:endParaRPr b="0" lang="en-US" sz="29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От текста – к слову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От слова – к тексту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От слова – к пониманию авторского замысл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28760" y="64260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ffff00"/>
                </a:solidFill>
                <a:uFillTx/>
                <a:latin typeface="Century Gothic"/>
              </a:rPr>
              <a:t>Работа со словом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рисования образа слов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ассоциаций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выравнивания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«продолжи рассказ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культуроориентированного анализа слов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построения полей смыслов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3571920" y="507204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Century Gothic"/>
              </a:rPr>
              <a:t>(СЛО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6286680" y="4929120"/>
            <a:ext cx="19285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entury Gothic"/>
              </a:rPr>
              <a:t>Слова-враги (антоним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3286080" y="4071960"/>
            <a:ext cx="2714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entury Gothic"/>
              </a:rPr>
              <a:t>Слова-спутники (ассоциа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928960" y="5842080"/>
            <a:ext cx="35002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entury Gothic"/>
              </a:rPr>
              <a:t>Слова-родственники (однокорен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28800" y="4929120"/>
            <a:ext cx="1928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entury Gothic"/>
              </a:rPr>
              <a:t>Слова-друзья (синоним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Стрелка вправо 8"/>
          <p:cNvSpPr/>
          <p:nvPr/>
        </p:nvSpPr>
        <p:spPr>
          <a:xfrm>
            <a:off x="5643720" y="514368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Стрелка вправо 9"/>
          <p:cNvSpPr/>
          <p:nvPr/>
        </p:nvSpPr>
        <p:spPr>
          <a:xfrm rot="10800000">
            <a:off x="2999880" y="514332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Стрелка вправо 10"/>
          <p:cNvSpPr/>
          <p:nvPr/>
        </p:nvSpPr>
        <p:spPr>
          <a:xfrm rot="16200000">
            <a:off x="4428720" y="4785840"/>
            <a:ext cx="241560" cy="241200"/>
          </a:xfrm>
          <a:prstGeom prst="rightArrow">
            <a:avLst>
              <a:gd name="adj1" fmla="val 50000"/>
              <a:gd name="adj2" fmla="val 50075"/>
            </a:avLst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Стрелка вправо 12"/>
          <p:cNvSpPr/>
          <p:nvPr/>
        </p:nvSpPr>
        <p:spPr>
          <a:xfrm rot="5400000">
            <a:off x="4419360" y="5581440"/>
            <a:ext cx="260280" cy="241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3"/>
          <p:cNvSpPr/>
          <p:nvPr/>
        </p:nvSpPr>
        <p:spPr>
          <a:xfrm>
            <a:off x="3286080" y="2928960"/>
            <a:ext cx="2571840" cy="1191240"/>
          </a:xfrm>
          <a:prstGeom prst="rect">
            <a:avLst/>
          </a:prstGeom>
          <a:solidFill>
            <a:srgbClr val="005bd3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Что должны уметь наши уче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2428920" y="1000080"/>
            <a:ext cx="4143240" cy="1191240"/>
          </a:xfrm>
          <a:prstGeom prst="rect">
            <a:avLst/>
          </a:prstGeom>
          <a:solidFill>
            <a:srgbClr val="e4005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Gothic"/>
              </a:rPr>
              <a:t>Адекватно понимать информацию тек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Gothic"/>
              </a:rPr>
              <a:t>(тема, основная мысл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285840" y="2428920"/>
            <a:ext cx="2714400" cy="1923480"/>
          </a:xfrm>
          <a:prstGeom prst="rect">
            <a:avLst/>
          </a:prstGeom>
          <a:solidFill>
            <a:srgbClr val="e4005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Владеть различными видами монолога (повествование, описание, рассужд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6143760" y="2571840"/>
            <a:ext cx="2714400" cy="1618560"/>
          </a:xfrm>
          <a:prstGeom prst="rect">
            <a:avLst/>
          </a:prstGeom>
          <a:solidFill>
            <a:srgbClr val="e4005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Владеть разными видами чтения (поисков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ым</a:t>
            </a: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, ознакомительн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ым</a:t>
            </a: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, изучающ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им</a:t>
            </a: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2571840" y="4929120"/>
            <a:ext cx="4286160" cy="1313640"/>
          </a:xfrm>
          <a:prstGeom prst="rect">
            <a:avLst/>
          </a:prstGeom>
          <a:solidFill>
            <a:srgbClr val="e4005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Gothic"/>
              </a:rPr>
              <a:t>Соблюдать нормы построения текста (логичность, последова-тельность, связность, соот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2060"/>
                </a:solidFill>
                <a:latin typeface="Century Gothic"/>
              </a:rPr>
              <a:t>ветствие теме, типу и стил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4500720" y="4357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трелка вниз 9"/>
          <p:cNvSpPr/>
          <p:nvPr/>
        </p:nvSpPr>
        <p:spPr>
          <a:xfrm rot="16200000">
            <a:off x="5822280" y="33217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Стрелка вниз 10"/>
          <p:cNvSpPr/>
          <p:nvPr/>
        </p:nvSpPr>
        <p:spPr>
          <a:xfrm rot="5400000">
            <a:off x="2964600" y="34646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Стрелка вниз 11"/>
          <p:cNvSpPr/>
          <p:nvPr/>
        </p:nvSpPr>
        <p:spPr>
          <a:xfrm rot="10800000">
            <a:off x="4429080" y="24289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txBody>
          <a:bodyPr anchor="t">
            <a:normAutofit/>
          </a:bodyPr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Упражнения для формирования правописных умений на основе текс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Упражнения для изучения языковых понятий на текстовой основе  (преобразование данного текста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Речеведческий анализ текс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Творческая работа на уроке подготовки к изложению и сочинению (преобразование данного текста, создание собственного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Лингвистический анализ текс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Комплексная работа с текстом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Заголовок 2" descr=""/>
          <p:cNvPicPr/>
          <p:nvPr/>
        </p:nvPicPr>
        <p:blipFill>
          <a:blip r:embed="rId1"/>
          <a:stretch/>
        </p:blipFill>
        <p:spPr>
          <a:xfrm>
            <a:off x="353880" y="-36360"/>
            <a:ext cx="841212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1571760" y="1000080"/>
            <a:ext cx="5643360" cy="703800"/>
          </a:xfrm>
          <a:prstGeom prst="rect">
            <a:avLst/>
          </a:prstGeom>
          <a:solidFill>
            <a:srgbClr val="9c007f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Стилистическая принадлежность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2857680" y="1785960"/>
            <a:ext cx="328608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Пробле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357720" y="2500200"/>
            <a:ext cx="2214360" cy="131364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Коммуникативная цель, идея (основная мысль)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1000080" y="5572080"/>
            <a:ext cx="200016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икротема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3357720" y="5500800"/>
            <a:ext cx="221436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икротема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6286680" y="5500800"/>
            <a:ext cx="200016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икротема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285840" y="3429000"/>
            <a:ext cx="2143080" cy="1008720"/>
          </a:xfrm>
          <a:prstGeom prst="rect">
            <a:avLst/>
          </a:prstGeom>
          <a:solidFill>
            <a:srgbClr val="9c007f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Способы языкового выра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6500880" y="3429000"/>
            <a:ext cx="2286000" cy="703800"/>
          </a:xfrm>
          <a:prstGeom prst="rect">
            <a:avLst/>
          </a:prstGeom>
          <a:solidFill>
            <a:srgbClr val="9c007f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собенности посторо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285840" y="2071800"/>
            <a:ext cx="1714320" cy="642600"/>
          </a:xfrm>
          <a:prstGeom prst="rect">
            <a:avLst/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Авторская пози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6929280" y="2071800"/>
            <a:ext cx="1714680" cy="642600"/>
          </a:xfrm>
          <a:prstGeom prst="rect">
            <a:avLst/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Жанр и компози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Прямая со стрелкой 15"/>
          <p:cNvCxnSpPr/>
          <p:nvPr/>
        </p:nvCxnSpPr>
        <p:spPr>
          <a:xfrm flipH="1">
            <a:off x="5357520" y="2143080"/>
            <a:ext cx="714960" cy="25725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0" name="Прямая со стрелкой 29"/>
          <p:cNvCxnSpPr/>
          <p:nvPr/>
        </p:nvCxnSpPr>
        <p:spPr>
          <a:xfrm>
            <a:off x="2857680" y="2214360"/>
            <a:ext cx="786240" cy="250092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1" name="Прямая со стрелкой 33"/>
          <p:cNvCxnSpPr/>
          <p:nvPr/>
        </p:nvCxnSpPr>
        <p:spPr>
          <a:xfrm flipH="1">
            <a:off x="4500360" y="1428840"/>
            <a:ext cx="10080" cy="4197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2" name="Прямая со стрелкой 35"/>
          <p:cNvCxnSpPr>
            <a:endCxn id="323" idx="0"/>
          </p:cNvCxnSpPr>
          <p:nvPr/>
        </p:nvCxnSpPr>
        <p:spPr>
          <a:xfrm flipH="1">
            <a:off x="4463640" y="5214960"/>
            <a:ext cx="46800" cy="2865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3" name="Прямая со стрелкой 37"/>
          <p:cNvCxnSpPr/>
          <p:nvPr/>
        </p:nvCxnSpPr>
        <p:spPr>
          <a:xfrm flipV="1">
            <a:off x="4500720" y="3928320"/>
            <a:ext cx="2160" cy="85788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4" name="Прямая со стрелкой 40"/>
          <p:cNvCxnSpPr/>
          <p:nvPr/>
        </p:nvCxnSpPr>
        <p:spPr>
          <a:xfrm flipH="1">
            <a:off x="2499480" y="5142600"/>
            <a:ext cx="1143720" cy="4244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5" name="Прямая со стрелкой 43"/>
          <p:cNvCxnSpPr/>
          <p:nvPr/>
        </p:nvCxnSpPr>
        <p:spPr>
          <a:xfrm>
            <a:off x="5357880" y="5143680"/>
            <a:ext cx="1286640" cy="3578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6" name="Прямая со стрелкой 46"/>
          <p:cNvCxnSpPr>
            <a:stCxn id="323" idx="1"/>
          </p:cNvCxnSpPr>
          <p:nvPr/>
        </p:nvCxnSpPr>
        <p:spPr>
          <a:xfrm flipH="1" flipV="1">
            <a:off x="1999440" y="4571280"/>
            <a:ext cx="1358280" cy="112932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7" name="Прямая со стрелкой 49"/>
          <p:cNvCxnSpPr>
            <a:stCxn id="323" idx="3"/>
          </p:cNvCxnSpPr>
          <p:nvPr/>
        </p:nvCxnSpPr>
        <p:spPr>
          <a:xfrm flipV="1">
            <a:off x="5571720" y="4214160"/>
            <a:ext cx="1715400" cy="14864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8" name="Прямая со стрелкой 52"/>
          <p:cNvCxnSpPr/>
          <p:nvPr/>
        </p:nvCxnSpPr>
        <p:spPr>
          <a:xfrm flipV="1">
            <a:off x="8072280" y="4214520"/>
            <a:ext cx="215280" cy="12866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9" name="Прямая со стрелкой 56"/>
          <p:cNvCxnSpPr>
            <a:stCxn id="324" idx="1"/>
          </p:cNvCxnSpPr>
          <p:nvPr/>
        </p:nvCxnSpPr>
        <p:spPr>
          <a:xfrm flipH="1" flipV="1">
            <a:off x="2428560" y="4500000"/>
            <a:ext cx="3858480" cy="120060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sp>
        <p:nvSpPr>
          <p:cNvPr id="340" name="TextBox 6"/>
          <p:cNvSpPr/>
          <p:nvPr/>
        </p:nvSpPr>
        <p:spPr>
          <a:xfrm>
            <a:off x="3500280" y="4786200"/>
            <a:ext cx="207180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Тема 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1" name="Прямая со стрелкой 59"/>
          <p:cNvCxnSpPr/>
          <p:nvPr/>
        </p:nvCxnSpPr>
        <p:spPr>
          <a:xfrm flipH="1" flipV="1">
            <a:off x="428400" y="4500360"/>
            <a:ext cx="714960" cy="107208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2" name="Прямая со стрелкой 61"/>
          <p:cNvCxnSpPr/>
          <p:nvPr/>
        </p:nvCxnSpPr>
        <p:spPr>
          <a:xfrm flipH="1">
            <a:off x="1142640" y="2786040"/>
            <a:ext cx="10080" cy="63432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3" name="Прямая со стрелкой 63"/>
          <p:cNvCxnSpPr/>
          <p:nvPr/>
        </p:nvCxnSpPr>
        <p:spPr>
          <a:xfrm flipH="1">
            <a:off x="7786440" y="2786040"/>
            <a:ext cx="10080" cy="63432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4" name="Прямая со стрелкой 64"/>
          <p:cNvCxnSpPr/>
          <p:nvPr/>
        </p:nvCxnSpPr>
        <p:spPr>
          <a:xfrm>
            <a:off x="4500720" y="2286000"/>
            <a:ext cx="10080" cy="2865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5" name="Прямая со стрелкой 73"/>
          <p:cNvCxnSpPr>
            <a:endCxn id="328" idx="1"/>
          </p:cNvCxnSpPr>
          <p:nvPr/>
        </p:nvCxnSpPr>
        <p:spPr>
          <a:xfrm flipV="1">
            <a:off x="5572080" y="2394720"/>
            <a:ext cx="1357920" cy="6771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6" name="Прямая со стрелкой 75"/>
          <p:cNvCxnSpPr>
            <a:stCxn id="327" idx="3"/>
          </p:cNvCxnSpPr>
          <p:nvPr/>
        </p:nvCxnSpPr>
        <p:spPr>
          <a:xfrm>
            <a:off x="1999800" y="2395440"/>
            <a:ext cx="1358280" cy="5342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sp>
        <p:nvSpPr>
          <p:cNvPr id="347" name="Text Box 38"/>
          <p:cNvSpPr/>
          <p:nvPr/>
        </p:nvSpPr>
        <p:spPr>
          <a:xfrm>
            <a:off x="1332000" y="0"/>
            <a:ext cx="6337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Модель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Комплексный анализ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Содержимое 1" descr=""/>
          <p:cNvPicPr/>
          <p:nvPr/>
        </p:nvPicPr>
        <p:blipFill>
          <a:blip r:embed="rId1"/>
          <a:stretch/>
        </p:blipFill>
        <p:spPr>
          <a:xfrm>
            <a:off x="450720" y="1305000"/>
            <a:ext cx="8437680" cy="4699080"/>
          </a:xfrm>
          <a:prstGeom prst="rect">
            <a:avLst/>
          </a:prstGeom>
          <a:ln w="0">
            <a:noFill/>
          </a:ln>
        </p:spPr>
      </p:pic>
      <p:pic>
        <p:nvPicPr>
          <p:cNvPr id="349" name="Заголовок 2" descr=""/>
          <p:cNvPicPr/>
          <p:nvPr/>
        </p:nvPicPr>
        <p:blipFill>
          <a:blip r:embed="rId2"/>
          <a:stretch/>
        </p:blipFill>
        <p:spPr>
          <a:xfrm>
            <a:off x="450720" y="-103320"/>
            <a:ext cx="8242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493560" y="-5544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29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У большинства учащихся сформировалась положительная мотивация изучения русского языка и литературы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Более эффективно проходит развитие интеллектуальных умений и навыков уч-ся, формируется умение творческого подхода к решению учебных задач, совершенствуется речевое развити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Обогащается культурный баланс, что позволяет учащимся добываться реальных успехов в создании собственных тексто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841860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285840" y="2071800"/>
          <a:ext cx="8651880" cy="370980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  <a:gridCol w="785880"/>
                <a:gridCol w="1071720"/>
                <a:gridCol w="928440"/>
                <a:gridCol w="928800"/>
                <a:gridCol w="1050840"/>
                <a:gridCol w="1100160"/>
                <a:gridCol w="9288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Писало рабо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% успевае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% ка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содер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грам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Творч зад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содер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грамот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Творч зад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sp>
        <p:nvSpPr>
          <p:cNvPr id="354" name="TextBox 5"/>
          <p:cNvSpPr/>
          <p:nvPr/>
        </p:nvSpPr>
        <p:spPr>
          <a:xfrm>
            <a:off x="2000160" y="1500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Экзаменационное из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292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447840" indent="0" algn="ctr"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В своей работе использую: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150000"/>
              </a:lnSpc>
              <a:spcBef>
                <a:spcPts val="799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компетентностно-ориентированный подход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150000"/>
              </a:lnSpc>
              <a:spcBef>
                <a:spcPts val="799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здоровьесберегащие технолог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 algn="ctr">
              <a:lnSpc>
                <a:spcPct val="15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21420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Учебный процесс ориентирован на личность ученика, на развитие и реализацию задатков каждого. Для успешного решения образовательных задач используются определенные технологи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2644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2644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2644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357120" y="3857760"/>
            <a:ext cx="2714760" cy="1557000"/>
          </a:xfrm>
          <a:prstGeom prst="rect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Причины использования педагогических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3429000" y="2714760"/>
            <a:ext cx="542916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Необходимость учета и использования психофизических особенностей учащих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3571920" y="3929040"/>
            <a:ext cx="53578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Замена малоэффективного вербального способа передачи знаний деятельным подход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3429000" y="5214960"/>
            <a:ext cx="53578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Возможность воздействия учителя на ученика, обеспечивающа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чественные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результаты обуч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Стрелка вниз 7"/>
          <p:cNvSpPr/>
          <p:nvPr/>
        </p:nvSpPr>
        <p:spPr>
          <a:xfrm flipV="1" rot="3434400">
            <a:off x="2832480" y="3327480"/>
            <a:ext cx="711000" cy="500040"/>
          </a:xfrm>
          <a:prstGeom prst="downArrow">
            <a:avLst>
              <a:gd name="adj1" fmla="val 50000"/>
              <a:gd name="adj2" fmla="val 75861"/>
            </a:avLst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Стрелка вниз 8"/>
          <p:cNvSpPr/>
          <p:nvPr/>
        </p:nvSpPr>
        <p:spPr>
          <a:xfrm flipV="1" rot="5400000">
            <a:off x="2965320" y="4321080"/>
            <a:ext cx="712800" cy="500040"/>
          </a:xfrm>
          <a:prstGeom prst="downArrow">
            <a:avLst>
              <a:gd name="adj1" fmla="val 50000"/>
              <a:gd name="adj2" fmla="val 75861"/>
            </a:avLst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Стрелка вниз 9"/>
          <p:cNvSpPr/>
          <p:nvPr/>
        </p:nvSpPr>
        <p:spPr>
          <a:xfrm flipV="1" rot="7297200">
            <a:off x="2828880" y="5470200"/>
            <a:ext cx="712800" cy="500040"/>
          </a:xfrm>
          <a:prstGeom prst="downArrow">
            <a:avLst>
              <a:gd name="adj1" fmla="val 50000"/>
              <a:gd name="adj2" fmla="val 75861"/>
            </a:avLst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2" descr=""/>
          <p:cNvPicPr/>
          <p:nvPr/>
        </p:nvPicPr>
        <p:blipFill>
          <a:blip r:embed="rId1"/>
          <a:stretch/>
        </p:blipFill>
        <p:spPr>
          <a:xfrm>
            <a:off x="420840" y="158760"/>
            <a:ext cx="8485200" cy="1279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79280" y="184464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spcAft>
                <a:spcPts val="7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Сохранение и укрепление здоровья учащихся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24"/>
              </a:spcBef>
              <a:spcAft>
                <a:spcPts val="7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Формирование </a:t>
            </a: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потребностей в</a:t>
            </a: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 здорово</a:t>
            </a: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образ</a:t>
            </a: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 жизни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24"/>
              </a:spcBef>
              <a:spcAft>
                <a:spcPts val="7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Повышение успеваемости и качества знаний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24"/>
              </a:spcBef>
              <a:spcAft>
                <a:spcPts val="7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Повышение активности и самостоятель-ности, развитие познавательного интерес</a:t>
            </a: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321760" cy="519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2071800" y="714240"/>
            <a:ext cx="4429080" cy="459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1ff"/>
                </a:solidFill>
                <a:latin typeface="Century Gothic"/>
              </a:rPr>
              <a:t>Физи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14200" y="1357200"/>
            <a:ext cx="4500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005f"/>
                </a:solidFill>
                <a:latin typeface="Century Gothic"/>
              </a:rPr>
              <a:t>Грамотно построенное занятие, распределение интенсивности умственной деятельности, релаксация, рефлек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14200" y="2928960"/>
            <a:ext cx="4500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Использование приемов кинезиологии (наука о развитии умственных способностей и достижении физического здоровья через упражнения – программа «Гимнастика мозга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14200" y="5072040"/>
            <a:ext cx="4429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005f"/>
                </a:solidFill>
                <a:latin typeface="Century Gothic"/>
              </a:rPr>
              <a:t>Дыхательные упражнения (для концентрации внимания, сглаживания эмоционального фона, для поднятия настро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4857840" y="1428840"/>
            <a:ext cx="400032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Особенности каналов восприят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4e005f"/>
                </a:solidFill>
                <a:uFillTx/>
                <a:latin typeface="Century Gothic"/>
              </a:rPr>
              <a:t>Левополушарны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 - словесно-логический стиль познавательных проце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4e005f"/>
                </a:solidFill>
                <a:uFillTx/>
                <a:latin typeface="Century Gothic"/>
              </a:rPr>
              <a:t>Правополушарны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 – конкретно-образное мыш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4e005f"/>
                </a:solidFill>
                <a:uFillTx/>
                <a:latin typeface="Century Gothic"/>
              </a:rPr>
              <a:t>Равнополушарны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 – отсутствие ярко выраженного доминирования одного из полуша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4857840" y="5000760"/>
            <a:ext cx="40719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Аудиальное восприятие</a:t>
            </a:r>
            <a:r>
              <a:rPr b="0" lang="ru-RU" sz="1800" spc="-1" strike="noStrike">
                <a:solidFill>
                  <a:srgbClr val="4e005f"/>
                </a:solidFill>
                <a:latin typeface="Arial"/>
              </a:rPr>
              <a:t> визуальное восприяти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 кинес</a:t>
            </a:r>
            <a:r>
              <a:rPr b="0" lang="ru-RU" sz="1800" spc="-1" strike="noStrike">
                <a:solidFill>
                  <a:srgbClr val="4e005f"/>
                </a:solidFill>
                <a:latin typeface="Arial"/>
              </a:rPr>
              <a:t>т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тическое воспри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Прямая со стрелкой 11"/>
          <p:cNvCxnSpPr/>
          <p:nvPr/>
        </p:nvCxnSpPr>
        <p:spPr>
          <a:xfrm flipH="1">
            <a:off x="1571040" y="928800"/>
            <a:ext cx="500760" cy="357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240" name="Прямая со стрелкой 12"/>
          <p:cNvCxnSpPr/>
          <p:nvPr/>
        </p:nvCxnSpPr>
        <p:spPr>
          <a:xfrm>
            <a:off x="6500880" y="928440"/>
            <a:ext cx="367200" cy="438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241" name="Прямая со стрелкой 14"/>
          <p:cNvCxnSpPr/>
          <p:nvPr/>
        </p:nvCxnSpPr>
        <p:spPr>
          <a:xfrm flipH="1">
            <a:off x="2285640" y="2571840"/>
            <a:ext cx="10080" cy="357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242" name="Прямая со стрелкой 19"/>
          <p:cNvCxnSpPr/>
          <p:nvPr/>
        </p:nvCxnSpPr>
        <p:spPr>
          <a:xfrm flipH="1">
            <a:off x="2356560" y="4714920"/>
            <a:ext cx="10440" cy="357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243" name="Прямая со стрелкой 20"/>
          <p:cNvCxnSpPr/>
          <p:nvPr/>
        </p:nvCxnSpPr>
        <p:spPr>
          <a:xfrm flipH="1">
            <a:off x="6857640" y="4572000"/>
            <a:ext cx="10080" cy="357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285840" y="285840"/>
            <a:ext cx="84294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Century Gothic"/>
              </a:rPr>
              <a:t>Психологические здоровьесберегающие компон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250920" y="1557360"/>
            <a:ext cx="3214440" cy="19234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Доброжелательн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психологически комфортная обстановка, снятие эмоционального напря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564000" y="1571760"/>
            <a:ext cx="2722680" cy="1923480"/>
          </a:xfrm>
          <a:prstGeom prst="rect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Индивидуально-дифференцирова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ный подход в обуч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6357960" y="1571760"/>
            <a:ext cx="2357280" cy="1923480"/>
          </a:xfrm>
          <a:prstGeom prst="rect">
            <a:avLst/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Ситуация успеха «успех порождает успе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785880" y="3786120"/>
            <a:ext cx="7715160" cy="146556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гровые 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нициация разнообразных видов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нтеграция различных видов искус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Стрелка вправо 8"/>
          <p:cNvSpPr/>
          <p:nvPr/>
        </p:nvSpPr>
        <p:spPr>
          <a:xfrm rot="5400000">
            <a:off x="1407600" y="3235320"/>
            <a:ext cx="357480" cy="887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51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13840" y="200016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Century Gothic"/>
              </a:rPr>
              <a:t>Образовательные технологии здоровьесберегающей направленности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entury Gothic"/>
              </a:rPr>
              <a:t>Игровые технолог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Century Gothic"/>
              </a:rPr>
              <a:t>Технологии развивающего обучени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entury Gothic"/>
              </a:rPr>
              <a:t>Проблемное обуче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entury Gothic"/>
              </a:rPr>
              <a:t>Технология уровневой дифференциац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13840" y="1809360"/>
            <a:ext cx="89298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учета индивидуальных особенностей и возможносте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гибкой организации учебной деятельности учащегося в зависимости от целей урока и его этап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развития коммуникативных способностей личност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использования разнообразного дидактического материала, позволяющего учащемуся проявлять личную избирательность к типу, виду и форме учебного материал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развития потребностно-мотивационной сферы личности учащегос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активизации субъективного опыта ученика, его использование в процессе уро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39640" y="333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Принципы здоровьесберегающи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9:28:05Z</dcterms:created>
  <dc:creator>Катюшка</dc:creator>
  <dc:description/>
  <dc:language>en-US</dc:language>
  <cp:lastModifiedBy>Краснов</cp:lastModifiedBy>
  <dcterms:modified xsi:type="dcterms:W3CDTF">2012-10-30T12:44:23Z</dcterms:modified>
  <cp:revision>63</cp:revision>
  <dc:subject/>
  <dc:title>Отчет по систематическому использованию современных образовательных технологий</dc:title>
</cp:coreProperties>
</file>