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gif" ContentType="image/gif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E97-45E6-4A8A-9A95-62549492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A32-8D36-4C80-AC57-CC5121D1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418-3BC9-4138-8398-C54F4A6B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F04-4B3C-4F30-9FB2-FD130BAA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3066-0D1A-4F26-A5A1-36022F9A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F149-0F79-4313-93F9-3EE1F2FF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A2B0-5A37-4F18-9A9B-19712AB1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6B8B-3E58-49BE-BE52-C875CBD8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2326-A05F-4FFD-BFDD-8A6AF62D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A86D-1E54-42AC-AE86-B49F9238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5E33-DCAD-4AE9-8674-9F90D9EB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62E-FCC4-494C-B286-8809B5DC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5CB4-3658-4CAD-8A4F-CCC8F82B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87FC-AE2E-4C32-8720-BD49F04C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91E3-C4F4-4256-AC3C-8488D830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6929-173D-4817-B763-FC83B545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DE49-33A6-47F3-936C-A9BDC4E2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4AD-A626-4ADD-A0AF-61E0D1F5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7E3-0BB3-4AC9-B57A-0C246769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4AB-3434-46FA-8E9B-6C5DA10B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A97-E6FF-4BB9-A5DC-F176878C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5D2-DB8C-4CA6-81C9-2FC25DCB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5B4-CD97-460B-AA35-AE15A102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A43-DA76-401E-87B2-F8B7864F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A8CB-DD69-4396-98C3-CF3E7D3BB838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B47F-41ED-48C0-B118-4B51CF3B85D5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Складываем и вычитаем числа.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Сложение и вычитание в пределах 10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синица" descr=""/>
          <p:cNvPicPr/>
          <p:nvPr/>
        </p:nvPicPr>
        <p:blipFill>
          <a:blip r:embed="rId1"/>
          <a:stretch/>
        </p:blipFill>
        <p:spPr>
          <a:xfrm>
            <a:off x="0" y="-1371600"/>
            <a:ext cx="91440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мудрая%20сова" descr=""/>
          <p:cNvPicPr/>
          <p:nvPr/>
        </p:nvPicPr>
        <p:blipFill>
          <a:blip r:embed="rId1"/>
          <a:stretch/>
        </p:blipFill>
        <p:spPr>
          <a:xfrm>
            <a:off x="0" y="-609480"/>
            <a:ext cx="929628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Times New Roman"/>
              </a:rPr>
              <a:t>Лесная школ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2" name="птицы%20летят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9525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негирь" descr="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104" name="сорока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дятел" descr=""/>
          <p:cNvPicPr/>
          <p:nvPr/>
        </p:nvPicPr>
        <p:blipFill>
          <a:blip r:embed="rId3"/>
          <a:stretch/>
        </p:blipFill>
        <p:spPr>
          <a:xfrm>
            <a:off x="4648320" y="3276720"/>
            <a:ext cx="4495680" cy="3581280"/>
          </a:xfrm>
          <a:prstGeom prst="rect">
            <a:avLst/>
          </a:prstGeom>
          <a:ln w="0">
            <a:noFill/>
          </a:ln>
        </p:spPr>
      </p:pic>
      <p:pic>
        <p:nvPicPr>
          <p:cNvPr id="106" name="синица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рока" descr=""/>
          <p:cNvPicPr/>
          <p:nvPr/>
        </p:nvPicPr>
        <p:blipFill>
          <a:blip r:embed="rId1"/>
          <a:stretch/>
        </p:blipFill>
        <p:spPr>
          <a:xfrm>
            <a:off x="152280" y="0"/>
            <a:ext cx="772344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13,10,16,7,11,14,15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дятел1" descr=""/>
          <p:cNvPicPr/>
          <p:nvPr/>
        </p:nvPicPr>
        <p:blipFill>
          <a:blip r:embed="rId1"/>
          <a:stretch/>
        </p:blipFill>
        <p:spPr>
          <a:xfrm>
            <a:off x="-380880" y="0"/>
            <a:ext cx="10134360" cy="78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0"/>
            <a:ext cx="5638680" cy="14479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ff"/>
                </a:solidFill>
                <a:latin typeface="Arial"/>
              </a:rPr>
              <a:t>Вращение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647960" cy="5105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0" y="155736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1752480"/>
            <a:ext cx="37339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Не двигая головой, начинайте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ращать глазами сначал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по часовой стрелке, потом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 обратную сторону. По 10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раз туда и обратно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180080" y="570600"/>
            <a:ext cx="7698240" cy="687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ff"/>
                </a:solidFill>
                <a:latin typeface="Arial"/>
              </a:rPr>
              <a:t>Во все стороны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386856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57800" y="2286000"/>
            <a:ext cx="3276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Не поворачива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головы, двигайте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глазами вверх – вниз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право – влево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По 10 – 15 раз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3095640" cy="1643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flipH="1">
            <a:off x="5866920" y="228600"/>
            <a:ext cx="2708280" cy="2752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62320" y="3006720"/>
            <a:ext cx="3456000" cy="3851280"/>
          </a:xfrm>
          <a:prstGeom prst="rect">
            <a:avLst/>
          </a:prstGeom>
          <a:solidFill>
            <a:srgbClr val="ecd9c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666880" y="3429000"/>
            <a:ext cx="50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3352680"/>
            <a:ext cx="792000" cy="1008360"/>
          </a:xfrm>
          <a:prstGeom prst="rect">
            <a:avLst/>
          </a:prstGeom>
          <a:solidFill>
            <a:srgbClr val="ecd9c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4495680"/>
            <a:ext cx="792000" cy="1008360"/>
          </a:xfrm>
          <a:prstGeom prst="rect">
            <a:avLst/>
          </a:prstGeom>
          <a:solidFill>
            <a:srgbClr val="ecd9c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29200" y="4648320"/>
            <a:ext cx="43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5638680"/>
            <a:ext cx="792000" cy="1008360"/>
          </a:xfrm>
          <a:prstGeom prst="rect">
            <a:avLst/>
          </a:prstGeom>
          <a:solidFill>
            <a:srgbClr val="ecd9c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29200" y="5791320"/>
            <a:ext cx="431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33920" y="1828800"/>
            <a:ext cx="718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82c00"/>
                </a:solidFill>
                <a:latin typeface="Impact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582c00"/>
              </a:solidFill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447920"/>
            <a:ext cx="4392720" cy="158436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33920" y="1828800"/>
            <a:ext cx="718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82c00"/>
                </a:solidFill>
                <a:latin typeface="Impact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582c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негирь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09-12-19T16:01:10Z</dcterms:modified>
  <cp:revision>10</cp:revision>
  <dc:subject/>
  <dc:title>PowerPoint Presentation</dc:title>
</cp:coreProperties>
</file>