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gif" ContentType="image/gif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845-B8AC-40CF-B50E-6F09B345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A10-0B59-43B0-AF94-CB9B193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965-76BF-48C1-9652-5460F50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3AD-34CF-4631-BA0B-3142ECE8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5CA-F652-47DB-93B5-BC66A735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008-A044-450B-9786-FB5389D9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B9C-7FFA-4191-AC37-B0BBE2C9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6D1-F6D0-4EC8-9B10-E77EC92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524-2D96-4A69-9F91-CFD463E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E75-9295-492E-BD75-211E5FE0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407-DB46-40EA-BE5A-0790B67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A5E-2FC0-4502-8534-A2B69CD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D4B7-3B08-4EAB-BFDA-1EA5571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C3D9-6C32-40E2-A9FB-04CA8FA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CC91-466A-4710-832E-EEB2FCD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6D5-122D-445E-A892-84903C4A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255-F89B-4DBA-A7A2-EF1A29F4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D55-0D91-4E07-9AAF-0E5788D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D33-DE30-497E-A138-AD5BB280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05D-8B8E-434D-A6AC-A3B1952B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585-3DBF-4FA4-917D-F6E0972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BB0-1702-4BEB-8746-D46D3E8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A25-AD2D-4C69-BD1E-B3E49B0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7CB-D9EC-4ACE-9C20-C28BE0D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545-958D-4E52-B13A-D1653AD143A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CDC-F909-4142-966D-5FD113AFDC3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кладываем и вычитаем числа.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ложение и вычитание в пределах 10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иница" descr=""/>
          <p:cNvPicPr/>
          <p:nvPr/>
        </p:nvPicPr>
        <p:blipFill>
          <a:blip r:embed="rId1"/>
          <a:stretch/>
        </p:blipFill>
        <p:spPr>
          <a:xfrm>
            <a:off x="0" y="-137160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мудрая%20сова" descr=""/>
          <p:cNvPicPr/>
          <p:nvPr/>
        </p:nvPicPr>
        <p:blipFill>
          <a:blip r:embed="rId1"/>
          <a:stretch/>
        </p:blipFill>
        <p:spPr>
          <a:xfrm>
            <a:off x="0" y="-609480"/>
            <a:ext cx="9296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imes New Roman"/>
              </a:rPr>
              <a:t>Лесная шко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2" name="птицы%20летят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9525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негирь" descr="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сорока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дятел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06" name="синица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рока" descr=""/>
          <p:cNvPicPr/>
          <p:nvPr/>
        </p:nvPicPr>
        <p:blipFill>
          <a:blip r:embed="rId1"/>
          <a:stretch/>
        </p:blipFill>
        <p:spPr>
          <a:xfrm>
            <a:off x="152280" y="0"/>
            <a:ext cx="772344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3,10,16,7,11,14,15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дятел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13436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0"/>
            <a:ext cx="5638680" cy="1447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ращение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647960" cy="51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155736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752480"/>
            <a:ext cx="3733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двигая головой, начинайт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ращать глазами снача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 часовой стрелке, пото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 обратную сторону. По 1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аз туда и обратно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80080" y="570600"/>
            <a:ext cx="7698240" cy="687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ff"/>
                </a:solidFill>
                <a:latin typeface="Arial"/>
              </a:rPr>
              <a:t>Во все стороны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8685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2286000"/>
            <a:ext cx="327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поворачива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оловы, двигайт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лазами вверх – вниз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право – влево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 10 – 15 раз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309564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flipH="1">
            <a:off x="5866920" y="228600"/>
            <a:ext cx="2708280" cy="2752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62320" y="3006720"/>
            <a:ext cx="3456000" cy="385128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66880" y="3429000"/>
            <a:ext cx="5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352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495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29200" y="4648320"/>
            <a:ext cx="43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638680"/>
            <a:ext cx="792000" cy="1008360"/>
          </a:xfrm>
          <a:prstGeom prst="rect">
            <a:avLst/>
          </a:prstGeom>
          <a:solidFill>
            <a:srgbClr val="ecd9c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9200" y="5791320"/>
            <a:ext cx="43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33920" y="1828800"/>
            <a:ext cx="718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2c00"/>
                </a:solidFill>
                <a:latin typeface="Impact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2c00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447920"/>
            <a:ext cx="4392720" cy="15843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33920" y="1828800"/>
            <a:ext cx="718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2c00"/>
                </a:solidFill>
                <a:latin typeface="Impact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2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негирь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12-19T16:01:10Z</dcterms:modified>
  <cp:revision>10</cp:revision>
  <dc:subject/>
  <dc:title>PowerPoint Presentation</dc:title>
</cp:coreProperties>
</file>