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E75-7534-4C4B-875D-3BDB62AC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664-E719-46FB-91BF-1092592C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5F3-B50A-4F79-AE85-E26396F5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CA5-448F-405B-965F-5EDD3D62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011-4EDC-48F3-A147-D32CFE9B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5E7-0260-4741-AA85-7ED4B438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04B-5BFD-44A6-AC58-E1364C48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9E69-2E23-448B-AACA-A12E96E5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28C-89AD-444B-9AEA-FB61F53A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DA7-094B-47BA-8DDF-857A9A7E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6B0-0316-4198-BD43-0E716035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E9E-5E72-4E88-BC1C-0858F582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DDF0-F1FF-44C0-8E59-327A1FB364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тихийные бедств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ртемьева Н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читель начальных классов КНГ г.Сыктывк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172360" cy="41036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Стихийные бедствия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— катастрофические природные явления, возникающие внезапно и приводящие к нарушению повседневной жизни людей, и человеческим жертва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http://siol.sdn.si/sn/img/08/133/633462249548028209_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23640" y="274320"/>
            <a:ext cx="6048360" cy="1143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емлетряс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rcRect l="0" t="0" r="399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5661000"/>
            <a:ext cx="6202440" cy="9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звержение вулк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rcRect l="0" t="0" r="19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6360" y="259920"/>
            <a:ext cx="3924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вод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http://imagizer.imageshack.com/img540/4792/St0Q8W.jpg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32000" y="274320"/>
            <a:ext cx="375444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ун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tvkrasnodar.ru/media/k2/items/cache/c5aba44d28efa970d69d4f7d7ec869e3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5589360"/>
            <a:ext cx="332244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ав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thenews.kz/static/news/9/5/95lOE1X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8920" y="5516280"/>
            <a:ext cx="6048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есной пож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img4i.spoki.tvnet.lv/upload/articles/39/394205/images/wallpapers-45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24000" y="5373360"/>
            <a:ext cx="331164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мерч (торнад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3:52:57Z</dcterms:created>
  <dc:creator>Артемьев Владимир Эдуардович</dc:creator>
  <dc:description/>
  <dc:language>en-US</dc:language>
  <cp:lastModifiedBy>Пользователь Windows</cp:lastModifiedBy>
  <dcterms:modified xsi:type="dcterms:W3CDTF">2015-10-15T19:50:10Z</dcterms:modified>
  <cp:revision>23</cp:revision>
  <dc:subject/>
  <dc:title>Стихийные бедств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811049</vt:lpwstr>
  </property>
</Properties>
</file>