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847-766F-49DA-8A13-937B8126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0C5-0713-4F86-88F1-1E67D47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0B9-72CB-49A6-838E-DE29E35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CE8-B3A2-46B1-80AC-C011C3C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B68-0142-42FB-BC9E-FE5A285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ACB-54B4-49A0-B014-7EF641C7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C17-127E-4162-ABFD-C39F33FC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337-3994-4DCD-BF07-1DF8F5A5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377-7338-4CBE-BB36-C4538A8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90A-DE5C-4379-8616-C960B2DE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97B-9FEA-4A39-8F25-14F856F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F77-8CD7-4863-BD6C-D30B031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DE7-83F2-48B3-98BD-41F82A2E3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тихийные бедств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ртемье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КНГ г.Сыктыв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172360" cy="4103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тихийные бедствия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катастрофические природные явления, возникающие внезапно и приводящие к нарушению повседневной жизни людей, и человеческим жертва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://siol.sdn.si/sn/img/08/133/633462249548028209_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604836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емлетря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rcRect l="0" t="0" r="39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661000"/>
            <a:ext cx="6202440" cy="9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0" t="0" r="1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6360" y="259920"/>
            <a:ext cx="3924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вод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http://imagizer.imageshack.com/img540/4792/St0Q8W.jpg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ун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tvkrasnodar.ru/media/k2/items/cache/c5aba44d28efa970d69d4f7d7ec869e3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5589360"/>
            <a:ext cx="33224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а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henews.kz/static/news/9/5/95lOE1X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5516280"/>
            <a:ext cx="6048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сной пож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4i.spoki.tvnet.lv/upload/articles/39/394205/images/wallpapers-45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24000" y="5373360"/>
            <a:ext cx="33116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мерч (торнад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3:52:57Z</dcterms:created>
  <dc:creator>Артемьев Владимир Эдуардович</dc:creator>
  <dc:description/>
  <dc:language>en-US</dc:language>
  <cp:lastModifiedBy>Пользователь Windows</cp:lastModifiedBy>
  <dcterms:modified xsi:type="dcterms:W3CDTF">2015-10-15T19:50:10Z</dcterms:modified>
  <cp:revision>23</cp:revision>
  <dc:subject/>
  <dc:title>Стихийные б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11049</vt:lpwstr>
  </property>
</Properties>
</file>