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8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DD63-1A6B-4AC1-BFE4-04EC519D1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02D8-E1AE-4ABD-91F3-788F232A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E14966-057D-468E-8D57-5E4F00CD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647745-3C5C-453D-B40A-91DD2C74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28A1D2-1487-40E8-9596-628719B1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9D30DF-D8D2-468D-B6E4-9FB871AB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CC18FA-95F2-4355-A6CB-AFA428CA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D28141-4B2D-45DD-B59B-4AD0C0A2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E40600-BD33-4C5F-A620-371C72F0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2F3748-842A-4072-B941-5875C7ED7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CB29D-9A25-45E0-970E-F6B46D634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87D99F-B018-4453-AF68-AC93B3257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76DF-D969-4CEA-B204-F0A572EDF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C9761F-DEBE-46F2-B6A3-73ACD3EB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F1D142-BAB3-4021-8D15-0D9F9988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95CBC4-232A-4906-A592-67D68101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45105E-8EC5-440E-8D93-D6EEA368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FCB841-CF96-491C-9A47-77871A13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3C93A9-F819-4D17-80A1-9B917A98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DA9E41-AE85-4676-B47F-5973AFB7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33C172-7CDB-4558-867F-0660ACEB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BD6BAA-0DAD-4C98-9F4B-1331F56C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DEB132-684F-4CC7-8026-E0272B2B5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6EEF-AF69-4662-8A63-C7966F49A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3A4EFF-7A83-4BCD-8449-0B2646DAF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F130E-B5C5-4A57-B3D2-01D4C03C0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D9E36-EC6B-4F19-8A3D-429337BE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61F9E-A2EF-420A-844B-F1E6B098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3C4BA-5961-4014-BB14-F987863D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8D5961-5632-4FFB-ACEB-B397CAC8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A8253-EED8-4DA3-BA6D-E32DC075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36BF7-5697-4E97-9A66-AB5997FB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52974F-7669-499C-B6AC-3358254C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FDD945-A7A9-4FCC-9028-C21BE88C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4ACD-271C-48A2-A752-A30B60761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34906C-0AF5-4F41-8342-365A0998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C93C99-0E39-459C-B321-219370B2F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F9B08C-F8E4-4286-B7AB-6FCC6238C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9379FF-C494-4E47-9519-C3DB45C21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C4282F-54DE-424C-8896-96A9663D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D07C97-8C6B-4D70-BEA8-9B23B4EA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385AC8-0ED6-4A47-9956-B847C338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FA5432-947F-45F9-B6A2-C1417CF5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486E2A-E67F-49A8-B006-3CFE6FEC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3DB276-8701-44D2-A95A-9B818EA2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0860-12DC-4A4C-90EB-DAD4B340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E34B4C-6167-42A9-97BD-AAC2F732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33E5F2-FB18-48D2-9F23-6FEF77E5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C12657-54BF-4E77-8BA8-E3DBD4CE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B4629B-F5A5-4FA6-8383-8688E1900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15F2F8-4E9B-4891-A7D5-3D07A7BD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B598-0C74-4FEA-9FA9-FFBC4FAD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D00AF-B0C5-422E-BC36-28EA5C2D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CD48-F80E-450F-82FE-9AD0738E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FF3C-CCFD-40AC-8160-B48CCDBC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FD0B0-32FB-4E53-8BD3-2B2E2E5E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838A-9DC7-4741-A943-CF9F9990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45AB-02CD-4507-B2FA-3CC22A64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8CBE-70F4-424E-955E-F8D701E7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0EBC-A1CF-4C39-BAE6-5C2415DD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0E99-96EA-4E92-9E0D-FD9F4FE5B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CD41C-668A-4A9D-BB64-0E2BD370E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D1676-1217-42B8-9FA0-646DAD500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6FDDE-6DAF-4E3C-9EDB-5BD3D8FB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10031-9867-49DD-B405-7FF5F71A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5A3A3-E08E-441E-B38B-FF4ACEA0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BD513-7DFB-44B4-B7C9-575DC92C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5417-AD55-411F-A39C-6071368C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31BB6-3E01-4F0A-8345-96225F58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723D8-C472-46CB-B53B-DEFD9964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0E9F6-62FA-4C08-BC7C-C50939F6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7C339-7152-4F21-9CBE-31D81F58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1ED2F-7993-4E4D-A3E7-60884A77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FF2EA-392B-48BD-9090-9164A3450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BD9A0-02C7-4537-8054-5F985F15A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D9FBB-934A-4DCC-B670-AAD1CFE46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999F7-7609-4EEC-980B-5F122C51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E17F4-1F5A-4A0F-9BFA-596DFC40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76C7-8656-46A9-B81B-A300E9C1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40C4F-05BF-41F0-9196-7B5252F4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09656-1EE6-45E7-BD69-4D5ACD4A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783B9-54B6-4919-A553-11DA1FE2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3DE31-949B-4C86-B60B-D5AFDA73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28D6A-7FE7-48C8-9341-4741AF84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6E1D2-74F2-4434-926C-90536CF9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27ED3-922E-47F9-9FC5-EA299EF1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009B6-5B13-4B48-A349-9D4120968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4CD71-3C9C-412B-99F8-5DDFA7A4D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1DA1F-F693-45F6-9A56-C92DCD539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64C0-9FF5-4881-A8CB-6F638809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B54A9-2E6A-46CB-BB87-29701980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FAA60-F936-46B8-A7F8-70759853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41DFD-FEF0-4759-9391-42AFFD83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28152-2311-48AC-B99F-D0225D4E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FF905-35E1-4D05-891F-93404244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C16CE-6BDE-4A9C-A3BE-3A294348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C13F3-2B7A-4619-A885-44D201B2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4576B-CB53-461C-8025-D5FE677D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DF5EC-B8F5-42FE-AA96-7CA5C659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731AB-B17D-4321-8364-28E481B4D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7D18-9F47-44B8-B4E0-CA0142E2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E0512-2839-4D33-BB3B-E3107EF72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50A81-41BE-41BD-9E44-8F47F2324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B6D0E-31B7-4DCE-8E29-8189F7CB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23BA0-3EE8-45BB-A587-8B7F73A9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38010-A435-4220-B3B0-CE2CC028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62139-D85D-499A-9E5F-4388E118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1D37B-C5A5-439F-B561-9D83F487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574DD-CC94-4661-BB5C-0B1E1DEA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2D35D-C647-472F-8111-5FD196B3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76915-8CBC-41FF-B70A-D7DC39AE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B3CA-A6D6-4087-9465-EDDEC424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49BBA-B191-47E0-8B98-6D812BF0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37D65-1336-4BA3-89FD-E423D3FDD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8FA33-930B-4E86-9F00-886F7D7F5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BC04B-81D2-4768-9E0D-455C3A1ED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F0923-E1D0-4315-AB8C-DDC615D4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27C94-986C-441A-9AC3-C1519FDA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D7CF5-0C38-4651-88E9-0CD3BDE6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FFC7C-F459-489F-9DEB-C93BB6D0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884C6-FEBE-40B7-BA0D-A8B54D91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01869-E987-40E3-BA3D-9F41D05D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48F9-34CA-4F50-9F94-165F2A8D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868D4-3C6E-4DA3-8E7D-D842D5B8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48E57-F14D-447F-8742-D18B5F39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77F76-0DFA-4DDA-9605-860D6214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65EC0-0F5E-4B92-A5A7-B4A6D6DBD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1A92E-BB8B-4291-9875-AC7DA35ED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31D3A-AC78-4F21-B238-031BCF40B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99D3F-067B-4142-B13F-982CC249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B0371-91F7-4302-BF1C-2FAEC764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C97C2-ED17-4F3A-9E1C-AB26820F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9159A-937A-41DB-A0F0-48AD6861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D848-88B3-4B36-A89A-617FD071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535B4-498D-4762-9ED1-4F45EE0E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E4F69-EE2E-4D84-8874-3C85A8AB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D64DB-5CB3-4D7E-B643-9470E6C0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45067-CFD9-47CB-BBC5-395E9068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73ABD-7971-41FD-9E41-51EDA69A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A9B6D-72F0-46B8-B6C6-56EFB653F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C1178-ADEB-49A1-9C63-B152927C8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005DD7-6612-4F4D-89F0-F63780B31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59AE5-99AA-448A-A3B0-D7434A6B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0F8AF3-0637-4D7C-BFD7-55FC4A9D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3FE8-C3FD-456E-B1F2-A0315FB2D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2BA9-604C-4170-B168-CCE0D6A9A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360F-581A-42B6-9F9C-8DC4C4970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363D-9974-4933-A605-18F92E133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3EC2-182D-45E0-B923-13747E39E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08DB-FAC4-4A9F-AFB3-20EE1A271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2B23-263D-4A37-A0A4-366F603DE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04D9-B9F5-4B60-83DC-320D8202D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32F5-0035-47BF-B08F-2CF8A20E3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8AAF-6378-4F64-AA4E-3F09789A7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7525-2B31-4B18-8735-ADEC9028D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027D-F854-40B6-BDF0-D9313E50F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0033cc"/>
                </a:solidFill>
                <a:latin typeface="Monotype Corsiva"/>
              </a:rPr>
              <a:t>Священное Писание </a:t>
            </a:r>
            <a:br>
              <a:rPr sz="5400"/>
            </a:br>
            <a:r>
              <a:rPr b="1" lang="ru-RU" sz="5400" spc="-1" strike="noStrike">
                <a:solidFill>
                  <a:srgbClr val="0033cc"/>
                </a:solidFill>
                <a:latin typeface="Monotype Corsiva"/>
              </a:rPr>
              <a:t>в пословицах и поговорках русского народ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859280" y="3500280"/>
            <a:ext cx="3594240" cy="25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716000" y="4005360"/>
            <a:ext cx="35974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Творческая работа ученика 7 класса «А» средней школы № 31 г.Таганрога Ефремова Михаи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Руководитель: учитель русского языка и литературы Ковальская В.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Picture 14" descr="55629150"/>
          <p:cNvPicPr/>
          <p:nvPr/>
        </p:nvPicPr>
        <p:blipFill>
          <a:blip r:embed="rId1"/>
          <a:stretch/>
        </p:blipFill>
        <p:spPr>
          <a:xfrm>
            <a:off x="826920" y="2852640"/>
            <a:ext cx="3275280" cy="365436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17" descr="0_74920_2950dbff_L"/>
          <p:cNvPicPr/>
          <p:nvPr/>
        </p:nvPicPr>
        <p:blipFill>
          <a:blip r:embed="rId2"/>
          <a:stretch/>
        </p:blipFill>
        <p:spPr>
          <a:xfrm>
            <a:off x="6915240" y="2060640"/>
            <a:ext cx="1841400" cy="2027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a1f02"/>
                </a:solidFill>
                <a:latin typeface="Monotype Corsiva"/>
              </a:rPr>
              <a:t>Со словами Священного Писания перекликаются русские пословицы о добре и зл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Monotype Corsiva"/>
              </a:rPr>
              <a:t>Уклоняйся от зла и делай добр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Monotype Corsiva"/>
              </a:rPr>
              <a:t>(Псалтирь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Monotype Corsiva"/>
              </a:rPr>
              <a:t>Доброго держись, а худого сторонис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Monotype Corsiva"/>
              </a:rPr>
              <a:t>Кто добро творит, тому зло не вреди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Monotype Corsiva"/>
              </a:rPr>
              <a:t>К добру мостись, а от худа пять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Monotype Corsiva"/>
              </a:rPr>
              <a:t>Добро творить – себя весели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Monotype Corsiva"/>
              </a:rPr>
              <a:t>(Русские народные пословиц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Picture 8" descr="640854_9239-800x600"/>
          <p:cNvPicPr/>
          <p:nvPr/>
        </p:nvPicPr>
        <p:blipFill>
          <a:blip r:embed="rId1"/>
          <a:stretch/>
        </p:blipFill>
        <p:spPr>
          <a:xfrm>
            <a:off x="611280" y="3213000"/>
            <a:ext cx="3959280" cy="342756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0" descr="i?id=84570913-60-72&amp;n=21"/>
          <p:cNvPicPr/>
          <p:nvPr/>
        </p:nvPicPr>
        <p:blipFill>
          <a:blip r:embed="rId2"/>
          <a:stretch/>
        </p:blipFill>
        <p:spPr>
          <a:xfrm>
            <a:off x="6372360" y="4365720"/>
            <a:ext cx="2195280" cy="1373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Monotype Corsiva"/>
              </a:rPr>
              <a:t>Священное Писание и русские пословицы говорят о роли личного примера родителей в воспитании де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a1f0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a1f02"/>
                </a:solidFill>
                <a:latin typeface="Monotype Corsiva"/>
              </a:rPr>
              <a:t>Какова мать, такова и доч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Monotype Corsiva"/>
              </a:rPr>
              <a:t>(Книга пророка Иезекиил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a1f0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a1f02"/>
                </a:solidFill>
                <a:latin typeface="Monotype Corsiva"/>
              </a:rPr>
              <a:t>Всякое дерево доброе приносит и плоды добрые, а худое дерево приносит и плоды худы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Monotype Corsiva"/>
              </a:rPr>
              <a:t>(Евангелие от Матфе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Monotype Corsiva"/>
              </a:rPr>
              <a:t>Какова матка, таковы и дет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Monotype Corsiva"/>
              </a:rPr>
              <a:t>От худого семени не жди доброго племен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Monotype Corsiva"/>
              </a:rPr>
              <a:t>Яблочко от яблони недалеко пада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Monotype Corsiva"/>
              </a:rPr>
              <a:t>(Русские народные пословицы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Picture 8" descr="i?id=236504782-32-72&amp;n=21"/>
          <p:cNvPicPr/>
          <p:nvPr/>
        </p:nvPicPr>
        <p:blipFill>
          <a:blip r:embed="rId1"/>
          <a:stretch/>
        </p:blipFill>
        <p:spPr>
          <a:xfrm>
            <a:off x="3924360" y="5229360"/>
            <a:ext cx="1771560" cy="1428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Monotype Corsiva"/>
              </a:rPr>
              <a:t>Священное Писание и русские пословицы осуждают грехи в отношении к другим людя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440" y="1557360"/>
            <a:ext cx="38098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ca1f0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a1f02"/>
                </a:solidFill>
                <a:latin typeface="Monotype Corsiva"/>
              </a:rPr>
              <a:t>Кроткое сердце – жизнь для тела, а зависть – гниль для кос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Monotype Corsiva"/>
              </a:rPr>
              <a:t>Кто радуется несчастью, тот не остаётся безнаказанны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ca1f0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a1f02"/>
                </a:solidFill>
                <a:latin typeface="Monotype Corsiva"/>
              </a:rPr>
              <a:t>Кто роет яму, тот упадёт в неё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Monotype Corsiva"/>
              </a:rPr>
              <a:t>(Из  книги «Притчи Соломон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ca1f0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a1f02"/>
                </a:solidFill>
                <a:latin typeface="Monotype Corsiva"/>
              </a:rPr>
              <a:t>Не нарушай межи ближнего твоег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Monotype Corsiva"/>
              </a:rPr>
              <a:t>(Из книги Моисея «Второзаконие»)</a:t>
            </a:r>
            <a:r>
              <a:rPr b="0" lang="ru-RU" sz="2400" spc="-1" strike="noStrike">
                <a:solidFill>
                  <a:srgbClr val="ca1f02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47960" y="1557000"/>
            <a:ext cx="38098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Monotype Corsiva"/>
              </a:rPr>
              <a:t>Завистливый сохнет от зависти, а добрый плачет от рад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a1f0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a1f02"/>
                </a:solidFill>
                <a:latin typeface="Monotype Corsiva"/>
              </a:rPr>
              <a:t>Не радуйся чужой беде: своя на гряд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Monotype Corsiva"/>
              </a:rPr>
              <a:t>Не рой другому яму – сам в неё попадёш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a1f0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a1f02"/>
                </a:solidFill>
                <a:latin typeface="Monotype Corsiva"/>
              </a:rPr>
              <a:t>Межа не стена, а передвинуть нельз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Monotype Corsiva"/>
              </a:rPr>
              <a:t>(Русские народ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Monotype Corsiva"/>
              </a:rPr>
              <a:t>пословиц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Monotype Corsiva"/>
              </a:rPr>
              <a:t>Священное Писание и русские пословицы утверждают, что доброе сердце и верная дружба бесценны, они поддерживают человека в жизненных трудност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ca1f0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a1f02"/>
                </a:solidFill>
                <a:latin typeface="Monotype Corsiva"/>
              </a:rPr>
              <a:t>Верный друг – крепкая защита: кто нашёл его, тот нашёл сокровищ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Monotype Corsiva"/>
              </a:rPr>
              <a:t>Не оставляй старого друга, ибо новый не может сравниться с ни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ca1f0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a1f02"/>
                </a:solidFill>
                <a:latin typeface="Monotype Corsiva"/>
              </a:rPr>
              <a:t>Не меняй друга на сокровищ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Monotype Corsiva"/>
              </a:rPr>
              <a:t>(Из «Книги Премудрости Иисуса, сына Сирахова»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Monotype Corsiva"/>
              </a:rPr>
              <a:t>Доброе братство милее богат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a1f0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a1f02"/>
                </a:solidFill>
                <a:latin typeface="Monotype Corsiva"/>
              </a:rPr>
              <a:t>Надёжный друг дороже дене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Monotype Corsiva"/>
              </a:rPr>
              <a:t>Старый друг лучше новых дву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a1f0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a1f02"/>
                </a:solidFill>
                <a:latin typeface="Monotype Corsiva"/>
              </a:rPr>
              <a:t>Не имей сто рублей, а имей сто друз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Monotype Corsiva"/>
              </a:rPr>
              <a:t>(Русские народные пословиц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33cc"/>
                </a:solidFill>
                <a:latin typeface="Monotype Corsiva"/>
              </a:rPr>
              <a:t>Одним из главных источников народной мудрости является </a:t>
            </a:r>
            <a:r>
              <a:rPr b="0" lang="ru-RU" sz="4800" spc="-1" strike="noStrike">
                <a:solidFill>
                  <a:srgbClr val="ca1f02"/>
                </a:solidFill>
                <a:latin typeface="Monotype Corsiva"/>
              </a:rPr>
              <a:t>Священное Писание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Monotype Corsiva"/>
              </a:rPr>
              <a:t>Значительная часть пословиц русского народа посвящена нравственной сути человека, побуждает к осмыслению жизни каждого человека в категориях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ca1f02"/>
                </a:solidFill>
                <a:latin typeface="Monotype Corsiva"/>
              </a:rPr>
              <a:t>добра и зла, истины и заблуждения, правды и лжи, греха и праведности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6" name="Picture 6" descr="0808bc418854f28cf887debf6ce6e380"/>
          <p:cNvPicPr/>
          <p:nvPr/>
        </p:nvPicPr>
        <p:blipFill>
          <a:blip r:embed="rId1"/>
          <a:stretch/>
        </p:blipFill>
        <p:spPr>
          <a:xfrm>
            <a:off x="6659640" y="33336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8" descr="ib3060"/>
          <p:cNvPicPr/>
          <p:nvPr/>
        </p:nvPicPr>
        <p:blipFill>
          <a:blip r:embed="rId2"/>
          <a:stretch/>
        </p:blipFill>
        <p:spPr>
          <a:xfrm>
            <a:off x="179280" y="465300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WordArt 2"/>
          <p:cNvSpPr txBox="1"/>
          <p:nvPr/>
        </p:nvSpPr>
        <p:spPr>
          <a:xfrm>
            <a:off x="1403280" y="404640"/>
            <a:ext cx="6667560" cy="449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549" name="Picture 6" descr="bak1"/>
          <p:cNvPicPr/>
          <p:nvPr/>
        </p:nvPicPr>
        <p:blipFill>
          <a:blip r:embed="rId1"/>
          <a:stretch/>
        </p:blipFill>
        <p:spPr>
          <a:xfrm>
            <a:off x="4932360" y="3860640"/>
            <a:ext cx="3276720" cy="2086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42472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a1f02"/>
                </a:solidFill>
                <a:latin typeface="Monotype Corsiva"/>
              </a:rPr>
              <a:t>Пословицы </a:t>
            </a:r>
            <a:r>
              <a:rPr b="0" lang="ru-RU" sz="3200" spc="-1" strike="noStrike">
                <a:solidFill>
                  <a:srgbClr val="0033cc"/>
                </a:solidFill>
                <a:latin typeface="Monotype Corsiva"/>
              </a:rPr>
              <a:t>– это краткие, вошедшие в речевой оборот и имеющие поучительный смысл, ритмически организованные образные изречения, в которых народ на протяжении веков обобщая свой социально-исторический опы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23640" y="3068280"/>
            <a:ext cx="85690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a1f02"/>
                </a:solidFill>
                <a:latin typeface="Monotype Corsiva"/>
              </a:rPr>
              <a:t>       </a:t>
            </a:r>
            <a:r>
              <a:rPr b="1" lang="ru-RU" sz="3200" spc="-1" strike="noStrike">
                <a:solidFill>
                  <a:srgbClr val="ca1f02"/>
                </a:solidFill>
                <a:latin typeface="Monotype Corsiva"/>
              </a:rPr>
              <a:t>Поговорки </a:t>
            </a:r>
            <a:r>
              <a:rPr b="0" lang="ru-RU" sz="3200" spc="-1" strike="noStrike">
                <a:solidFill>
                  <a:srgbClr val="0033cc"/>
                </a:solidFill>
                <a:latin typeface="Monotype Corsiva"/>
              </a:rPr>
              <a:t>– это широко распространённые образные выражения, метко определяющие какие-либо жизненные явления, но лишённые характера законченного суждения и не несущие прямого поучительного смысл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a1f02"/>
                </a:solidFill>
                <a:latin typeface="Monotype Corsiva"/>
              </a:rPr>
              <a:t>Одним из главных источников народной мудрости является Священное Писа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a1f02"/>
                </a:solidFill>
                <a:latin typeface="Monotype Corsiva"/>
              </a:rPr>
              <a:t>В начале было Слово, и Слово было </a:t>
            </a:r>
            <a:br>
              <a:rPr sz="4000"/>
            </a:br>
            <a:r>
              <a:rPr b="0" lang="ru-RU" sz="4000" spc="-1" strike="noStrike">
                <a:solidFill>
                  <a:srgbClr val="ca1f02"/>
                </a:solidFill>
                <a:latin typeface="Monotype Corsiva"/>
              </a:rPr>
              <a:t>у Бога, и Слово было Бог</a:t>
            </a:r>
            <a:br>
              <a:rPr sz="4000"/>
            </a:br>
            <a:r>
              <a:rPr b="0" lang="ru-RU" sz="2400" spc="-1" strike="noStrike">
                <a:solidFill>
                  <a:srgbClr val="0033cc"/>
                </a:solidFill>
                <a:latin typeface="Monotype Corsiva"/>
              </a:rPr>
              <a:t>Евангелие от Иоан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Monotype Corsiva"/>
              </a:rPr>
              <a:t>         </a:t>
            </a:r>
            <a:r>
              <a:rPr b="1" lang="ru-RU" sz="3200" spc="-1" strike="noStrike">
                <a:solidFill>
                  <a:srgbClr val="0033cc"/>
                </a:solidFill>
                <a:latin typeface="Monotype Corsiva"/>
              </a:rPr>
              <a:t>Божественная сущность слова, его  творческая сила, мощное влияние на человека, недопустимость грехов, совершённых словом, отражены в русских пословицах.             </a:t>
            </a:r>
            <a:r>
              <a:rPr b="0" lang="ru-RU" sz="3200" spc="-1" strike="noStrike">
                <a:solidFill>
                  <a:srgbClr val="0033cc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Picture 9" descr="61900922_Sv"/>
          <p:cNvPicPr/>
          <p:nvPr/>
        </p:nvPicPr>
        <p:blipFill>
          <a:blip r:embed="rId1"/>
          <a:stretch/>
        </p:blipFill>
        <p:spPr>
          <a:xfrm>
            <a:off x="4643280" y="2000160"/>
            <a:ext cx="3392640" cy="4229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Monotype Corsiva"/>
              </a:rPr>
              <a:t>Приведём несколько русских пословиц, отражающих уважение к слов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a1f0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a1f02"/>
                </a:solidFill>
                <a:latin typeface="Monotype Corsiva"/>
              </a:rPr>
              <a:t>Говори, говори, да и молв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Monotype Corsiva"/>
              </a:rPr>
              <a:t>Говори так, чтоб надолго стал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a1f0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a1f02"/>
                </a:solidFill>
                <a:latin typeface="Monotype Corsiva"/>
              </a:rPr>
              <a:t>Красную речь красно и слуша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Monotype Corsiva"/>
              </a:rPr>
              <a:t>Слово толковое стоит целковог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a1f0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a1f02"/>
                </a:solidFill>
                <a:latin typeface="Monotype Corsiva"/>
              </a:rPr>
              <a:t>Слово молвит – соловей поё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Picture 8" descr="i?id=22780309-71-72&amp;n=21"/>
          <p:cNvPicPr/>
          <p:nvPr/>
        </p:nvPicPr>
        <p:blipFill>
          <a:blip r:embed="rId1"/>
          <a:stretch/>
        </p:blipFill>
        <p:spPr>
          <a:xfrm>
            <a:off x="4788000" y="2060640"/>
            <a:ext cx="3268440" cy="3600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a1f02"/>
                </a:solidFill>
                <a:latin typeface="Monotype Corsiva"/>
              </a:rPr>
              <a:t>Сопоставим некоторые фразы </a:t>
            </a:r>
            <a:br>
              <a:rPr sz="3200"/>
            </a:br>
            <a:r>
              <a:rPr b="0" lang="ru-RU" sz="3200" spc="-1" strike="noStrike">
                <a:solidFill>
                  <a:srgbClr val="ca1f02"/>
                </a:solidFill>
                <a:latin typeface="Monotype Corsiva"/>
              </a:rPr>
              <a:t>из Священного Писания и русские пословицы, посвящённые греху многослов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Monotype Corsiva"/>
              </a:rPr>
              <a:t>При многословии не миновать греха, а сдерживающий уста свои – разуме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Monotype Corsiva"/>
              </a:rPr>
              <a:t>Кроткий язык – древо жизни, но необузданный – сокрушение дух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a1f02"/>
                </a:solidFill>
                <a:latin typeface="Monotype Corsiva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a1f02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ca1f02"/>
                </a:solidFill>
                <a:latin typeface="Monotype Corsiva"/>
              </a:rPr>
              <a:t>(Из книги «Притчи Соломон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2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Monotype Corsiva"/>
              </a:rPr>
              <a:t>Бойся Вышнего, не говори лишнег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Monotype Corsiva"/>
              </a:rPr>
              <a:t>Меньше говорить – меньше грех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Monotype Corsiva"/>
              </a:rPr>
              <a:t>Слово – серебро, молчание – золот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a1f02"/>
                </a:solidFill>
                <a:latin typeface="Monotype Corsiva"/>
              </a:rPr>
              <a:t>(Русские народные пословицы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Monotype Corsiva"/>
              </a:rPr>
              <a:t>Духом Священного Писания проникнуты пословицы, раскрывающие отношение народной мудрости к проблеме соотношения слова и де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a1f0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a1f02"/>
                </a:solidFill>
                <a:latin typeface="Monotype Corsiva"/>
              </a:rPr>
              <a:t>Не будь скор языком твоим, и ленив и нерадив в делах твои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a1f0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a1f02"/>
                </a:solidFill>
                <a:latin typeface="Monotype Corsiva"/>
              </a:rPr>
              <a:t>Твёрдо держи слово и будь верен ем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Monotype Corsiva"/>
              </a:rPr>
              <a:t>(Из «Книги Премудрости Иисуса, сына Сирахова»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ca1f0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a1f02"/>
                </a:solidFill>
                <a:latin typeface="Monotype Corsiva"/>
              </a:rPr>
              <a:t>Не спеши языком, торопись дел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ca1f0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a1f02"/>
                </a:solidFill>
                <a:latin typeface="Monotype Corsiva"/>
              </a:rPr>
              <a:t>Не давши слова, крепись, а давши – держис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Monotype Corsiva"/>
              </a:rPr>
              <a:t>(Русские народные пословицы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Monotype Corsiva"/>
              </a:rPr>
              <a:t>В Священном Писании и русских пословицах </a:t>
            </a:r>
            <a:br>
              <a:rPr sz="2800"/>
            </a:br>
            <a:r>
              <a:rPr b="0" lang="ru-RU" sz="2800" spc="-1" strike="noStrike">
                <a:solidFill>
                  <a:srgbClr val="0033cc"/>
                </a:solidFill>
                <a:latin typeface="Monotype Corsiva"/>
              </a:rPr>
              <a:t>отражены проблемы веры в Бога </a:t>
            </a:r>
            <a:br>
              <a:rPr sz="2800"/>
            </a:br>
            <a:r>
              <a:rPr b="0" lang="ru-RU" sz="2800" spc="-1" strike="noStrike">
                <a:solidFill>
                  <a:srgbClr val="0033cc"/>
                </a:solidFill>
                <a:latin typeface="Monotype Corsiva"/>
              </a:rPr>
              <a:t>и отношений человека с Бог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ca1f0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a1f02"/>
                </a:solidFill>
                <a:latin typeface="Monotype Corsiva"/>
              </a:rPr>
              <a:t>Если вы будете иметь веру с горчичное зерно, и скажете горе сей: «перейди отсюда туда», и она перейдёт, и не будет ничего невозможного для ва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Monotype Corsiva"/>
              </a:rPr>
              <a:t>(Евангелие от Матфе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17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a1f0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a1f02"/>
                </a:solidFill>
                <a:latin typeface="Monotype Corsiva"/>
              </a:rPr>
              <a:t>Вера и гору с места сдвин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Monotype Corsiva"/>
              </a:rPr>
              <a:t>(Русская народная пословиц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Picture 10" descr="i?id=180900212-53-72&amp;n=21"/>
          <p:cNvPicPr/>
          <p:nvPr/>
        </p:nvPicPr>
        <p:blipFill>
          <a:blip r:embed="rId1"/>
          <a:stretch/>
        </p:blipFill>
        <p:spPr>
          <a:xfrm>
            <a:off x="179280" y="352440"/>
            <a:ext cx="2232000" cy="21398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2" descr="i?id=7865142-02-72&amp;n=21"/>
          <p:cNvPicPr/>
          <p:nvPr/>
        </p:nvPicPr>
        <p:blipFill>
          <a:blip r:embed="rId2"/>
          <a:stretch/>
        </p:blipFill>
        <p:spPr>
          <a:xfrm>
            <a:off x="6443640" y="4429080"/>
            <a:ext cx="2232000" cy="1970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Monotype Corsiva"/>
              </a:rPr>
              <a:t>В Священном Писании и русских пословицах говорится о том, что праведников,</a:t>
            </a:r>
            <a:br>
              <a:rPr sz="3200"/>
            </a:br>
            <a:r>
              <a:rPr b="0" lang="ru-RU" sz="3200" spc="-1" strike="noStrike">
                <a:solidFill>
                  <a:srgbClr val="0033cc"/>
                </a:solidFill>
                <a:latin typeface="Monotype Corsiva"/>
              </a:rPr>
              <a:t>соблюдающих заповеди, </a:t>
            </a:r>
            <a:br>
              <a:rPr sz="3200"/>
            </a:br>
            <a:r>
              <a:rPr b="0" lang="ru-RU" sz="3200" spc="-1" strike="noStrike">
                <a:solidFill>
                  <a:srgbClr val="0033cc"/>
                </a:solidFill>
                <a:latin typeface="Monotype Corsiva"/>
              </a:rPr>
              <a:t>ждёт от Бога щедрая награ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a1f0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a1f02"/>
                </a:solidFill>
                <a:latin typeface="Monotype Corsiva"/>
              </a:rPr>
              <a:t>Почитай отца твоего и мать твою, чтобы тебе было хорошо, и чтобы продлились дни  твои на земл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Monotype Corsiva"/>
              </a:rPr>
              <a:t>(Из книги Моисея «Исход»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a1f0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a1f02"/>
                </a:solidFill>
                <a:latin typeface="Monotype Corsiva"/>
              </a:rPr>
              <a:t>Кто родителей почитает, того Бог не забыва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Monotype Corsiva"/>
              </a:rPr>
              <a:t>(Русская народная пословиц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Picture 8" descr="i?id=109828924-51-72&amp;n=21"/>
          <p:cNvPicPr/>
          <p:nvPr/>
        </p:nvPicPr>
        <p:blipFill>
          <a:blip r:embed="rId1"/>
          <a:stretch/>
        </p:blipFill>
        <p:spPr>
          <a:xfrm>
            <a:off x="6948360" y="1197000"/>
            <a:ext cx="1871640" cy="223200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0" descr="cat437"/>
          <p:cNvPicPr/>
          <p:nvPr/>
        </p:nvPicPr>
        <p:blipFill>
          <a:blip r:embed="rId2"/>
          <a:stretch/>
        </p:blipFill>
        <p:spPr>
          <a:xfrm>
            <a:off x="457200" y="1125360"/>
            <a:ext cx="1539720" cy="2159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Monotype Corsiva"/>
              </a:rPr>
              <a:t>Многие крылатые слова, ставшие поговорками, имеют библейские происхожде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ca1f0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a1f02"/>
                </a:solidFill>
                <a:latin typeface="Monotype Corsiva"/>
              </a:rPr>
              <a:t>В поте лица </a:t>
            </a:r>
            <a:r>
              <a:rPr b="0" lang="ru-RU" sz="2400" spc="-1" strike="noStrike">
                <a:solidFill>
                  <a:srgbClr val="0033cc"/>
                </a:solidFill>
                <a:latin typeface="Monotype Corsiva"/>
              </a:rPr>
              <a:t>(тяжким трудом). «В поте лица твоего будешь есть хлеб» . Так сказал Бог Адаму, изгоняемому из Ра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ca1f0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a1f02"/>
                </a:solidFill>
                <a:latin typeface="Monotype Corsiva"/>
              </a:rPr>
              <a:t>Запретный плод. </a:t>
            </a:r>
            <a:r>
              <a:rPr b="0" lang="ru-RU" sz="2400" spc="-1" strike="noStrike">
                <a:solidFill>
                  <a:srgbClr val="0033cc"/>
                </a:solidFill>
                <a:latin typeface="Monotype Corsiva"/>
              </a:rPr>
              <a:t>О древе познания добра и зла, плоды которого Бог запретил срывать Адаму и Ев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Monotype Corsiva"/>
              </a:rPr>
              <a:t>(Из книги «Бытие»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427280" y="1981080"/>
            <a:ext cx="439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a1f0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a1f02"/>
                </a:solidFill>
                <a:latin typeface="Monotype Corsiva"/>
              </a:rPr>
              <a:t>Внести свою лепту </a:t>
            </a:r>
            <a:r>
              <a:rPr b="0" lang="ru-RU" sz="2400" spc="-1" strike="noStrike">
                <a:solidFill>
                  <a:srgbClr val="0033cc"/>
                </a:solidFill>
                <a:latin typeface="Monotype Corsiva"/>
              </a:rPr>
              <a:t>(посильный вклад). Лепта – мелкая монета. По словам Иисуса, две лепты вдовы, пожертвованные в храме, стоили гораздо больше богатых пожертвований, так как она отдала всё, что име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Monotype Corsiva"/>
              </a:rPr>
              <a:t>(Из Евангелий Марка и Лук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a1f02"/>
                </a:solidFill>
                <a:latin typeface="Monotype Corsiva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6" name="Picture 8" descr="i?id=303267424-30-72&amp;n=21"/>
          <p:cNvPicPr/>
          <p:nvPr/>
        </p:nvPicPr>
        <p:blipFill>
          <a:blip r:embed="rId1"/>
          <a:stretch/>
        </p:blipFill>
        <p:spPr>
          <a:xfrm>
            <a:off x="5940360" y="4941720"/>
            <a:ext cx="1370160" cy="17272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10" descr="57112616_1269878120_Lepta_vdovuy"/>
          <p:cNvPicPr/>
          <p:nvPr/>
        </p:nvPicPr>
        <p:blipFill>
          <a:blip r:embed="rId2"/>
          <a:stretch/>
        </p:blipFill>
        <p:spPr>
          <a:xfrm>
            <a:off x="7596360" y="4941720"/>
            <a:ext cx="1409400" cy="172728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2" descr="Pic1"/>
          <p:cNvPicPr/>
          <p:nvPr/>
        </p:nvPicPr>
        <p:blipFill>
          <a:blip r:embed="rId3"/>
          <a:stretch/>
        </p:blipFill>
        <p:spPr>
          <a:xfrm>
            <a:off x="4284720" y="4941720"/>
            <a:ext cx="1377720" cy="1700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1T10:56:40Z</dcterms:created>
  <dc:creator>user11</dc:creator>
  <dc:description/>
  <dc:language>en-US</dc:language>
  <cp:lastModifiedBy>Валентина</cp:lastModifiedBy>
  <dcterms:modified xsi:type="dcterms:W3CDTF">2014-06-05T04:40:40Z</dcterms:modified>
  <cp:revision>160</cp:revision>
  <dc:subject/>
  <dc:title>Профессионализация преподавания психологии в педвузе</dc:title>
</cp:coreProperties>
</file>