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B6C-321D-4038-9DE8-2E585A43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2B1-ACD3-4637-9E1D-358F66CC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4B595-AE16-4F12-8A1B-B202D5FB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E9E9F-3E97-43B7-98FF-DD0C3A53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034AC-476C-48BA-AB00-50CEDC48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01FE9-8656-4FDA-9ECB-9A919A6C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B9670-FC81-4EE7-B2C2-9D76F9BC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F18E2-2DD8-4182-BEF8-780593C0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D901D-E19B-40CB-AAE9-C9EB5BCF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0D562-77CE-4F97-AD4C-9332186D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01D5D-9103-4043-8F7A-10BD54B1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38BB8-5CC3-4416-950E-64475E36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3A5-A5EE-4F86-9AA5-2CCA07E7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5D2AB-BCE7-4A83-8E10-4237DFBB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EC633-019E-44A4-9F8E-B93DBA09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4FFEA-C1DF-47EB-9147-22FC3F72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9AD65-0518-4D8C-AC21-17F3F717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6EFD7-2FE2-41A0-8FC8-ECE8F0D9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E7D13-1881-4D4F-A60B-9A10C26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AFAE6-E979-49D1-84AD-0741683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EC709-F80C-44BD-AB7F-7129ABFD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AB261-A898-4E42-BE40-7A1FACDD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60366-6373-4321-B2E7-8386C1ED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EF2-CAE7-4B99-9F76-A13FC232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D2848-D53D-4DE6-BF5C-06E4D262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DD702-ADAD-4B82-B0A4-74A7959C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7B4AB-5E79-4BB0-AE5B-CBCC3ADD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96CCE-DD46-410E-A82D-7AE131A2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D1330-1DEB-4606-9276-811E8276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5D31D-02B3-40F1-9AAD-BB30B7B6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FA29A-2F09-4071-A5C3-80EFF42D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59EE5-74B8-44AC-BFBD-253CA587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11151-9141-46DF-9F30-009FF056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F3D07-4CDF-4A67-92D8-1C1A7BCA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31DA-D0AB-4124-A9E6-B3FDC379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7F9B7-C862-44BB-B5BA-325DF6AE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1ECBA-335B-4D86-AD72-82255429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AF32C-07E3-4EE9-B6F7-62748732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5BEF0-62AB-4AEE-BAC5-EDE1C4E5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A5058-253E-4F3D-BC0F-BE9D548F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54EB3-A867-429C-BCA8-065EC22C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2EA7B-A208-48A8-96FF-9A9ACABC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3DB86-49C7-4107-9A14-94B8FC07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21C0A-D1CF-4937-B93C-AC075A23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D84D9-902E-4A03-9CF1-44E7529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FCE1-1EC7-4EE9-8E73-ABACAA50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6D581-2DF9-496F-B958-DEA64FFF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E587C-2D36-4BC0-AFD2-FC7BE9B7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C653B-7638-4928-895A-1F3D3624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0E8C6-0DFF-4FBB-A5C6-6AABC806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70160-2ABD-44DD-BC6B-B3B6F431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F611-851E-4898-BBC6-794D4A7F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C13D-5774-47EF-80FC-21E0D225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68A2-19C7-4452-9257-6C9C424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4568-1DC3-4430-A78F-BC226F90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73CE-BABC-472B-8A38-8E0230DD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1C1-DB14-4CE4-B995-CFDB9FEA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215C-73A5-4411-9CE8-6ADECEA0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B151-F047-4A51-82C7-063A06C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461E-0959-47C0-A8DF-9A1D9CC7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3054-3841-4187-8DF6-12459F23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1EFB-A506-400A-A70F-8D8CFD1F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655D-0DCB-48D3-8861-FA6E6C4F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F076-6904-4873-88C1-7D321CB8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A274-C76F-4A31-AD2E-46449BE7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3C63-7916-43F8-A8EC-5653B201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650A-D2F8-4BA6-B2A9-530684E1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259-708A-4E9E-A5E2-30A934D6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35BF-4033-4B5F-AE03-F2EA7A09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E1A0-604D-45E9-BC4C-089EBEE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BBAD-1D48-457D-AF3B-AFC6209F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6CA2-CB60-46E9-8485-75F54367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06E5-B557-4260-87BD-5A2CEA40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F535-71FE-486C-A9F5-7FFA56F0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3590-AFCA-45E9-8ECB-E0471721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2430D-F45B-46BD-AD3F-BA0BB828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4980-11E4-4C7F-BEE6-63CF0B20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8D2C7-BD28-4C32-9CB7-D7B95817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A80-3B60-41E6-BED0-697CC57B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CD198-1C8B-4091-800C-1E0AE35F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7C411-646A-410C-8E77-0E5981C5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1C73F-9404-4100-9F83-C3469F37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237D-F5B6-441F-BF32-A9A2FD6B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1B939-5F94-4BD3-A313-348F68E6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FD53F-24B2-4999-898A-04796BD2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9DFB9-D9C3-414A-9268-00AE8570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2A3DD-F013-4003-A9BA-7716768B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EEA1-74C0-4247-8763-20470C21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7141C-2B5A-4397-9308-75818815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9CA-2A56-4CD2-AEE9-84467FD7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BB6E1-0643-4FB5-850F-630E4107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36A15-4C8B-49A1-818C-671C5BEA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B7BCC-098C-40E1-8972-9CA03479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7888A-8D71-4971-A0C0-3BB94227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F69E-11A5-4F3C-B418-5354BA31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605CA-32F3-4E85-86B1-C89C2E81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043E6-5C13-48AB-9FBF-00B127B6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D1117-C4B9-485C-8026-E449706D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1A41C-939D-4A08-BE46-F8F4CA63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10B6D-140C-4DC1-A947-61A0B829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643-190E-41C3-9EC9-2236F06C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33110-ADF1-486D-9829-0DA315D9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90921-8ED8-4D12-ABAB-DC003AB5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43FF-22BA-4C82-8A08-9B87ABFD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7AE58-1EF6-4672-A207-54CDF782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CB82D-74C1-403B-A9FC-F4421859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F1B6F-1F97-49BA-9351-BD23B1AF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4B44F-995C-4CFD-A94D-769971B5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34DC2-A1D9-4801-8939-5F07C78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3C9BD-795C-4DE8-89AB-81FAA2F0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78852-5D64-4FD2-ABE0-78653D64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858-5998-4C54-96B7-AD3406F7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7A919-1B1A-4131-8B58-18697F64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863AF-DE6B-44B4-AA2D-1C56A277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41ADA-D658-45C9-AE3C-9B949CBE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6D397-AE76-411C-B0F6-9EEE46F3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41DEB-A4AE-46D7-87D7-3EE4477F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CFDC0-C6B1-4D29-829F-38CF7EDE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0C841-177F-41BF-AA19-A2698DAE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BD7B9-95F2-4A43-A489-EE934495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0D4ED-E8DA-4F78-B55C-C9243D3E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0ECBB-A10B-458B-9423-7C36B328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C13-CB93-4BD4-A49D-9CF67F7D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681E3-8598-49F1-BD6A-F0D6EC2B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7A2E4-4983-4EFE-A71D-EA36C27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BACBB-DC18-4668-9CE0-D9E14EDC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98D46-8225-4FE6-ABA1-9144370C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3B332-AC5E-416A-A49C-35472BD8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F1C7A-E1A2-4E35-A843-4970828A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3D532-BE62-496A-8CC5-230F20A4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97E06-A3CB-49A1-A8DE-EF2BE844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96CD5-4923-46DC-8C32-1D9BB133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2CC63-2C7E-442A-A74C-D6E26F57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18E-DAD0-4DE4-9F72-8A111AF0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588F9-BF5B-498E-8148-2A5B7966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33A48-A2CF-4A4C-A2C8-0035C09C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0E6EA-E05A-4063-8E7C-6953F73C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EB68D-DD0D-4B24-BE44-FC2E5787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111C4-9F44-4615-8395-F094A0BD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2CC20-CB15-4982-A6BC-A9E799EA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92C27-5276-4696-9064-75322048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1C614-77C8-47F2-88D6-54EE73FC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BABA7-442F-4F85-A863-7395F9DA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C6E63-0F45-49DB-BEBF-A193C6B8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CC08-327B-4F74-9171-6651C746C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4057-DEBF-48D7-8493-41CAE63E4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67EC-5003-4B0B-AD66-301651293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F1C3-4A65-426F-B36D-0DC11F977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48DD-E83F-4A4C-B2A6-FA2324ACD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6D05-406B-45E5-9352-0313462DA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B52B-C26E-4945-83A7-4307EC63A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5FE2-7EE8-4ED1-9481-885B3972A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695B-CD64-4DD9-8D96-FA4FD76E2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514A-9469-4B82-9176-15188A8A6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6591-D70D-48F7-8174-FF3C4A3FA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8AA5-69DC-4278-B7B5-6E2A8067B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33cc"/>
                </a:solidFill>
                <a:latin typeface="Monotype Corsiva"/>
              </a:rPr>
              <a:t>Священное Писание </a:t>
            </a:r>
            <a:br>
              <a:rPr sz="5400"/>
            </a:br>
            <a:r>
              <a:rPr b="1" lang="ru-RU" sz="5400" spc="-1" strike="noStrike">
                <a:solidFill>
                  <a:srgbClr val="0033cc"/>
                </a:solidFill>
                <a:latin typeface="Monotype Corsiva"/>
              </a:rPr>
              <a:t>в пословицах и поговорках русского наро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859280" y="3500280"/>
            <a:ext cx="359424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16000" y="4005360"/>
            <a:ext cx="3597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ворческая работа ученика 7 класса «А» средней школы № 31 г.Таганрога Ефремова Миха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уководитель: учитель русского языка и литературы Ковальская В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14" descr="55629150"/>
          <p:cNvPicPr/>
          <p:nvPr/>
        </p:nvPicPr>
        <p:blipFill>
          <a:blip r:embed="rId1"/>
          <a:stretch/>
        </p:blipFill>
        <p:spPr>
          <a:xfrm>
            <a:off x="826920" y="2852640"/>
            <a:ext cx="3275280" cy="36543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7" descr="0_74920_2950dbff_L"/>
          <p:cNvPicPr/>
          <p:nvPr/>
        </p:nvPicPr>
        <p:blipFill>
          <a:blip r:embed="rId2"/>
          <a:stretch/>
        </p:blipFill>
        <p:spPr>
          <a:xfrm>
            <a:off x="6915240" y="2060640"/>
            <a:ext cx="184140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a1f02"/>
                </a:solidFill>
                <a:latin typeface="Monotype Corsiva"/>
              </a:rPr>
              <a:t>Со словами Священного Писания перекликаются русские пословицы о добре и з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Уклоняйся от зла и делай добр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Псалтир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Доброго держись, а худого сторон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Кто добро творит, тому зло не вре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К добру мостись, а от худа пя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Добро творить – себя весел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Русские народные пословиц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8" descr="640854_9239-800x600"/>
          <p:cNvPicPr/>
          <p:nvPr/>
        </p:nvPicPr>
        <p:blipFill>
          <a:blip r:embed="rId1"/>
          <a:stretch/>
        </p:blipFill>
        <p:spPr>
          <a:xfrm>
            <a:off x="611280" y="3213000"/>
            <a:ext cx="3959280" cy="3427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0" descr="i?id=84570913-60-72&amp;n=21"/>
          <p:cNvPicPr/>
          <p:nvPr/>
        </p:nvPicPr>
        <p:blipFill>
          <a:blip r:embed="rId2"/>
          <a:stretch/>
        </p:blipFill>
        <p:spPr>
          <a:xfrm>
            <a:off x="6372360" y="4365720"/>
            <a:ext cx="2195280" cy="137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Священное Писание и русские пословицы говорят о роли личного примера родителей в воспитании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Какова мать, такова и доч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Книга пророка Иезекиил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Всякое дерево доброе приносит и плоды добрые, а худое дерево приносит и плоды худ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Евангелие от Матфе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Какова матка, таковы и дет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От худого семени не жди доброго пл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Яблочко от яблони недалеко пад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Русские народные пословиц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8" descr="i?id=236504782-32-72&amp;n=21"/>
          <p:cNvPicPr/>
          <p:nvPr/>
        </p:nvPicPr>
        <p:blipFill>
          <a:blip r:embed="rId1"/>
          <a:stretch/>
        </p:blipFill>
        <p:spPr>
          <a:xfrm>
            <a:off x="3924360" y="5229360"/>
            <a:ext cx="1771560" cy="1428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Священное Писание и русские пословицы осуждают грехи в отношении к другим люд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440" y="1557360"/>
            <a:ext cx="3809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Кроткое сердце – жизнь для тела, а зависть – гниль для к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Кто радуется несчастью, тот не остаётся безнаказан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Кто роет яму, тот упадёт в неё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Из  книги «Притчи Соломо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Не нарушай межи ближнего тво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Из книги Моисея «Второзаконие»)</a:t>
            </a: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7960" y="1557000"/>
            <a:ext cx="3809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Завистливый сохнет от зависти, а добрый плачет от рад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Не радуйся чужой беде: своя на гря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Не рой другому яму – сам в неё попадёш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Межа не стена, а передвинуть нельз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Русские народ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пословиц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Священное Писание и русские пословицы утверждают, что доброе сердце и верная дружба бесценны, они поддерживают человека в жизненных трудност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Верный друг – крепкая защита: кто нашёл его, тот нашёл сокровищ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Не оставляй старого друга, ибо новый не может сравниться с н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Не меняй друга на сокровищ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Из «Книги Премудрости Иисуса, сына Сирахова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Доброе братство милее богат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Надёжный друг дороже дене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Старый друг лучше новых дву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Не имей сто рублей, а имей сто друз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Русские народные пословиц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Monotype Corsiva"/>
              </a:rPr>
              <a:t>Одним из главных источников народной мудрости является </a:t>
            </a:r>
            <a:r>
              <a:rPr b="0" lang="ru-RU" sz="4800" spc="-1" strike="noStrike">
                <a:solidFill>
                  <a:srgbClr val="ca1f02"/>
                </a:solidFill>
                <a:latin typeface="Monotype Corsiva"/>
              </a:rPr>
              <a:t>Священное Писани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Значительная часть пословиц русского народа посвящена нравственной сути человека, побуждает к осмыслению жизни каждого человека в категориях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ca1f02"/>
                </a:solidFill>
                <a:latin typeface="Monotype Corsiva"/>
              </a:rPr>
              <a:t>добра и зла, истины и заблуждения, правды и лжи, греха и праведности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6" descr="0808bc418854f28cf887debf6ce6e380"/>
          <p:cNvPicPr/>
          <p:nvPr/>
        </p:nvPicPr>
        <p:blipFill>
          <a:blip r:embed="rId1"/>
          <a:stretch/>
        </p:blipFill>
        <p:spPr>
          <a:xfrm>
            <a:off x="6659640" y="33336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ib3060"/>
          <p:cNvPicPr/>
          <p:nvPr/>
        </p:nvPicPr>
        <p:blipFill>
          <a:blip r:embed="rId2"/>
          <a:stretch/>
        </p:blipFill>
        <p:spPr>
          <a:xfrm>
            <a:off x="179280" y="4653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2"/>
          <p:cNvSpPr txBox="1"/>
          <p:nvPr/>
        </p:nvSpPr>
        <p:spPr>
          <a:xfrm>
            <a:off x="1403280" y="404640"/>
            <a:ext cx="6667560" cy="449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49" name="Picture 6" descr="bak1"/>
          <p:cNvPicPr/>
          <p:nvPr/>
        </p:nvPicPr>
        <p:blipFill>
          <a:blip r:embed="rId1"/>
          <a:stretch/>
        </p:blipFill>
        <p:spPr>
          <a:xfrm>
            <a:off x="4932360" y="3860640"/>
            <a:ext cx="327672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1f02"/>
                </a:solidFill>
                <a:latin typeface="Monotype Corsiva"/>
              </a:rPr>
              <a:t>Пословицы 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– это краткие, вошедшие в речевой оборот и имеющие поучительный смысл, ритмически организованные образные изречения, в которых народ на протяжении веков обобщая свой социально-исторический опы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23640" y="306828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1f02"/>
                </a:solidFill>
                <a:latin typeface="Monotype Corsiva"/>
              </a:rPr>
              <a:t>       </a:t>
            </a:r>
            <a:r>
              <a:rPr b="1" lang="ru-RU" sz="3200" spc="-1" strike="noStrike">
                <a:solidFill>
                  <a:srgbClr val="ca1f02"/>
                </a:solidFill>
                <a:latin typeface="Monotype Corsiva"/>
              </a:rPr>
              <a:t>Поговорки 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– это широко распространённые образные выражения, метко определяющие какие-либо жизненные явления, но лишённые характера законченного суждения и не несущие прямого поучительного смы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a1f02"/>
                </a:solidFill>
                <a:latin typeface="Monotype Corsiva"/>
              </a:rPr>
              <a:t>Одним из главных источников народной мудрости является Священное Пис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a1f02"/>
                </a:solidFill>
                <a:latin typeface="Monotype Corsiva"/>
              </a:rPr>
              <a:t>В начале было Слово, и Слово было </a:t>
            </a:r>
            <a:br>
              <a:rPr sz="4000"/>
            </a:br>
            <a:r>
              <a:rPr b="0" lang="ru-RU" sz="4000" spc="-1" strike="noStrike">
                <a:solidFill>
                  <a:srgbClr val="ca1f02"/>
                </a:solidFill>
                <a:latin typeface="Monotype Corsiva"/>
              </a:rPr>
              <a:t>у Бога, и Слово было Бог</a:t>
            </a:r>
            <a:br>
              <a:rPr sz="4000"/>
            </a:b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Евангелие от Иоа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         </a:t>
            </a: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Божественная сущность слова, его  творческая сила, мощное влияние на человека, недопустимость грехов, совершённых словом, отражены в русских пословицах.             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9" descr="61900922_Sv"/>
          <p:cNvPicPr/>
          <p:nvPr/>
        </p:nvPicPr>
        <p:blipFill>
          <a:blip r:embed="rId1"/>
          <a:stretch/>
        </p:blipFill>
        <p:spPr>
          <a:xfrm>
            <a:off x="4643280" y="2000160"/>
            <a:ext cx="3392640" cy="4229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Monotype Corsiva"/>
              </a:rPr>
              <a:t>Приведём несколько русских пословиц, отражающих уважение к слов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Говори, говори, да и мол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Говори так, чтоб надолго ста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Красную речь красно и слуш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Слово толковое стоит целков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Слово молвит – соловей поё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8" descr="i?id=22780309-71-72&amp;n=21"/>
          <p:cNvPicPr/>
          <p:nvPr/>
        </p:nvPicPr>
        <p:blipFill>
          <a:blip r:embed="rId1"/>
          <a:stretch/>
        </p:blipFill>
        <p:spPr>
          <a:xfrm>
            <a:off x="4788000" y="2060640"/>
            <a:ext cx="326844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a1f02"/>
                </a:solidFill>
                <a:latin typeface="Monotype Corsiva"/>
              </a:rPr>
              <a:t>Сопоставим некоторые фразы </a:t>
            </a:r>
            <a:br>
              <a:rPr sz="3200"/>
            </a:br>
            <a:r>
              <a:rPr b="0" lang="ru-RU" sz="3200" spc="-1" strike="noStrike">
                <a:solidFill>
                  <a:srgbClr val="ca1f02"/>
                </a:solidFill>
                <a:latin typeface="Monotype Corsiva"/>
              </a:rPr>
              <a:t>из Священного Писания и русские пословицы, посвящённые греху многосло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При многословии не миновать греха, а сдерживающий уста свои – разуме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Кроткий язык – древо жизни, но необузданный – сокрушение дух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a1f02"/>
                </a:solidFill>
                <a:latin typeface="Monotype Corsiv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(Из книги «Притчи Соломо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Бойся Вышнего, не говори лишн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Меньше говорить – меньше грех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Слово – серебро, молчание – золо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(Русские народные пословиц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Духом Священного Писания проникнуты пословицы, раскрывающие отношение народной мудрости к проблеме соотношения слова и д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Не будь скор языком твоим, и ленив и нерадив в делах тво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Твёрдо держи слово и будь верен е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Из «Книги Премудрости Иисуса, сына Сирахова»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Не спеши языком, торопись д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Не давши слова, крепись, а давши – держи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Русские народные пословиц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В Священном Писании и русских пословицах 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отражены проблемы веры в Бога 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и отношений человека с Бог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Если вы будете иметь веру с горчичное зерно, и скажете горе сей: «перейди отсюда туда», и она перейдёт, и не будет ничего невозможного для ва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Евангелие от Матфе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Вера и гору с места сдви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Русская народная пословиц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" descr="i?id=180900212-53-72&amp;n=21"/>
          <p:cNvPicPr/>
          <p:nvPr/>
        </p:nvPicPr>
        <p:blipFill>
          <a:blip r:embed="rId1"/>
          <a:stretch/>
        </p:blipFill>
        <p:spPr>
          <a:xfrm>
            <a:off x="179280" y="352440"/>
            <a:ext cx="2232000" cy="2139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i?id=7865142-02-72&amp;n=21"/>
          <p:cNvPicPr/>
          <p:nvPr/>
        </p:nvPicPr>
        <p:blipFill>
          <a:blip r:embed="rId2"/>
          <a:stretch/>
        </p:blipFill>
        <p:spPr>
          <a:xfrm>
            <a:off x="6443640" y="4429080"/>
            <a:ext cx="2232000" cy="197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В Священном Писании и русских пословицах говорится о том, что праведников,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соблюдающих заповеди, 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ждёт от Бога щедрая нагр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Почитай отца твоего и мать твою, чтобы тебе было хорошо, и чтобы продлились дни  твои на зем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Из книги Моисея «Исход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1f02"/>
                </a:solidFill>
                <a:latin typeface="Monotype Corsiva"/>
              </a:rPr>
              <a:t>Кто родителей почитает, того Бог не забыв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Русская народная пословиц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8" descr="i?id=109828924-51-72&amp;n=21"/>
          <p:cNvPicPr/>
          <p:nvPr/>
        </p:nvPicPr>
        <p:blipFill>
          <a:blip r:embed="rId1"/>
          <a:stretch/>
        </p:blipFill>
        <p:spPr>
          <a:xfrm>
            <a:off x="6948360" y="1197000"/>
            <a:ext cx="1871640" cy="2232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cat437"/>
          <p:cNvPicPr/>
          <p:nvPr/>
        </p:nvPicPr>
        <p:blipFill>
          <a:blip r:embed="rId2"/>
          <a:stretch/>
        </p:blipFill>
        <p:spPr>
          <a:xfrm>
            <a:off x="457200" y="1125360"/>
            <a:ext cx="1539720" cy="2159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Monotype Corsiva"/>
              </a:rPr>
              <a:t>Многие крылатые слова, ставшие поговорками, имеют библейские происхож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В поте лица </a:t>
            </a: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тяжким трудом). «В поте лица твоего будешь есть хлеб» . Так сказал Бог Адаму, изгоняемому из Р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Запретный плод. </a:t>
            </a: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О древе познания добра и зла, плоды которого Бог запретил срывать Адаму и Е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Monotype Corsiva"/>
              </a:rPr>
              <a:t>(Из книги «Бытие»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a1f0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Внести свою лепту </a:t>
            </a: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посильный вклад). Лепта – мелкая монета. По словам Иисуса, две лепты вдовы, пожертвованные в храме, стоили гораздо больше богатых пожертвований, так как она отдала всё, что им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Из Евангелий Марка и Лу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a1f02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8" descr="i?id=303267424-30-72&amp;n=21"/>
          <p:cNvPicPr/>
          <p:nvPr/>
        </p:nvPicPr>
        <p:blipFill>
          <a:blip r:embed="rId1"/>
          <a:stretch/>
        </p:blipFill>
        <p:spPr>
          <a:xfrm>
            <a:off x="5940360" y="4941720"/>
            <a:ext cx="1370160" cy="1727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0" descr="57112616_1269878120_Lepta_vdovuy"/>
          <p:cNvPicPr/>
          <p:nvPr/>
        </p:nvPicPr>
        <p:blipFill>
          <a:blip r:embed="rId2"/>
          <a:stretch/>
        </p:blipFill>
        <p:spPr>
          <a:xfrm>
            <a:off x="7596360" y="4941720"/>
            <a:ext cx="1409400" cy="1727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2" descr="Pic1"/>
          <p:cNvPicPr/>
          <p:nvPr/>
        </p:nvPicPr>
        <p:blipFill>
          <a:blip r:embed="rId3"/>
          <a:stretch/>
        </p:blipFill>
        <p:spPr>
          <a:xfrm>
            <a:off x="4284720" y="4941720"/>
            <a:ext cx="137772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0:56:40Z</dcterms:created>
  <dc:creator>user11</dc:creator>
  <dc:description/>
  <dc:language>en-US</dc:language>
  <cp:lastModifiedBy>Валентина</cp:lastModifiedBy>
  <dcterms:modified xsi:type="dcterms:W3CDTF">2014-06-05T04:40:40Z</dcterms:modified>
  <cp:revision>160</cp:revision>
  <dc:subject/>
  <dc:title>Профессионализация преподавания психологии в педвузе</dc:title>
</cp:coreProperties>
</file>