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CC80-C8F6-48D9-AD51-6ACD215F57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2AD2-B173-464E-BC2B-471179CEE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292-2442-40D9-B0A1-54D7D2AB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EC0-A505-4D79-8644-2FE719C2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271-AF22-4024-A2C8-5051369F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B26-A7FE-4865-8C68-B3466682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F33-04BB-4D98-89B8-82CFDFF1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186-873D-4FC6-8B8B-321AB3E3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D8E-C219-477E-A516-D2A3155D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562-3494-4E4B-A96E-752677DE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B94-F010-42D3-AD78-5C0B66A0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4B9-B211-452C-AECB-5FC34388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D08-27BD-4CAB-AF07-894CA39B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F2C-095B-419F-8060-D5BCBC22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D875-6835-430C-B9A9-9489F09F29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mailto:cybina_anastasiya@mail.ru" TargetMode="External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униципальное автономное дошкольное образовательное учреждение «Детский сад № 145» комбинированного вида Ново-Савиновского района города Каз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Портфолио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педагога-психолог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33920" y="3276360"/>
            <a:ext cx="5410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Цыбина Анастасия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дагог-психолог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валификационной категории МАДОУ №145 г.Каз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014-201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074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85840" y="274680"/>
            <a:ext cx="2057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Резю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533160"/>
            <a:ext cx="281916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Цыбина Анастасия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0760" y="914400"/>
            <a:ext cx="2819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2015г. являюсь аспиранткой ИПП ПО РА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ила высшее образование в Академии социального образования КСЮИ на специальности педагог- психол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кончила в 2005 г. Среднюю общеобразовательную школу №9 с углублённым изучением английского языка Ново- Савиновского района города Казани Республики Татар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кончила в 2000 году музыкальную школу № 11 (по классу фортепиа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66688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914400"/>
            <a:ext cx="1905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Ф. И. О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ыбина Анастасия Александ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Дата р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февраля, 1988г.г Каз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-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ybina_anastasiya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емейное положение-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уж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Де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чь Кс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105160" y="6094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сто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ДОУ « Детский сад №145 комбинированного вида» Ново-Савиновского района г. Казани, с 2006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Долж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дагог- 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таж работы, в том числе в данной 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ладение иностранными языкам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глийский в совершенстве, французский- со словарё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ние татарского языка в совершен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Умения и навы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ладение в совершенств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ограммами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soft office Word, Power Point, Ex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 Movie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ker, Nero, Paint, Publishe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ьные качест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формированность универсальных компетенций, организаторские способности, любовь к де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6" descr="C:\восстановлено\было\Анастасия\Фото1\Детский садик7\Детский сад\Презентация\Dscf0185.jpg"/>
          <p:cNvPicPr/>
          <p:nvPr/>
        </p:nvPicPr>
        <p:blipFill>
          <a:blip r:embed="rId2"/>
          <a:stretch/>
        </p:blipFill>
        <p:spPr>
          <a:xfrm>
            <a:off x="914400" y="220968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914400"/>
            <a:ext cx="3352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Муниципальное автономное дошкольное образовательное учреждение «Детский сад № 145» комбинированного вида Ново-Савиновского района города Каза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11280" y="1219320"/>
            <a:ext cx="2637000" cy="3962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29200" y="1219320"/>
            <a:ext cx="281952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Содержимое 5"/>
          <p:cNvSpPr/>
          <p:nvPr/>
        </p:nvSpPr>
        <p:spPr>
          <a:xfrm>
            <a:off x="228600" y="518148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2006 году я начала свою профессиональную деятельность в детском саду №145 г. Казани, в должности педагог-психолог, где и  работаю по сей  день. На данный момент имею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валификационную категорию. Опыт работы в данной должности  9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3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Муниципальное автономное дошкольное образовательное учреждение «Детский сад №145»</a:t>
            </a:r>
            <a:br>
              <a:rPr sz="1900"/>
            </a:b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комбинированного вида</a:t>
            </a:r>
            <a:br>
              <a:rPr sz="1900"/>
            </a:b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Ново-Савиновского района Г. Каза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Учреждение Российской Академии образования </a:t>
            </a:r>
            <a:br>
              <a:rPr sz="2300"/>
            </a:b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« Институт педагогики и психологии профессионального образования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1640" y="2209320"/>
            <a:ext cx="434340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84000"/>
          </a:bodyPr>
          <a:p>
            <a:pPr marL="288000" indent="-288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щаю профессиональную деятельность с научно- исследовательской. Являюсь аспиранткой 3 кур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моего диссертационного исследования на соискания степени кандидата педагогических наук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роектирование и реализация технологии портфолио будущих педагогов-психолог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6" descr="IMGA025111"/>
          <p:cNvPicPr/>
          <p:nvPr/>
        </p:nvPicPr>
        <p:blipFill>
          <a:blip r:embed="rId1"/>
          <a:stretch/>
        </p:blipFill>
        <p:spPr>
          <a:xfrm>
            <a:off x="304920" y="2514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Российский конкурс июль 2013\фото\P1060696.JPG"/>
          <p:cNvPicPr/>
          <p:nvPr/>
        </p:nvPicPr>
        <p:blipFill>
          <a:blip r:embed="rId1"/>
          <a:stretch/>
        </p:blipFill>
        <p:spPr>
          <a:xfrm>
            <a:off x="4419720" y="3200400"/>
            <a:ext cx="4724280" cy="365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D:\Российский конкурс июль 2013\фото\P1060700.JPG"/>
          <p:cNvPicPr/>
          <p:nvPr/>
        </p:nvPicPr>
        <p:blipFill>
          <a:blip r:embed="rId2"/>
          <a:stretch/>
        </p:blipFill>
        <p:spPr>
          <a:xfrm>
            <a:off x="152280" y="1522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MG_0787"/>
          <p:cNvPicPr/>
          <p:nvPr/>
        </p:nvPicPr>
        <p:blipFill>
          <a:blip r:embed="rId3"/>
          <a:stretch/>
        </p:blipFill>
        <p:spPr>
          <a:xfrm>
            <a:off x="4402080" y="152280"/>
            <a:ext cx="4741920" cy="355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MG_0793"/>
          <p:cNvPicPr/>
          <p:nvPr/>
        </p:nvPicPr>
        <p:blipFill>
          <a:blip r:embed="rId4"/>
          <a:stretch/>
        </p:blipFill>
        <p:spPr>
          <a:xfrm>
            <a:off x="28440" y="3733920"/>
            <a:ext cx="4137120" cy="3103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19920" y="3962160"/>
            <a:ext cx="31240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b0761f"/>
                </a:solidFill>
                <a:latin typeface="Franklin Gothic Medium"/>
              </a:rPr>
              <a:t>КАНДИДАТ ПЕДАГОГИЧЕСКИХ НАУК,  ДОЦЕНТ, ЗАВ.КАФЕДРЫ ПЕДАГОГИКИ И ПСИХОЛОГИИ АКАДЕМИИ СОЦИАЛЬНОГО ОБРАЗОВАНИЯ  «КСЮИ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b0761f"/>
                </a:solidFill>
                <a:latin typeface="Franklin Gothic Medium"/>
              </a:rPr>
              <a:t>        </a:t>
            </a:r>
            <a:r>
              <a:rPr b="0" lang="ru-RU" sz="1500" spc="-1" strike="noStrike">
                <a:solidFill>
                  <a:srgbClr val="b0761f"/>
                </a:solidFill>
                <a:latin typeface="Franklin Gothic Medium"/>
              </a:rPr>
              <a:t>САХИЕВА Р.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152280"/>
            <a:ext cx="60199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ыбина Анастасия Александровна является аспиранткой Института педагогики и психологии профессионального образования Российской Академии Образования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диссертационного исследования, на соискания степени кандидата педагогических наук, является: «Проектирование и реализация технологии портфолио будущих педагогов-психолог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стасией были изложены свои исследования по данной тематике в научных публикац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ация в сборнике статей г. Варна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бликации в сборнике статей всероссийской научно-практической конферен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Гуманитарная составляющая профессионального образования», посвящённой году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 класс для студентов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, 3, 4 курса Зеленодольского Филиала  ЧОУ ВПО « Академия социального образования». Внедрение технологии портфолио в высше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аствует 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педагогических форумах « Педагогическое образование на пути перемен». Выступление: «Портфолио педагога-психолога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д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DSC_0269"/>
          <p:cNvPicPr/>
          <p:nvPr/>
        </p:nvPicPr>
        <p:blipFill>
          <a:blip r:embed="rId1"/>
          <a:stretch/>
        </p:blipFill>
        <p:spPr>
          <a:xfrm>
            <a:off x="6477120" y="533520"/>
            <a:ext cx="2501640" cy="3124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работка развивающие программы для детей раннего детского возраста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 Маленькие волшебн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полюбившейся разделом своей работы, я предпочла работу с 3х летками, а именн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 Психолого- педагогическому сопровождению интеллектуального развития детей раннего возрас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Анастасия\Фото\Детский садик7\Детский сад\Платные услуги\2 ясельная\S4011722.JPG"/>
          <p:cNvPicPr/>
          <p:nvPr/>
        </p:nvPicPr>
        <p:blipFill>
          <a:blip r:embed="rId1"/>
          <a:stretch/>
        </p:blipFill>
        <p:spPr>
          <a:xfrm>
            <a:off x="3581280" y="320040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:\Новая папка\вконтакте\детский садик\S4011749.JPG"/>
          <p:cNvPicPr/>
          <p:nvPr/>
        </p:nvPicPr>
        <p:blipFill>
          <a:blip r:embed="rId2"/>
          <a:stretch/>
        </p:blipFill>
        <p:spPr>
          <a:xfrm>
            <a:off x="228600" y="32004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ерспективные пл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диссертационного исследования соискателя на учёную степень кандидата педагогических наук в ИПП ПО РА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хождение аттестации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лификационную категорию в МАДОУ № 14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ение научно- исследов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авторского курса для детей дошкольного возра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ртфолио буд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оклассни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4011471"/>
          <p:cNvPicPr/>
          <p:nvPr/>
        </p:nvPicPr>
        <p:blipFill>
          <a:blip r:embed="rId1"/>
          <a:stretch/>
        </p:blipFill>
        <p:spPr>
          <a:xfrm>
            <a:off x="4343400" y="2971800"/>
            <a:ext cx="4648320" cy="3753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стя</cp:lastModifiedBy>
  <dcterms:modified xsi:type="dcterms:W3CDTF">2015-10-15T17:35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