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B41E5-4411-422E-A3C3-8470A0DC706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D151A-1EE1-4C40-B968-2979D6C49BE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27AC-B5BD-4DA7-BE0F-C67A2D292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EB90-4340-44AD-89B6-CDA4C1972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5B41-22BD-4E95-8E24-1E8B92974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1A3D-210D-4B8B-B7C1-B7D19B449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27CD-F679-4ED4-BB63-2645387AA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D6F9-3BF5-4B08-8500-49B650074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D64A-94BF-44D9-97C9-5DBA3489E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BD76-7DA2-4DB3-83F5-8E8A5B882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0474-FA94-4F4C-96BB-A09900273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15DB-0C1C-47C4-BEB9-C1E0535CF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44E4-D993-4376-9D46-0AB2CB25C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8B56-725C-4753-BC5E-3928EB2C2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7CFD4-F0C7-4552-AEE6-F7CA37A35EF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hyperlink" Target="mailto:cybina_anastasiya@mail.ru" TargetMode="External"/><Relationship Id="rId4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Муниципальное автономное дошкольное образовательное учреждение «Детский сад № 145» комбинированного вида Ново-Савиновского района города Каза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001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Monotype Corsiva"/>
              </a:rPr>
              <a:t>Портфолио 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Monotype Corsiva"/>
              </a:rPr>
              <a:t>педагога-психолога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733920" y="3276360"/>
            <a:ext cx="541008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Цыбина Анастасия Александр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Педагог-психолог 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II 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квалификационной категории МАДОУ №145 г.Каза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2014-2015 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0744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85840" y="274680"/>
            <a:ext cx="2057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Monotype Corsiva"/>
              </a:rPr>
              <a:t>Резюм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1760" y="533160"/>
            <a:ext cx="281916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Цыбина Анастасия Александр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190760" y="914400"/>
            <a:ext cx="28191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Образов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а 2015г. являюсь аспиранткой ИПП ПО РА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олучила высшее образование в Академии социального образования КСЮИ на специальности педагог- психоло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кончила в 2005 г. Среднюю общеобразовательную школу №9 с углублённым изучением английского языка Ново- Савиновского района города Казани Республики Татарста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кончила в 2000 году музыкальную школу № 11 (по классу фортепиано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762120" y="1523880"/>
            <a:ext cx="2666880" cy="43434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7238880" y="914400"/>
            <a:ext cx="190512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Ф. И. О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Цыбина Анастасия Александровн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     </a:t>
            </a:r>
            <a:r>
              <a:rPr b="1" i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Дата рожд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 февраля, 1988г.г Казан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            </a:t>
            </a: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-mai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i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i="1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cybina_anastasiya@mail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      </a:t>
            </a:r>
            <a:r>
              <a:rPr b="1" i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Семейное положение-</a:t>
            </a:r>
            <a:r>
              <a:rPr b="0" i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муже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Де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очь Ксен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28440"/>
            <a:ext cx="9144000" cy="682956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5105160" y="609480"/>
            <a:ext cx="342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Место работ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АДОУ « Детский сад №145 комбинированного вида» Ново-Савиновского района г. Казани, с 2006 го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Должнос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едагог- психоло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Стаж работы, в том числе в данной должности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9 л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Владение иностранными языками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нглийский в совершенстве, французский- со словарё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Знание татарского языка в совершенств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Умения и навык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ладение в совершенстве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программами: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crosoft office Word, Power Point, Ex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l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indows Movie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ker, Nero, Paint, Publisher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Профессиональные качества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формированность универсальных компетенций, организаторские способности, любовь к детя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Содержимое 6" descr="C:\восстановлено\было\Анастасия\Фото1\Детский садик7\Детский сад\Презентация\Dscf0185.jpg"/>
          <p:cNvPicPr/>
          <p:nvPr/>
        </p:nvPicPr>
        <p:blipFill>
          <a:blip r:embed="rId2"/>
          <a:stretch/>
        </p:blipFill>
        <p:spPr>
          <a:xfrm>
            <a:off x="914400" y="2209680"/>
            <a:ext cx="3429000" cy="2743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914400" y="914400"/>
            <a:ext cx="33526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Муниципальное автономное дошкольное образовательное учреждение «Детский сад № 145» комбинированного вида Ново-Савиновского района города Казан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511280" y="1219320"/>
            <a:ext cx="2637000" cy="3962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5029200" y="1219320"/>
            <a:ext cx="2819520" cy="3962160"/>
          </a:xfrm>
          <a:prstGeom prst="rect">
            <a:avLst/>
          </a:prstGeom>
          <a:ln w="0">
            <a:noFill/>
          </a:ln>
        </p:spPr>
      </p:pic>
      <p:sp>
        <p:nvSpPr>
          <p:cNvPr id="65" name="Содержимое 5"/>
          <p:cNvSpPr/>
          <p:nvPr/>
        </p:nvSpPr>
        <p:spPr>
          <a:xfrm>
            <a:off x="228600" y="5181480"/>
            <a:ext cx="861048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 2006 году я начала свою профессиональную деятельность в детском саду №145 г. Казани, в должности педагог-психолог, где и  работаю по сей  день. На данный момент имею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I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квалификационную категорию. Опыт работы в данной должности  9 л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Заголовок 3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Муниципальное автономное дошкольное образовательное учреждение «Детский сад №145»</a:t>
            </a:r>
            <a:br>
              <a:rPr sz="1900"/>
            </a:b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комбинированного вида</a:t>
            </a:r>
            <a:br>
              <a:rPr sz="1900"/>
            </a:b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Ново-Савиновского района Г. Казани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Учреждение Российской Академии образования </a:t>
            </a:r>
            <a:br>
              <a:rPr sz="2300"/>
            </a:b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« Институт педагогики и психологии профессионального образования»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1640" y="2209320"/>
            <a:ext cx="4343400" cy="38466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 fontScale="84000"/>
          </a:bodyPr>
          <a:p>
            <a:pPr marL="288000" indent="-2880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вмещаю профессиональную деятельность с научно- исследовательской. Являюсь аспиранткой 3 курс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ма моего диссертационного исследования на соискания степени кандидата педагогических наук 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Проектирование и реализация технологии портфолио будущих педагогов-психологов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Содержимое 6" descr="IMGA025111"/>
          <p:cNvPicPr/>
          <p:nvPr/>
        </p:nvPicPr>
        <p:blipFill>
          <a:blip r:embed="rId1"/>
          <a:stretch/>
        </p:blipFill>
        <p:spPr>
          <a:xfrm>
            <a:off x="304920" y="2514600"/>
            <a:ext cx="4267080" cy="3200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D:\Российский конкурс июль 2013\фото\P1060696.JPG"/>
          <p:cNvPicPr/>
          <p:nvPr/>
        </p:nvPicPr>
        <p:blipFill>
          <a:blip r:embed="rId1"/>
          <a:stretch/>
        </p:blipFill>
        <p:spPr>
          <a:xfrm>
            <a:off x="4419720" y="3200400"/>
            <a:ext cx="4724280" cy="36576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D:\Российский конкурс июль 2013\фото\P1060700.JPG"/>
          <p:cNvPicPr/>
          <p:nvPr/>
        </p:nvPicPr>
        <p:blipFill>
          <a:blip r:embed="rId2"/>
          <a:stretch/>
        </p:blipFill>
        <p:spPr>
          <a:xfrm>
            <a:off x="152280" y="152280"/>
            <a:ext cx="4064040" cy="30481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IMG_0787"/>
          <p:cNvPicPr/>
          <p:nvPr/>
        </p:nvPicPr>
        <p:blipFill>
          <a:blip r:embed="rId3"/>
          <a:stretch/>
        </p:blipFill>
        <p:spPr>
          <a:xfrm>
            <a:off x="4402080" y="152280"/>
            <a:ext cx="4741920" cy="35578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IMG_0793"/>
          <p:cNvPicPr/>
          <p:nvPr/>
        </p:nvPicPr>
        <p:blipFill>
          <a:blip r:embed="rId4"/>
          <a:stretch/>
        </p:blipFill>
        <p:spPr>
          <a:xfrm>
            <a:off x="28440" y="3733920"/>
            <a:ext cx="4137120" cy="310356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6019920" y="3962160"/>
            <a:ext cx="312408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b0761f"/>
                </a:solidFill>
                <a:latin typeface="Franklin Gothic Medium"/>
              </a:rPr>
              <a:t>КАНДИДАТ ПЕДАГОГИЧЕСКИХ НАУК,  ДОЦЕНТ, ЗАВ.КАФЕДРЫ ПЕДАГОГИКИ И ПСИХОЛОГИИ АКАДЕМИИ СОЦИАЛЬНОГО ОБРАЗОВАНИЯ  «КСЮИ»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b0761f"/>
                </a:solidFill>
                <a:latin typeface="Franklin Gothic Medium"/>
              </a:rPr>
              <a:t>        </a:t>
            </a:r>
            <a:r>
              <a:rPr b="0" lang="ru-RU" sz="1500" spc="-1" strike="noStrike">
                <a:solidFill>
                  <a:srgbClr val="b0761f"/>
                </a:solidFill>
                <a:latin typeface="Franklin Gothic Medium"/>
              </a:rPr>
              <a:t>САХИЕВА Р.Г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228600" y="152280"/>
            <a:ext cx="601992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Цыбина Анастасия Александровна является аспиранткой Института педагогики и психологии профессионального образования Российской Академии Образования.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 диссертационного исследования, на соискания степени кандидата педагогических наук, является: «Проектирование и реализация технологии портфолио будущих педагогов-психологов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стасией были изложены свои исследования по данной тематике в научных публикациях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бликация в сборнике статей г. Варна,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убликации в сборнике статей всероссийской научно-практической конференции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 Гуманитарная составляющая профессионального образования», посвящённой году учител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тер- класс для студентов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2, 3, 4 курса Зеленодольского Филиала  ЧОУ ВПО « Академия социального образования». Внедрение технологии портфолио в высшей школ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о участвует в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чно-педагогических форумах « Педагогическое образование на пути перемен». Выступление: «Портфолио педагога-психолога»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т.д.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DSC_0269"/>
          <p:cNvPicPr/>
          <p:nvPr/>
        </p:nvPicPr>
        <p:blipFill>
          <a:blip r:embed="rId1"/>
          <a:stretch/>
        </p:blipFill>
        <p:spPr>
          <a:xfrm>
            <a:off x="6477120" y="533520"/>
            <a:ext cx="2501640" cy="312408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Разработка развивающие программы для детей раннего детского возраста</a:t>
            </a:r>
            <a:br>
              <a:rPr sz="3200"/>
            </a:b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« Маленькие волшебник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иболее полюбившейся разделом своей работы, я предпочла работу с 3х летками, а именно тем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« Психолого- педагогическому сопровождению интеллектуального развития детей раннего возраст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C:\Анастасия\Фото\Детский садик7\Детский сад\Платные услуги\2 ясельная\S4011722.JPG"/>
          <p:cNvPicPr/>
          <p:nvPr/>
        </p:nvPicPr>
        <p:blipFill>
          <a:blip r:embed="rId1"/>
          <a:stretch/>
        </p:blipFill>
        <p:spPr>
          <a:xfrm>
            <a:off x="3581280" y="3200400"/>
            <a:ext cx="5029200" cy="37720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D:\Новая папка\вконтакте\детский садик\S4011749.JPG"/>
          <p:cNvPicPr/>
          <p:nvPr/>
        </p:nvPicPr>
        <p:blipFill>
          <a:blip r:embed="rId2"/>
          <a:stretch/>
        </p:blipFill>
        <p:spPr>
          <a:xfrm>
            <a:off x="228600" y="3200400"/>
            <a:ext cx="2743200" cy="365760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Перспективные пла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83772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щита диссертационного исследования соискателя на учёную степень кандидата педагогических наук в ИПП ПО РА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хождение аттестации н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квалификационную категорию в МАДОУ № 145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должение научно- исследовательской деятель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работка авторского курса для детей дошкольного возрас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«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ортфолио будуще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ервоклассника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S4011471"/>
          <p:cNvPicPr/>
          <p:nvPr/>
        </p:nvPicPr>
        <p:blipFill>
          <a:blip r:embed="rId1"/>
          <a:stretch/>
        </p:blipFill>
        <p:spPr>
          <a:xfrm>
            <a:off x="4343400" y="2971800"/>
            <a:ext cx="4648320" cy="37530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настя</cp:lastModifiedBy>
  <dcterms:modified xsi:type="dcterms:W3CDTF">2015-10-15T17:35:24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