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C30-5660-4545-AFA2-1FBA289F7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CA80-A718-4830-8BD5-D41395D44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3716-F17E-43A3-9DF6-31B61D028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F2BC-1BA8-4A11-BF18-9849AFE73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475-5775-475E-A9A3-3D6359F9B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94B-B05E-41BD-A5EF-B38D29689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135C-07C2-47EA-ACEA-FF380DD88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908-7DF3-4F66-90EA-DA30E3499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7F7-54F7-4997-B624-C600C4654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0F4-7D40-4B31-9E8C-FB3AB7C55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D76-F1B0-411A-AF9E-146A2E1B5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C62-2C8C-4A35-A1EB-BC01CAA73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7C6-D02D-4E35-B102-27B7525A4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8336-9EC4-4617-BFCD-07E022E6F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C49-041C-4A6C-A018-3F7AA4E3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0C3-AFBC-44CC-9962-34BD988B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1E-3059-4175-9692-A8CDA609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3C0-1DF5-45F3-9737-B19778B2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2677-6FF7-4226-8377-F018ACB3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B930-9DB0-4AA1-8D29-1394613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BC6-76CC-400E-BE5B-85A28E1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F1C-0335-45D7-A30D-34EFD58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9AA-0C0B-4568-A2F3-E226CB26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6066-B989-477B-A5EA-AF42F24A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FC98-AAB8-46B9-811D-F6694F7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581-8AC4-4677-9A4C-945CED8B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EFC-1491-401A-B12C-D2A2F6F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61F-173D-4D2C-B605-DE4671C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62F-F5FF-4CE0-860C-9A8F8FF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348-3CCB-459D-95C3-6308BFAD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72F-4DAD-49F6-A675-1E0B8310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875E-97EB-4BE0-857A-BCC402BB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B74E-CFA5-4A90-9F5E-B9F7AE18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F620-7863-4403-80E7-5886B64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DA76-C20A-467B-9DFE-DBEC8E15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3AEE-DF08-4820-912A-F38DC1E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822-D6CB-45DF-904E-FD6A80E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B993-C8D3-4534-AAEF-0F9B300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8E2E-A2CA-42E1-BDDA-86CDE00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5503-E4B4-4908-A949-D0D099F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1412-7967-4218-A9A7-0C3224F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997D-69F7-4026-83F4-9F75CA4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A8D5-26E6-4C52-8DF4-BED87C02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7ACB-5C5B-4658-931A-A0368C5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7921-A643-4660-91E3-15866A25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38CB-0484-4505-882B-EB858ED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F3E9-69DF-43F1-923D-91602E40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EAA-8697-41AD-A7B2-2C4AD68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3C0F-3410-424A-9FDC-FE2CD40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E799-1E22-4168-AB69-37C7E2C3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13E9-18AE-4126-A369-ED0BA3B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028D-BF17-4F94-AF8F-3DF3C7B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9AC2-92D0-4557-8F85-5A14640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FC26-7B18-419A-B75B-EDABAC91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673C-26E7-40DE-973E-7B9064A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E92C-9331-49CE-80AA-6ACEAB9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0F9B-7785-4A73-B1A4-CC2B6B8F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54B2-DBF8-410D-A5A0-3EC38C85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DA0-2ED2-4036-B470-5B25F50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3D04-2C38-4DD6-B70B-1B5D029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BC4B-1680-4548-8238-B630BC5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9A65-C9E6-48A5-A82D-9BA4CFB4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8D17-732D-4697-9FF4-C62B53B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D103-7F02-4D52-A29C-10BBA36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5C18-8818-46A1-9F89-D76A3DB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3F40-BB72-4326-B02F-907A230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33C2-BF8A-4514-AF02-53CC9D2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C53B-EE50-4A90-A202-AE781A1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0EAF-24B6-4EBE-BE39-CA2F1D0A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E22-CD18-43FD-A5CF-999F2B67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667A0-F9CD-4F6B-8323-487D46AD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77EF8-5791-4AE3-85B1-BF18C4A6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673D-E58F-40D4-A330-2B1C984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25CB-2E7C-4D37-9324-234E28F0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D7AF-0915-4043-A5A2-C0C845E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585F-A918-40D8-BC3B-4AFDDD53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2F16-8979-4E79-A238-3CB16E64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A169-A43A-47CC-A4C6-291580B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80BA-98A0-4028-9343-9FBAF5C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AC60-1451-4445-8AAB-8118AE8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9D9-2642-4EEC-BFB5-D47314B5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041A-B1BA-4BAF-9968-BF98280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49F6-4FB9-4444-B687-6AA62837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5D1F-D5A7-4E93-96F6-AE5E8B8D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C7226-F3A5-45F3-956E-AD25E96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3F9C-2D1F-4553-8BF4-3380306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87C5-00D8-4AE0-9379-85A10F6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0373-5B8A-4EB9-AC4D-17B55D8B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F66E-FC7C-416C-B19A-0F5B78A5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73955-B248-4917-A2AC-54DA61C8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9981-C8F8-457C-976C-2871DB9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FE1-FB67-48D2-A203-D2F851B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27C8C-9E6A-42C6-BE03-B30ABA7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A4A7-E5C4-41D5-BD59-18C7ED6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FA4B-6991-4BCC-AC7C-A81AE6B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893A7-632C-44F8-83A5-A7BFACD4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565E-A601-437C-AE38-2D003367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DDACA-116E-4218-A2A9-2CF8A5D6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D1F57-B42F-4C14-961B-33282ABA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8ADE1-47B8-4BC7-B84A-1998B423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C4965-1171-4E34-9D99-7454C580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6C58C-6B19-4667-8107-FF2C5ED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224-7465-43EE-9A55-DCEC8C0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7863-56A5-4842-9EFA-5A1AE80E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DDFE-EF23-4C1B-AE03-A48F6A5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7AD6-7E0A-4D0C-A114-9908065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2D020-410C-47F8-8391-F36757F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0BDDB-91BF-4E87-BB86-CD775B6F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F6AE9-8DCE-47FB-A05B-68ACEB8E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FC02E-8D2E-4FDB-9FE6-94B3084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DFB3-2FBA-4D05-B8EB-B278004D6A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6B20-D00C-4547-BDA6-E963DF61F0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3E37-30F6-4B19-97BA-08CB7FDDF9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EC8-CFB4-4080-BBD6-5A5D09FDA8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B56-B9C0-4B38-88A7-9E8E5C6866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52A-5C9C-4300-8D93-9F698530A2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2AE-BB0A-4171-92E7-4C100AAA08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423-9A2D-4610-9E80-2DBCA651A3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93560" y="1000080"/>
            <a:ext cx="82425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736640" y="328680"/>
            <a:ext cx="6956640" cy="2384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41672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Вот некоторые варианты те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для учащихся 5 классов: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1. Как дроби помогают человеку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2. Простые числа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3. Мир треугольников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4. Симметричные фигуры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5. Прямоугольники различного вида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6. Мои любимые задачи.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00000" y="2781000"/>
            <a:ext cx="792000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  <a:ea typeface="Tahoma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Каким образом вы можете разделить квадрат на четыре одинаковые части? Попытайтесь найти десять различных способов.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1763640" y="260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 уроках математического моделирования в 5-х классах, ученики с большим удовольствием решают задачи практического характера. Это задачи на разрезание, составление, шифрование, закрашивание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5" descr="http://free-math.ucoz.ru/_ld/1/14689683.gif"/>
          <p:cNvPicPr/>
          <p:nvPr/>
        </p:nvPicPr>
        <p:blipFill>
          <a:blip r:embed="rId2"/>
          <a:stretch/>
        </p:blipFill>
        <p:spPr>
          <a:xfrm>
            <a:off x="1835280" y="4221000"/>
            <a:ext cx="59054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1042920" y="476280"/>
            <a:ext cx="74898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Организовывая творческую деятельность на уроках, учитель способ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азвитию творческого мышления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азвитию поисковой и познавательной деятельности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воспитанию инициативн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ллектуально-творческому развитию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осту интереса к своему предме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7"/>
          <p:cNvSpPr/>
          <p:nvPr/>
        </p:nvSpPr>
        <p:spPr>
          <a:xfrm>
            <a:off x="971640" y="189000"/>
            <a:ext cx="756108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Решение текстовых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разв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смекал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ставить вопросы и отвечать на н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рассужда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составлять план реш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анализировать полученный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логическую культуру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рес к процессу поиска решения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рес к предмету в це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714240" y="214200"/>
            <a:ext cx="76042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    </a:t>
            </a: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Задачи творческого содержания   выполняют очень важную функцию в  курсе математики — они являются полезным средством развития у детей логического мышления, умения конкретизировать, обобщ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285840" y="2428920"/>
            <a:ext cx="8642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Элементы занимательности, использования логических упражнений, игры вызывают у детей живой интерес к процессу познания, помогают усвоить любой учеб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Нестандартные задания по математике повышают интерес к предмету, обеспечивают расширение кругозора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Всё это подготавливает учащихся 5 класса к занятиям настоящей проектной деятельн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57120" y="-960480"/>
            <a:ext cx="8352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46"/>
                </a:solidFill>
                <a:latin typeface="Monotype Corsiva"/>
                <a:ea typeface="Times New Roman"/>
              </a:rPr>
              <a:t>Школа должна дать учащимся не только определенную сумму знаний, но и привить умения самостоятельно пополнять свой запас знаний, чтобы ориентироваться в стремительном потоке современной научно-технической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1763640" y="692280"/>
            <a:ext cx="66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642960" y="1428840"/>
            <a:ext cx="7777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развить самостоятельность в познавательной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учить самостоятельно овладевать знани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учить самостоятельно применять имеющиеся знания в практи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4" descr="http://festival.1september.ru/articles/589007/img1.gif"/>
          <p:cNvPicPr/>
          <p:nvPr/>
        </p:nvPicPr>
        <p:blipFill>
          <a:blip r:embed="rId2"/>
          <a:stretch/>
        </p:blipFill>
        <p:spPr>
          <a:xfrm>
            <a:off x="755640" y="2133720"/>
            <a:ext cx="7848720" cy="374328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5"/>
          <p:cNvSpPr/>
          <p:nvPr/>
        </p:nvSpPr>
        <p:spPr>
          <a:xfrm>
            <a:off x="1619280" y="476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Виды творческих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971640" y="189000"/>
            <a:ext cx="799308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Некоторые виды упражнений по составлению  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становка вопроса к данному условию задачи или изменение данного вопро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условия задачи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дбор числовых дан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аналог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обратных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их иллюстраци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данному реш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71280" y="2492280"/>
            <a:ext cx="7848360" cy="24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С одного цветка на другой, расстояние между которыми …, летела красивая бабочка. При попутном ветре  это расстояние она пролетала за …. минут, а при встречном – за … минут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Подберите подходящие числа, поставьте вопрос и решите задач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Прямоугольник 9"/>
          <p:cNvSpPr/>
          <p:nvPr/>
        </p:nvSpPr>
        <p:spPr>
          <a:xfrm>
            <a:off x="1908000" y="26028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возможно: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краткой записи;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формулам и уравнениям;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графикам и диаграммам;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заданному вопросу;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обратной дан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Содержимое 4" descr="http://free-math.ucoz.ru/_ld/1/09816819.gif"/>
          <p:cNvPicPr/>
          <p:nvPr/>
        </p:nvPicPr>
        <p:blipFill>
          <a:blip r:embed="rId2"/>
          <a:stretch/>
        </p:blipFill>
        <p:spPr>
          <a:xfrm>
            <a:off x="4017960" y="4370400"/>
            <a:ext cx="45766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7" descr="http://free-math.ucoz.ru/_ld/1/81331724.gif"/>
          <p:cNvPicPr/>
          <p:nvPr/>
        </p:nvPicPr>
        <p:blipFill>
          <a:blip r:embed="rId1"/>
          <a:stretch/>
        </p:blipFill>
        <p:spPr>
          <a:xfrm>
            <a:off x="1468440" y="1620720"/>
            <a:ext cx="2390760" cy="2475000"/>
          </a:xfrm>
          <a:prstGeom prst="rect">
            <a:avLst/>
          </a:prstGeom>
          <a:ln w="0">
            <a:noFill/>
          </a:ln>
        </p:spPr>
      </p:pic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2454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На день рождения  Мальвины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Буратино купил 50 шар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Но когда  их стал надувать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Он проткнул своим длинным носом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32%  их количеств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Сколько шаров получила в подарок  Мальвина</a:t>
            </a:r>
            <a:r>
              <a:rPr b="0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ff"/>
                </a:solidFill>
                <a:latin typeface="Lucida Sans Unicod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Рисунок 8" descr="http://free-math.ucoz.ru/_ld/1/81331724.gif"/>
          <p:cNvPicPr/>
          <p:nvPr/>
        </p:nvPicPr>
        <p:blipFill>
          <a:blip r:embed="rId3"/>
          <a:stretch/>
        </p:blipFill>
        <p:spPr>
          <a:xfrm>
            <a:off x="6004080" y="3133800"/>
            <a:ext cx="2206440" cy="23162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9"/>
          <p:cNvSpPr/>
          <p:nvPr/>
        </p:nvSpPr>
        <p:spPr>
          <a:xfrm>
            <a:off x="1763640" y="333360"/>
            <a:ext cx="705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Ученики с удовольствием самостоятельно составляют задачи. При этом даём определенную целевую установку на их содержание: экологическое, нравственное, сказочное или фантастическо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9"/>
          <p:cNvSpPr/>
          <p:nvPr/>
        </p:nvSpPr>
        <p:spPr>
          <a:xfrm>
            <a:off x="324000" y="260280"/>
            <a:ext cx="856908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Примеры  зад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составленных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Georgia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1835280" y="1341360"/>
            <a:ext cx="684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Эйфелева башня имеет высоту 300 метров и весит 30 тонн. Найдите вес её копии высотой 10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468360" y="2565360"/>
            <a:ext cx="828036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Исаакиевский собор в 2,95 раза ниже Эйфелевой башни. Найдите высоту Исаакиевского собора, если 1/10 высоты Эйфелевой башни равна 30 мет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Площадь Франции 500 тыс. кв. км. Она меньше России в 31 раз. Какова площадь России? Во сколько раз площадь Франции больше площади Санкт-Петербурга, если площадь Санкт-Петербурга 606 кв. к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115640" y="2565360"/>
            <a:ext cx="698508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  <a:ea typeface="Tahoma"/>
              </a:rPr>
              <a:t>       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Определи закономерность и найди неизвестное число: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Прямоугольник 9"/>
          <p:cNvSpPr/>
          <p:nvPr/>
        </p:nvSpPr>
        <p:spPr>
          <a:xfrm>
            <a:off x="1835280" y="549360"/>
            <a:ext cx="691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иск закономерностей, составление своих подобных задач – один из любимых видов деятельности учеников. Предлагаем такие задания в качестве разминки, обычно, в начале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5" descr="http://free-math.ucoz.ru/_ld/1/52922616.jpg"/>
          <p:cNvPicPr/>
          <p:nvPr/>
        </p:nvPicPr>
        <p:blipFill>
          <a:blip r:embed="rId2"/>
          <a:stretch/>
        </p:blipFill>
        <p:spPr>
          <a:xfrm>
            <a:off x="2048040" y="3352680"/>
            <a:ext cx="51940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54:48Z</dcterms:created>
  <dc:creator>User</dc:creator>
  <dc:description/>
  <dc:language>en-US</dc:language>
  <cp:lastModifiedBy>1</cp:lastModifiedBy>
  <dcterms:modified xsi:type="dcterms:W3CDTF">2015-10-15T13:02:42Z</dcterms:modified>
  <cp:revision>12</cp:revision>
  <dc:subject/>
  <dc:title>Слайд 1</dc:title>
</cp:coreProperties>
</file>