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98B-80BA-4E0B-AC21-82A660299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6AB5-07DF-4A00-B8F9-2164BBF76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2CD-9E25-4349-A2E1-AE3CEB894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E734-D9D4-4565-92E1-BE7271DE8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3A5-9C79-411D-B22F-FC89B6B29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574-66E4-421E-86D9-4397CB721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5CD-7D33-40A4-9AC3-C447C59D9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B62-28B3-4173-BB88-C37C3809D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D45B-56CD-4E47-9236-C7CE97CBB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DFB-0EAC-4983-92E1-999BF089D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5EF-669A-4659-A6F9-58322D786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6A5-3264-489C-9C19-D248990A6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4130-00AC-443A-ACD1-9511BB8A7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B4D-4470-40E2-9981-C5656E5B1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71F-D62E-4DA4-9ADE-B2C40A38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D70-1722-4731-9266-2300A9B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F68-61FE-430A-9C98-E12B28B6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AAE-1639-4397-A8D3-9C069999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325-841C-46E8-AB87-627FA44B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7C0-D081-4E0A-A3AE-E3AE882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E1AB-4C81-4B5F-9F21-C052A260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8E8-5196-4F52-99FC-8929585D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4931-887C-4AAD-92EA-4EA7D43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A85A-4817-4557-9BEF-A4F8840C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807-3BE7-4EC8-8AD3-128E6FF8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402-0687-4B35-BF77-4F99641D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28A0-D0C9-4034-BD6E-774382A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7944-8C08-447F-BECC-456E10F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2FFC-46EC-4B0D-AE49-E6BE876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6759-5CF9-4CE3-B96E-370EF1A4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0205-2B45-4D1D-A22A-F9E737D0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FD51-3B22-4484-AAB5-9B37241B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39BF-6ABB-416B-8EEA-B4D33CA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4150-2DFB-4F85-9992-C5629B0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956E-C193-49EA-AD29-96A676B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975F-9C8F-4D72-91CA-F68F13E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75C-D295-48E7-BD63-0A29D383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2803-6B86-4B24-9E96-D650C6AB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C265-5BE0-460C-B944-F76C7A6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374C-F408-4422-8CF2-C749A5B3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7D15-181E-4C80-95CE-0311C13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9046-21EE-4C84-81C7-774E78F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3183-0D88-4596-9734-7DBCA9F9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70F9-81AE-4DCB-95D5-CBA0FB28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BB78-CA76-413F-805A-D9F37ED4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A017-2939-41B0-B08F-6C5A55E0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DCD1-B32B-47E0-BD33-5390B3F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167-3E4B-474C-8663-94800D2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078D-8C72-4900-8512-2ED35524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4993-C78F-4C79-9F15-7DEF706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70C5-D892-431E-8586-B2512F7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A97E-0D17-4744-9238-6E5165E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0A93-D479-4652-97AF-343A345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79E8-A5B9-4514-805D-5598562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3E32-A1F9-40C6-B595-510EC35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8AD0-0E4F-40C7-A6CF-F78AAF40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161E-BF21-4690-9B1F-ADAD2646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FD1A-F907-4ABB-BF01-06E2F06D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6A0-C07E-4C83-B6BE-06EAE81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A64E-ED76-4B81-BC5D-BE2CC9D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118F-D7A7-4C9F-9F54-FAE9C2A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CE48-DE83-4789-9AEE-BBD2B9D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6017-6EDF-42D6-88D7-A29FE8A9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8576-BAFA-4B02-B10B-D0492B2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D49B-BB68-4697-99A0-B6F88A8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C23B-0713-4C4B-800F-48BCD09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5078-3FB9-4B2B-91CF-11EABD9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606F-4C19-4155-BD28-FA35CA0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51EB-F9B4-4FE6-8A5C-2D668C08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26C-6A3D-45F0-9A2F-BDDDC835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B40C-41EB-42B4-99EC-E53CF035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70BE-717F-464D-9BF0-F6F5E9D1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4232-E34F-4833-8BBA-40C10E7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6333-8E91-433B-91C7-2A37E44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8427-9BBD-449E-9C58-ED85B7C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B209-84EC-479E-85B9-C9DCC9A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C858-7484-412B-830B-B48BA40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C607-291C-45A9-A99E-BA354EB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822C-D630-4216-9CBD-CF79252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A712-D326-419B-869F-9223039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7A8-7277-4183-8E3C-B1F3B6B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50E6-7A9F-4DED-A53D-5C5A2632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76D6-7CE7-4ECE-BF95-8CEC5EF1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0661-6B35-4F6A-952A-E7C0E14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1B09-7DC8-4034-B3CF-5F216445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4EC5-C9A8-4491-BEBD-80D2649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DE08-F9D6-4F28-94D9-B014743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F6D1-D303-47B9-9EB4-0ACA79D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49103-311C-408E-B225-08646D2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AE34E-8BEA-4320-B2D2-822C1F41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7A221-EEFA-4D5D-B44C-DDFCCE5B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6A7-AC5D-47E3-8168-8EE281E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4CF3-8ABA-4371-8B3C-8B48F97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86ED-C03B-445E-81EF-D7513F1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4928-BA03-4777-B030-BF9E3E0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DF2E0-9F44-4FFA-AF32-770210BA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B6BA1-59AA-41F5-8514-DCB257D6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9F71-8D6D-4A11-87FD-4C8343F2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8C32-32F9-4D6C-96F8-BDEB575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F594-9482-48D4-AA17-155FCDB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4D292-C964-4C37-AF73-95A1B6F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0701-66A8-4DC7-9393-61B58205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D40-26C4-4675-BDB2-A544FF5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FE9B-5F23-4FF1-8C47-64EC77B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BC58-EEBD-4F55-AA32-E859750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A3FF-6FFB-4FAE-91EA-C2240F0C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6456C-8944-4A53-B8CF-ECA3191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2E4A-7F11-4968-8501-80ECCA37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DA31D-06E7-475C-856D-E6AB6F0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10C0-E6BB-405C-8A6D-6AB8363A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BD4-A4E4-4FEE-96E8-FD30ED7F04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69FD-43B2-4DE2-9BCD-27E0000AB8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72EC-1B44-4CB2-9055-B3B2AC40E6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AF2-0F7F-4AD3-BDD2-76DFCE6869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2F16-182B-492F-9513-CA2413D009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DAD-A411-43BD-BD1C-9822B0E916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897-EF42-4B10-8716-15A61D2AC0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9CE-EF3E-4A41-82BC-E264150B0F6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93560" y="1000080"/>
            <a:ext cx="82425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736640" y="328680"/>
            <a:ext cx="6956640" cy="23842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41672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Вот некоторые варианты те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для учащихся 5 классов: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1. Как дроби помогают человеку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2. Простые числа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3. Мир треугольников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4. Симметричные фигуры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5. Прямоугольники различного вида. 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Georgia"/>
                <a:ea typeface="Tahoma"/>
              </a:rPr>
              <a:t>6. Мои любимые задачи.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00000" y="2781000"/>
            <a:ext cx="792000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  <a:ea typeface="Tahoma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Каким образом вы можете разделить квадрат на четыре одинаковые части? Попытайтесь найти десять различных способов.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1763640" y="260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 уроках математического моделирования в 5-х классах, ученики с большим удовольствием решают задачи практического характера. Это задачи на разрезание, составление, шифрование, закрашивание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5" descr="http://free-math.ucoz.ru/_ld/1/14689683.gif"/>
          <p:cNvPicPr/>
          <p:nvPr/>
        </p:nvPicPr>
        <p:blipFill>
          <a:blip r:embed="rId2"/>
          <a:stretch/>
        </p:blipFill>
        <p:spPr>
          <a:xfrm>
            <a:off x="1835280" y="4221000"/>
            <a:ext cx="59054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1042920" y="476280"/>
            <a:ext cx="74898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Организовывая творческую деятельность на уроках, учитель способ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азвитию творческого мышления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азвитию поисковой и познавательной деятельности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воспитанию инициативной лич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ллектуально-творческому развитию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росту интереса к своему предме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7"/>
          <p:cNvSpPr/>
          <p:nvPr/>
        </p:nvSpPr>
        <p:spPr>
          <a:xfrm>
            <a:off x="971640" y="189000"/>
            <a:ext cx="756108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Решение текстовых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разв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смекал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ставить вопросы и отвечать на н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рассужда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составлять план реш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умение анализировать полученный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логическую культуру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рес к процессу поиска решения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интерес к предмету в це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714240" y="214200"/>
            <a:ext cx="76042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    </a:t>
            </a: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Задачи творческого содержания   выполняют очень важную функцию в  курсе математики — они являются полезным средством развития у детей логического мышления, умения конкретизировать, обобщ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285840" y="2428920"/>
            <a:ext cx="8642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Элементы занимательности, использования логических упражнений, игры вызывают у детей живой интерес к процессу познания, помогают усвоить любой учеб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Нестандартные задания по математике повышают интерес к предмету, обеспечивают расширение кругозора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Georgia"/>
                <a:ea typeface="Tahoma"/>
              </a:rPr>
              <a:t>Всё это подготавливает учащихся 5 класса к занятиям настоящей проектной деятельн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57120" y="-960480"/>
            <a:ext cx="8352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46"/>
                </a:solidFill>
                <a:latin typeface="Monotype Corsiva"/>
                <a:ea typeface="Times New Roman"/>
              </a:rPr>
              <a:t>Школа должна дать учащимся не только определенную сумму знаний, но и привить умения самостоятельно пополнять свой запас знаний, чтобы ориентироваться в стремительном потоке современной научно-технической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1763640" y="692280"/>
            <a:ext cx="66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642960" y="1428840"/>
            <a:ext cx="7777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развить самостоятельность в познавательной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учить самостоятельно овладевать знани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научить самостоятельно применять имеющиеся знания в практи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4" descr="http://festival.1september.ru/articles/589007/img1.gif"/>
          <p:cNvPicPr/>
          <p:nvPr/>
        </p:nvPicPr>
        <p:blipFill>
          <a:blip r:embed="rId2"/>
          <a:stretch/>
        </p:blipFill>
        <p:spPr>
          <a:xfrm>
            <a:off x="755640" y="2133720"/>
            <a:ext cx="7848720" cy="374328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5"/>
          <p:cNvSpPr/>
          <p:nvPr/>
        </p:nvSpPr>
        <p:spPr>
          <a:xfrm>
            <a:off x="1619280" y="476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Виды творческих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9"/>
          <p:cNvSpPr/>
          <p:nvPr/>
        </p:nvSpPr>
        <p:spPr>
          <a:xfrm>
            <a:off x="1476360" y="836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971640" y="189000"/>
            <a:ext cx="799308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  <a:ea typeface="Tahoma"/>
              </a:rPr>
              <a:t>Некоторые виды упражнений по составлению  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становка вопроса к данному условию задачи или изменение данного вопро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условия задачи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дбор числовых дан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аналог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обратных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их иллюстраци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по данному реш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71280" y="2492280"/>
            <a:ext cx="7848360" cy="24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С одного цветка на другой, расстояние между которыми …, летела красивая бабочка. При попутном ветре  это расстояние она пролетала за …. минут, а при встречном – за … минут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Подберите подходящие числа, поставьте вопрос и решите задач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Прямоугольник 9"/>
          <p:cNvSpPr/>
          <p:nvPr/>
        </p:nvSpPr>
        <p:spPr>
          <a:xfrm>
            <a:off x="1908000" y="26028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Составление задач возможно: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краткой записи;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формулам и уравнениям;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графикам и диаграммам;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по заданному вопросу; </a:t>
            </a:r>
            <a:br>
              <a:rPr sz="2200"/>
            </a:b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- обратной дан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Содержимое 4" descr="http://free-math.ucoz.ru/_ld/1/09816819.gif"/>
          <p:cNvPicPr/>
          <p:nvPr/>
        </p:nvPicPr>
        <p:blipFill>
          <a:blip r:embed="rId2"/>
          <a:stretch/>
        </p:blipFill>
        <p:spPr>
          <a:xfrm>
            <a:off x="4017960" y="4370400"/>
            <a:ext cx="45766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7" descr="http://free-math.ucoz.ru/_ld/1/81331724.gif"/>
          <p:cNvPicPr/>
          <p:nvPr/>
        </p:nvPicPr>
        <p:blipFill>
          <a:blip r:embed="rId1"/>
          <a:stretch/>
        </p:blipFill>
        <p:spPr>
          <a:xfrm>
            <a:off x="1468440" y="1620720"/>
            <a:ext cx="2390760" cy="2475000"/>
          </a:xfrm>
          <a:prstGeom prst="rect">
            <a:avLst/>
          </a:prstGeom>
          <a:ln w="0">
            <a:noFill/>
          </a:ln>
        </p:spPr>
      </p:pic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2454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На день рождения  Мальвины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Буратино купил 50 шар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Но когда  их стал надувать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Он проткнул своим длинным носом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32%  их количеств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Сколько шаров получила в подарок  Мальвина</a:t>
            </a:r>
            <a:r>
              <a:rPr b="0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ff"/>
                </a:solidFill>
                <a:latin typeface="Lucida Sans Unicod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Рисунок 8" descr="http://free-math.ucoz.ru/_ld/1/81331724.gif"/>
          <p:cNvPicPr/>
          <p:nvPr/>
        </p:nvPicPr>
        <p:blipFill>
          <a:blip r:embed="rId3"/>
          <a:stretch/>
        </p:blipFill>
        <p:spPr>
          <a:xfrm>
            <a:off x="6004080" y="3133800"/>
            <a:ext cx="2206440" cy="23162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9"/>
          <p:cNvSpPr/>
          <p:nvPr/>
        </p:nvSpPr>
        <p:spPr>
          <a:xfrm>
            <a:off x="1763640" y="333360"/>
            <a:ext cx="705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Ученики с удовольствием самостоятельно составляют задачи. При этом даём определенную целевую установку на их содержание: экологическое, нравственное, сказочное или фантастическо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9"/>
          <p:cNvSpPr/>
          <p:nvPr/>
        </p:nvSpPr>
        <p:spPr>
          <a:xfrm>
            <a:off x="324000" y="260280"/>
            <a:ext cx="856908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Примеры  зад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64646"/>
                </a:solidFill>
                <a:latin typeface="Georgia"/>
              </a:rPr>
              <a:t>составленных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Georgia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1835280" y="1341360"/>
            <a:ext cx="684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Эйфелева башня имеет высоту 300 метров и весит 30 тонн. Найдите вес её копии высотой 10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468360" y="2565360"/>
            <a:ext cx="828036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Исаакиевский собор в 2,95 раза ниже Эйфелевой башни. Найдите высоту Исаакиевского собора, если 1/10 высоты Эйфелевой башни равна 30 мет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дач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Georgia"/>
              </a:rPr>
              <a:t>Площадь Франции 500 тыс. кв. км. Она меньше России в 31 раз. Какова площадь России? Во сколько раз площадь Франции больше площади Санкт-Петербурга, если площадь Санкт-Петербурга 606 кв. к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115640" y="2565360"/>
            <a:ext cx="698508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  <a:ea typeface="Tahoma"/>
              </a:rPr>
              <a:t>       </a:t>
            </a:r>
            <a:r>
              <a:rPr b="1" i="1" lang="ru-RU" sz="2200" spc="-1" strike="noStrike">
                <a:solidFill>
                  <a:srgbClr val="0000ff"/>
                </a:solidFill>
                <a:latin typeface="Georgia"/>
                <a:ea typeface="Tahoma"/>
              </a:rPr>
              <a:t>Определи закономерность и найди неизвестное число: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Прямоугольник 9"/>
          <p:cNvSpPr/>
          <p:nvPr/>
        </p:nvSpPr>
        <p:spPr>
          <a:xfrm>
            <a:off x="1835280" y="549360"/>
            <a:ext cx="691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Georgia"/>
                <a:ea typeface="Tahoma"/>
              </a:rPr>
              <a:t>Поиск закономерностей, составление своих подобных задач – один из любимых видов деятельности учеников. Предлагаем такие задания в качестве разминки, обычно, в начале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5" descr="http://free-math.ucoz.ru/_ld/1/52922616.jpg"/>
          <p:cNvPicPr/>
          <p:nvPr/>
        </p:nvPicPr>
        <p:blipFill>
          <a:blip r:embed="rId2"/>
          <a:stretch/>
        </p:blipFill>
        <p:spPr>
          <a:xfrm>
            <a:off x="2048040" y="3352680"/>
            <a:ext cx="51940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54:48Z</dcterms:created>
  <dc:creator>User</dc:creator>
  <dc:description/>
  <dc:language>en-US</dc:language>
  <cp:lastModifiedBy>1</cp:lastModifiedBy>
  <dcterms:modified xsi:type="dcterms:W3CDTF">2015-10-15T13:02:42Z</dcterms:modified>
  <cp:revision>12</cp:revision>
  <dc:subject/>
  <dc:title>Слайд 1</dc:title>
</cp:coreProperties>
</file>