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A49-BD37-4902-AF4B-51FB0CA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C00-62AA-4169-8275-169D593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AEC-E67A-443B-BDFF-4112CDB3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A7F-A6D9-4662-852B-5F52B8E1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B138-0546-4E19-B478-A63ED8BB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516F-4B60-42CC-90BF-F3E0B36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392E-2787-4902-BE6F-6036210F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F06F-3C80-4320-8D8E-89C9E57A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EE7-2F7B-4763-B226-71A9316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285D-708B-4796-82B6-C499FAC6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4375-9F96-4AD1-B515-3BC0B3D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22A-23A9-47E8-9CD2-FC32EB9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EFDC-72CD-484C-A60D-9653BC68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32A7-73A9-42A1-AF88-331D090D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93E2-BFE1-46F0-B37C-155B23A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637-E138-4C76-80BF-8BBD8B16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537D-3DED-4DD3-9B53-A3437986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FBF-97F9-4755-8132-9EE57BC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26F-3AF2-434D-A1F8-DE7D8AE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3E2-DED4-438A-BC32-9FD9DBD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E24-7614-4D3F-A8C4-9CFF386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36E-65B5-40E8-A69E-0D8212B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40A-7202-42CD-A7B5-1663172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F25-B149-42B7-B115-176A3BE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D9BD-BD02-43C1-8EB1-EA7EE4E8D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6E1-7C90-487B-9787-DC5099B1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Times New Roman"/>
              </a:rPr>
              <a:t>Урок немецкого языка </a:t>
            </a:r>
            <a:br>
              <a:rPr sz="4800"/>
            </a:br>
            <a:r>
              <a:rPr b="1" lang="ru-RU" sz="4800" spc="-1" strike="noStrike">
                <a:solidFill>
                  <a:srgbClr val="660033"/>
                </a:solidFill>
                <a:latin typeface="Times New Roman"/>
              </a:rPr>
              <a:t>в 6 классе</a:t>
            </a:r>
            <a:br>
              <a:rPr sz="4800"/>
            </a:b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“Drau</a:t>
            </a:r>
            <a:r>
              <a:rPr b="1" lang="el-GR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β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en ist Bl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ätterfall”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11280" y="3860280"/>
            <a:ext cx="43210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итель немецкого язы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наева Е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384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Times New Roman"/>
              </a:rPr>
              <a:t>Vollendet die S</a:t>
            </a:r>
            <a:r>
              <a:rPr b="1" lang="en-US" sz="4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ätze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 Junge … das Buch…(les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 Bauer…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den Sommer…(denk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Vőgel… Lieder….(sing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sknacker … Musik…(hőr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o ….gut Deutsch…(spreche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a ….einen Brief….(schreiben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и сравнения имён прилагательных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POSITIV</a:t>
            </a: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   -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übsch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KOMPARATIV</a:t>
            </a: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 -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übsh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SUPERLATIV</a:t>
            </a: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 –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übsch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Times New Roman"/>
              </a:rPr>
              <a:t>Образуйте  степени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c3300"/>
                </a:solidFill>
                <a:uFillTx/>
                <a:latin typeface="Times New Roman"/>
              </a:rPr>
              <a:t>сравнения  прилагательных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99ff"/>
                </a:solidFill>
                <a:latin typeface="Verdana"/>
              </a:rPr>
              <a:t>Klein, viel, faul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99ff"/>
                </a:solidFill>
                <a:latin typeface="Verdana"/>
              </a:rPr>
              <a:t>gut, kalt, schön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99ff"/>
                </a:solidFill>
                <a:latin typeface="Verdana"/>
              </a:rPr>
              <a:t>gern, ju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33"/>
                </a:solidFill>
                <a:latin typeface="Monotype Corsiva"/>
              </a:rPr>
              <a:t>Danke sch</a:t>
            </a:r>
            <a:r>
              <a:rPr b="1" lang="en-US" sz="8000" spc="-1" strike="noStrike">
                <a:solidFill>
                  <a:srgbClr val="66ff33"/>
                </a:solidFill>
                <a:latin typeface="Monotype Corsiva"/>
                <a:ea typeface="Times New Roman"/>
              </a:rPr>
              <a:t>ö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33"/>
                </a:solidFill>
                <a:latin typeface="Monotype Corsiva"/>
                <a:ea typeface="Times New Roman"/>
              </a:rPr>
              <a:t>für die Arbeit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Times New Roman"/>
              </a:rPr>
              <a:t>Цели урока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ктивизировать употребление лексического материала по данной тем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вершенствовать речевые навыки ( при ответах на вопросы, при описании картины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верить усвоение грамматического материала ( Перфект, Степени сравнения прилагательных и нареч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Times New Roman"/>
              </a:rPr>
              <a:t>Sprecht mir nach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Es ist Herbst! Es ist Herbst!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Bunte Blätter fliegen.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Bunte Blätter, rot und gelb, 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auf der Erde liegen.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Falle, falle, gelbes Blatt,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rotes Blatt, gelbes Blatt,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bis der Baum kein Blatt mehr hat</a:t>
            </a:r>
            <a:br>
              <a:rPr sz="3200"/>
            </a:br>
            <a:r>
              <a:rPr b="1" lang="de-DE" sz="3200" spc="-1" strike="noStrike">
                <a:solidFill>
                  <a:srgbClr val="003300"/>
                </a:solidFill>
                <a:latin typeface="Georgia"/>
              </a:rPr>
              <a:t>weggeflogen al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Times New Roman"/>
              </a:rPr>
              <a:t>Stellt die richtigen Buchstaben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.e Me..ne, der Bau.., der P.irsi.h, .egfl..gen, die Zwie.e., rei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er .abe, de.ke., d.r K..l, einbri..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ie .asser..lone, .eif.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 M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e, der Bau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, der P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irsi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gfl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i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gen, die Zwi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, rei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nstantia"/>
              </a:rPr>
              <a:t>II Grup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er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be, d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r K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, einbri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die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sser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m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one,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if.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50021"/>
                </a:solidFill>
                <a:uFillTx/>
                <a:latin typeface="Times New Roman"/>
              </a:rPr>
              <a:t>Beschreibt die Bilder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Der tiefige Herb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Der Herbstanf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30336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6813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3366"/>
                </a:solidFill>
                <a:latin typeface="Times New Roman"/>
              </a:rPr>
              <a:t>Macht aus zwei Wörter ein Wort</a:t>
            </a: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6600"/>
                </a:solidFill>
                <a:latin typeface="Times New Roman"/>
              </a:rPr>
              <a:t>Macht einen Wort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us </a:t>
            </a:r>
            <a:r>
              <a:rPr b="1" lang="de-DE" sz="2800" spc="-1" strike="noStrike">
                <a:solidFill>
                  <a:srgbClr val="ff6600"/>
                </a:solidFill>
                <a:latin typeface="Times New Roman"/>
              </a:rPr>
              <a:t>zwei Wör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050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Monat + Der Herbs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Der Herbst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Blumen + die Beet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Das Klassenz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Regen + Der Herbs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Das Herbstw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4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Consolas"/>
              </a:rPr>
              <a:t>Perfekt</a:t>
            </a:r>
            <a:r>
              <a:rPr b="0" lang="en-US" sz="4400" spc="-1" strike="noStrike">
                <a:solidFill>
                  <a:srgbClr val="ff0000"/>
                </a:solidFill>
                <a:latin typeface="Consola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olas"/>
              </a:rPr>
              <a:t>haben\sein + PII (ge,t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olas"/>
              </a:rPr>
              <a:t>– </a:t>
            </a:r>
            <a:r>
              <a:rPr b="1" lang="ru-RU" sz="4400" spc="-1" strike="noStrike">
                <a:solidFill>
                  <a:srgbClr val="000000"/>
                </a:solidFill>
                <a:latin typeface="Consolas"/>
              </a:rPr>
              <a:t>слабые глагол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nsolas"/>
              </a:rPr>
              <a:t>(</a:t>
            </a:r>
            <a:r>
              <a:rPr b="1" lang="en-US" sz="4400" spc="-1" strike="noStrike">
                <a:solidFill>
                  <a:srgbClr val="000099"/>
                </a:solidFill>
                <a:latin typeface="Consolas"/>
              </a:rPr>
              <a:t>ge,__,en) </a:t>
            </a:r>
            <a:r>
              <a:rPr b="1" lang="ru-RU" sz="4400" spc="-1" strike="noStrike">
                <a:solidFill>
                  <a:srgbClr val="000099"/>
                </a:solidFill>
                <a:latin typeface="Consolas"/>
              </a:rPr>
              <a:t>– сильные глаго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3300"/>
                </a:solidFill>
                <a:uFillTx/>
                <a:latin typeface="Times New Roman"/>
              </a:rPr>
              <a:t>Образуйте</a:t>
            </a:r>
            <a:r>
              <a:rPr b="1" lang="de-DE" sz="4800" spc="-1" strike="noStrike" u="sng">
                <a:solidFill>
                  <a:srgbClr val="cc3300"/>
                </a:solidFill>
                <a:uFillTx/>
                <a:latin typeface="Times New Roman"/>
              </a:rPr>
              <a:t> Partizip II!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chreib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uch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heiß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versteh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begin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tmachen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zei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ie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it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e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neh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0:33:19Z</dcterms:created>
  <dc:creator>Admin</dc:creator>
  <dc:description/>
  <dc:language>en-US</dc:language>
  <cp:lastModifiedBy>Admin</cp:lastModifiedBy>
  <dcterms:modified xsi:type="dcterms:W3CDTF">2012-11-28T20:29:46Z</dcterms:modified>
  <cp:revision>6</cp:revision>
  <dc:subject/>
  <dc:title>Урок немецкого языка  в 6 классе “Drauβen ist Blätterfall”</dc:title>
</cp:coreProperties>
</file>