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3DD-A918-4334-81C2-58AD3B17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2B8-CC4C-4A62-B84B-103979B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839-841D-4091-B865-86E61D4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A11-25B0-4B1D-9013-9F033A55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611-AF66-4A25-A079-120567A7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57C2-874B-4464-9C11-462AD201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B2D-0F46-4135-890A-062C6042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73C-6386-4E21-AB28-1884714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4C48-B8F1-4E09-B595-3FA5BCAB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56AC-B5DB-4682-B85A-350D0816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15F2-5429-4007-97E6-FFB8319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2E5-2050-4EAD-BD00-013A12A9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0D5F-5B6E-42F9-9AC1-07EA3229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2D83-DCDA-4D3C-8355-90C182C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A283-DDC5-4523-997C-8415EB0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073F-0B7F-4F85-9763-29EFA5C0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DC50-CD12-4794-A7A2-FFF41B51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E3A-6EB5-4AEA-9ADC-882865A6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639-A81F-4CB2-9A0A-6AC53F09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7BB-4B38-495A-9CE9-366A59B3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919-4C0C-46C8-8990-FFD8F6A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322-9D02-4F1A-8552-C8D607E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1F5-E3DF-4340-92E4-BE4E602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7D9-2A34-4890-92CE-03F8928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D68-043E-4F0D-8F3C-43CF3C6E3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0D43-9E28-4B59-B09D-C42317B0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Times New Roman"/>
              </a:rPr>
              <a:t>Урок немецкого языка </a:t>
            </a:r>
            <a:br>
              <a:rPr sz="4800"/>
            </a:br>
            <a:r>
              <a:rPr b="1" lang="ru-RU" sz="4800" spc="-1" strike="noStrike">
                <a:solidFill>
                  <a:srgbClr val="660033"/>
                </a:solidFill>
                <a:latin typeface="Times New Roman"/>
              </a:rPr>
              <a:t>в 6 классе</a:t>
            </a:r>
            <a:br>
              <a:rPr sz="4800"/>
            </a:b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“Drau</a:t>
            </a:r>
            <a:r>
              <a:rPr b="1" lang="el-GR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β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en ist Bl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ätterfall”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11280" y="3860280"/>
            <a:ext cx="43210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итель немецкого язы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наева Е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384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Times New Roman"/>
              </a:rPr>
              <a:t>Vollendet die S</a:t>
            </a:r>
            <a:r>
              <a:rPr b="1" lang="en-US" sz="4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ätze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 Junge … das Buch…(les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 Bauer…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den Sommer…(denk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Vőgel… Lieder….(sing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sknacker … Musik…(hőr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o ….gut Deutsch…(sprech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a ….einen Brief….(schreiben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и сравнения имён прилагательных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POSITIV</a:t>
            </a: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   -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übsch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KOMPARATIV</a:t>
            </a: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 -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übsh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SUPERLATIV</a:t>
            </a: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 –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übsch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Times New Roman"/>
              </a:rPr>
              <a:t>Образуйте  степени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c3300"/>
                </a:solidFill>
                <a:uFillTx/>
                <a:latin typeface="Times New Roman"/>
              </a:rPr>
              <a:t>сравнения  прилагательных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99ff"/>
                </a:solidFill>
                <a:latin typeface="Verdana"/>
              </a:rPr>
              <a:t>Klein, viel, faul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99ff"/>
                </a:solidFill>
                <a:latin typeface="Verdana"/>
              </a:rPr>
              <a:t>gut, kalt, schön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99ff"/>
                </a:solidFill>
                <a:latin typeface="Verdana"/>
              </a:rPr>
              <a:t>gern, ju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33"/>
                </a:solidFill>
                <a:latin typeface="Monotype Corsiva"/>
              </a:rPr>
              <a:t>Danke sch</a:t>
            </a:r>
            <a:r>
              <a:rPr b="1" lang="en-US" sz="8000" spc="-1" strike="noStrike">
                <a:solidFill>
                  <a:srgbClr val="66ff33"/>
                </a:solidFill>
                <a:latin typeface="Monotype Corsiva"/>
                <a:ea typeface="Times New Roman"/>
              </a:rPr>
              <a:t>ö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33"/>
                </a:solidFill>
                <a:latin typeface="Monotype Corsiva"/>
                <a:ea typeface="Times New Roman"/>
              </a:rPr>
              <a:t>für die Arbeit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Times New Roman"/>
              </a:rPr>
              <a:t>Цели урока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ктивизировать употребление лексического материала по данной тем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вершенствовать речевые навыки ( при ответах на вопросы, при описании картины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верить усвоение грамматического материала ( Перфект, Степени сравнения прилагательных и нареч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Times New Roman"/>
              </a:rPr>
              <a:t>Sprecht mir nach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Es ist Herbst! Es ist Herbst!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Bunte Blätter fliegen.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Bunte Blätter, rot und gelb, 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auf der Erde liegen.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Falle, falle, gelbes Blatt,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rotes Blatt, gelbes Blatt,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bis der Baum kein Blatt mehr hat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weggeflogen al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Times New Roman"/>
              </a:rPr>
              <a:t>Stellt die richtigen Buchstaben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.e Me..ne, der Bau.., der P.irsi.h, .egfl..gen, die Zwie.e., rei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er .abe, de.ke., d.r K..l, einbri..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ie .asser..lone, .eif.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 M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e, der Bau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, der P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irsi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gf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i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gen, die Zwi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, rei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er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be, d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r K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, einbri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ie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sser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m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one,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if.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50021"/>
                </a:solidFill>
                <a:uFillTx/>
                <a:latin typeface="Times New Roman"/>
              </a:rPr>
              <a:t>Beschreibt die Bilder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Der tiefige Herb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Der Herbstanf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30336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6813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3366"/>
                </a:solidFill>
                <a:latin typeface="Times New Roman"/>
              </a:rPr>
              <a:t>Macht aus zwei Wörter ein Wort</a:t>
            </a: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imes New Roman"/>
              </a:rPr>
              <a:t>Macht einen Wort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us </a:t>
            </a:r>
            <a:r>
              <a:rPr b="1" lang="de-DE" sz="2800" spc="-1" strike="noStrike">
                <a:solidFill>
                  <a:srgbClr val="ff6600"/>
                </a:solidFill>
                <a:latin typeface="Times New Roman"/>
              </a:rPr>
              <a:t>zwei Wör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050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Monat + Der Herbs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Der Herbst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Blumen + die Beet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Das Klassenz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Regen + Der Herbs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Das Herbstw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Consolas"/>
              </a:rPr>
              <a:t>Perfekt</a:t>
            </a:r>
            <a:r>
              <a:rPr b="0" lang="en-US" sz="4400" spc="-1" strike="noStrike">
                <a:solidFill>
                  <a:srgbClr val="ff0000"/>
                </a:solidFill>
                <a:latin typeface="Consola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olas"/>
              </a:rPr>
              <a:t>haben\sein + PII (ge,t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olas"/>
              </a:rPr>
              <a:t>– </a:t>
            </a:r>
            <a:r>
              <a:rPr b="1" lang="ru-RU" sz="4400" spc="-1" strike="noStrike">
                <a:solidFill>
                  <a:srgbClr val="000000"/>
                </a:solidFill>
                <a:latin typeface="Consolas"/>
              </a:rPr>
              <a:t>слабые глагол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nsolas"/>
              </a:rPr>
              <a:t>(</a:t>
            </a:r>
            <a:r>
              <a:rPr b="1" lang="en-US" sz="4400" spc="-1" strike="noStrike">
                <a:solidFill>
                  <a:srgbClr val="000099"/>
                </a:solidFill>
                <a:latin typeface="Consolas"/>
              </a:rPr>
              <a:t>ge,__,en) </a:t>
            </a:r>
            <a:r>
              <a:rPr b="1" lang="ru-RU" sz="4400" spc="-1" strike="noStrike">
                <a:solidFill>
                  <a:srgbClr val="000099"/>
                </a:solidFill>
                <a:latin typeface="Consolas"/>
              </a:rPr>
              <a:t>– сильные глаго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3300"/>
                </a:solidFill>
                <a:uFillTx/>
                <a:latin typeface="Times New Roman"/>
              </a:rPr>
              <a:t>Образуйте</a:t>
            </a:r>
            <a:r>
              <a:rPr b="1" lang="de-DE" sz="4800" spc="-1" strike="noStrike" u="sng">
                <a:solidFill>
                  <a:srgbClr val="cc3300"/>
                </a:solidFill>
                <a:uFillTx/>
                <a:latin typeface="Times New Roman"/>
              </a:rPr>
              <a:t> Partizip II!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chreib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uch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heiß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versteh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begin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tmachen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zei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ie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it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e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neh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0:33:19Z</dcterms:created>
  <dc:creator>Admin</dc:creator>
  <dc:description/>
  <dc:language>en-US</dc:language>
  <cp:lastModifiedBy>Admin</cp:lastModifiedBy>
  <dcterms:modified xsi:type="dcterms:W3CDTF">2012-11-28T20:29:46Z</dcterms:modified>
  <cp:revision>6</cp:revision>
  <dc:subject/>
  <dc:title>Урок немецкого языка  в 6 классе “Drauβen ist Blätterfall”</dc:title>
</cp:coreProperties>
</file>