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20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EBF-785C-460C-BC25-36872217C8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BE5-DF70-4927-9664-320787828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C27-A079-4788-B6CF-2146575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806-295D-4A6C-83C0-FE524EB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521-85CE-466D-AECC-3B6D2933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38E-E492-44A0-BC41-B18DFEAC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2F3-C78F-4C41-877A-BD6E1813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E29-F6AB-4C79-AD3D-B3E8584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7AC-A9E5-4E7D-B971-5E198AF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E47-51D2-4DE4-BF45-3C1D7D09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317-1B2E-456F-A7E0-1D35058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E27-3828-4A90-88F7-9C8B4B7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CB4-B408-41BF-87BF-28A2ECF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38A-5729-4622-B235-C599757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08B2-11A4-49F8-8A33-8CD462B990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E08-B655-47D2-8F61-FE6CC1A5B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571680" y="1214280"/>
            <a:ext cx="8001000" cy="5000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Calibri"/>
              </a:rPr>
              <a:t>Скоро в школу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5" descr="учеб"/>
          <p:cNvPicPr/>
          <p:nvPr/>
        </p:nvPicPr>
        <p:blipFill>
          <a:blip r:embed="rId2"/>
          <a:stretch/>
        </p:blipFill>
        <p:spPr>
          <a:xfrm>
            <a:off x="324000" y="2708280"/>
            <a:ext cx="24476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>
            <a:off x="7308720" y="1413000"/>
            <a:ext cx="10112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88 L 0.65347 0.0088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Шар – это умственная деятельность человека. Наш ум требует постоянной загрузки. Развитие и обучение должно быть стабильно и постоянно. В развитии интеллекта нет «стоячего» положения. И если мы не движемся вперёд, то неизбежно движемся назад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6" descr=""/>
          <p:cNvPicPr/>
          <p:nvPr/>
        </p:nvPicPr>
        <p:blipFill>
          <a:blip r:embed="rId1"/>
          <a:srcRect l="0" t="0" r="0" b="10317"/>
          <a:stretch/>
        </p:blipFill>
        <p:spPr>
          <a:xfrm>
            <a:off x="457200" y="1989000"/>
            <a:ext cx="40384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МОТИВАЦИОН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ЖЕЛАНИЕ ПОЙТИ В ШКОЛ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ЖЕЛАНИЕ УЧИТЬСЯ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511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Calibri"/>
              </a:rPr>
              <a:t>МОТИВАЦИОН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Если родители ребёнка придают большое значение образованию, положительно отзываются об образованных людях, прививают любовь к чтению, говорят малышу о том, как они хотят видеть его в будущем успешным и умным (а это возможно, только если хорошо учиться), какую гордость они будут испытывать в этом случае, то это будет способствовать формированию у ребёнка мотивационной готовности к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511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КОММУНИКАТИВ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включает в себя умение ребёнка общаться как со взрослыми, так и со сверстниками. От того, насколько ребёнок контактен, умеет ли внимательно слушать учителя, достаточно ли развита его речь, зависит успешность усвоения школьных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Задача родителей – научить ребёнка простым правилам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208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ЭМОЦИОНАЛЬНО-ВОЛЕВ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По сути, это умение управлять своими эмоциями, настроением и контроль над своими желаниями. В вечном компромиссе между «хочу» и «надо»         у старшего дошкольника должно преобладать «надо». От того, насколько ребёнок сможет заставить себя быть внимательным, когда хочется отдохнуть и поиграть; от того, насколько малыш будет упорным при возникновении трудностей, будет зависеть его успеш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1987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rganization Chart 2"/>
          <p:cNvGrpSpPr/>
          <p:nvPr/>
        </p:nvGrpSpPr>
        <p:grpSpPr>
          <a:xfrm>
            <a:off x="0" y="260280"/>
            <a:ext cx="9143640" cy="5976000"/>
            <a:chOff x="0" y="260280"/>
            <a:chExt cx="9143640" cy="5976000"/>
          </a:xfrm>
        </p:grpSpPr>
        <p:cxnSp>
          <p:nvCxnSpPr>
            <p:cNvPr id="110" name="_s2052"/>
            <p:cNvCxnSpPr>
              <a:stCxn id="111" idx="1"/>
              <a:endCxn id="112" idx="2"/>
            </p:cNvCxnSpPr>
            <p:nvPr/>
          </p:nvCxnSpPr>
          <p:spPr>
            <a:xfrm rot="10800000">
              <a:off x="4571280" y="175356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053"/>
            <p:cNvCxnSpPr>
              <a:stCxn id="114" idx="0"/>
              <a:endCxn id="112" idx="2"/>
            </p:cNvCxnSpPr>
            <p:nvPr/>
          </p:nvCxnSpPr>
          <p:spPr>
            <a:xfrm flipV="1" rot="16200000">
              <a:off x="4855320" y="1469880"/>
              <a:ext cx="2988720" cy="35560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4"/>
            <p:cNvCxnSpPr>
              <a:stCxn id="116" idx="3"/>
              <a:endCxn id="112" idx="2"/>
            </p:cNvCxnSpPr>
            <p:nvPr/>
          </p:nvCxnSpPr>
          <p:spPr>
            <a:xfrm flipV="1">
              <a:off x="4233240" y="175392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5"/>
            <p:cNvCxnSpPr>
              <a:stCxn id="118" idx="0"/>
              <a:endCxn id="112" idx="2"/>
            </p:cNvCxnSpPr>
            <p:nvPr/>
          </p:nvCxnSpPr>
          <p:spPr>
            <a:xfrm flipV="1" rot="16200000">
              <a:off x="3669840" y="2655360"/>
              <a:ext cx="2988720" cy="11854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6"/>
            <p:cNvCxnSpPr>
              <a:stCxn id="120" idx="0"/>
              <a:endCxn id="112" idx="2"/>
            </p:cNvCxnSpPr>
            <p:nvPr/>
          </p:nvCxnSpPr>
          <p:spPr>
            <a:xfrm flipH="1" flipV="1" rot="5400000">
              <a:off x="2484720" y="2655000"/>
              <a:ext cx="2988720" cy="11862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057"/>
            <p:cNvCxnSpPr>
              <a:stCxn id="122" idx="0"/>
              <a:endCxn id="112" idx="2"/>
            </p:cNvCxnSpPr>
            <p:nvPr/>
          </p:nvCxnSpPr>
          <p:spPr>
            <a:xfrm flipH="1" flipV="1" rot="5400000">
              <a:off x="1299600" y="1469880"/>
              <a:ext cx="2988720" cy="35568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2058"/>
            <p:cNvSpPr/>
            <p:nvPr/>
          </p:nvSpPr>
          <p:spPr>
            <a:xfrm>
              <a:off x="3556080" y="260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ШКО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9"/>
            <p:cNvSpPr/>
            <p:nvPr/>
          </p:nvSpPr>
          <p:spPr>
            <a:xfrm>
              <a:off x="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МОТИВАЦИОН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0"/>
            <p:cNvSpPr/>
            <p:nvPr/>
          </p:nvSpPr>
          <p:spPr>
            <a:xfrm>
              <a:off x="23706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КОММУНИКА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И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1"/>
            <p:cNvSpPr/>
            <p:nvPr/>
          </p:nvSpPr>
          <p:spPr>
            <a:xfrm>
              <a:off x="47412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ИНТЕЛЛЕК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УА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2"/>
            <p:cNvSpPr/>
            <p:nvPr/>
          </p:nvSpPr>
          <p:spPr>
            <a:xfrm>
              <a:off x="220140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ФИЗ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3"/>
            <p:cNvSpPr/>
            <p:nvPr/>
          </p:nvSpPr>
          <p:spPr>
            <a:xfrm>
              <a:off x="71118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ЭМОЦИОН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ВОЛЕВ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64"/>
            <p:cNvSpPr/>
            <p:nvPr/>
          </p:nvSpPr>
          <p:spPr>
            <a:xfrm>
              <a:off x="491076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ПЕДАГОГ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28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7" descr=""/>
          <p:cNvPicPr/>
          <p:nvPr/>
        </p:nvPicPr>
        <p:blipFill>
          <a:blip r:embed="rId1"/>
          <a:srcRect l="0" t="0" r="0" b="3208"/>
          <a:stretch/>
        </p:blipFill>
        <p:spPr>
          <a:xfrm>
            <a:off x="1332000" y="3716280"/>
            <a:ext cx="3311280" cy="2498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2"/>
          <a:stretch/>
        </p:blipFill>
        <p:spPr>
          <a:xfrm rot="20955600">
            <a:off x="755640" y="980640"/>
            <a:ext cx="3673440" cy="2576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alibri"/>
              </a:rPr>
              <a:t>Развитие самосто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7280" y="1341000"/>
            <a:ext cx="4259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Кормить ребёнка с ложки или самому дать ложку в ру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Пока первый ест, второй </a:t>
            </a:r>
            <a:r>
              <a:rPr b="0" i="1" lang="ru-RU" sz="2400" spc="-1" strike="noStrike">
                <a:solidFill>
                  <a:srgbClr val="660066"/>
                </a:solidFill>
                <a:latin typeface="Calibri"/>
              </a:rPr>
              <a:t>учится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! Учится управлять своим телом, координировать движения, сохранять терп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Надо развивать самостоятельность, поощрять инициативность, замечать успехи и помогать учиться новому, а не делать всё за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810320" cy="21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5346720" cy="1597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295308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400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Уже совсем скоро наступит первый             для вашего ребенка учебны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С замиранием сердца вы проводите  таких уже взрослых, но таких ещё  беззащитных малышей      в шко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Что их ждёт вперед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675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Готовность к школ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–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умение чит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и пис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2521080" cy="177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0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«Быть готовым к школе – не значит    уметь читать, писать и счит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Быть готовым к школе –  знач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быть готовым всему этому научить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0607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2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Organization Chart 7"/>
          <p:cNvGrpSpPr/>
          <p:nvPr/>
        </p:nvGrpSpPr>
        <p:grpSpPr>
          <a:xfrm>
            <a:off x="0" y="260280"/>
            <a:ext cx="9143640" cy="5976000"/>
            <a:chOff x="0" y="260280"/>
            <a:chExt cx="9143640" cy="5976000"/>
          </a:xfrm>
        </p:grpSpPr>
        <p:cxnSp>
          <p:nvCxnSpPr>
            <p:cNvPr id="65" name="_s1028"/>
            <p:cNvCxnSpPr>
              <a:stCxn id="66" idx="1"/>
              <a:endCxn id="67" idx="2"/>
            </p:cNvCxnSpPr>
            <p:nvPr/>
          </p:nvCxnSpPr>
          <p:spPr>
            <a:xfrm rot="10800000">
              <a:off x="4571280" y="175356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9"/>
            <p:cNvCxnSpPr>
              <a:stCxn id="69" idx="0"/>
              <a:endCxn id="67" idx="2"/>
            </p:cNvCxnSpPr>
            <p:nvPr/>
          </p:nvCxnSpPr>
          <p:spPr>
            <a:xfrm flipV="1" rot="16200000">
              <a:off x="4855320" y="1469880"/>
              <a:ext cx="2988720" cy="35560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0"/>
            <p:cNvCxnSpPr>
              <a:stCxn id="71" idx="3"/>
              <a:endCxn id="67" idx="2"/>
            </p:cNvCxnSpPr>
            <p:nvPr/>
          </p:nvCxnSpPr>
          <p:spPr>
            <a:xfrm flipV="1">
              <a:off x="4233240" y="175392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1"/>
            <p:cNvCxnSpPr>
              <a:stCxn id="73" idx="0"/>
              <a:endCxn id="67" idx="2"/>
            </p:cNvCxnSpPr>
            <p:nvPr/>
          </p:nvCxnSpPr>
          <p:spPr>
            <a:xfrm flipV="1" rot="16200000">
              <a:off x="3669840" y="2655360"/>
              <a:ext cx="2988720" cy="11854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2"/>
            <p:cNvCxnSpPr>
              <a:stCxn id="75" idx="0"/>
              <a:endCxn id="67" idx="2"/>
            </p:cNvCxnSpPr>
            <p:nvPr/>
          </p:nvCxnSpPr>
          <p:spPr>
            <a:xfrm flipH="1" flipV="1" rot="5400000">
              <a:off x="2484720" y="2655000"/>
              <a:ext cx="2988720" cy="11862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3"/>
            <p:cNvCxnSpPr>
              <a:stCxn id="77" idx="0"/>
              <a:endCxn id="67" idx="2"/>
            </p:cNvCxnSpPr>
            <p:nvPr/>
          </p:nvCxnSpPr>
          <p:spPr>
            <a:xfrm flipH="1" flipV="1" rot="5400000">
              <a:off x="1299600" y="1469880"/>
              <a:ext cx="2988720" cy="35568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1034"/>
            <p:cNvSpPr/>
            <p:nvPr/>
          </p:nvSpPr>
          <p:spPr>
            <a:xfrm>
              <a:off x="3556080" y="260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ШКО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5"/>
            <p:cNvSpPr/>
            <p:nvPr/>
          </p:nvSpPr>
          <p:spPr>
            <a:xfrm>
              <a:off x="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МОТИВАЦИОН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6"/>
            <p:cNvSpPr/>
            <p:nvPr/>
          </p:nvSpPr>
          <p:spPr>
            <a:xfrm>
              <a:off x="23706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КОММУНИКА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И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47412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ИНТЕЛЛЕК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УА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8"/>
            <p:cNvSpPr/>
            <p:nvPr/>
          </p:nvSpPr>
          <p:spPr>
            <a:xfrm>
              <a:off x="220140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ФИЗ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71118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ЭМОЦИОН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ВОЛЕВ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491076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ПЕДАГОГ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28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ФИЗ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32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Хорошее развитие мускулатуры, мышц спины, в частности, позволит ребёнку справиться с физическими нагрузками, которые ему придётся переносить в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Подвижные игры и физические упражнения не только укрепляют организм, но и развивают координацию движений, волевые качества, вним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Важно, насколько развиты у ребёнка мелкие группы мышц. Пропуски букв, описки, разная высота букв – всё это результат недостаточного развития «ловких» мышц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1408320" cy="1946160"/>
          </a:xfrm>
          <a:prstGeom prst="rect">
            <a:avLst/>
          </a:prstGeom>
          <a:ln w="0">
            <a:noFill/>
          </a:ln>
        </p:spPr>
      </p:pic>
      <p:sp>
        <p:nvSpPr>
          <p:cNvPr id="8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C78-9926-4782-B4E3-C59357958C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333-C888-4EE8-85C9-A3312C2AD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ПЕДАГ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16360" y="1557000"/>
            <a:ext cx="540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Это тот багаж знаний, умений и навыков, которым обладает ребёнок, то, чему он научился в детском саду: порядковый и количественный счёт, знание геометрических фигур, словарный запас, умение дифференцировать звуки, знания об окружающем мире (животных, транспорте, временах года и т.д.).Чем тяжелее этот «багаж», тем легче ребё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084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8692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Calibri"/>
              </a:rPr>
              <a:t>Успешность интеллектуальной готовности во многом зависит от развития познавательных психических процессов: зрительной, слуховой памяти, внимания, мышления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3130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6" descr=""/>
          <p:cNvPicPr/>
          <p:nvPr/>
        </p:nvPicPr>
        <p:blipFill>
          <a:blip r:embed="rId1"/>
          <a:srcRect l="0" t="0" r="0" b="10563"/>
          <a:stretch/>
        </p:blipFill>
        <p:spPr>
          <a:xfrm>
            <a:off x="468360" y="1916280"/>
            <a:ext cx="403848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Чтобы шар двигался по наклонной плоскости </a:t>
            </a:r>
            <a:r>
              <a:rPr b="1" lang="ru-RU" sz="2400" spc="-1" strike="noStrike">
                <a:solidFill>
                  <a:srgbClr val="66ff33"/>
                </a:solidFill>
                <a:latin typeface="Calibri"/>
              </a:rPr>
              <a:t>вверх</a:t>
            </a:r>
            <a:r>
              <a:rPr b="0" lang="ru-RU" sz="2400" spc="-1" strike="noStrike">
                <a:solidFill>
                  <a:srgbClr val="66ff33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необходима определённая движущая си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Она должна быть постоянна и стабильна. В противном случае шар неизбежно начнёт движение в обратную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43:18Z</dcterms:created>
  <dc:creator>ы</dc:creator>
  <dc:description>http://aida.ucoz.ru</dc:description>
  <dc:language>en-US</dc:language>
  <cp:lastModifiedBy>USER</cp:lastModifiedBy>
  <dcterms:modified xsi:type="dcterms:W3CDTF">2015-10-15T08:43:57Z</dcterms:modified>
  <cp:revision>9</cp:revision>
  <dc:subject/>
  <dc:title>Слайд 1</dc:title>
</cp:coreProperties>
</file>