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2.png" ContentType="image/png"/>
  <Override PartName="/ppt/media/image20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BC7D-6A16-4B1D-8657-66809E8187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890-557F-4C22-981E-100377F66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E6A-279E-42A0-967F-70C91B71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204-EF08-4F25-AC62-D3ACFEF6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589-31ED-4FAA-98C8-14D3E5EF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405-2BAC-4AC0-BF58-083BC94C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C0A-7B43-4393-A4D9-E53C73F1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782-7D17-4276-A20F-5417155A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5A9-B29B-4BF4-AD05-5208E5F0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988-37CF-4401-BEFE-3C9867F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40E-A39A-4528-BF68-F52FB819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A64-4128-46C0-AAA3-A231640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CE1-DBE5-4042-A517-83E919F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1C0-ACBD-451A-B20B-88D9C35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CAA-296F-47EA-AAA1-01B36BF3A4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3418-934F-47E2-BC56-43DDAA6F3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571680" y="1214280"/>
            <a:ext cx="8001000" cy="5000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Calibri"/>
              </a:rPr>
              <a:t>Скоро в школу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5" descr="учеб"/>
          <p:cNvPicPr/>
          <p:nvPr/>
        </p:nvPicPr>
        <p:blipFill>
          <a:blip r:embed="rId2"/>
          <a:stretch/>
        </p:blipFill>
        <p:spPr>
          <a:xfrm>
            <a:off x="324000" y="2708280"/>
            <a:ext cx="24476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3"/>
          <a:stretch/>
        </p:blipFill>
        <p:spPr>
          <a:xfrm>
            <a:off x="7308720" y="1413000"/>
            <a:ext cx="10112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0.0088 L 0.65347 0.0088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80"/>
                </a:solidFill>
                <a:uFillTx/>
                <a:latin typeface="Calibri"/>
              </a:rPr>
              <a:t>ИНТЕЛЛЕКТУАЛЬНАЯ 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Шар – это умственная деятельность человека. Наш ум требует постоянной загрузки. Развитие и обучение должно быть стабильно и постоянно. В развитии интеллекта нет «стоячего» положения. И если мы не движемся вперёд, то неизбежно движемся назад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6" descr=""/>
          <p:cNvPicPr/>
          <p:nvPr/>
        </p:nvPicPr>
        <p:blipFill>
          <a:blip r:embed="rId1"/>
          <a:srcRect l="0" t="0" r="0" b="10317"/>
          <a:stretch/>
        </p:blipFill>
        <p:spPr>
          <a:xfrm>
            <a:off x="457200" y="1989000"/>
            <a:ext cx="40384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МОТИВАЦИОНН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ЖЕЛАНИЕ ПОЙТИ В ШКОЛ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ЖЕЛАНИЕ УЧИТЬСЯ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1511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Calibri"/>
              </a:rPr>
              <a:t>МОТИВАЦИОННАЯ 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Если родители ребёнка придают большое значение образованию, положительно отзываются об образованных людях, прививают любовь к чтению, говорят малышу о том, как они хотят видеть его в будущем успешным и умным (а это возможно, только если хорошо учиться), какую гордость они будут испытывать в этом случае, то это будет способствовать формированию у ребёнка мотивационной готовности к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1511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КОММУНИКАТИВ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включает в себя умение ребёнка общаться как со взрослыми, так и со сверстниками. От того, насколько ребёнок контактен, умеет ли внимательно слушать учителя, достаточно ли развита его речь, зависит успешность усвоения школьных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Задача родителей – научить ребёнка простым правилам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2087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ЭМОЦИОНАЛЬНО-ВОЛЕВ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По сути, это умение управлять своими эмоциями, настроением и контроль над своими желаниями. В вечном компромиссе между «хочу» и «надо»         у старшего дошкольника должно преобладать «надо». От того, насколько ребёнок сможет заставить себя быть внимательным, когда хочется отдохнуть и поиграть; от того, насколько малыш будет упорным при возникновении трудностей, будет зависеть его успеш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1987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Organization Chart 2"/>
          <p:cNvGrpSpPr/>
          <p:nvPr/>
        </p:nvGrpSpPr>
        <p:grpSpPr>
          <a:xfrm>
            <a:off x="0" y="260280"/>
            <a:ext cx="9143640" cy="5976000"/>
            <a:chOff x="0" y="260280"/>
            <a:chExt cx="9143640" cy="5976000"/>
          </a:xfrm>
        </p:grpSpPr>
        <p:cxnSp>
          <p:nvCxnSpPr>
            <p:cNvPr id="110" name="_s2052"/>
            <p:cNvCxnSpPr>
              <a:stCxn id="111" idx="1"/>
              <a:endCxn id="112" idx="2"/>
            </p:cNvCxnSpPr>
            <p:nvPr/>
          </p:nvCxnSpPr>
          <p:spPr>
            <a:xfrm rot="10800000">
              <a:off x="4571280" y="175356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053"/>
            <p:cNvCxnSpPr>
              <a:stCxn id="114" idx="0"/>
              <a:endCxn id="112" idx="2"/>
            </p:cNvCxnSpPr>
            <p:nvPr/>
          </p:nvCxnSpPr>
          <p:spPr>
            <a:xfrm flipV="1" rot="16200000">
              <a:off x="4855320" y="1469880"/>
              <a:ext cx="2988720" cy="35560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4"/>
            <p:cNvCxnSpPr>
              <a:stCxn id="116" idx="3"/>
              <a:endCxn id="112" idx="2"/>
            </p:cNvCxnSpPr>
            <p:nvPr/>
          </p:nvCxnSpPr>
          <p:spPr>
            <a:xfrm flipV="1">
              <a:off x="4233240" y="175392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5"/>
            <p:cNvCxnSpPr>
              <a:stCxn id="118" idx="0"/>
              <a:endCxn id="112" idx="2"/>
            </p:cNvCxnSpPr>
            <p:nvPr/>
          </p:nvCxnSpPr>
          <p:spPr>
            <a:xfrm flipV="1" rot="16200000">
              <a:off x="3669840" y="2655360"/>
              <a:ext cx="2988720" cy="11854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6"/>
            <p:cNvCxnSpPr>
              <a:stCxn id="120" idx="0"/>
              <a:endCxn id="112" idx="2"/>
            </p:cNvCxnSpPr>
            <p:nvPr/>
          </p:nvCxnSpPr>
          <p:spPr>
            <a:xfrm flipH="1" flipV="1" rot="5400000">
              <a:off x="2484720" y="2655000"/>
              <a:ext cx="2988720" cy="11862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057"/>
            <p:cNvCxnSpPr>
              <a:stCxn id="122" idx="0"/>
              <a:endCxn id="112" idx="2"/>
            </p:cNvCxnSpPr>
            <p:nvPr/>
          </p:nvCxnSpPr>
          <p:spPr>
            <a:xfrm flipH="1" flipV="1" rot="5400000">
              <a:off x="1299600" y="1469880"/>
              <a:ext cx="2988720" cy="35568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2058"/>
            <p:cNvSpPr/>
            <p:nvPr/>
          </p:nvSpPr>
          <p:spPr>
            <a:xfrm>
              <a:off x="3556080" y="260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ШКО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9"/>
            <p:cNvSpPr/>
            <p:nvPr/>
          </p:nvSpPr>
          <p:spPr>
            <a:xfrm>
              <a:off x="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МОТИВАЦИОН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60"/>
            <p:cNvSpPr/>
            <p:nvPr/>
          </p:nvSpPr>
          <p:spPr>
            <a:xfrm>
              <a:off x="23706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КОММУНИКА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И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1"/>
            <p:cNvSpPr/>
            <p:nvPr/>
          </p:nvSpPr>
          <p:spPr>
            <a:xfrm>
              <a:off x="47412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ИНТЕЛЛЕК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УА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2"/>
            <p:cNvSpPr/>
            <p:nvPr/>
          </p:nvSpPr>
          <p:spPr>
            <a:xfrm>
              <a:off x="220140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ФИЗ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3"/>
            <p:cNvSpPr/>
            <p:nvPr/>
          </p:nvSpPr>
          <p:spPr>
            <a:xfrm>
              <a:off x="71118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ЭМОЦИОН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ВОЛЕВ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64"/>
            <p:cNvSpPr/>
            <p:nvPr/>
          </p:nvSpPr>
          <p:spPr>
            <a:xfrm>
              <a:off x="491076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ПЕДАГОГ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28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7" descr=""/>
          <p:cNvPicPr/>
          <p:nvPr/>
        </p:nvPicPr>
        <p:blipFill>
          <a:blip r:embed="rId1"/>
          <a:srcRect l="0" t="0" r="0" b="3208"/>
          <a:stretch/>
        </p:blipFill>
        <p:spPr>
          <a:xfrm>
            <a:off x="1332000" y="3716280"/>
            <a:ext cx="3311280" cy="24987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"/>
          <p:cNvPicPr/>
          <p:nvPr/>
        </p:nvPicPr>
        <p:blipFill>
          <a:blip r:embed="rId2"/>
          <a:stretch/>
        </p:blipFill>
        <p:spPr>
          <a:xfrm rot="20955600">
            <a:off x="755640" y="980640"/>
            <a:ext cx="3673440" cy="2576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alibri"/>
              </a:rPr>
              <a:t>Развитие самосто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7280" y="1341000"/>
            <a:ext cx="4259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Кормить ребёнка с ложки или самому дать ложку в ру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Пока первый ест, второй </a:t>
            </a:r>
            <a:r>
              <a:rPr b="0" i="1" lang="ru-RU" sz="2400" spc="-1" strike="noStrike">
                <a:solidFill>
                  <a:srgbClr val="660066"/>
                </a:solidFill>
                <a:latin typeface="Calibri"/>
              </a:rPr>
              <a:t>учится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! Учится управлять своим телом, координировать движения, сохранять терп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Надо развивать самостоятельность, поощрять инициативность, замечать успехи и помогать учиться новому, а не делать всё за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810320" cy="214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5346720" cy="1597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2953080" cy="446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24000" y="1125000"/>
            <a:ext cx="4032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Уже совсем скоро наступит первый             для вашего ребенка учебный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С замиранием сердца вы проводите  таких уже взрослых, но таких ещё  беззащитных малышей      в шко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Что их ждёт вперед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675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Готовность к школ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–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умение чита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и пис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2521080" cy="1771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0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«Быть готовым к школе – не значит    уметь читать, писать и счит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Быть готовым к школе –  знач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быть готовым всему этому научить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0607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2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Organization Chart 7"/>
          <p:cNvGrpSpPr/>
          <p:nvPr/>
        </p:nvGrpSpPr>
        <p:grpSpPr>
          <a:xfrm>
            <a:off x="0" y="260280"/>
            <a:ext cx="9143640" cy="5976000"/>
            <a:chOff x="0" y="260280"/>
            <a:chExt cx="9143640" cy="5976000"/>
          </a:xfrm>
        </p:grpSpPr>
        <p:cxnSp>
          <p:nvCxnSpPr>
            <p:cNvPr id="65" name="_s1028"/>
            <p:cNvCxnSpPr>
              <a:stCxn id="66" idx="1"/>
              <a:endCxn id="67" idx="2"/>
            </p:cNvCxnSpPr>
            <p:nvPr/>
          </p:nvCxnSpPr>
          <p:spPr>
            <a:xfrm rot="10800000">
              <a:off x="4571280" y="175356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29"/>
            <p:cNvCxnSpPr>
              <a:stCxn id="69" idx="0"/>
              <a:endCxn id="67" idx="2"/>
            </p:cNvCxnSpPr>
            <p:nvPr/>
          </p:nvCxnSpPr>
          <p:spPr>
            <a:xfrm flipV="1" rot="16200000">
              <a:off x="4855320" y="1469880"/>
              <a:ext cx="2988720" cy="35560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0"/>
            <p:cNvCxnSpPr>
              <a:stCxn id="71" idx="3"/>
              <a:endCxn id="67" idx="2"/>
            </p:cNvCxnSpPr>
            <p:nvPr/>
          </p:nvCxnSpPr>
          <p:spPr>
            <a:xfrm flipV="1">
              <a:off x="4233240" y="1753920"/>
              <a:ext cx="339120" cy="149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1"/>
            <p:cNvCxnSpPr>
              <a:stCxn id="73" idx="0"/>
              <a:endCxn id="67" idx="2"/>
            </p:cNvCxnSpPr>
            <p:nvPr/>
          </p:nvCxnSpPr>
          <p:spPr>
            <a:xfrm flipV="1" rot="16200000">
              <a:off x="3669840" y="2655360"/>
              <a:ext cx="2988720" cy="118548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2"/>
            <p:cNvCxnSpPr>
              <a:stCxn id="75" idx="0"/>
              <a:endCxn id="67" idx="2"/>
            </p:cNvCxnSpPr>
            <p:nvPr/>
          </p:nvCxnSpPr>
          <p:spPr>
            <a:xfrm flipH="1" flipV="1" rot="5400000">
              <a:off x="2484720" y="2655000"/>
              <a:ext cx="2988720" cy="11862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3"/>
            <p:cNvCxnSpPr>
              <a:stCxn id="77" idx="0"/>
              <a:endCxn id="67" idx="2"/>
            </p:cNvCxnSpPr>
            <p:nvPr/>
          </p:nvCxnSpPr>
          <p:spPr>
            <a:xfrm flipH="1" flipV="1" rot="5400000">
              <a:off x="1299600" y="1469880"/>
              <a:ext cx="2988720" cy="3556800"/>
            </a:xfrm>
            <a:prstGeom prst="bentConnector3">
              <a:avLst>
                <a:gd name="adj1" fmla="val 38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" name="_s1034"/>
            <p:cNvSpPr/>
            <p:nvPr/>
          </p:nvSpPr>
          <p:spPr>
            <a:xfrm>
              <a:off x="3556080" y="260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ШКО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5"/>
            <p:cNvSpPr/>
            <p:nvPr/>
          </p:nvSpPr>
          <p:spPr>
            <a:xfrm>
              <a:off x="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МОТИВАЦИОН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6"/>
            <p:cNvSpPr/>
            <p:nvPr/>
          </p:nvSpPr>
          <p:spPr>
            <a:xfrm>
              <a:off x="23706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КОММУНИКА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И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7"/>
            <p:cNvSpPr/>
            <p:nvPr/>
          </p:nvSpPr>
          <p:spPr>
            <a:xfrm>
              <a:off x="47412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ИНТЕЛЛЕК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ТУА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8"/>
            <p:cNvSpPr/>
            <p:nvPr/>
          </p:nvSpPr>
          <p:spPr>
            <a:xfrm>
              <a:off x="220140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ФИЗ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7111800" y="4742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ЭМОЦИОН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80"/>
                  </a:solidFill>
                  <a:latin typeface="Arial"/>
                </a:rPr>
                <a:t>ВОЛЕВ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0"/>
            <p:cNvSpPr/>
            <p:nvPr/>
          </p:nvSpPr>
          <p:spPr>
            <a:xfrm>
              <a:off x="4910760" y="2501280"/>
              <a:ext cx="2031840" cy="149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ПЕДАГОГ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28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ФИЗ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32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Хорошее развитие мускулатуры, мышц спины, в частности, позволит ребёнку справиться с физическими нагрузками, которые ему придётся переносить в шк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Подвижные игры и физические упражнения не только укрепляют организм, но и развивают координацию движений, волевые качества, вним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Важно, насколько развиты у ребёнка мелкие группы мышц. Пропуски букв, описки, разная высота букв – всё это результат недостаточного развития «ловких» мышц ру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1408320" cy="1946160"/>
          </a:xfrm>
          <a:prstGeom prst="rect">
            <a:avLst/>
          </a:prstGeom>
          <a:ln w="0">
            <a:noFill/>
          </a:ln>
        </p:spPr>
      </p:pic>
      <p:sp>
        <p:nvSpPr>
          <p:cNvPr id="8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A46-C056-4D68-9F77-9D14163FFB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214D-BD83-47B4-8BA1-3805A0F1C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ПЕДАГ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16360" y="1557000"/>
            <a:ext cx="540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Это тот багаж знаний, умений и навыков, которым обладает ребёнок, то, чему он научился в детском саду: порядковый и количественный счёт, знание геометрических фигур, словарный запас, умение дифференцировать звуки, знания об окружающем мире (животных, транспорте, временах года и т.д.).Чем тяжелее этот «багаж», тем легче ребё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084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Calibri"/>
              </a:rPr>
              <a:t>ИНТЕЛЛЕКТУАЛЬН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8692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Calibri"/>
              </a:rPr>
              <a:t>Успешность интеллектуальной готовности во многом зависит от развития познавательных психических процессов: зрительной, слуховой памяти, внимания, мышления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3130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80"/>
                </a:solidFill>
                <a:uFillTx/>
                <a:latin typeface="Calibri"/>
              </a:rPr>
              <a:t>ИНТЕЛЛЕКТУАЛЬНАЯ 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6" descr=""/>
          <p:cNvPicPr/>
          <p:nvPr/>
        </p:nvPicPr>
        <p:blipFill>
          <a:blip r:embed="rId1"/>
          <a:srcRect l="0" t="0" r="0" b="10563"/>
          <a:stretch/>
        </p:blipFill>
        <p:spPr>
          <a:xfrm>
            <a:off x="468360" y="1916280"/>
            <a:ext cx="403848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Чтобы шар двигался по наклонной плоскости </a:t>
            </a:r>
            <a:r>
              <a:rPr b="1" lang="ru-RU" sz="2400" spc="-1" strike="noStrike">
                <a:solidFill>
                  <a:srgbClr val="66ff33"/>
                </a:solidFill>
                <a:latin typeface="Calibri"/>
              </a:rPr>
              <a:t>вверх</a:t>
            </a:r>
            <a:r>
              <a:rPr b="0" lang="ru-RU" sz="2400" spc="-1" strike="noStrike">
                <a:solidFill>
                  <a:srgbClr val="66ff33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необходима определённая движущая си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Calibri"/>
              </a:rPr>
              <a:t>Она должна быть постоянна и стабильна. В противном случае шар неизбежно начнёт движение в обратную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43:18Z</dcterms:created>
  <dc:creator>ы</dc:creator>
  <dc:description>http://aida.ucoz.ru</dc:description>
  <dc:language>en-US</dc:language>
  <cp:lastModifiedBy>USER</cp:lastModifiedBy>
  <dcterms:modified xsi:type="dcterms:W3CDTF">2015-10-15T08:43:57Z</dcterms:modified>
  <cp:revision>9</cp:revision>
  <dc:subject/>
  <dc:title>Слайд 1</dc:title>
</cp:coreProperties>
</file>