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162-613A-417F-98AC-F7FA655B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B82-6B8A-4689-8236-D8BECDB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C66-48A9-4F4C-BE99-11CB9B8D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D3A-280B-4C15-B1FC-E17C0853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8A7-BB71-49D5-968D-75C79F56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A88-E9D7-417F-9058-9D9C97D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0C3-A775-48A1-A705-026DC95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BC9-88BB-465D-B0B3-1E563361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6C4-412A-4287-B1D0-F9A55A9D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2FA-1B01-440C-A3C0-5EED2A4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F8A-635F-4448-B2F8-DDDA6BD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F1B-726D-4C5F-933E-5CB90AD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DA4A-AF2D-4A2B-B5AF-4DC5022D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276640"/>
            <a:ext cx="51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 Весна</a:t>
            </a:r>
            <a:endParaRPr b="0" lang="en-US" sz="4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голубому бл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ое яблочко кати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1557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олнц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16280"/>
            <a:ext cx="66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2280"/>
            <a:ext cx="489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крыльев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ног б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паруса 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5300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обла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84720" y="9828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3564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гу я, как по лесен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камушкам зв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ека по песе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ете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3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ручеёк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427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занесённых снегом к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белой шапкой сне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ли мы маленький цве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 замёрзший, чу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подснежник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4465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месте д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дворце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вербе с треском рвутся по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речке лёд трещит в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гнёзда вьют без прово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ветках первы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скворец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5734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грач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535480" cy="285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80000" y="4630680"/>
            <a:ext cx="3564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енний наря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м деревьям подарила весна цветочный наряд. Кому яркий,- кому скромный. Самой первой украсилась верба барашками. Черёмуха из своих лесных сестёр и братьев весной самая заметная: словно снегом осыпана. Молоденькая ёлка как будто новогодняя, праздничная. На каждой ветке яркие жёлтые цветы- фонарики. Её сестра- смолистая сосна- украсила себя шишечками. На берёзе появились серьги: длинные, золотые, берёза- дерево видное, как девушка строй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6237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. Скребицк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жно назвать весну? Какая о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йная, цветущая, радостная, звонкая, тёплая, долгожданная, весёл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680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052640"/>
            <a:ext cx="842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кроссвор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9440" y="1989000"/>
            <a:ext cx="35856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989000"/>
            <a:ext cx="36036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108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7440" y="198900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1989000"/>
            <a:ext cx="28872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1989000"/>
            <a:ext cx="2890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700280"/>
            <a:ext cx="28728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141300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125360"/>
            <a:ext cx="28728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836640"/>
            <a:ext cx="28728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26028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1700280"/>
            <a:ext cx="28764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276640"/>
            <a:ext cx="28764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56536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852640"/>
            <a:ext cx="287640" cy="289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314172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1413000"/>
            <a:ext cx="28764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101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94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10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141720"/>
            <a:ext cx="28872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141720"/>
            <a:ext cx="28872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14172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14172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14172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54936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9360"/>
            <a:ext cx="2872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549360"/>
            <a:ext cx="28908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692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снега вышел друг, И весной запахл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170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голубой рубашке, Бежит по дну овра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270828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Бродит одиноко, Огненное око. Всюду, где бывает, Взглядом согр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14972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н прилетает каждый год. Туда, где его домик ждёт. Чужие песни петь умеет, А всё же голос свой и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587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Всех перелётных птиц черней, Чистит пашню от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484280"/>
            <a:ext cx="7272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 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когда это быв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кно повеяло теплом.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ес оденется лист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та небесная лазу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ей и ярче солнце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 метелей злых и б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ять на долго мино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595008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.  А. Плещ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Весной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708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весенние месяца ты зна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268280"/>
            <a:ext cx="3168720" cy="1440000"/>
          </a:xfrm>
          <a:prstGeom prst="cloudCallout">
            <a:avLst>
              <a:gd name="adj1" fmla="val -4009"/>
              <a:gd name="adj2" fmla="val 109976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637000"/>
            <a:ext cx="2089440" cy="9349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36720" y="2708280"/>
            <a:ext cx="50508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1440" y="2852640"/>
            <a:ext cx="360360" cy="2160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97080" y="3068640"/>
            <a:ext cx="21600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3141720"/>
            <a:ext cx="2232000" cy="8650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0720" y="2276640"/>
            <a:ext cx="360360" cy="1443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9800" y="2347920"/>
            <a:ext cx="287280" cy="217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720" y="2565360"/>
            <a:ext cx="144360" cy="1429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6720" y="2637000"/>
            <a:ext cx="2016000" cy="863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4000" y="3860640"/>
            <a:ext cx="3780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какой это меся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ет тёплый южный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ышко всё ярч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ег худеет, мокнет,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горластый приле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? Кто уз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522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ар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34196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остно река ре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разламывает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омик свой скворец вер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 лесу медведь прос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бе жаворонок т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же к нам приш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522936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Апрел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0280" y="1268280"/>
            <a:ext cx="3033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енеет даль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евает соло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елый цвет оделся с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ёлы первые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ом грохочет. Уга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458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Май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3635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ови приметы вес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лнце раньше встаёт,дольше светит; всё короче становиться ночь, всё длинее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яются прота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года изменчивая: то холодно, то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бухают почки, появляются первая травка и первые цветы-подснежники; зацветает 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юди готовятся к встрече птиц- строят скворечники. Прилетают скворцы, жаворонки, улетают на север снегири, свирис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Цветут тополя, берёзы, о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т в лесу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Отрыво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ящая весна приходит в середине марта. В городах и посёлках течёт с крыш, висят длинные сосульки. Радостно, по- весеннему чирикают воробьи. На лесных тропинках проваливается под ногами снег. А где- то, на далёком юге, уже цветут сады, давно начался сев. Многотысячная армия перелётных птиц готовится в дорогу. Из далёкой Африки, с берегов Южного Каспия отправляются птицы в далёкий путь. Первыми прилетают близкие гости- грачи. В старых парках на высоких деревьях ладят они свои гнёзда, шумом и гамом наполняя окрестности. За грачами прилетят скоро скворцы, покажутся на весенних проталинах первые жаворонки. В ясные мартовские дни просыпаются медведи. Бегут под снегом весенние ручейки. Скоро придёт- апрель самый шумный месяц вешней воды, пробуждения земли, бурного движения соков, а потом и май- самый зелёный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60213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 Соколов- Мик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гает красав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земли кас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ёт на поле, на р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о снежку, и по цве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221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вес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1:16:07Z</dcterms:created>
  <dc:creator>Nikolai</dc:creator>
  <dc:description/>
  <dc:language>en-US</dc:language>
  <cp:lastModifiedBy>Nikolai</cp:lastModifiedBy>
  <dcterms:modified xsi:type="dcterms:W3CDTF">2013-11-11T12:46:45Z</dcterms:modified>
  <cp:revision>6</cp:revision>
  <dc:subject/>
  <dc:title>Слайд 1</dc:title>
</cp:coreProperties>
</file>