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applause.wav" ContentType="audio/x-wav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ECC5-DE74-44AF-80D9-486572DBD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034B-A37D-445C-8D1A-B1A39D137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C057-7287-4CB5-BD4B-883860550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44A6-70D7-40B2-906B-831817025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8D49-656F-432B-9323-F323A1DA3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9C9B-E45C-4590-A903-0C2DFD2B5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51A6-132D-40FB-BDC1-0258B5DA0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E4D9-BF51-4CC0-AC82-934E9442A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CF26-4CF6-4908-96C1-EF51220A5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4AA0-ABF6-48A1-A070-929D23FE7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C7ED-3969-4E60-8CE8-28EB4648C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7ECE-1B45-4CBF-9B86-169957939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6478D-035B-45D1-962A-F31F30ED9F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979640" y="2276640"/>
            <a:ext cx="511344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666699"/>
                  </a:solidFill>
                  <a:miter/>
                </a:ln>
                <a:solidFill>
                  <a:srgbClr val="666699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2 Весна</a:t>
            </a:r>
            <a:endParaRPr b="0" lang="en-US" sz="4400" spc="1" strike="noStrike">
              <a:ln w="9360">
                <a:solidFill>
                  <a:srgbClr val="666699"/>
                </a:solidFill>
                <a:miter/>
              </a:ln>
              <a:solidFill>
                <a:srgbClr val="666699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0" y="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 голубому блю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олотое яблочко катитс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                      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059280" y="1557360"/>
            <a:ext cx="30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 солнце 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3716280"/>
            <a:ext cx="665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2492280"/>
            <a:ext cx="489744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Без крыльев летя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Без ног бегу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Без паруса плыву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484360" y="5300640"/>
            <a:ext cx="25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 облака 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6084720" y="98280"/>
            <a:ext cx="2664000" cy="26640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148360" y="4437000"/>
            <a:ext cx="3564000" cy="21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7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2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Бегу я, как по лесенк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о камушкам зв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Издалека по песен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Узнаете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5640" y="4365720"/>
            <a:ext cx="25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 ручеёк 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140360" y="2276640"/>
            <a:ext cx="442728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9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У занесённых снегом коч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од белой шапкой снего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ашли мы маленький цветоч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олу замёрзший, чуть жив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987640" y="3284640"/>
            <a:ext cx="30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 подснежник 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3851280" y="3716280"/>
            <a:ext cx="4465800" cy="31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1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а месте дворец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о дворце певе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а вербе с треском рвутся почк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а речке лёд трещит в ноч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И гнёзда вьют без проволоч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а ветках первые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00000" y="2205000"/>
            <a:ext cx="26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 скворец 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16000" y="5734080"/>
            <a:ext cx="23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 грачи 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6300720" y="0"/>
            <a:ext cx="2535480" cy="2852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5580000" y="4630680"/>
            <a:ext cx="3564000" cy="22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3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3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есенний наряд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сем деревьям подарила весна цветочный наряд. Кому яркий,- кому скромный. Самой первой украсилась верба барашками. Черёмуха из своих лесных сестёр и братьев весной самая заметная: словно снегом осыпана. Молоденькая ёлка как будто новогодняя, праздничная. На каждой ветке яркие жёлтые цветы- фонарики. Её сестра- смолистая сосна- украсила себя шишечками. На берёзе появились серьги: длинные, золотые, берёза- дерево видное, как девушка стройно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924360" y="6237360"/>
            <a:ext cx="30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Г. Скребицко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ак можно назвать весну? Какая он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уйная, цветущая, радостная, звонкая, тёплая, долгожданная, весёла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268360" y="2924280"/>
            <a:ext cx="468000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95280" y="1052640"/>
            <a:ext cx="8424720" cy="27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тгадай кроссворд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549440" y="1989000"/>
            <a:ext cx="358560" cy="28764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908000" y="1989000"/>
            <a:ext cx="360360" cy="28764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268360" y="1989000"/>
            <a:ext cx="289080" cy="28764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57440" y="1989000"/>
            <a:ext cx="287280" cy="28764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844720" y="1989000"/>
            <a:ext cx="287280" cy="28764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32000" y="1989000"/>
            <a:ext cx="289080" cy="28764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421080" y="1989000"/>
            <a:ext cx="287280" cy="28764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708360" y="1989000"/>
            <a:ext cx="289080" cy="28764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97440" y="1989000"/>
            <a:ext cx="287280" cy="28764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284720" y="1989000"/>
            <a:ext cx="288720" cy="28764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260360" y="1989000"/>
            <a:ext cx="289080" cy="28764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284720" y="1700280"/>
            <a:ext cx="287280" cy="28872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284720" y="1413000"/>
            <a:ext cx="287280" cy="28728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84720" y="1125360"/>
            <a:ext cx="287280" cy="28764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284720" y="836640"/>
            <a:ext cx="287280" cy="28872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284720" y="549360"/>
            <a:ext cx="287280" cy="28728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284720" y="260280"/>
            <a:ext cx="287280" cy="28728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908000" y="1700280"/>
            <a:ext cx="287640" cy="28872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908000" y="2276640"/>
            <a:ext cx="287640" cy="28872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908000" y="2565360"/>
            <a:ext cx="287640" cy="28728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908000" y="2852640"/>
            <a:ext cx="287640" cy="28908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908000" y="3141720"/>
            <a:ext cx="287640" cy="28728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908000" y="1413000"/>
            <a:ext cx="287640" cy="28728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910160" y="2565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909440" y="27813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910160" y="3068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619280" y="3141720"/>
            <a:ext cx="288720" cy="28728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332000" y="3141720"/>
            <a:ext cx="287280" cy="28728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195640" y="3141720"/>
            <a:ext cx="288720" cy="28728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42920" y="3141720"/>
            <a:ext cx="289080" cy="28728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55640" y="3141720"/>
            <a:ext cx="287280" cy="28728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68360" y="3141720"/>
            <a:ext cx="287280" cy="28728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79280" y="3141720"/>
            <a:ext cx="289080" cy="28728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95640" y="549360"/>
            <a:ext cx="289080" cy="28728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708360" y="549360"/>
            <a:ext cx="287280" cy="28728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0" y="549360"/>
            <a:ext cx="287280" cy="28728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59280" y="549360"/>
            <a:ext cx="289080" cy="28728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508720" y="692280"/>
            <a:ext cx="33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з снега вышел друг, И весной запахло вдру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435640" y="170028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В голубой рубашке, Бежит по дну овраж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32360" y="2708280"/>
            <a:ext cx="374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Бродит одиноко, Огненное око. Всюду, где бывает, Взглядом согрева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067280" y="4149720"/>
            <a:ext cx="403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Он прилетает каждый год. Туда, где его домик ждёт. Чужие песни петь умеет, А всё же голос свой име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24360" y="5877000"/>
            <a:ext cx="39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Всех перелётных птиц черней, Чистит пашню от черв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900000" y="1484280"/>
            <a:ext cx="7272360" cy="22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ОЛОДЦЫ !!!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Угадай когда это бывает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ж тает снег, бегут ручь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окно повеяло теплом..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свищут скоро соловь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 лес оденется листвою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иста небесная лазур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еплей и ярче солнце стал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ра метелей злых и бур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пять на долго минова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19640" y="5950080"/>
            <a:ext cx="26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р.  А. Плещее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940360" y="5013360"/>
            <a:ext cx="24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 Весной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435640" y="1197000"/>
            <a:ext cx="3708360" cy="25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акие весенние месяца ты знаешь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332000" y="1268280"/>
            <a:ext cx="3168720" cy="1440000"/>
          </a:xfrm>
          <a:prstGeom prst="cloudCallout">
            <a:avLst>
              <a:gd name="adj1" fmla="val -4009"/>
              <a:gd name="adj2" fmla="val 109976"/>
            </a:avLst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ес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9640" y="2637000"/>
            <a:ext cx="2089440" cy="934920"/>
          </a:xfrm>
          <a:prstGeom prst="ellipse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ар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736720" y="2708280"/>
            <a:ext cx="505080" cy="144360"/>
          </a:xfrm>
          <a:prstGeom prst="ellipse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81440" y="2852640"/>
            <a:ext cx="360360" cy="216000"/>
          </a:xfrm>
          <a:prstGeom prst="ellipse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97080" y="3068640"/>
            <a:ext cx="216000" cy="144360"/>
          </a:xfrm>
          <a:prstGeom prst="ellipse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0000" y="3141720"/>
            <a:ext cx="2232000" cy="865080"/>
          </a:xfrm>
          <a:prstGeom prst="ellipse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Апрел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60720" y="2276640"/>
            <a:ext cx="360360" cy="144360"/>
          </a:xfrm>
          <a:prstGeom prst="ellipse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249800" y="2347920"/>
            <a:ext cx="287280" cy="217440"/>
          </a:xfrm>
          <a:prstGeom prst="ellipse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392720" y="2565360"/>
            <a:ext cx="144360" cy="142920"/>
          </a:xfrm>
          <a:prstGeom prst="ellipse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176720" y="2637000"/>
            <a:ext cx="2016000" cy="863280"/>
          </a:xfrm>
          <a:prstGeom prst="ellipse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а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364000" y="3860640"/>
            <a:ext cx="378000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тгадай какой это месяц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ует тёплый южный вете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лнышко всё ярче свет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нег худеет, мокнет, т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рач горластый прилета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то за месяц? Кто узнае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16360" y="5229360"/>
            <a:ext cx="25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 Март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724360" y="2421000"/>
            <a:ext cx="3419640" cy="28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4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0" y="549360"/>
            <a:ext cx="6300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Яростно река рев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 разламывает лё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домик свой скворец вернул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 в лесу медведь проснул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небе жаворонок тре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то же к нам пришё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08720" y="5229360"/>
            <a:ext cx="29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 Апрель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110280" y="1268280"/>
            <a:ext cx="3033720" cy="37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6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0" y="764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еленеет даль пол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певает солов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белый цвет оделся са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чёлы первые летя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ром грохочет. Угад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то за месяц эт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211640" y="458136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 Май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5508720" y="1268280"/>
            <a:ext cx="363528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8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Назови приметы весн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Солнце раньше встаёт,дольше светит; всё короче становиться ночь, всё длинее ден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Появляются протали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Погода изменчивая: то холодно, то тепл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. Набухают почки, появляются первая травка и первые цветы-подснежники; зацветает и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. Люди готовятся к встрече птиц- строят скворечники. Прилетают скворцы, жаворонки, улетают на север снегири, свиристе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7.Цветут тополя, берёзы, оси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Март в лесу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Отрывок)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стоящая весна приходит в середине марта. В городах и посёлках течёт с крыш, висят длинные сосульки. Радостно, по- весеннему чирикают воробьи. На лесных тропинках проваливается под ногами снег. А где- то, на далёком юге, уже цветут сады, давно начался сев. Многотысячная армия перелётных птиц готовится в дорогу. Из далёкой Африки, с берегов Южного Каспия отправляются птицы в далёкий путь. Первыми прилетают близкие гости- грачи. В старых парках на высоких деревьях ладят они свои гнёзда, шумом и гамом наполняя окрестности. За грачами прилетят скоро скворцы, покажутся на весенних проталинах первые жаворонки. В ясные мартовские дни просыпаются медведи. Бегут под снегом весенние ручейки. Скоро придёт- апрель самый шумный месяц вешней воды, пробуждения земли, бурного движения соков, а потом и май- самый зелёный месяц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716360" y="6021360"/>
            <a:ext cx="352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. Соколов- Мики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тгадай загадк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Шагает красавиц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Легко земли касае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Идёт на поле, на рек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И по снежку, и по цветк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508720" y="4221000"/>
            <a:ext cx="25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 весна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0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8T11:16:07Z</dcterms:created>
  <dc:creator>Nikolai</dc:creator>
  <dc:description/>
  <dc:language>en-US</dc:language>
  <cp:lastModifiedBy>Nikolai</cp:lastModifiedBy>
  <dcterms:modified xsi:type="dcterms:W3CDTF">2013-11-11T12:46:45Z</dcterms:modified>
  <cp:revision>6</cp:revision>
  <dc:subject/>
  <dc:title>Слайд 1</dc:title>
</cp:coreProperties>
</file>