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2.jpeg" ContentType="image/jpeg"/>
  <Override PartName="/ppt/media/image3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C3A-5BFB-449D-9764-7B825112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B25-F330-4D06-8B40-840B53B8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23A-9D57-4F1C-BB44-C40B6668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428-037D-4013-8EE1-CC6FF77C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54C-0B8D-4E3F-BE64-ED4C0D8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BAC-541C-4696-B4F2-86BA20C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BEE-45C6-4D49-B4F2-51D4D9E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C48-0E94-4615-BF81-080D9DB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961-904B-4AAC-995F-9AEDA5DC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389-3E52-459E-9B3C-86AEC75B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4F9-C523-4523-B33A-F89D555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3E0-7279-439B-B6F9-12F2196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F02-6D2B-4A09-A2FC-AB0590310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ЭЛИКСИРЫ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ue_vitamin"/>
          <p:cNvPicPr/>
          <p:nvPr/>
        </p:nvPicPr>
        <p:blipFill>
          <a:blip r:embed="rId1"/>
          <a:stretch/>
        </p:blipFill>
        <p:spPr>
          <a:xfrm>
            <a:off x="6804000" y="476280"/>
            <a:ext cx="203220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3" name="Picture 6" descr="08-vitamin"/>
          <p:cNvPicPr/>
          <p:nvPr/>
        </p:nvPicPr>
        <p:blipFill>
          <a:blip r:embed="rId2"/>
          <a:stretch/>
        </p:blipFill>
        <p:spPr>
          <a:xfrm>
            <a:off x="539640" y="3645000"/>
            <a:ext cx="3313080" cy="2554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WordArt 7"/>
          <p:cNvSpPr txBox="1"/>
          <p:nvPr/>
        </p:nvSpPr>
        <p:spPr>
          <a:xfrm>
            <a:off x="762120" y="2362320"/>
            <a:ext cx="468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4114800" y="4648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зур Марина Вячеславовна, педагог- организатор ГБОУ гимназии № 528 Невского района Санкт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pricot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19" name="Picture 10" descr="________________________2-116-17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20" name="Picture 11" descr="F4372i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ol_prod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29" name="Picture 10" descr="i?id=39613459"/>
          <p:cNvPicPr/>
          <p:nvPr/>
        </p:nvPicPr>
        <p:blipFill>
          <a:blip r:embed="rId3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30" name="Picture 11" descr="ps"/>
          <p:cNvPicPr/>
          <p:nvPr/>
        </p:nvPicPr>
        <p:blipFill>
          <a:blip r:embed="rId4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IMON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38" name="Picture 9" descr="c1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39" name="Picture 10" descr="vitamin !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o4375i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2666880" y="350532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vitaminD3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48" name="Picture 9" descr="d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49" name="Picture 10" descr="vitamin !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2936306B"/>
          <p:cNvPicPr/>
          <p:nvPr/>
        </p:nvPicPr>
        <p:blipFill>
          <a:blip r:embed="rId4"/>
          <a:stretch/>
        </p:blipFill>
        <p:spPr>
          <a:xfrm>
            <a:off x="76320" y="5832360"/>
            <a:ext cx="3429000" cy="8762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e1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58" name="Picture 9" descr="vitamin !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vit E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scheme_05s0911i"/>
          <p:cNvPicPr/>
          <p:nvPr/>
        </p:nvPicPr>
        <p:blipFill>
          <a:blip r:embed="rId4"/>
          <a:srcRect l="-2073" t="18642" r="0" b="17662"/>
          <a:stretch/>
        </p:blipFill>
        <p:spPr>
          <a:xfrm>
            <a:off x="4343400" y="4343400"/>
            <a:ext cx="3540240" cy="1682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?id=59345475"/>
          <p:cNvPicPr/>
          <p:nvPr/>
        </p:nvPicPr>
        <p:blipFill>
          <a:blip r:embed="rId2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169" name="Picture 10" descr="arachis_hypogaea"/>
          <p:cNvPicPr/>
          <p:nvPr/>
        </p:nvPicPr>
        <p:blipFill>
          <a:blip r:embed="rId3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170" name="Picture 11" descr="Pn4367i"/>
          <p:cNvPicPr/>
          <p:nvPr/>
        </p:nvPicPr>
        <p:blipFill>
          <a:blip r:embed="rId4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, В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В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, В, В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D90B223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78" name="Picture 9" descr="A14B9329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79" name="Picture 10" descr="E9BF0394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80" name="Picture 11" descr="8DBF2C2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81" name="Picture 12" descr="6A0D9F7B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2280" y="1676520"/>
            <a:ext cx="6248520" cy="4114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88e53"/>
              </a:gs>
              <a:gs pos="100000">
                <a:srgbClr val="f66616"/>
              </a:gs>
            </a:gsLst>
            <a:lin ang="189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09480" y="2362320"/>
            <a:ext cx="59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Биологически активные                                  вещества, которые необходимы для обеспечения нормальной жизнедеятельности организм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ogo1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592F513"/>
          <p:cNvPicPr/>
          <p:nvPr/>
        </p:nvPicPr>
        <p:blipFill>
          <a:blip r:embed="rId2"/>
          <a:stretch/>
        </p:blipFill>
        <p:spPr>
          <a:xfrm>
            <a:off x="6477120" y="762120"/>
            <a:ext cx="2411280" cy="203976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51" name="Picture 7" descr="DAF6C20F"/>
          <p:cNvPicPr/>
          <p:nvPr/>
        </p:nvPicPr>
        <p:blipFill>
          <a:blip r:embed="rId3"/>
          <a:stretch/>
        </p:blipFill>
        <p:spPr>
          <a:xfrm>
            <a:off x="6477120" y="3962520"/>
            <a:ext cx="2409840" cy="208440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5"/>
          <p:cNvCxnSpPr>
            <a:stCxn id="57" idx="2"/>
            <a:endCxn id="55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9" name="AutoShape 6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60" name="Picture 7" descr="vit 5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5" name="Picture 6" descr="vit 16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66" name="AutoShape 7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vitamine_a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69" name="Picture 10" descr="vitamin !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K4359i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7" name="Picture 8" descr="b1-2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78" name="Picture 9" descr="vitamin !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?id=169897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80" name="Picture 11" descr="В1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b2-1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89" name="Picture 10" descr="b2-2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90" name="Picture 11" descr="ы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b5-1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99" name="Picture 10" descr="drossi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0" name="Picture 11" descr="p4365i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b6-3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09" name="Picture 10" descr="ovohi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0" name="Picture 11" descr="Pp4371i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еева</cp:lastModifiedBy>
  <dcterms:modified xsi:type="dcterms:W3CDTF">2015-10-15T11:28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