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4B4-9360-465D-8445-DBEAC1BF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D65-E910-4E85-BB7A-4AC81EE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EB9-2E34-4497-9025-79C9B272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0A4-AB5B-4626-9542-68CFD46B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136-AE56-4AC1-93ED-DD91518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F61-B6A1-4A7B-AF6C-ADD0E2C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FA3-A0D0-4956-A73F-F3E55275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9CB-9AB4-4FA5-A1DE-D66D3526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649-2D7E-4DD9-973C-55BF8A4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34C-21A5-4915-BBAD-2A00658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D29-78C2-410A-B394-B41EC06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C89-4613-4C22-928F-998B7F17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076-65B5-41E9-A7D5-ADA968AE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916280"/>
            <a:ext cx="561672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Зима 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0" y="189000"/>
            <a:ext cx="4557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ют звер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ри к зимним условиям приспособлены по-разному. Некоторые впадают в спячку. Спит под корнями деревьях на подстилке из листьев ежик. Накопив запасы жира ещё до установления снегового покрова, ложится в берлогу медведь и дремлет там всю зиму. Медведица в середине февраля рожает двух-четырёх медвеж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ри, проводящие зиму в активном состоянии, покрываются густой и длинной шерстью. По свежим следам на снегу можно узнать, кто из них не спит.Это зайцы,лисы,волки,лоси,белки и многие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ицы бегают по полям и лугам, охотятся за зайцами и мышами. Голодные волки семьями бродят по лесам и полям. Лоси чаще обитают в лиственных лесах, так как зимой кормом им служит кора деревьев.Белки,спустившись на землю, отыскивают спрятанные осенью желуди, орехи и вылущивают семена из шишек. В сильные морозы белок не видно: они забираются в свои гнёзда и спят там, прикрывшись пушистым хво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8800" y="1844640"/>
            <a:ext cx="3805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орошила доро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украсила око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ость детям пода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санках прокат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3933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зим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3166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это м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ёкла на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истья. И т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заросли роз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14172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мороз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4211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жало одея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ягкое, б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напекл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еяло утекло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933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нег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720720"/>
            <a:ext cx="41767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ужилась звёзд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воздухе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а и раста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оей ладошк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933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нежи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345600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живу под самой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же страшно глянуть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могла бы жить и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б крыши там нашлись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400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осуль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3529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зрачен как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не вставишь в ок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нег и не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еребром деревья уберёт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7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лёд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80000" y="208080"/>
            <a:ext cx="3240000" cy="215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16720" y="5589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ине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95640" y="4494240"/>
            <a:ext cx="31683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имний ле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57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есен русский лес зимой! Белый пушистый снег повис на ветвях деревьев. Смолистые шишки украшают вершины елей. Шустрые синицы пищат в сучьях. На сугробах видны узоры заячьих и лисьих сле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бежит через дорогу белка. Прыгнула на сосну,махнула хвостом. Полетела лёгкая снежная пыль. Постучал молоточком по стволу дя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021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И. Соколову-Микит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00000" y="836640"/>
            <a:ext cx="7632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implified Arabic Fixed"/>
              </a:rPr>
              <a:t>Отгадай 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implified Arabic Fixed"/>
              <a:ea typeface="Simplified Arabic Fix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27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92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10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2200" y="663480"/>
            <a:ext cx="3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1800" y="6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60360" y="692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9080" y="692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9280" y="663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0000" y="6634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10000" y="6634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66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04640"/>
            <a:ext cx="28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10526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134136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1628640"/>
            <a:ext cx="28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9162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20500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4922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278136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404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105264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341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1628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191628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2205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10720" y="217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16280"/>
            <a:ext cx="32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91628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916280"/>
            <a:ext cx="3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191628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16280"/>
            <a:ext cx="250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05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2205000"/>
            <a:ext cx="28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220500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2205000"/>
            <a:ext cx="28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92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492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24922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492280"/>
            <a:ext cx="21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Что вниз вершиной растё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33336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Жил я посреди двора, где играла детвора, но от солнечных лучей. Превратился я в ру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8900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Он вошёл-никто не видел, Он сказал-никто не слышал. Дунул в окно и исчез, А на окнах вырос 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3213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Мои новые дружки И блестящи и легки, И на льду со мной резвятся, И мороза не бо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400536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Ветви белой краской разукрашу, Брошу серебро на крышу вашу. Тёплые весной придут ветра, И меня прогонят с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4869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 На прогулке бегуны. Одинаковой длины. Через луг к берёзке. Тянут две пол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, когда это быв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п шагов вдоль улиц бел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оньки вд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тенах оледен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ещут хрус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ресниц нависнул в 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ебристый п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шина холодной 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ет 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609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Ф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414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1916280"/>
            <a:ext cx="6842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зимние месяцы ты зна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1773360"/>
            <a:ext cx="230364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З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3500280"/>
            <a:ext cx="180000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3068640"/>
            <a:ext cx="5047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284640"/>
            <a:ext cx="216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3429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3573360"/>
            <a:ext cx="187308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2637000"/>
            <a:ext cx="360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781360"/>
            <a:ext cx="3585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997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2997360"/>
            <a:ext cx="1871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4365720"/>
            <a:ext cx="3960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какой это меся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-ка, ребя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яц этот вот загад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дни его-всех дней короч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х ночей длиннее н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оля и на 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весны легли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месяц наш пр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встречаем Новый г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373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екаб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924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плет уши, щиплет н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зет в валенки мо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ызнешь воду-упад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ода уже, а лё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же птице не лет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мороза стынет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рнуло солнце к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, скажи за месяц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5013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 мешками валит с не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дом стоит сугробы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бураны и ме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еревню нале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ночам мороз сил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ём капели слышен зв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прибавился заме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так что за месяц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5229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вра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924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ови зимние прим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87640" cy="198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068640"/>
            <a:ext cx="44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Появляется лёд на прудах,реках,озё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59280" y="1052640"/>
            <a:ext cx="2881080" cy="198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55840" y="3089160"/>
            <a:ext cx="26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Земля покрыта снежным покр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12000" y="1052640"/>
            <a:ext cx="2881080" cy="198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83280" y="311616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Метели, снегоп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03640" y="3860640"/>
            <a:ext cx="280836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50240" y="616572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изкие температуры, ( морозы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едут себя растения зи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70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ой растения находятся в состоянии глубокого покоя. Снег, покрывая землю, словно одеялом, защищает от холода растения. Питание и сокодвижение у деревьев прекра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08720" y="4133880"/>
            <a:ext cx="36352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делают пт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ы прилетевшие к нам с далёкого севера и оставшиеся зимовать. Держатся в лесах, парках, садах. Одни питаются семенами и плодами деревьев и кустарников,другие-личинками насекомых ( их птицы добывают в щелях древесной коры ). На деревьях парков и садов многие люди прикрепляют кормушки, чтобы кормить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2000" y="2171880"/>
            <a:ext cx="3132000" cy="27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1:26:34Z</dcterms:created>
  <dc:creator>Nikolai</dc:creator>
  <dc:description/>
  <dc:language>en-US</dc:language>
  <cp:lastModifiedBy>Nikolai</cp:lastModifiedBy>
  <dcterms:modified xsi:type="dcterms:W3CDTF">2013-11-11T12:43:02Z</dcterms:modified>
  <cp:revision>6</cp:revision>
  <dc:subject/>
  <dc:title>Слайд 1</dc:title>
</cp:coreProperties>
</file>