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436-15FE-4912-BF7C-A3CB2677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2AC-D333-4198-9FDE-7178F388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15D-0601-4F9A-8C80-0B4D18EB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C33-61EB-486B-A456-745168EF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9CA6-3216-4262-82C4-C33ED21E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3E1F-16FA-4FD1-B350-93CE0412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D5E9-A962-47BF-B071-7321C6AF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61A-8986-4CEA-82B8-AE06F6CF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C1DC-0E5A-42FE-8D56-2C24684F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73EB-C6F4-42E9-88BB-77EF6382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A972-B573-48C3-AC53-D35C7E1B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776-A51A-491F-913F-B3C59A80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5642-FCEC-4D6D-BB02-C2CB5CDC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BAA2-271B-4DB4-B1C8-8EB5AFDE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6B05-4D33-4F5B-BB63-9D8B1783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9711-FC22-43C8-BCE0-75C4DF92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0A57-6053-4534-978C-1A401281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253-5176-40AD-90BC-B16A1D63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D81-56E9-4B52-B127-28EC3D07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845-EE29-4BE7-85D3-C88919BC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237-0DCC-46F9-9D1D-32983292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26D-0DA1-4399-8AD8-170D81A8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864-888F-45FB-B2B9-FCECC861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CB4-2AFB-47B4-8318-BD70A4F8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055C-D719-4672-BDC8-C3690AAC082E}" type="slidenum">
              <a:rPr b="1" lang="en-US" sz="10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galleon"/>
          <p:cNvPicPr/>
          <p:nvPr/>
        </p:nvPicPr>
        <p:blipFill>
          <a:blip r:embed="rId3"/>
          <a:stretch/>
        </p:blipFill>
        <p:spPr>
          <a:xfrm>
            <a:off x="6095880" y="3581280"/>
            <a:ext cx="329724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CAF7-4CDF-4DFB-BEBF-E85DC0AB2907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литературы в 8 класс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и история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3933360"/>
            <a:ext cx="5329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неткова Елена Леонидовна 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читель русского языка и литературы МБОУ «Лицей Альфа»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ревнерусская  литера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26560" y="1364760"/>
            <a:ext cx="72010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«Повесть о житии и о храбрости благородного и великого князя Александра Невского»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8" name="Picture 2" descr="C:\Users\Елена\Desktop\Бабурина Уроки\Литература 8 класс\L8QCB7SXXDc.jpg"/>
          <p:cNvPicPr/>
          <p:nvPr/>
        </p:nvPicPr>
        <p:blipFill>
          <a:blip r:embed="rId1"/>
          <a:stretch/>
        </p:blipFill>
        <p:spPr>
          <a:xfrm>
            <a:off x="250920" y="3429000"/>
            <a:ext cx="3206520" cy="2568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Елена\Desktop\Бабурина Уроки\Литература 8 класс\bs0000386148.jpg"/>
          <p:cNvPicPr/>
          <p:nvPr/>
        </p:nvPicPr>
        <p:blipFill>
          <a:blip r:embed="rId2"/>
          <a:stretch/>
        </p:blipFill>
        <p:spPr>
          <a:xfrm>
            <a:off x="3564000" y="3019320"/>
            <a:ext cx="2303280" cy="3595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Елена\Desktop\Бабурина Уроки\Литература 8 класс\36485217.jpg"/>
          <p:cNvPicPr/>
          <p:nvPr/>
        </p:nvPicPr>
        <p:blipFill>
          <a:blip r:embed="rId3"/>
          <a:stretch/>
        </p:blipFill>
        <p:spPr>
          <a:xfrm>
            <a:off x="6084720" y="2924280"/>
            <a:ext cx="265284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 литература 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X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55280" y="1268280"/>
            <a:ext cx="820908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Кондратий Фёдорович Рылеев. 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Дума «Смерть Ермака»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13" name="Picture 2" descr="C:\Users\Елена\Desktop\Бабурина Уроки\Литература 8 класс\93999.jpg"/>
          <p:cNvPicPr/>
          <p:nvPr/>
        </p:nvPicPr>
        <p:blipFill>
          <a:blip r:embed="rId1"/>
          <a:stretch/>
        </p:blipFill>
        <p:spPr>
          <a:xfrm>
            <a:off x="1042920" y="256536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Елена\Desktop\Бабурина Уроки\Литература 8 класс\8607.jpg"/>
          <p:cNvPicPr/>
          <p:nvPr/>
        </p:nvPicPr>
        <p:blipFill>
          <a:blip r:embed="rId2"/>
          <a:stretch/>
        </p:blipFill>
        <p:spPr>
          <a:xfrm>
            <a:off x="5292720" y="2421000"/>
            <a:ext cx="2857680" cy="4200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 литература 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X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79280" y="1268280"/>
            <a:ext cx="69850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Александр Сергеевич Пушкин.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«История Пугачёвского бунта»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«Капитанская дочка»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17" name="Picture 2" descr="C:\Users\Елена\Desktop\Бабурина Уроки\Литература 8 класс\pushkin_tropinin.jpg"/>
          <p:cNvPicPr/>
          <p:nvPr/>
        </p:nvPicPr>
        <p:blipFill>
          <a:blip r:embed="rId1"/>
          <a:stretch/>
        </p:blipFill>
        <p:spPr>
          <a:xfrm>
            <a:off x="250920" y="2492280"/>
            <a:ext cx="2857320" cy="402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Елена\Desktop\Бабурина Уроки\Литература 8 класс\index_pic.jpeg"/>
          <p:cNvPicPr/>
          <p:nvPr/>
        </p:nvPicPr>
        <p:blipFill>
          <a:blip r:embed="rId2"/>
          <a:stretch/>
        </p:blipFill>
        <p:spPr>
          <a:xfrm>
            <a:off x="3492360" y="3284640"/>
            <a:ext cx="2448000" cy="3152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Елена\Desktop\Бабурина Уроки\Литература 8 класс\index_pic.php.jpg"/>
          <p:cNvPicPr/>
          <p:nvPr/>
        </p:nvPicPr>
        <p:blipFill>
          <a:blip r:embed="rId3"/>
          <a:stretch/>
        </p:blipFill>
        <p:spPr>
          <a:xfrm>
            <a:off x="6300720" y="3213000"/>
            <a:ext cx="2465280" cy="321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 литература 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24000" y="1268280"/>
            <a:ext cx="864072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Александр Трифонович Твардовский «Василий Тёркин»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22" name="Picture 2" descr="C:\Users\Елена\Desktop\Бабурина Уроки\Литература 8 класс\1365857224257.jpg"/>
          <p:cNvPicPr/>
          <p:nvPr/>
        </p:nvPicPr>
        <p:blipFill>
          <a:blip r:embed="rId1"/>
          <a:stretch/>
        </p:blipFill>
        <p:spPr>
          <a:xfrm>
            <a:off x="3276720" y="2565360"/>
            <a:ext cx="2576520" cy="3619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Елена\Desktop\Бабурина Уроки\Литература 8 класс\i_501.jpg"/>
          <p:cNvPicPr/>
          <p:nvPr/>
        </p:nvPicPr>
        <p:blipFill>
          <a:blip r:embed="rId2"/>
          <a:stretch/>
        </p:blipFill>
        <p:spPr>
          <a:xfrm>
            <a:off x="6081840" y="2492280"/>
            <a:ext cx="2757240" cy="388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Елена\Desktop\Бабурина Уроки\Литература 8 класс\13502.jpg"/>
          <p:cNvPicPr/>
          <p:nvPr/>
        </p:nvPicPr>
        <p:blipFill>
          <a:blip r:embed="rId3"/>
          <a:stretch/>
        </p:blipFill>
        <p:spPr>
          <a:xfrm>
            <a:off x="395280" y="2492280"/>
            <a:ext cx="2581200" cy="389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эты русского зарубежья о Родин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627280" y="1268280"/>
            <a:ext cx="633744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«Мне трудно без России…»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27" name="Picture 2" descr="C:\Users\Елена\Desktop\Бабурина Уроки\Литература 8 класс\81353442_20061124210104_21Otsup.jpg"/>
          <p:cNvPicPr/>
          <p:nvPr/>
        </p:nvPicPr>
        <p:blipFill>
          <a:blip r:embed="rId1"/>
          <a:stretch/>
        </p:blipFill>
        <p:spPr>
          <a:xfrm>
            <a:off x="539640" y="1125360"/>
            <a:ext cx="1905120" cy="314352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8" descr=""/>
          <p:cNvPicPr/>
          <p:nvPr/>
        </p:nvPicPr>
        <p:blipFill>
          <a:blip r:embed="rId2"/>
          <a:stretch/>
        </p:blipFill>
        <p:spPr>
          <a:xfrm>
            <a:off x="536400" y="4370400"/>
            <a:ext cx="2024280" cy="903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Елена\Desktop\Бабурина Уроки\Литература 8 класс\56d6f7dd2499cabb08230ae3b84.jpg"/>
          <p:cNvPicPr/>
          <p:nvPr/>
        </p:nvPicPr>
        <p:blipFill>
          <a:blip r:embed="rId3"/>
          <a:stretch/>
        </p:blipFill>
        <p:spPr>
          <a:xfrm>
            <a:off x="2627280" y="1989000"/>
            <a:ext cx="2160720" cy="3173400"/>
          </a:xfrm>
          <a:prstGeom prst="rect">
            <a:avLst/>
          </a:prstGeom>
          <a:ln w="0">
            <a:noFill/>
          </a:ln>
        </p:spPr>
      </p:pic>
      <p:pic>
        <p:nvPicPr>
          <p:cNvPr id="130" name="TextBox 11" descr=""/>
          <p:cNvPicPr/>
          <p:nvPr/>
        </p:nvPicPr>
        <p:blipFill>
          <a:blip r:embed="rId4"/>
          <a:stretch/>
        </p:blipFill>
        <p:spPr>
          <a:xfrm>
            <a:off x="2262240" y="5162400"/>
            <a:ext cx="2316240" cy="903600"/>
          </a:xfrm>
          <a:prstGeom prst="rect">
            <a:avLst/>
          </a:prstGeom>
          <a:ln w="0">
            <a:noFill/>
          </a:ln>
        </p:spPr>
      </p:pic>
      <p:pic>
        <p:nvPicPr>
          <p:cNvPr id="131" name="TextBox 12" descr=""/>
          <p:cNvPicPr/>
          <p:nvPr/>
        </p:nvPicPr>
        <p:blipFill>
          <a:blip r:embed="rId5"/>
          <a:stretch/>
        </p:blipFill>
        <p:spPr>
          <a:xfrm>
            <a:off x="6870600" y="6102360"/>
            <a:ext cx="2194200" cy="530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Users\Елена\Desktop\Бабурина Уроки\Литература 8 класс\Donaminado.jpg"/>
          <p:cNvPicPr/>
          <p:nvPr/>
        </p:nvPicPr>
        <p:blipFill>
          <a:blip r:embed="rId6"/>
          <a:stretch/>
        </p:blipFill>
        <p:spPr>
          <a:xfrm>
            <a:off x="4932360" y="2924280"/>
            <a:ext cx="1943280" cy="252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Users\Елена\Desktop\Бабурина Уроки\Литература 8 класс\51.jpg"/>
          <p:cNvPicPr/>
          <p:nvPr/>
        </p:nvPicPr>
        <p:blipFill>
          <a:blip r:embed="rId7"/>
          <a:stretch/>
        </p:blipFill>
        <p:spPr>
          <a:xfrm>
            <a:off x="7093080" y="3213000"/>
            <a:ext cx="1800000" cy="2781360"/>
          </a:xfrm>
          <a:prstGeom prst="rect">
            <a:avLst/>
          </a:prstGeom>
          <a:ln w="0">
            <a:noFill/>
          </a:ln>
        </p:spPr>
      </p:pic>
      <p:pic>
        <p:nvPicPr>
          <p:cNvPr id="134" name="TextBox 10" descr=""/>
          <p:cNvPicPr/>
          <p:nvPr/>
        </p:nvPicPr>
        <p:blipFill>
          <a:blip r:embed="rId8"/>
          <a:stretch/>
        </p:blipFill>
        <p:spPr>
          <a:xfrm>
            <a:off x="4584600" y="5595840"/>
            <a:ext cx="2449440" cy="53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 литература и истор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90792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Человек с детства связан с историческими судьбами страны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гда-то история, публицистика и литература были нерасчленимы (произведения Древней Руси)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 18 века историческая наука в России выделилась в самостоятельную область знания, но в 18 и 19 веках сохраняется близость к художественной литературе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дной из характерных черт русской литературы был интерес писателей к историческому прошлому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ворчеству классиков русской литературы присущ историзм. В художественных произведениях события и герои предстают на фоне исторического полотна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лассики русской литературы 19 века связаны своим творчеством с самыми значительными страницами русской истории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907920"/>
            <a:ext cx="7524720" cy="642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Показать связь между литературой и историей 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Познакомиться с понятиями «историзм»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Вспомнить литературные произведения, в которых освещены исторические события и исторические лица 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3492360" y="692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Елена\Desktop\Бабурина Уроки\lit8.gif"/>
          <p:cNvPicPr/>
          <p:nvPr/>
        </p:nvPicPr>
        <p:blipFill>
          <a:blip r:embed="rId1"/>
          <a:stretch/>
        </p:blipFill>
        <p:spPr>
          <a:xfrm>
            <a:off x="-181080" y="1098720"/>
            <a:ext cx="5761080" cy="57592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4284720" y="79704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литератур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 литература и истор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Литература – это искусство, отличительной чертой которого является отображение жизни, создание образа при помощи слова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1" name="Picture 2" descr="C:\Users\Елена\Desktop\Бабурина Уроки\Литература 8 класс\1291638982_6-klass-napisal500.jpg"/>
          <p:cNvPicPr/>
          <p:nvPr/>
        </p:nvPicPr>
        <p:blipFill>
          <a:blip r:embed="rId1"/>
          <a:stretch/>
        </p:blipFill>
        <p:spPr>
          <a:xfrm>
            <a:off x="5580000" y="3933720"/>
            <a:ext cx="341172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8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оды литературы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154160"/>
            <a:ext cx="29718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Эпос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Эпические произведения                    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2960640" y="11746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и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ирические произведения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6372360" y="11746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р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раматические произведения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95280" y="3105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на, стихотворение, трагедия, комедия, повесть рассказ, элегия, песня, драма, поэма, романс, ро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1403280" y="422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произведений на каждый род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10800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такое история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стория – рассказ, о прошлых событиях, повествование о том, что узнано, исследовано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накомство с понятием «историзм»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сторизм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сторический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еалистический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вание произведения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сторические события                  Исторические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ичности                                                   личности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коен, прочен и легок на диво сложенный возок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ам граф – отец ни раз, ни два его опробовал сперва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Творя молитву, образок повесил в правый уголок и зарыдал…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нягиня дочь, куда-то едет в эту ночь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24000" y="83664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кажи мне кудесник – любимец богов, что сбудется нынче со мною? И скоро ль на радость соседей-врагов, могильной засыплюсь землёй ?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А поворотись-ка сын, экой ты смешной какой что это на вас за поповские подрясники ?  И эдак все так ходят в академии ?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гда на трон она вступила,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ак высший подал ей венец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ебя в Россию возвратила,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ойне поставила конец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тное народное творчество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1267920"/>
            <a:ext cx="417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9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Лирические песни</a:t>
            </a:r>
            <a:endParaRPr b="1" lang="en-US" sz="36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Исторические песни</a:t>
            </a:r>
            <a:endParaRPr b="1" lang="en-US" sz="36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Частушки</a:t>
            </a:r>
            <a:endParaRPr b="1" lang="en-US" sz="36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Предания</a:t>
            </a:r>
            <a:endParaRPr b="1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5" name="Picture 2" descr="C:\Users\Елена\Desktop\Бабурина Уроки\Литература 8 класс\1307214743_57454412_477.jpg"/>
          <p:cNvPicPr/>
          <p:nvPr/>
        </p:nvPicPr>
        <p:blipFill>
          <a:blip r:embed="rId1"/>
          <a:stretch/>
        </p:blipFill>
        <p:spPr>
          <a:xfrm>
            <a:off x="4643280" y="1989000"/>
            <a:ext cx="4172040" cy="408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06:11:10Z</dcterms:created>
  <dc:creator>maniak79</dc:creator>
  <dc:description/>
  <dc:language>en-US</dc:language>
  <cp:lastModifiedBy>МКОУ лицей Альфа</cp:lastModifiedBy>
  <dcterms:modified xsi:type="dcterms:W3CDTF">2015-05-17T20:23:34Z</dcterms:modified>
  <cp:revision>55</cp:revision>
  <dc:subject/>
  <dc:title>Презентация PowerPoint</dc:title>
</cp:coreProperties>
</file>