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956-53CE-4208-BE53-C301F651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13A-5CB4-4983-AA9C-DDE5A15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310-356F-46AF-960A-BEB9FC4E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C76-9602-4AF8-8A89-790A16F2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0515-5C65-4485-9717-A4D5B018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9BDC-8359-44A2-A092-B473190F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0864-47C4-4142-91D6-1F971A43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420D-9B1F-4F5D-93A0-3182A17E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CB8-5D9E-494A-A701-308F3D9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BB07-C1D7-4DA7-BB48-9A9D77E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D6FD-5B95-4734-8109-283C359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D5D-432F-43B9-93BF-FEC9B1F9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882F-C403-484A-A688-60534C3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3060-4D24-46D3-A648-5276387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1CF-0F0C-441F-933F-8D655E11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0416-4B08-439C-ABF3-97380C78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3169-72C0-493C-9814-B23AE93C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214-7257-4938-9568-819235F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BDB-B74B-403D-9A1C-6392F4C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78E-8F32-45C0-AB84-25886D8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784-F53A-4FA6-BB99-C1BC036B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AC6-4881-41B2-9CD3-1D931B5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747-0DAA-42DC-B52D-ADDA67E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3E9-FAF0-416A-B0D7-3CAD746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BA33-0C75-4BF5-9BE7-203681B05D2C}" type="slidenum">
              <a:rPr b="1" lang="en-US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414-DC5B-4342-852C-71E23588DD3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литературы в 8 класс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и история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3933360"/>
            <a:ext cx="5329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неткова Елена Леонидовна 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МБОУ «Лицей Альфа»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евнерусская  литера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6560" y="1364760"/>
            <a:ext cx="72010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Повесть о житии и о храбрости благородного и великого князя Александра Невского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8" name="Picture 2" descr="C:\Users\Елена\Desktop\Бабурина Уроки\Литература 8 класс\L8QCB7SXXDc.jpg"/>
          <p:cNvPicPr/>
          <p:nvPr/>
        </p:nvPicPr>
        <p:blipFill>
          <a:blip r:embed="rId1"/>
          <a:stretch/>
        </p:blipFill>
        <p:spPr>
          <a:xfrm>
            <a:off x="250920" y="3429000"/>
            <a:ext cx="3206520" cy="2568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Елена\Desktop\Бабурина Уроки\Литература 8 класс\bs0000386148.jpg"/>
          <p:cNvPicPr/>
          <p:nvPr/>
        </p:nvPicPr>
        <p:blipFill>
          <a:blip r:embed="rId2"/>
          <a:stretch/>
        </p:blipFill>
        <p:spPr>
          <a:xfrm>
            <a:off x="3564000" y="3019320"/>
            <a:ext cx="2303280" cy="359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Елена\Desktop\Бабурина Уроки\Литература 8 класс\36485217.jpg"/>
          <p:cNvPicPr/>
          <p:nvPr/>
        </p:nvPicPr>
        <p:blipFill>
          <a:blip r:embed="rId3"/>
          <a:stretch/>
        </p:blipFill>
        <p:spPr>
          <a:xfrm>
            <a:off x="6084720" y="2924280"/>
            <a:ext cx="265284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820908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ондратий Фёдорович Рылеев. 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ума «Смерть Ермака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3" name="Picture 2" descr="C:\Users\Елена\Desktop\Бабурина Уроки\Литература 8 класс\93999.jpg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Елена\Desktop\Бабурина Уроки\Литература 8 класс\8607.jpg"/>
          <p:cNvPicPr/>
          <p:nvPr/>
        </p:nvPicPr>
        <p:blipFill>
          <a:blip r:embed="rId2"/>
          <a:stretch/>
        </p:blipFill>
        <p:spPr>
          <a:xfrm>
            <a:off x="5292720" y="2421000"/>
            <a:ext cx="285768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79280" y="1268280"/>
            <a:ext cx="6985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лександр Сергеевич Пушкин.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История Пугачёвского бунта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Капитанская дочка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7" name="Picture 2" descr="C:\Users\Елена\Desktop\Бабурина Уроки\Литература 8 класс\pushkin_tropinin.jpg"/>
          <p:cNvPicPr/>
          <p:nvPr/>
        </p:nvPicPr>
        <p:blipFill>
          <a:blip r:embed="rId1"/>
          <a:stretch/>
        </p:blipFill>
        <p:spPr>
          <a:xfrm>
            <a:off x="250920" y="2492280"/>
            <a:ext cx="2857320" cy="402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Елена\Desktop\Бабурина Уроки\Литература 8 класс\index_pic.jpeg"/>
          <p:cNvPicPr/>
          <p:nvPr/>
        </p:nvPicPr>
        <p:blipFill>
          <a:blip r:embed="rId2"/>
          <a:stretch/>
        </p:blipFill>
        <p:spPr>
          <a:xfrm>
            <a:off x="3492360" y="3284640"/>
            <a:ext cx="2448000" cy="315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Елена\Desktop\Бабурина Уроки\Литература 8 класс\index_pic.php.jpg"/>
          <p:cNvPicPr/>
          <p:nvPr/>
        </p:nvPicPr>
        <p:blipFill>
          <a:blip r:embed="rId3"/>
          <a:stretch/>
        </p:blipFill>
        <p:spPr>
          <a:xfrm>
            <a:off x="6300720" y="3213000"/>
            <a:ext cx="2465280" cy="321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64072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лександр Трифонович Твардовский «Василий Тёркин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2" name="Picture 2" descr="C:\Users\Елена\Desktop\Бабурина Уроки\Литература 8 класс\1365857224257.jpg"/>
          <p:cNvPicPr/>
          <p:nvPr/>
        </p:nvPicPr>
        <p:blipFill>
          <a:blip r:embed="rId1"/>
          <a:stretch/>
        </p:blipFill>
        <p:spPr>
          <a:xfrm>
            <a:off x="3276720" y="2565360"/>
            <a:ext cx="2576520" cy="361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Елена\Desktop\Бабурина Уроки\Литература 8 класс\i_501.jpg"/>
          <p:cNvPicPr/>
          <p:nvPr/>
        </p:nvPicPr>
        <p:blipFill>
          <a:blip r:embed="rId2"/>
          <a:stretch/>
        </p:blipFill>
        <p:spPr>
          <a:xfrm>
            <a:off x="6081840" y="2492280"/>
            <a:ext cx="2757240" cy="388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Елена\Desktop\Бабурина Уроки\Литература 8 класс\13502.jpg"/>
          <p:cNvPicPr/>
          <p:nvPr/>
        </p:nvPicPr>
        <p:blipFill>
          <a:blip r:embed="rId3"/>
          <a:stretch/>
        </p:blipFill>
        <p:spPr>
          <a:xfrm>
            <a:off x="395280" y="2492280"/>
            <a:ext cx="2581200" cy="389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эты русского зарубежья о Родин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627280" y="1268280"/>
            <a:ext cx="633744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«Мне трудно без России…»</a:t>
            </a:r>
            <a:endParaRPr b="1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7" name="Picture 2" descr="C:\Users\Елена\Desktop\Бабурина Уроки\Литература 8 класс\81353442_20061124210104_21Otsup.jpg"/>
          <p:cNvPicPr/>
          <p:nvPr/>
        </p:nvPicPr>
        <p:blipFill>
          <a:blip r:embed="rId1"/>
          <a:stretch/>
        </p:blipFill>
        <p:spPr>
          <a:xfrm>
            <a:off x="539640" y="1125360"/>
            <a:ext cx="1905120" cy="314352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8" descr=""/>
          <p:cNvPicPr/>
          <p:nvPr/>
        </p:nvPicPr>
        <p:blipFill>
          <a:blip r:embed="rId2"/>
          <a:stretch/>
        </p:blipFill>
        <p:spPr>
          <a:xfrm>
            <a:off x="536400" y="4370400"/>
            <a:ext cx="2024280" cy="903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Елена\Desktop\Бабурина Уроки\Литература 8 класс\56d6f7dd2499cabb08230ae3b84.jpg"/>
          <p:cNvPicPr/>
          <p:nvPr/>
        </p:nvPicPr>
        <p:blipFill>
          <a:blip r:embed="rId3"/>
          <a:stretch/>
        </p:blipFill>
        <p:spPr>
          <a:xfrm>
            <a:off x="2627280" y="1989000"/>
            <a:ext cx="2160720" cy="317340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11" descr=""/>
          <p:cNvPicPr/>
          <p:nvPr/>
        </p:nvPicPr>
        <p:blipFill>
          <a:blip r:embed="rId4"/>
          <a:stretch/>
        </p:blipFill>
        <p:spPr>
          <a:xfrm>
            <a:off x="2262240" y="5162400"/>
            <a:ext cx="2316240" cy="90360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12" descr=""/>
          <p:cNvPicPr/>
          <p:nvPr/>
        </p:nvPicPr>
        <p:blipFill>
          <a:blip r:embed="rId5"/>
          <a:stretch/>
        </p:blipFill>
        <p:spPr>
          <a:xfrm>
            <a:off x="6870600" y="6102360"/>
            <a:ext cx="2194200" cy="530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Елена\Desktop\Бабурина Уроки\Литература 8 класс\Donaminado.jpg"/>
          <p:cNvPicPr/>
          <p:nvPr/>
        </p:nvPicPr>
        <p:blipFill>
          <a:blip r:embed="rId6"/>
          <a:stretch/>
        </p:blipFill>
        <p:spPr>
          <a:xfrm>
            <a:off x="4932360" y="2924280"/>
            <a:ext cx="1943280" cy="25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Елена\Desktop\Бабурина Уроки\Литература 8 класс\51.jpg"/>
          <p:cNvPicPr/>
          <p:nvPr/>
        </p:nvPicPr>
        <p:blipFill>
          <a:blip r:embed="rId7"/>
          <a:stretch/>
        </p:blipFill>
        <p:spPr>
          <a:xfrm>
            <a:off x="7093080" y="3213000"/>
            <a:ext cx="180000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10" descr=""/>
          <p:cNvPicPr/>
          <p:nvPr/>
        </p:nvPicPr>
        <p:blipFill>
          <a:blip r:embed="rId8"/>
          <a:stretch/>
        </p:blipFill>
        <p:spPr>
          <a:xfrm>
            <a:off x="4584600" y="5595840"/>
            <a:ext cx="2449440" cy="53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и истор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еловек с детства связан с историческими судьбами страны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-то история, публицистика и литература были нерасчленимы (произведения Древней Руси)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 18 века историческая наука в России выделилась в самостоятельную область знания, но в 18 и 19 веках сохраняется близость к художественной литературе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дной из характерных черт русской литературы был интерес писателей к историческому прошлому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ворчеству классиков русской литературы присущ историзм. В художественных произведениях события и герои предстают на фоне исторического полотна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лассики русской литературы 19 века связаны своим творчеством с самыми значительными страницами русской истории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524720" cy="642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Показать связь между литературой и историе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Познакомиться с понятиями «историзм»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Вспомнить литературные произведения, в которых освещены исторические события и исторические лица 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3492360" y="692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Елена\Desktop\Бабурина Уроки\lit8.gif"/>
          <p:cNvPicPr/>
          <p:nvPr/>
        </p:nvPicPr>
        <p:blipFill>
          <a:blip r:embed="rId1"/>
          <a:stretch/>
        </p:blipFill>
        <p:spPr>
          <a:xfrm>
            <a:off x="-181080" y="1098720"/>
            <a:ext cx="5761080" cy="5759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284720" y="7970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литератур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 литература и истор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Литература – это искусство, отличительной чертой которого является отображение жизни, создание образа при помощи слова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" name="Picture 2" descr="C:\Users\Елена\Desktop\Бабурина Уроки\Литература 8 класс\1291638982_6-klass-napisal500.jpg"/>
          <p:cNvPicPr/>
          <p:nvPr/>
        </p:nvPicPr>
        <p:blipFill>
          <a:blip r:embed="rId1"/>
          <a:stretch/>
        </p:blipFill>
        <p:spPr>
          <a:xfrm>
            <a:off x="5580000" y="3933720"/>
            <a:ext cx="341172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оды литературы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154160"/>
            <a:ext cx="29718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пос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пические произведения                    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2960640" y="11746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и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ирические произведения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372360" y="11746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раматические произведения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95280" y="310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на, стихотворение, трагедия, комедия, повесть рассказ, элегия, песня, драма, поэма, романс, ро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1403280" y="422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произведений на каждый род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история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я – рассказ, о прошлых событиях, повествование о том, что узнано, исследовано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 с понятием «историзм»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зм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ческий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стический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произведения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сторические события                  Исторические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чности                                                   личности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коен, прочен и легок на диво сложенный возок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ам граф – отец ни раз, ни два его опробовал сперва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Творя молитву, образок повесил в правый уголок и зарыдал…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нягиня дочь, куда-то едет в эту ночь </a:t>
            </a:r>
            <a:endParaRPr b="1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83664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кажи мне кудесник – любимец богов, что сбудется нынче со мною? И скоро ль на радость соседей-врагов, могильной засыплюсь землёй ?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 поворотись-ка сын, экой ты смешной какой что это на вас за поповские подрясники ?  И эдак все так ходят в академии ?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 на трон она вступила,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к высший подал ей венец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бя в Россию возвратила,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ойне поставила конец.</a:t>
            </a:r>
            <a:endParaRPr b="1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ное народное творчеств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417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Лирические песни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Исторические песни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Частушки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SzPct val="20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редания</a:t>
            </a:r>
            <a:endParaRPr b="1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5" name="Picture 2" descr="C:\Users\Елена\Desktop\Бабурина Уроки\Литература 8 класс\1307214743_57454412_477.jpg"/>
          <p:cNvPicPr/>
          <p:nvPr/>
        </p:nvPicPr>
        <p:blipFill>
          <a:blip r:embed="rId1"/>
          <a:stretch/>
        </p:blipFill>
        <p:spPr>
          <a:xfrm>
            <a:off x="4643280" y="1989000"/>
            <a:ext cx="4172040" cy="408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6:11:10Z</dcterms:created>
  <dc:creator>maniak79</dc:creator>
  <dc:description/>
  <dc:language>en-US</dc:language>
  <cp:lastModifiedBy>МКОУ лицей Альфа</cp:lastModifiedBy>
  <dcterms:modified xsi:type="dcterms:W3CDTF">2015-05-17T20:23:34Z</dcterms:modified>
  <cp:revision>55</cp:revision>
  <dc:subject/>
  <dc:title>Презентация PowerPoint</dc:title>
</cp:coreProperties>
</file>