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FCA-786F-4B46-9787-8137EDE0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1CF-8E87-436C-8B61-314C2FDC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087-3E2E-4F63-8F8B-4124A128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189-C5C3-4BC7-B225-51AF1BA2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AA7-960D-49E9-8FD5-8997E73A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848-1CF6-478B-B640-9259CC87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CA7-BE89-4C10-B721-54AA40AE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DC4-10BE-4853-906A-05F9FDCC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EE0-DE2C-4017-8D97-565FD323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998-2DA2-4D83-8E1A-8175000A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6AD-D424-46D3-A5E3-4F0BAC26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DE5-D978-473E-AF50-78E24F2A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D671-1DBE-4B52-87F6-24DA9598CC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YCLING PLANT IN SO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7" descr="_dsc3148.jpg"/>
          <p:cNvPicPr/>
          <p:nvPr/>
        </p:nvPicPr>
        <p:blipFill>
          <a:blip r:embed="rId1"/>
          <a:stretch/>
        </p:blipFill>
        <p:spPr>
          <a:xfrm>
            <a:off x="3575160" y="1504800"/>
            <a:ext cx="5111640" cy="3389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ycling plant was built in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first recycling centre of solid household wastes in Rus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8" descr="0_89bfb_dcee2988_XL.jpeg"/>
          <p:cNvPicPr/>
          <p:nvPr/>
        </p:nvPicPr>
        <p:blipFill>
          <a:blip r:embed="rId2"/>
          <a:stretch/>
        </p:blipFill>
        <p:spPr>
          <a:xfrm>
            <a:off x="4140360" y="1989000"/>
            <a:ext cx="4608360" cy="3527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000 tons of rubbish are sorted in Sochi every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8" descr="0_89b92_d3622bb8_XL.jpg"/>
          <p:cNvPicPr/>
          <p:nvPr/>
        </p:nvPicPr>
        <p:blipFill>
          <a:blip r:embed="rId2"/>
          <a:stretch/>
        </p:blipFill>
        <p:spPr>
          <a:xfrm>
            <a:off x="4211640" y="0"/>
            <a:ext cx="3097080" cy="2432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ss, plastic, paper, aluminium cans can be recyc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% of  rubbish are recycl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organic wastes are recycled in comp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 substances are 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9" descr="0_89b84_3b5f61f7_XL.jpg"/>
          <p:cNvPicPr/>
          <p:nvPr/>
        </p:nvPicPr>
        <p:blipFill>
          <a:blip r:embed="rId3"/>
          <a:stretch/>
        </p:blipFill>
        <p:spPr>
          <a:xfrm>
            <a:off x="4284720" y="2570040"/>
            <a:ext cx="3095640" cy="1976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0_89b55_f266702c_XL.jpg"/>
          <p:cNvPicPr/>
          <p:nvPr/>
        </p:nvPicPr>
        <p:blipFill>
          <a:blip r:embed="rId4"/>
          <a:stretch/>
        </p:blipFill>
        <p:spPr>
          <a:xfrm>
            <a:off x="4284720" y="4869000"/>
            <a:ext cx="3024000" cy="158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8" descr="0_89b58_1728dbfa_XL.jpg"/>
          <p:cNvPicPr/>
          <p:nvPr/>
        </p:nvPicPr>
        <p:blipFill>
          <a:blip r:embed="rId2"/>
          <a:stretch/>
        </p:blipFill>
        <p:spPr>
          <a:xfrm>
            <a:off x="4284720" y="836640"/>
            <a:ext cx="4464000" cy="460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uminium cans are pressed, then they are sold, because they are the most expensive rubb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0_89b7a_3d7ece9c_XL.jpg"/>
          <p:cNvPicPr/>
          <p:nvPr/>
        </p:nvPicPr>
        <p:blipFill>
          <a:blip r:embed="rId2"/>
          <a:srcRect l="5581" t="0" r="5581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ycling plant is an important part of the Olympic Games. We want to keep the city clean and 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237</cp:lastModifiedBy>
  <dcterms:modified xsi:type="dcterms:W3CDTF">2013-04-25T06:57:26Z</dcterms:modified>
  <cp:revision>74</cp:revision>
  <dc:subject/>
  <dc:title>TITLE</dc:title>
</cp:coreProperties>
</file>