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CF1-73D7-4A9F-8E90-89C88E73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7E6-8C1A-4CB3-A4B7-C40DB582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855-E26B-4F42-92E7-8917EF59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B4B-0214-4FF7-9A47-7D01BF68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658-664F-42A4-80D0-A34CF48B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0E5-05EB-40B9-BA35-299E247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2D7-D665-48FA-9086-27E72E7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B61-D3AC-4EEA-8648-9597068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AC7-0C55-4F94-ACD9-6ADDC53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3EC-2FBF-4A47-AE82-829D8CB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45D-1863-4873-9A43-3602FED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212-69C7-4980-A370-EDABB00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F49-8BB1-4863-991A-81891FDD5F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YCLING PLANT IN S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7" descr="_dsc3148.jpg"/>
          <p:cNvPicPr/>
          <p:nvPr/>
        </p:nvPicPr>
        <p:blipFill>
          <a:blip r:embed="rId1"/>
          <a:stretch/>
        </p:blipFill>
        <p:spPr>
          <a:xfrm>
            <a:off x="3575160" y="1504800"/>
            <a:ext cx="5111640" cy="3389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ycling plant was built in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first recycling centre of solid household wastes in Rus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8" descr="0_89bfb_dcee2988_XL.jpeg"/>
          <p:cNvPicPr/>
          <p:nvPr/>
        </p:nvPicPr>
        <p:blipFill>
          <a:blip r:embed="rId2"/>
          <a:stretch/>
        </p:blipFill>
        <p:spPr>
          <a:xfrm>
            <a:off x="4140360" y="1989000"/>
            <a:ext cx="4608360" cy="352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000 tons of rubbish are sorted in Sochi ever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8" descr="0_89b92_d3622bb8_XL.jpg"/>
          <p:cNvPicPr/>
          <p:nvPr/>
        </p:nvPicPr>
        <p:blipFill>
          <a:blip r:embed="rId2"/>
          <a:stretch/>
        </p:blipFill>
        <p:spPr>
          <a:xfrm>
            <a:off x="4211640" y="0"/>
            <a:ext cx="3097080" cy="2432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ss, plastic, paper, aluminium cans can be recyc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% of  rubbish are recycl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organic wastes are recycled in comp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substances are 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9" descr="0_89b84_3b5f61f7_XL.jpg"/>
          <p:cNvPicPr/>
          <p:nvPr/>
        </p:nvPicPr>
        <p:blipFill>
          <a:blip r:embed="rId3"/>
          <a:stretch/>
        </p:blipFill>
        <p:spPr>
          <a:xfrm>
            <a:off x="4284720" y="2570040"/>
            <a:ext cx="3095640" cy="1976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0_89b55_f266702c_XL.jpg"/>
          <p:cNvPicPr/>
          <p:nvPr/>
        </p:nvPicPr>
        <p:blipFill>
          <a:blip r:embed="rId4"/>
          <a:stretch/>
        </p:blipFill>
        <p:spPr>
          <a:xfrm>
            <a:off x="4284720" y="4869000"/>
            <a:ext cx="302400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8" descr="0_89b58_1728dbfa_XL.jpg"/>
          <p:cNvPicPr/>
          <p:nvPr/>
        </p:nvPicPr>
        <p:blipFill>
          <a:blip r:embed="rId2"/>
          <a:stretch/>
        </p:blipFill>
        <p:spPr>
          <a:xfrm>
            <a:off x="4284720" y="83664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minium cans are pressed, then they are sold, because they are the most expensive rubb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0_89b7a_3d7ece9c_XL.jpg"/>
          <p:cNvPicPr/>
          <p:nvPr/>
        </p:nvPicPr>
        <p:blipFill>
          <a:blip r:embed="rId2"/>
          <a:srcRect l="5581" t="0" r="55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ycling plant is an important part of the Olympic Games. We want to keep the city clean and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237</cp:lastModifiedBy>
  <dcterms:modified xsi:type="dcterms:W3CDTF">2013-04-25T06:57:26Z</dcterms:modified>
  <cp:revision>74</cp:revision>
  <dc:subject/>
  <dc:title>TITLE</dc:title>
</cp:coreProperties>
</file>