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934-7071-4390-97DC-4F7AC2545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7FE-E701-4944-999A-FA33B4F87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41B3-438D-451B-BE1F-11BE46CF2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830-1D2A-43E3-B6AF-2FF1974F2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C519-13BB-42D8-9344-AF9C3375B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E50-A712-4347-8A82-02905DB42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7B5-EA34-4653-97D6-F0BA0C292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FDF7-5FC6-4366-82CA-5C4AA544C3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9686-50BD-493F-9C97-9DD8559D2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968F-72D6-4D76-A124-A7E0C0E5A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2C0A-D389-4A85-9A3F-D19B70F0F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1930-0549-4795-A44C-A28973CB1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52C-ED79-416A-A129-0FCA84A73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41D-7BE3-480E-BB6C-2A522C3A7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F9EC-B588-4FDB-AD72-1C9FD4741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9FA-16F2-43FE-80AF-A1ECA441E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7D85-1DEF-4A5F-8A41-98E4C04B2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3CDD-F2E6-4991-B3E6-D3D82D87F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47CB-F937-4373-8DA4-02180952A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948B-6880-416E-B504-290311989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2C8-DDB8-4774-8563-15B060828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229-F8B9-446E-9C2C-253C93BA8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135-4E1A-4CE1-A3E7-23228F72F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C731-FA58-4683-BFC9-540F2F547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409A-8A81-4011-8308-8BB0B4070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689F-78E3-461E-8A68-46967BCE2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E19-06AE-4331-B2B4-EF9261207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05D-AB75-4EA2-8DF9-2D18DD1C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827-E43C-459E-B420-601CC4E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E43-F7C8-41B0-B7E2-3496CFF5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F0C-3F6E-4564-9937-3D313350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369D-9B8F-4ABA-B759-13FDA787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84C8-2980-473B-98FE-CB55B4C8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7857-90F7-4815-8869-977F3265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5745-C2A1-4C4E-AF06-F26BB634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4CB2-7692-457F-BEA7-81E177E1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457D-E649-4221-903B-BE1195A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6CC2-D858-4881-ACF4-DBB4F6A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60E-CAE3-4327-BA35-7F7861DF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AAE2-9604-4635-8A57-A0DB87D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47C-58E9-43CC-9BA1-AA6D0BF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5048-BC6F-48A7-9CAE-B1519CD3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6E7F-C3C9-4FDB-A35F-DBF7D6AA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218-E174-4E0C-BF5A-7305AFAB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412-0525-4342-A61C-F028E390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DB1-6DA0-4848-BB19-8F64EB63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DFF-3576-4C97-B1B5-3F9EEB73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A39-5900-41AE-B7DA-48DBD15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FB6-3B78-4E44-844E-A854BE4B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5E2-7FE5-4482-B6CF-E696132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C88-4981-4FE9-A794-BBD333F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0F4D-C32B-4ACB-B172-7DA0162B2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F29-80A3-4140-B2BA-C2A525DED1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-396720" y="2357280"/>
            <a:ext cx="9111960" cy="378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Cко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школу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59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Какой должна быть подготовка к школ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овременные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требования совершенно другие, чем несколько лет наза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То, что раньше изучали в 1 классе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егодня надо уметь еще до школы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– читать, писать, считать, отвечать на умны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Подготовка должна быть рассчитана именно на вашего ребенка, учитывать индивидуальные особенности его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-541440" y="2924280"/>
            <a:ext cx="395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Желательна консультация специали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1160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403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985000" y="2852640"/>
            <a:ext cx="31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 любых занятиях избегайт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ерегруз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843280" y="2852640"/>
            <a:ext cx="337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нятия дома должны быть систематически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(не более 30 мину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9"/>
          <p:cNvSpPr/>
          <p:nvPr/>
        </p:nvSpPr>
        <p:spPr>
          <a:xfrm flipH="1">
            <a:off x="1763280" y="2349360"/>
            <a:ext cx="863640" cy="64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4284720" y="2349360"/>
            <a:ext cx="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6227640" y="2349360"/>
            <a:ext cx="115272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веты родителям от психолога Джеральдина Чейп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сердечко"/>
          <p:cNvPicPr/>
          <p:nvPr/>
        </p:nvPicPr>
        <p:blipFill>
          <a:blip r:embed="rId1"/>
          <a:stretch/>
        </p:blipFill>
        <p:spPr>
          <a:xfrm>
            <a:off x="324000" y="112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сердечко"/>
          <p:cNvPicPr/>
          <p:nvPr/>
        </p:nvPicPr>
        <p:blipFill>
          <a:blip r:embed="rId2"/>
          <a:stretch/>
        </p:blipFill>
        <p:spPr>
          <a:xfrm>
            <a:off x="7740720" y="2205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сердечко"/>
          <p:cNvPicPr/>
          <p:nvPr/>
        </p:nvPicPr>
        <p:blipFill>
          <a:blip r:embed="rId3"/>
          <a:stretch/>
        </p:blipFill>
        <p:spPr>
          <a:xfrm>
            <a:off x="197964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сердечко"/>
          <p:cNvPicPr/>
          <p:nvPr/>
        </p:nvPicPr>
        <p:blipFill>
          <a:blip r:embed="rId4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"/>
          <p:cNvPicPr/>
          <p:nvPr/>
        </p:nvPicPr>
        <p:blipFill>
          <a:blip r:embed="rId5"/>
          <a:stretch/>
        </p:blipFill>
        <p:spPr>
          <a:xfrm>
            <a:off x="0" y="2060640"/>
            <a:ext cx="1263600" cy="13413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ни помогут наладить и сохранить добрые отношения с вашим ребенком, быть с ним настоящими друзь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елать или не дел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л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дуйтесь своему малыш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зговаривайте с ребенком заботливым, успокаивающим, ободряющим тон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Когда ребенок с вами разговаривает, слушайте его сочувственно и вниматель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становите четкие и жесткие требования к ребен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терпелив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в ребенке стремление задавать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купитесь на награду: похвалу или поцелу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любопытство и воображение вашего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игры с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918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йтесь, чтобы малыш принимал участие в ваших делах: готовил обед, пересаживал цветы и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могите ребенку выучить его полное имя, фамилию, адр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гулярно водите ребенка в библиоте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Не делайт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бивайте ребенка, не говорите, что вы все поняли, не отворачивайтесь, пока ребенок не закончит свой расск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ринуждайте ребенка делать то, к чему он не го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заставляйте ребенка делать что-нибудь, если он вертится, устал; займитесь чем – то друг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 не критикуйте ребенка в присутствии посторонни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надо устанавливать для ребенка слишком много правил: он перестанет обращать на вас вним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старайтесь, доставляя ребенку слишком много стимулов или впечатл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равнивайте вашего ребенка ни с какими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4"/>
          <p:cNvSpPr/>
          <p:nvPr/>
        </p:nvSpPr>
        <p:spPr>
          <a:xfrm rot="19929000">
            <a:off x="477720" y="-1146240"/>
            <a:ext cx="7962840" cy="895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венит звонок нам десять лет под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го услышав, люди улыбаю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 расцветают лица у ребя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шла пора - уроки начинаю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будильник"/>
          <p:cNvPicPr/>
          <p:nvPr/>
        </p:nvPicPr>
        <p:blipFill>
          <a:blip r:embed="rId2"/>
          <a:stretch/>
        </p:blipFill>
        <p:spPr>
          <a:xfrm>
            <a:off x="2195640" y="189000"/>
            <a:ext cx="159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«почти всегда» 4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лученные балы слож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ff0000"/>
                </a:solidFill>
                <a:uFillTx/>
                <a:latin typeface="Comic Sans MS"/>
              </a:rPr>
              <a:t>Проблем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Готов ли ребенок к новому этапу своей жизни: к обучению в школе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но ли быть уверенным, чт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Читающ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названия всех контин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марки всех машин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1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 также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бенок должен понимать роль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дчиняться общим школьным требованиям и требованиям учит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7842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бенок должен уметь сосредотачиваться на достаточно продолжительное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держивать внимание, не отвлек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ть учителя, уметь высидеть целы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аходить общий язык с однокласс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Только в этом случае можно говорить о готовности будущего ребенка к школ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Адаптация» -термин ввел А.Уберт (немецкий психолог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da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р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atio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» - прилаживание, приспособление, приноро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1</cp:lastModifiedBy>
  <dcterms:modified xsi:type="dcterms:W3CDTF">2015-10-06T11:41:32Z</dcterms:modified>
  <cp:revision>38</cp:revision>
  <dc:subject/>
  <dc:title>Слайд 1</dc:title>
</cp:coreProperties>
</file>