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B9D-2642-4CC7-9D97-A34F550DD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6B3-480B-476D-BA81-20DAF7AE0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187B-2D23-45A1-A3AA-E97E06B41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FA6-CE0D-4D31-B064-7DA7E98A2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E78-D8F4-47AE-91A1-C7F5885C0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5062-9911-4F7C-A952-B53B94393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5769-0C6E-4F2E-99AD-F000E91C6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B80-D121-4406-9FFC-67F3DD811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28C-1540-46AD-A864-F65A1CBC0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AF4-D34D-4FD9-A80F-E485441A3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C178-D560-4DAF-AEF6-CB21DC5D6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6F0-C9F3-4D8F-A072-6DFE74BBB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6F19-14AE-44CD-AEF7-E5B796879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0E41-C442-4217-881F-BCBFCD11D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2733-A1A4-4DCE-8BC0-8FD764D84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4BE3-C122-415C-91F3-00428F440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96F-3DFD-434C-8927-D072C54C7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C6C-13A1-4478-88A1-8C04F69DB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10D-3E20-4EE3-8383-544E5EA62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382-9645-4125-B6C9-FF096B4E9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7598-BC31-4D5A-B7E2-E859D5A29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7A41-2104-4B56-B0A2-CEBF18DE8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611-60A2-470D-8D05-7D172D59F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7E7-5AC2-4DDA-835F-D44DF2B5F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EA3D-4F51-4FB1-99E0-BF18EC040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A21-238E-4D6F-9745-43DA6CED0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DF3-C220-420B-A2FB-532106D71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567-DBB3-4F03-B63B-0092324E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8F9-0408-45B1-A459-867A10A3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506-F853-45F1-B363-8A844EB3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043-3F91-4AA1-91CA-BED300EC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7C06-1F96-4477-B4D6-7979D203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BE5F-0090-451D-A98B-8D0FE35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C79-63B0-4066-A376-C7450B5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15F2-A66D-4386-8567-BC7B0C4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7E69-14E0-421D-9FE8-70E7F0B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C9D-B74B-40F9-BF9C-2E3F2B5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066-C42F-4BE2-86A6-E20766E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8D3-93D7-43C5-AE14-566A009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EE32-8185-4B61-B533-A802EDB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FCA-DB69-490D-8F76-5E53BB62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B7E6-F31E-4D39-9D60-82F2E85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31C-F448-4E10-812B-A65ABE4B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7643-16FD-41AD-BF55-362E815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2E-6FBB-482C-BBFD-F1A46DF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8FE-EF18-43ED-A18E-D0FB1F93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9EB-6540-4171-9143-7C9EE2C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AB2-31AF-49CB-A0D0-145379E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A1C-4E38-4956-B8B8-8DBDC9C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C68-B433-484E-B129-F507A2AA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A52-858D-40AB-8B16-45D5371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5F2-BAF7-4032-B068-4030DC466C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056F-C822-4DE9-9FEA-27D491220D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-396720" y="2357280"/>
            <a:ext cx="9111960" cy="378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9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ой должна быть подготовка к шко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овременные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требования совершенно другие, чем несколько лет наза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То, что раньше изучали в 1 классе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егодня надо уметь еще до школы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– читать, писать, считать, отвечать на умны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Подготовка должна быть рассчитана именно на вашего ребенка, учитывать индивидуальные особенности его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-541440" y="2924280"/>
            <a:ext cx="395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Желательна консультация специали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116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403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985000" y="2852640"/>
            <a:ext cx="31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 любых занятиях избегайт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ерегруз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843280" y="2852640"/>
            <a:ext cx="337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нятия дома должны быть систематически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(не более 30 мину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 flipH="1">
            <a:off x="1763280" y="2349360"/>
            <a:ext cx="86364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4284720" y="2349360"/>
            <a:ext cx="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6227640" y="2349360"/>
            <a:ext cx="115272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веты родителям от психолога Джеральдина Чейп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сердечко"/>
          <p:cNvPicPr/>
          <p:nvPr/>
        </p:nvPicPr>
        <p:blipFill>
          <a:blip r:embed="rId1"/>
          <a:stretch/>
        </p:blipFill>
        <p:spPr>
          <a:xfrm>
            <a:off x="32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сердечко"/>
          <p:cNvPicPr/>
          <p:nvPr/>
        </p:nvPicPr>
        <p:blipFill>
          <a:blip r:embed="rId2"/>
          <a:stretch/>
        </p:blipFill>
        <p:spPr>
          <a:xfrm>
            <a:off x="7740720" y="2205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сердечко"/>
          <p:cNvPicPr/>
          <p:nvPr/>
        </p:nvPicPr>
        <p:blipFill>
          <a:blip r:embed="rId3"/>
          <a:stretch/>
        </p:blipFill>
        <p:spPr>
          <a:xfrm>
            <a:off x="197964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сердечко"/>
          <p:cNvPicPr/>
          <p:nvPr/>
        </p:nvPicPr>
        <p:blipFill>
          <a:blip r:embed="rId4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"/>
          <p:cNvPicPr/>
          <p:nvPr/>
        </p:nvPicPr>
        <p:blipFill>
          <a:blip r:embed="rId5"/>
          <a:stretch/>
        </p:blipFill>
        <p:spPr>
          <a:xfrm>
            <a:off x="0" y="2060640"/>
            <a:ext cx="1263600" cy="1341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ни помогут наладить и сохранить добрые отношения с вашим ребенком, быть с ним настоящими друзь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елать или не дел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л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дуйтесь своему малыш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зговаривайте с ребенком заботливым, успокаивающим, ободряющим тон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Когда ребенок с вами разговаривает, слушайте его сочувственно и вниматель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становите четкие и жесткие требования к ребе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терпелив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в ребенке стремление задавать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купитесь на награду: похвалу или поцелу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любопытство и воображение вашего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игры с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918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йтесь, чтобы малыш принимал участие в ваших делах: готовил обед, пересаживал цветы и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могите ребенку выучить его полное имя, фамилию, адр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гулярно водите ребенка в библиоте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Не делайт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бивайте ребенка, не говорите, что вы все поняли, не отворачивайтесь, пока ребенок не закончит свой расск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ринуждайте ребенка делать то, к чему он не го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заставляйте ребенка делать что-нибудь, если он вертится, устал; займитесь чем – то друг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 не критикуйте ребенка в присутствии посторонни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надо устанавливать для ребенка слишком много правил: он перестанет обращать на вас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старайтесь, доставляя ребенку слишком много стимулов или впечатл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равнивайте вашего ребенка ни с какими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 rot="19929000">
            <a:off x="477720" y="-1146240"/>
            <a:ext cx="7962840" cy="895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будильник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«почти всегда» 4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лученные балы слож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00"/>
                </a:solidFill>
                <a:uFillTx/>
                <a:latin typeface="Comic Sans MS"/>
              </a:rPr>
              <a:t>Проблем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Готов ли ребенок к новому этапу своей жизни: к обучению в школ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 также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бенок должен понимать роль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дчиняться общим школьным требованиям и требованиям учи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2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бенок должен уметь сосредотачиваться на достаточно продолжительное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держивать внимание, не отвлек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ть учителя, уметь высидеть целы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ходить общий язык с однокласс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Только в этом случае можно говорить о готовности будущего ребенка к школ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Адаптация» -термин ввел А.Уберт (немецкий психолог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da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р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atio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» - прилаживание, приспособление, приноро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1</cp:lastModifiedBy>
  <dcterms:modified xsi:type="dcterms:W3CDTF">2015-10-06T11:41:32Z</dcterms:modified>
  <cp:revision>38</cp:revision>
  <dc:subject/>
  <dc:title>Слайд 1</dc:title>
</cp:coreProperties>
</file>