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2811-46D8-4327-B940-96ED758B5D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68F8-A902-47AB-BA65-08DB900F9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3B38-38BC-4BAC-8BA1-E8E476DE2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EF95-0F8E-46A9-92C5-1298E914F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36E0-1FA5-4D28-AD6B-C7A0050F8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200-6E6A-493C-B1F9-B69691491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F83F-3C06-4C5A-B2EE-1B1ECB87E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AED1-9368-416D-976E-440A07029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5581-B4A8-4CBC-BAA6-DCB45D75E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7924-227D-42A7-94D2-CA44A7AEF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A2F0-2C82-4363-9551-ED5A7D8AA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AF71-10F0-4003-9922-84A008CAD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CA45-300E-4971-B679-62ED76EB1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EBAD-DEA8-4065-99DC-AEAB5A402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879F-AAFD-4724-AC8C-246F70878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AACA-E2B7-4BA9-807F-FAA78482E7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120E-8FFC-418C-8223-1DEA86E10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F99A-575F-4B19-B6D1-C8DE696E8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00CA-9BD5-495B-8FBE-605FCBC1A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1961-0653-4684-ACC9-8A1E40E3C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68A4-B257-4577-BFAE-43207D4BD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A9A9-5185-437C-84D4-01B6DBF82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1C24-2BA6-4AE4-A5C6-D4A1324A8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F725-D730-42C2-A847-A922DB4B6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8558-1773-42BB-8172-87AE7AFD5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7917-4360-46FF-8E21-F1FAB6C869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F44B-DCA5-48D7-8703-954BECF4E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BFF-CC7F-4C1E-BE0E-5D39BE58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C79-2581-491E-A583-8E5C34F9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E1C-B034-400D-8FDF-432924F9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5AD-4526-46E3-B0D0-3B54CEDB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85BE-BD7A-4300-8698-698A0953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8E71-ED8A-4BB6-BE98-FC3C519A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8BF6-76CB-4E55-907D-64F657D2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2D44-6DC5-475E-8E4A-0B08003B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6920-95BA-410C-996B-6BD5137D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1113-8476-41F6-AE2B-1AA646C1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2A14-A3F0-4C1A-BBE1-038F746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7A3-AACC-4441-BD36-52E0C863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2872-B31E-4DDB-BE2B-493A54F2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9742-E90B-42E2-A162-1575A13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7D1E-51F4-4CD8-AA0B-15A9638B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81F6-309A-4BC5-83BB-08F77398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FFCA-DF41-4D25-A99E-B86D8B2B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E9D-60C1-43AA-A5EA-5DDFDDDB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127-551D-4A7C-B5ED-1EFA7BD8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8AF-5778-4DDC-BC90-E1004B80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99E-2A42-4B5B-8D64-AD341899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E95-1E50-49F7-BF6E-319CEC0C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41A-8DF5-4C13-8DDE-E6B8EB0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73A-FA71-45A4-9730-C2B0E513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D37B-6E7A-4755-8EFF-0CF4402CBC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B83D-B5C5-4C33-9437-5860475E8C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-396720" y="2357280"/>
            <a:ext cx="9111960" cy="378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Cко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в школу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59" name="Picture 5" descr="доска"/>
          <p:cNvPicPr/>
          <p:nvPr/>
        </p:nvPicPr>
        <p:blipFill>
          <a:blip r:embed="rId1"/>
          <a:stretch/>
        </p:blipFill>
        <p:spPr>
          <a:xfrm flipH="1">
            <a:off x="5867280" y="260280"/>
            <a:ext cx="308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Какой должна быть подготовка к школ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342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Современные</a:t>
            </a: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требования совершенно другие, чем несколько лет наза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То, что раньше изучали в 1 классе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сегодня надо уметь еще до школы</a:t>
            </a: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– читать, писать, считать, отвечать на умные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Подготовка должна быть рассчитана именно на вашего ребенка, учитывать индивидуальные особенности его разви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-541440" y="2924280"/>
            <a:ext cx="3959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Желательна консультация специали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11600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403280" y="98100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5985000" y="2852640"/>
            <a:ext cx="315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и любых занятиях избегайт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ерегруз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2843280" y="2852640"/>
            <a:ext cx="3375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нятия дома должны быть систематически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(не более 30 минут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9"/>
          <p:cNvSpPr/>
          <p:nvPr/>
        </p:nvSpPr>
        <p:spPr>
          <a:xfrm flipH="1">
            <a:off x="1763280" y="2349360"/>
            <a:ext cx="863640" cy="64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4284720" y="2349360"/>
            <a:ext cx="0" cy="5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6227640" y="2349360"/>
            <a:ext cx="1152720" cy="5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33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веты родителям от психолога Джеральдина Чейпи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сердечко"/>
          <p:cNvPicPr/>
          <p:nvPr/>
        </p:nvPicPr>
        <p:blipFill>
          <a:blip r:embed="rId1"/>
          <a:stretch/>
        </p:blipFill>
        <p:spPr>
          <a:xfrm>
            <a:off x="324000" y="1125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сердечко"/>
          <p:cNvPicPr/>
          <p:nvPr/>
        </p:nvPicPr>
        <p:blipFill>
          <a:blip r:embed="rId2"/>
          <a:stretch/>
        </p:blipFill>
        <p:spPr>
          <a:xfrm>
            <a:off x="7740720" y="22050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сердечко"/>
          <p:cNvPicPr/>
          <p:nvPr/>
        </p:nvPicPr>
        <p:blipFill>
          <a:blip r:embed="rId3"/>
          <a:stretch/>
        </p:blipFill>
        <p:spPr>
          <a:xfrm>
            <a:off x="1979640" y="57340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сердечко"/>
          <p:cNvPicPr/>
          <p:nvPr/>
        </p:nvPicPr>
        <p:blipFill>
          <a:blip r:embed="rId4"/>
          <a:stretch/>
        </p:blipFill>
        <p:spPr>
          <a:xfrm>
            <a:off x="7667640" y="5589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1"/>
          <p:cNvPicPr/>
          <p:nvPr/>
        </p:nvPicPr>
        <p:blipFill>
          <a:blip r:embed="rId5"/>
          <a:stretch/>
        </p:blipFill>
        <p:spPr>
          <a:xfrm>
            <a:off x="0" y="2060640"/>
            <a:ext cx="1263600" cy="13413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/>
          <p:cNvSpPr/>
          <p:nvPr/>
        </p:nvSpPr>
        <p:spPr>
          <a:xfrm>
            <a:off x="1835280" y="1916280"/>
            <a:ext cx="6265800" cy="4681440"/>
          </a:xfrm>
          <a:prstGeom prst="cloudCallout">
            <a:avLst>
              <a:gd name="adj1" fmla="val -58055"/>
              <a:gd name="adj2" fmla="val -230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ни помогут наладить и сохранить добрые отношения с вашим ребенком, быть с ним настоящими друзь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Делать или не делать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елай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адуйтесь своему малыш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азговаривайте с ребенком заботливым, успокаивающим, ободряющим тон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Когда ребенок с вами разговаривает, слушайте его сочувственно и вниматель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696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Установите четкие и жесткие требования к ребен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Будьте терпелив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в ребенке стремление задавать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скупитесь на награду: похвалу или поцелу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любопытство и воображение вашего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игры с другими деть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918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йтесь, чтобы малыш принимал участие в ваших делах: готовил обед, пересаживал цветы и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могите ребенку выучить его полное имя, фамилию, адре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егулярно водите ребенка в библиоте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Будьте примером для малыша: пусть он видит, какое удовольствие вы получаете от чтения газет, журналов, книг. Играйте с ребенком в разны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Не делайт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еребивайте ребенка, не говорите, что вы все поняли, не отворачивайтесь, пока ребенок не закончит свой расск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ринуждайте ребенка делать то, к чему он не го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заставляйте ребенка делать что-нибудь, если он вертится, устал; займитесь чем – то други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требуйте сразу слишком много: пройдет немало времени, прежде чем малыш приучится самостоятельно убирать свои игрушки или приводить в порядок комна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икогда не критикуйте ребенка в присутствии посторонни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надо устанавливать для ребенка слишком много правил: он перестанет обращать на вас вним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ерестарайтесь, доставляя ребенку слишком много стимулов или впечатл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сравнивайте вашего ребенка ни с какими другими деть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 теперь проверьте себ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ест  для родит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Выберите один из трех ответов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чти всегд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ногд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иког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4"/>
          <p:cNvSpPr/>
          <p:nvPr/>
        </p:nvSpPr>
        <p:spPr>
          <a:xfrm rot="19929000">
            <a:off x="477720" y="-1146240"/>
            <a:ext cx="7962840" cy="895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венит звонок нам десять лет подря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го услышав, люди улыбаютс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 расцветают лица у ребя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ишла пора - уроки начинаю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4897440" cy="2001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будильник"/>
          <p:cNvPicPr/>
          <p:nvPr/>
        </p:nvPicPr>
        <p:blipFill>
          <a:blip r:embed="rId2"/>
          <a:stretch/>
        </p:blipFill>
        <p:spPr>
          <a:xfrm>
            <a:off x="2195640" y="189000"/>
            <a:ext cx="1593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равится ли вам ваш малыш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ушаете ли вы, что ребенок говор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создать у ребенка ощущение значимости того, что он говор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правляете ли вы речь ребен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зволяете ли вы ребенку совершать ошиб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691920"/>
            <a:ext cx="8134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Хвалите ли вы малыша, обнимаете ли ег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меетесь ли вместе с малыш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тводите ли вы каждый время для чтения ребенку и для бесед с ни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граете ли вы с малышом в какие – либо игр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ете ли вы ребенка в его интересах и увлечения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9185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дома месть, которое отведено только 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подать ребенку пример, читая газеты, журналы и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бсуждаете ли вы что-нибудь интересное из прочитанного вами с семьей и с ребен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сказать все за малыша, прежде чем он успеет раскрыть рот: у зубного врача или в магазин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4759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мотрите ли вы телевизор вместе с ребен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даете ли вы малышу вопросы о просмотренном по телевизор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граничиваете ли вы возможность ребенка смотреть телевизор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возможность проявлять свои эмоции в рамках общепринятого поведения («возиться» в играх, обнимать, тискать мягкие игрушки и т.п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выезжать с ребенком на прогулки в лес, на озеро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Ходите ли вы вместе с ребенком в музей, театр и т.д.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собственные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Подсчет балл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 каждый отв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«почти всегда» 4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бал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«иногда» - 2 бал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«никогда»  - 0 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Полученные балы сложи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9898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люч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88 баллов – здорово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44 балла – неплох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Меньше 22 баллов – стоит задума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ff0000"/>
                </a:solidFill>
                <a:uFillTx/>
                <a:latin typeface="Comic Sans MS"/>
              </a:rPr>
              <a:t>Проблем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Comic Sans MS"/>
              </a:rPr>
              <a:t>Готов ли ребенок к новому этапу своей жизни: к обучению в школе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4"/>
          <p:cNvSpPr/>
          <p:nvPr/>
        </p:nvSpPr>
        <p:spPr>
          <a:xfrm rot="10800000">
            <a:off x="394920" y="1483560"/>
            <a:ext cx="8280360" cy="3529080"/>
          </a:xfrm>
          <a:prstGeom prst="upArrowCallout">
            <a:avLst>
              <a:gd name="adj1" fmla="val -50878"/>
              <a:gd name="adj2" fmla="val 58658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072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жно ли быть уверенным, чт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Читающ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нающий названия всех контин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нающий марки всех машин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ученик"/>
          <p:cNvPicPr/>
          <p:nvPr/>
        </p:nvPicPr>
        <p:blipFill>
          <a:blip r:embed="rId1"/>
          <a:stretch/>
        </p:blipFill>
        <p:spPr>
          <a:xfrm flipH="1">
            <a:off x="6948000" y="3933720"/>
            <a:ext cx="1003320" cy="1728720"/>
          </a:xfrm>
          <a:prstGeom prst="rect">
            <a:avLst/>
          </a:prstGeom>
          <a:ln w="0">
            <a:noFill/>
          </a:ln>
        </p:spPr>
      </p:pic>
      <p:sp>
        <p:nvSpPr>
          <p:cNvPr id="171" name="WordArt 6"/>
          <p:cNvSpPr txBox="1"/>
          <p:nvPr/>
        </p:nvSpPr>
        <p:spPr>
          <a:xfrm>
            <a:off x="1908000" y="537372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Успешный уче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411280" y="2708280"/>
            <a:ext cx="489744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ЕТ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91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пехи в учебе завися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и умения учи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Умения видеть связь явлений, закономер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разобраться, понять, почему, как, отчего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 также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Ребенок должен понимать роль учен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Подчиняться общим школьным требованиям и требованиям учител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78422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ебенок должен уметь сосредотачиваться на достаточно продолжительное 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Удерживать внимание, не отвлека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ушать учителя, уметь высидеть целый ур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аходить общий язык с одноклассник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f66"/>
                </a:solidFill>
                <a:latin typeface="Comic Sans MS"/>
              </a:rPr>
              <a:t>Только в этом случае можно говорить о готовности будущего ребенка к школ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«Адаптация» -термин ввел А.Уберт (немецкий психолог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«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da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р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tatio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» - прилаживание, приспособление, приноров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2:19:56Z</dcterms:created>
  <dc:creator>OEM</dc:creator>
  <dc:description/>
  <dc:language>en-US</dc:language>
  <cp:lastModifiedBy>1</cp:lastModifiedBy>
  <dcterms:modified xsi:type="dcterms:W3CDTF">2015-10-06T11:41:32Z</dcterms:modified>
  <cp:revision>38</cp:revision>
  <dc:subject/>
  <dc:title>Слайд 1</dc:title>
</cp:coreProperties>
</file>