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EFC-BE1C-4CDC-90B4-58219F78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5FC-DE78-402C-995A-6AB30BD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872-DCBF-44DF-8545-717ABB42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84D-A51A-49B2-90A8-7BE0488C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06C-4D2F-4EC9-937B-B72649DE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956-A5D4-4BB2-B33B-9906AD7E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B1D-984B-43FD-8B42-A86A81C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F5D-D3E8-4B61-95F6-FA94A4B6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228-3AF5-4A31-94E2-918F01A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F9E-1515-4001-AEB9-9D06F33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0F9-EFA2-4E56-9B3C-CC69CC7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CE5-F182-4925-B188-DF3B172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E1B-E046-4C48-B8B8-7055564D6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fodoz.ru/15-sposobov-povysit-aktivnost-vashego-mozga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981000"/>
            <a:ext cx="88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Nd9GcQc9noLNoXjKWtUCV79yA3GC891ASV4S8DHtQC_yRioXZKuOiIeDg"/>
          <p:cNvPicPr/>
          <p:nvPr/>
        </p:nvPicPr>
        <p:blipFill>
          <a:blip r:embed="rId1"/>
          <a:stretch/>
        </p:blipFill>
        <p:spPr>
          <a:xfrm>
            <a:off x="2857680" y="3357720"/>
            <a:ext cx="374328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2286000" y="9288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сихологические возрастные особен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9280" y="1507320"/>
            <a:ext cx="6048360" cy="45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Потреблять больше рыб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о так же поможет в преодолении и в профилактике легкой депрессии.  Это имее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важное значение для нормального функционирования моз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tunec-solenyj"/>
          <p:cNvPicPr/>
          <p:nvPr/>
        </p:nvPicPr>
        <p:blipFill>
          <a:blip r:embed="rId2"/>
          <a:stretch/>
        </p:blipFill>
        <p:spPr>
          <a:xfrm>
            <a:off x="6516720" y="3860640"/>
            <a:ext cx="24843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50920" y="1558080"/>
            <a:ext cx="5832360" cy="31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73da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da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сравнивайте</a:t>
            </a:r>
            <a:r>
              <a:rPr b="0" lang="ru-RU" sz="2800" spc="-1" strike="noStrike">
                <a:solidFill>
                  <a:srgbClr val="073da9"/>
                </a:solidFill>
                <a:latin typeface="Times New Roman"/>
              </a:rPr>
              <a:t> подростка с другими одноклассниками. У них возникает в таком случа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нутренний протест,</a:t>
            </a:r>
            <a:r>
              <a:rPr b="0" lang="ru-RU" sz="2800" spc="-1" strike="noStrike">
                <a:solidFill>
                  <a:srgbClr val="073da9"/>
                </a:solidFill>
                <a:latin typeface="Times New Roman"/>
              </a:rPr>
              <a:t> иногда –агр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t5uKAYM_i7h65pdmEbRPw"/>
          <p:cNvPicPr/>
          <p:nvPr/>
        </p:nvPicPr>
        <p:blipFill>
          <a:blip r:embed="rId1"/>
          <a:stretch/>
        </p:blipFill>
        <p:spPr>
          <a:xfrm>
            <a:off x="6156360" y="4686480"/>
            <a:ext cx="27018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79280" y="1412640"/>
            <a:ext cx="6121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ращаясь к подростку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следует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спользовать вежливые просьбы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избегая приказов и прямых инстру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d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tarsheklassniki-2"/>
          <p:cNvPicPr/>
          <p:nvPr/>
        </p:nvPicPr>
        <p:blipFill>
          <a:blip r:embed="rId1"/>
          <a:stretch/>
        </p:blipFill>
        <p:spPr>
          <a:xfrm>
            <a:off x="6012000" y="4653000"/>
            <a:ext cx="29653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184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773360"/>
            <a:ext cx="6121080" cy="21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случа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приятность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еобходим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бираться совместно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внимательно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выслушав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под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students2"/>
          <p:cNvPicPr/>
          <p:nvPr/>
        </p:nvPicPr>
        <p:blipFill>
          <a:blip r:embed="rId1"/>
          <a:stretch/>
        </p:blipFill>
        <p:spPr>
          <a:xfrm>
            <a:off x="5580000" y="4149720"/>
            <a:ext cx="31323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14240" y="184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5280" y="2117520"/>
            <a:ext cx="6121440" cy="20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Относиться к подростку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ужн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ак к взрослому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прислушиваться к его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promo-students"/>
          <p:cNvPicPr/>
          <p:nvPr/>
        </p:nvPicPr>
        <p:blipFill>
          <a:blip r:embed="rId1"/>
          <a:stretch/>
        </p:blipFill>
        <p:spPr>
          <a:xfrm>
            <a:off x="4643280" y="4797360"/>
            <a:ext cx="41767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39640" y="62064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Переход учащихся из 9 класса в 10-ый справедливо считается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ризисным периодом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31285902_68"/>
          <p:cNvPicPr/>
          <p:nvPr/>
        </p:nvPicPr>
        <p:blipFill>
          <a:blip r:embed="rId1"/>
          <a:stretch/>
        </p:blipFill>
        <p:spPr>
          <a:xfrm>
            <a:off x="1692360" y="256536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39640" y="620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ы 10 клас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24000" y="2133720"/>
            <a:ext cx="71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Для современного 10-го класса важной является пробл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Times New Roman"/>
              </a:rPr>
              <a:t>социально-психологической адаптации к новому коллективу</a:t>
            </a:r>
            <a:r>
              <a:rPr b="0" i="1" lang="ru-RU" sz="32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333104849_starsheklassniki"/>
          <p:cNvPicPr/>
          <p:nvPr/>
        </p:nvPicPr>
        <p:blipFill>
          <a:blip r:embed="rId1"/>
          <a:stretch/>
        </p:blipFill>
        <p:spPr>
          <a:xfrm>
            <a:off x="4716360" y="4221000"/>
            <a:ext cx="33894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39640" y="620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ы 10 класса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4000" y="1916280"/>
            <a:ext cx="60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Другая   проблема –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установка на продление моратория</a:t>
            </a:r>
            <a:r>
              <a:rPr b="0" i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пряженного 9 класса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многие юноши и девушки «расслабляются»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они как бы впадают в беззаботное дет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thumb-big-400x300-e427"/>
          <p:cNvPicPr/>
          <p:nvPr/>
        </p:nvPicPr>
        <p:blipFill>
          <a:blip r:embed="rId1"/>
          <a:stretch/>
        </p:blipFill>
        <p:spPr>
          <a:xfrm>
            <a:off x="6227640" y="4365720"/>
            <a:ext cx="2768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00080" y="916560"/>
            <a:ext cx="7215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 потребности дес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00000" y="2349360"/>
            <a:ext cx="516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. Самоутверждение среди сверстников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2. Самореализация в общении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. Развитие независимости и самостоятельности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ANd9GcQ1bpMFRYq9YQFfCkut3HBEoEPNcj7gUXPXCtUZSXstwjg5FPRubA"/>
          <p:cNvPicPr/>
          <p:nvPr/>
        </p:nvPicPr>
        <p:blipFill>
          <a:blip r:embed="rId1"/>
          <a:stretch/>
        </p:blipFill>
        <p:spPr>
          <a:xfrm>
            <a:off x="6012000" y="3284640"/>
            <a:ext cx="295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14240" y="6206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68360" y="620640"/>
            <a:ext cx="57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отребности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дес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5280" y="1630080"/>
            <a:ext cx="655308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Стремление к смене впечатлений и поиск острых ощущений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Самопознание, саморазвитие и самосовершенствование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Достижение личного благополучия и обретение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347208192_image20398835"/>
          <p:cNvPicPr/>
          <p:nvPr/>
        </p:nvPicPr>
        <p:blipFill>
          <a:blip r:embed="rId1"/>
          <a:stretch/>
        </p:blipFill>
        <p:spPr>
          <a:xfrm>
            <a:off x="6659640" y="5157720"/>
            <a:ext cx="22669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714240" y="289440"/>
            <a:ext cx="7786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пределение  уровня депрессии 10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971640" y="1268280"/>
          <a:ext cx="739116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39116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643040"/>
            <a:ext cx="6121440" cy="31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. Прогулки на свежем воздухе, </a:t>
            </a:r>
            <a:r>
              <a:rPr b="0" lang="ru-RU" sz="3600" spc="-1" strike="noStrike">
                <a:solidFill>
                  <a:srgbClr val="ff6600"/>
                </a:solidFill>
                <a:latin typeface="Times New Roman"/>
              </a:rPr>
              <a:t>физические нагрузки,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общение с близки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депрессия"/>
          <p:cNvPicPr/>
          <p:nvPr/>
        </p:nvPicPr>
        <p:blipFill>
          <a:blip r:embed="rId1"/>
          <a:stretch/>
        </p:blipFill>
        <p:spPr>
          <a:xfrm>
            <a:off x="5651640" y="4653000"/>
            <a:ext cx="3244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1837800"/>
            <a:ext cx="6121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х необходимый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серотонин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торый отвечает за регулирование настроения в мозге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изобилии содержи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пищевых продуктах, таких как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фрукты, овощи, цельные зерна и бобов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краска лицо подростки приколы"/>
          <p:cNvPicPr/>
          <p:nvPr/>
        </p:nvPicPr>
        <p:blipFill>
          <a:blip r:embed="rId1"/>
          <a:stretch/>
        </p:blipFill>
        <p:spPr>
          <a:xfrm>
            <a:off x="6372360" y="1341360"/>
            <a:ext cx="26175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User</cp:lastModifiedBy>
  <dcterms:modified xsi:type="dcterms:W3CDTF">2015-04-15T12:01:35Z</dcterms:modified>
  <cp:revision>175</cp:revision>
  <dc:subject/>
  <dc:title>Слайд 1</dc:title>
</cp:coreProperties>
</file>