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93B-6BBB-4CCC-98D5-2674BE31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544-450A-423F-8086-480A846F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962-F343-4417-AFD8-5CAFB6B8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1D8-ED23-432A-AD9C-0429E1C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CA6-6E76-4CB1-8D9B-FAA499EA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8D1-FE8C-4C17-ACFF-753754C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927-3D72-4557-9B31-DBF1095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0E5-A27D-4C96-A956-99BCB40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B0C-B1C2-43B1-A903-A6142E36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F96-CAF3-4DD7-8644-50E3C83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100-78FF-484B-8DC2-A3D7F9B9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C18-8CB7-4B18-8DFE-286A9D6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62F2-A7BC-4341-ADB8-33F7CB0BA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19051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Архе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3885840"/>
            <a:ext cx="44197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езен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ученика 5 «в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Лосенкова Арка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ё это является результатом трудовой деятельности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1430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7730"/>
                </a:solidFill>
                <a:latin typeface="Arial"/>
              </a:rPr>
              <a:t>Особое значение археология имеет для изучения эпох, когда </a:t>
            </a:r>
            <a:r>
              <a:rPr b="1" lang="ru-RU" sz="3600" spc="-1" strike="noStrike">
                <a:solidFill>
                  <a:srgbClr val="907730"/>
                </a:solidFill>
                <a:latin typeface="Arial"/>
              </a:rPr>
              <a:t>не существовало ещё письменности вообще</a:t>
            </a:r>
            <a:r>
              <a:rPr b="0" lang="ru-RU" sz="3600" spc="-1" strike="noStrike">
                <a:solidFill>
                  <a:srgbClr val="907730"/>
                </a:solidFill>
                <a:latin typeface="Arial"/>
              </a:rPr>
              <a:t>, или ис-тории тех народов, у которых письменности не было и в позднее историческое вре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7730"/>
                </a:solidFill>
                <a:latin typeface="Arial"/>
              </a:rPr>
              <a:t>Археология имеет значение </a:t>
            </a:r>
            <a:r>
              <a:rPr b="1" lang="ru-RU" sz="3200" spc="-1" strike="noStrike">
                <a:solidFill>
                  <a:srgbClr val="907730"/>
                </a:solidFill>
                <a:latin typeface="Arial"/>
              </a:rPr>
              <a:t>и для эпох, когда существовала письмен-ность</a:t>
            </a:r>
            <a:r>
              <a:rPr b="0" lang="ru-RU" sz="3200" spc="-1" strike="noStrike">
                <a:solidFill>
                  <a:srgbClr val="907730"/>
                </a:solidFill>
                <a:latin typeface="Arial"/>
              </a:rPr>
              <a:t>, так как сведения, почерпнутые из исследования вещественных источников, дополняют данные письме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990720"/>
            <a:ext cx="73911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пециалисты-археологи иссле-дуют находки и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осстанавли-вают по этим данным исто-рическое прошлое человечест-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В первых неолитических деревнях никто не жил - Мировые новости на a42.ru"/>
          <p:cNvPicPr/>
          <p:nvPr/>
        </p:nvPicPr>
        <p:blipFill>
          <a:blip r:embed="rId1"/>
          <a:stretch/>
        </p:blipFill>
        <p:spPr>
          <a:xfrm>
            <a:off x="2514600" y="3276720"/>
            <a:ext cx="4876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рхе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437920"/>
            <a:ext cx="4038480" cy="16002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архе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рев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2437920"/>
            <a:ext cx="4038480" cy="16002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лог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лово», «нау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7"/>
          <p:cNvCxnSpPr>
            <a:stCxn id="43" idx="2"/>
          </p:cNvCxnSpPr>
          <p:nvPr/>
        </p:nvCxnSpPr>
        <p:spPr>
          <a:xfrm flipH="1">
            <a:off x="3504600" y="1417680"/>
            <a:ext cx="1067400" cy="86904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>
            <a:stCxn id="43" idx="2"/>
          </p:cNvCxnSpPr>
          <p:nvPr/>
        </p:nvCxnSpPr>
        <p:spPr>
          <a:xfrm>
            <a:off x="4570920" y="1417680"/>
            <a:ext cx="1067400" cy="86904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рхе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ука, изучающая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о ве-щественным источникам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сторическое прошлое человечест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ещественные источни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то орудия производства и созданные с их помощью материальные бла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590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остро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Укра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о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ФОРУМ :: Версия для печати :: Исторические факты, сказки, предания"/>
          <p:cNvPicPr/>
          <p:nvPr/>
        </p:nvPicPr>
        <p:blipFill>
          <a:blip r:embed="rId1"/>
          <a:stretch/>
        </p:blipFill>
        <p:spPr>
          <a:xfrm>
            <a:off x="1447920" y="2666880"/>
            <a:ext cx="1295280" cy="186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От камня до железа."/>
          <p:cNvPicPr/>
          <p:nvPr/>
        </p:nvPicPr>
        <p:blipFill>
          <a:blip r:embed="rId2"/>
          <a:stretch/>
        </p:blipFill>
        <p:spPr>
          <a:xfrm>
            <a:off x="6324480" y="297180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построй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Находка Трои"/>
          <p:cNvPicPr/>
          <p:nvPr/>
        </p:nvPicPr>
        <p:blipFill>
          <a:blip r:embed="rId1"/>
          <a:stretch/>
        </p:blipFill>
        <p:spPr>
          <a:xfrm>
            <a:off x="2209680" y="198108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оруж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В Витебске найдена коллекция старинного оружия - Журнал о кладоискательстве и археологии - www.feetgroup.ru"/>
          <p:cNvPicPr/>
          <p:nvPr/>
        </p:nvPicPr>
        <p:blipFill>
          <a:blip r:embed="rId1"/>
          <a:stretch/>
        </p:blipFill>
        <p:spPr>
          <a:xfrm>
            <a:off x="609480" y="2209680"/>
            <a:ext cx="4038840" cy="312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Археологические находки в Нагорном Карабахе Интересный Мир: путешествия, туризм, психология, наука, техника, интересное в мире,"/>
          <p:cNvPicPr/>
          <p:nvPr/>
        </p:nvPicPr>
        <p:blipFill>
          <a:blip r:embed="rId2"/>
          <a:stretch/>
        </p:blipFill>
        <p:spPr>
          <a:xfrm>
            <a:off x="4724280" y="2209680"/>
            <a:ext cx="36576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укра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im2-tub-ru.yandex.net/i?id=e023c38cf5d57438ac517caaa837d087-53-144&amp;n=21"/>
          <p:cNvPicPr/>
          <p:nvPr/>
        </p:nvPicPr>
        <p:blipFill>
          <a:blip r:embed="rId1"/>
          <a:stretch/>
        </p:blipFill>
        <p:spPr>
          <a:xfrm>
            <a:off x="685800" y="182880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В Перу найдено королевское захоронение доинкских времён - Интересная история"/>
          <p:cNvPicPr/>
          <p:nvPr/>
        </p:nvPicPr>
        <p:blipFill>
          <a:blip r:embed="rId2"/>
          <a:stretch/>
        </p:blipFill>
        <p:spPr>
          <a:xfrm>
            <a:off x="5105520" y="1828800"/>
            <a:ext cx="35431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Главная rusvik.net"/>
          <p:cNvPicPr/>
          <p:nvPr/>
        </p:nvPicPr>
        <p:blipFill>
          <a:blip r:embed="rId3"/>
          <a:stretch/>
        </p:blipFill>
        <p:spPr>
          <a:xfrm>
            <a:off x="3276720" y="4133880"/>
            <a:ext cx="3047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посу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Архивы Новосибирская область &quot; Страница 161 из 161 &quot; Лента региональных новостей: Сибирь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403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Находки археологов украсят метро в Салониках БипланТур Курск"/>
          <p:cNvPicPr/>
          <p:nvPr/>
        </p:nvPicPr>
        <p:blipFill>
          <a:blip r:embed="rId2"/>
          <a:stretch/>
        </p:blipFill>
        <p:spPr>
          <a:xfrm>
            <a:off x="685800" y="1849320"/>
            <a:ext cx="40766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произведения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Лето Олеандра и Кипрея - Путешествия : Петербург. Где остана…"/>
          <p:cNvPicPr/>
          <p:nvPr/>
        </p:nvPicPr>
        <p:blipFill>
          <a:blip r:embed="rId1"/>
          <a:stretch/>
        </p:blipFill>
        <p:spPr>
          <a:xfrm>
            <a:off x="4572000" y="1981080"/>
            <a:ext cx="3716280" cy="3886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Сарматы: новые находки - Форум"/>
          <p:cNvPicPr/>
          <p:nvPr/>
        </p:nvPicPr>
        <p:blipFill>
          <a:blip r:embed="rId2"/>
          <a:stretch/>
        </p:blipFill>
        <p:spPr>
          <a:xfrm>
            <a:off x="457200" y="1981080"/>
            <a:ext cx="38862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СВЕТЛАНА</cp:lastModifiedBy>
  <dcterms:modified xsi:type="dcterms:W3CDTF">2014-09-05T19:18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