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B42-BFB4-4965-970F-B70B479DF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C23-1F5F-4CDE-8551-3E9BB0EF6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рюгина Т.В. (45 ми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D0D-4BD2-4987-A03C-823CC33C0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A05-9621-41E5-A247-EA20B5D4D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main_logo"/>
          <p:cNvPicPr/>
          <p:nvPr/>
        </p:nvPicPr>
        <p:blipFill>
          <a:blip r:embed="rId2"/>
          <a:stretch/>
        </p:blipFill>
        <p:spPr>
          <a:xfrm>
            <a:off x="304920" y="3049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1143000" y="533520"/>
            <a:ext cx="205740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200400" y="533520"/>
            <a:ext cx="556272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256560" y="623880"/>
            <a:ext cx="51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Центральный банк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380880" y="6629400"/>
            <a:ext cx="84582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3516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uctural units of the Central Bank of the Russian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571920" y="5357880"/>
            <a:ext cx="53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тудента  ОУ СПО «КБШ (к) ЦБ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алова Бул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одаватель: Ильяненко И.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9213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retariat of the Chairman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unit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bined Economic Depart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cash circu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National Payment 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Accounting and Repor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Licensing and Financial Recovery of Credit Instit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ntral Catalogue of Credit Histori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Banking Supervi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Banking Regu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versight of systemically important credit instit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Home Inspection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Peacekeeping Operations in financial mar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security and monitoring operations in the financial mar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Financial St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Department of Financial Monitoring and Currency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22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2080" y="1413000"/>
            <a:ext cx="879156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moneta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Development of Financial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dmission to the financial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suranc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collective investment and trus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securities market and produc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Directorate of the microfinance market and methodology affor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Directorate for Countering Unfair practices of behavior in the open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gal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field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formation and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personnel policy and work with the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partment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ternal Audit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ternational Cooperation and Public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0800" y="1844640"/>
            <a:ext cx="8862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 Press Service of the Bank of Russ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 Administrative Depart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. General Directorate of Real Estate Bank of Russ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. General Directorate of expertise and capital planning Bank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. General Directorate of Security and data pro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. Department of collection and processing of non-credit reporting financial institu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 Service Bank of Russia to protect the rights of consumers of financial services and the minority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755640" y="1197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ined Economic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Схема 2" descr=""/>
          <p:cNvPicPr/>
          <p:nvPr/>
        </p:nvPicPr>
        <p:blipFill>
          <a:blip r:embed="rId1"/>
          <a:stretch/>
        </p:blipFill>
        <p:spPr>
          <a:xfrm>
            <a:off x="109440" y="1785960"/>
            <a:ext cx="89424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438120" y="1085760"/>
            <a:ext cx="8510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cas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165240" y="1523880"/>
            <a:ext cx="89913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68580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National Pay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Схема 3" descr=""/>
          <p:cNvPicPr/>
          <p:nvPr/>
        </p:nvPicPr>
        <p:blipFill>
          <a:blip r:embed="rId1"/>
          <a:stretch/>
        </p:blipFill>
        <p:spPr>
          <a:xfrm>
            <a:off x="-30240" y="1768320"/>
            <a:ext cx="9186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141720"/>
            <a:ext cx="822960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75500"/>
                </a:solidFill>
                <a:latin typeface="Times New Roman"/>
              </a:rPr>
              <a:t>Thank you for watch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00:41Z</dcterms:created>
  <dc:creator>HPCompaq7600;Булат Айратович Камалов</dc:creator>
  <dc:description/>
  <dc:language>en-US</dc:language>
  <cp:lastModifiedBy>Ирина</cp:lastModifiedBy>
  <dcterms:modified xsi:type="dcterms:W3CDTF">2015-10-16T13:07:49Z</dcterms:modified>
  <cp:revision>111</cp:revision>
  <dc:subject/>
  <dc:title>Слайд 1</dc:title>
</cp:coreProperties>
</file>