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9C02-4927-4993-ADE3-B3EF9097C3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B517-3DDA-422B-B01E-104C7F1686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рюгина Т.В. (45 мин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ECB9-FEFF-486A-98AF-31415F0941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3E50-C0B7-48AF-B360-D7122C6C0B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41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1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1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41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41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41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41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41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1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41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3" descr="main_logo"/>
          <p:cNvPicPr/>
          <p:nvPr/>
        </p:nvPicPr>
        <p:blipFill>
          <a:blip r:embed="rId2"/>
          <a:stretch/>
        </p:blipFill>
        <p:spPr>
          <a:xfrm>
            <a:off x="304920" y="3049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4"/>
          <p:cNvSpPr/>
          <p:nvPr/>
        </p:nvSpPr>
        <p:spPr>
          <a:xfrm>
            <a:off x="1143000" y="533520"/>
            <a:ext cx="2057400" cy="53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3200400" y="533520"/>
            <a:ext cx="5562720" cy="53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3256560" y="623880"/>
            <a:ext cx="515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Центральный банк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380880" y="6629400"/>
            <a:ext cx="84582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1268280"/>
            <a:ext cx="835164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tructural units of the Central Bank of the Russian Fede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3571920" y="5357880"/>
            <a:ext cx="53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 студента  ОУ СПО «КБШ (к) ЦБ РФ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малова Бул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подаватель: Ильяненко И.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al subdiv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92138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retariat of the Chairman of Bank of Russ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e unit of Bank of Russ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mbined Economic Departm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partment of Statistic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partment of cash circul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partment of National Payment Sys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partment of Accounting and Report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partment of Licensing and Financial Recovery of Credit Institu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entral Catalogue of Credit Historie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partment of Banking Supervis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partment of Banking Regul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partment oversight of systemically important credit institu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Home Inspection of Bank of Russ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partment of Peacekeeping Operations in financial marke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partment of security and monitoring operations in the financial marke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partment of Financial Stab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e Department of Financial Monitoring and Currency Contro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3240" y="22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al subdiv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2080" y="1413000"/>
            <a:ext cx="8791560" cy="55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monetary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Development of Financial Mar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admission to the financial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Insurance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collective investment and trust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securities market and product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Directorate of the microfinance market and methodology afford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Directorate for Countering Unfair practices of behavior in the open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gal De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field off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Information and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personnel policy and work with the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epartment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Internal Audit De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International Cooperation and Public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0800" y="1844640"/>
            <a:ext cx="8862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3. Press Service of the Bank of Russi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. Administrative Depart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. General Directorate of Real Estate Bank of Russi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. General Directorate of expertise and capital planning Bank of Russi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7. General Directorate of Security and data prot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. Department of collection and processing of non-credit reporting financial institutio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9. Service Bank of Russia to protect the rights of consumers of financial services and the minority shar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755640" y="11970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al subdiv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bined Economic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Схема 2" descr=""/>
          <p:cNvPicPr/>
          <p:nvPr/>
        </p:nvPicPr>
        <p:blipFill>
          <a:blip r:embed="rId1"/>
          <a:stretch/>
        </p:blipFill>
        <p:spPr>
          <a:xfrm>
            <a:off x="109440" y="1785960"/>
            <a:ext cx="894240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artment of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Схема 4" descr=""/>
          <p:cNvPicPr/>
          <p:nvPr/>
        </p:nvPicPr>
        <p:blipFill>
          <a:blip r:embed="rId1"/>
          <a:stretch/>
        </p:blipFill>
        <p:spPr>
          <a:xfrm>
            <a:off x="438120" y="1085760"/>
            <a:ext cx="851076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artment of cash cir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Схема 3" descr=""/>
          <p:cNvPicPr/>
          <p:nvPr/>
        </p:nvPicPr>
        <p:blipFill>
          <a:blip r:embed="rId1"/>
          <a:stretch/>
        </p:blipFill>
        <p:spPr>
          <a:xfrm>
            <a:off x="165240" y="1523880"/>
            <a:ext cx="899136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1268280"/>
            <a:ext cx="685800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artment of National Paymen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Схема 3" descr=""/>
          <p:cNvPicPr/>
          <p:nvPr/>
        </p:nvPicPr>
        <p:blipFill>
          <a:blip r:embed="rId1"/>
          <a:stretch/>
        </p:blipFill>
        <p:spPr>
          <a:xfrm>
            <a:off x="-30240" y="1768320"/>
            <a:ext cx="918684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141720"/>
            <a:ext cx="8229600" cy="1371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75500"/>
                </a:solidFill>
                <a:latin typeface="Times New Roman"/>
              </a:rPr>
              <a:t>Thank you for watch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2:00:41Z</dcterms:created>
  <dc:creator>HPCompaq7600;Булат Айратович Камалов</dc:creator>
  <dc:description/>
  <dc:language>en-US</dc:language>
  <cp:lastModifiedBy>Ирина</cp:lastModifiedBy>
  <dcterms:modified xsi:type="dcterms:W3CDTF">2015-10-16T13:07:49Z</dcterms:modified>
  <cp:revision>111</cp:revision>
  <dc:subject/>
  <dc:title>Слайд 1</dc:title>
</cp:coreProperties>
</file>