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75E4-6546-4DB4-9FF3-196B1572AD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7462-31BF-41EA-A2EF-BF811C6E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3867-6DCC-4CBE-8B2E-36092CEB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175A-7242-4601-A25E-EE7ECEE8DD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70EC9-E1B1-47D0-9826-F5C9CD3A78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08374-94C8-4C72-BC35-6C180B2D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19892-2414-431A-9A42-B7A13FCD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DB2FD-7D98-413A-999A-7A88AE65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2CDEF-B5B0-4B33-9754-212765DC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10F12-5674-4510-9637-EE2A5CC0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36609-029C-4A79-8B11-828B9364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1337-A9AC-481C-8FD3-C0F74950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7FBB6-629D-4E48-B25D-D2BDDE72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ED613-377A-47A5-81A7-D7D8823A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34D43-94AB-4D09-A243-73486CB5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3428C-5B90-48D0-8D20-F10B8C71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9400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4280" y="6858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3336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19400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4280" y="2595600"/>
            <a:ext cx="19620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DF964-6E7F-4CF2-B1D7-3C6F736A6A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A5AC-8355-430B-92AA-1AFAE386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BE09-4E03-422E-8610-760C0CF8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8316-F16C-4FFE-B3F5-926BCE73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77960" y="4876560"/>
            <a:ext cx="75420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D913-06B9-47E4-AC14-769F35D0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C55C-DF1A-421A-8736-344E86FE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56360" y="25956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0ABB-ABDF-4AF5-9221-6465221C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6360" y="685800"/>
            <a:ext cx="297396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2595600"/>
            <a:ext cx="60944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2652-49B8-4A88-96C1-CE497162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/>
              </a:gs>
              <a:gs pos="100000">
                <a:srgbClr val="2428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9740000">
            <a:off x="1371600" y="1039320"/>
            <a:ext cx="7240680" cy="570708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7640000">
            <a:off x="-275040" y="1167120"/>
            <a:ext cx="5538600" cy="447984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9740000">
            <a:off x="3276360" y="118800"/>
            <a:ext cx="6478560" cy="475452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44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39480" indent="-3394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77960" y="4876560"/>
            <a:ext cx="75420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16.10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E75EB8-6124-4A57-A029-2EE727B4FADD}" type="slidenum">
              <a: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/>
              </a:gs>
              <a:gs pos="100000">
                <a:srgbClr val="2428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740000">
            <a:off x="1371600" y="1039320"/>
            <a:ext cx="7240680" cy="570708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7640000">
            <a:off x="-275040" y="1167120"/>
            <a:ext cx="5538600" cy="447984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740000">
            <a:off x="3276360" y="118800"/>
            <a:ext cx="6478560" cy="4754520"/>
          </a:xfrm>
          <a:prstGeom prst="ellipse">
            <a:avLst/>
          </a:prstGeom>
          <a:gradFill rotWithShape="0">
            <a:gsLst>
              <a:gs pos="0">
                <a:srgbClr val="c4bcc6"/>
              </a:gs>
              <a:gs pos="100000">
                <a:srgbClr val="2428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16548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7960" y="1218960"/>
            <a:ext cx="75420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6172200" y="615456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16.10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822240" y="5842080"/>
            <a:ext cx="21319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B69EAE-9414-43B5-A9E5-988E102EF04A}" type="slidenum">
              <a:rPr b="0" lang="ru-RU" sz="1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2240" y="615456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176880"/>
            <a:ext cx="8229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Иванютит А.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9920" y="57340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66920" y="189000"/>
            <a:ext cx="4464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98600" y="5589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Колесов В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41702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82920" y="189000"/>
            <a:ext cx="42591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84720" y="692280"/>
            <a:ext cx="4859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Хрульков А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Palatino Linotype"/>
              </a:rPr>
              <a:t>Имеет награды:Почётные грамоты ,медали трёх степеней  за отличие  в службе ,медаль за доблесть в сл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5040" y="549360"/>
            <a:ext cx="377352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75280" y="549360"/>
            <a:ext cx="3672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32480" y="274320"/>
            <a:ext cx="451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Супонин В.Н.</a:t>
            </a:r>
            <a:br>
              <a:rPr sz="4900"/>
            </a:br>
            <a:br>
              <a:rPr sz="4900"/>
            </a:br>
            <a:r>
              <a:rPr b="1" i="1" lang="ru-RU" sz="2400" spc="-1" strike="noStrike">
                <a:solidFill>
                  <a:srgbClr val="ffffff"/>
                </a:solidFill>
                <a:latin typeface="Palatino Linotype"/>
              </a:rPr>
              <a:t>Кавалер ордена Мужества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222120"/>
            <a:ext cx="4308480" cy="63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Писарев И.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115920"/>
            <a:ext cx="44370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3600360" cy="525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61032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Агеев А.Н.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4103640" cy="5256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2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Попов А.В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70040" y="260280"/>
            <a:ext cx="4089600" cy="5184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Теремков В.В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4032360" cy="5184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51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</a:t>
            </a: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Мирошин А.И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527280" cy="4680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5616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рючков И.Ф</a:t>
            </a:r>
            <a:br>
              <a:rPr sz="4900"/>
            </a:br>
            <a:br>
              <a:rPr sz="4900"/>
            </a:br>
            <a:r>
              <a:rPr b="1" i="1" lang="ru-RU" sz="3200" spc="-1" strike="noStrike">
                <a:solidFill>
                  <a:srgbClr val="ffffff"/>
                </a:solidFill>
                <a:latin typeface="Palatino Linotype"/>
              </a:rPr>
              <a:t>Правительственная награда, орден «Мужества»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42920" y="101520"/>
            <a:ext cx="4248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Palatino Linotype"/>
              </a:rPr>
              <a:t>Царёва В.Д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4720" y="1339920"/>
            <a:ext cx="4859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Имеет награды: Памятная медаль 25-летия  чернобыльской трагедии, медаль 65 лет-Освобождения Брянщины,благодарность от губернатора Брянской области, почётные грамоты, патриаршая грамота Патриарха Всея Руси Алексе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380880"/>
            <a:ext cx="395604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4103640" cy="5327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ирченко М.К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527640" cy="4896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08000" y="260280"/>
            <a:ext cx="57085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</a:t>
            </a: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Царёв И.Н.</a:t>
            </a:r>
            <a:br>
              <a:rPr sz="4900"/>
            </a:br>
            <a:br>
              <a:rPr sz="4900"/>
            </a:br>
            <a:r>
              <a:rPr b="1" i="1" lang="ru-RU" sz="2200" spc="-1" strike="noStrike">
                <a:solidFill>
                  <a:srgbClr val="ffffff"/>
                </a:solidFill>
                <a:latin typeface="Palatino Linotype"/>
              </a:rPr>
              <a:t>Наградные знаки «Участник ликвидации последствий аварии на ЧАЭС»,грамота губернатора брянской области,грамоты администрации района,грамота за выслугу лет.</a:t>
            </a:r>
            <a:endParaRPr b="0" lang="en-US" sz="2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424836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Прудников П.В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159000" cy="45352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95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Чехмарёв Г.М.</a:t>
            </a:r>
            <a:br>
              <a:rPr sz="4900"/>
            </a:br>
            <a:br>
              <a:rPr sz="4900"/>
            </a:br>
            <a:r>
              <a:rPr b="1" i="1" lang="ru-RU" sz="2700" spc="-1" strike="noStrike">
                <a:solidFill>
                  <a:srgbClr val="ffffff"/>
                </a:solidFill>
                <a:latin typeface="Palatino Linotype"/>
              </a:rPr>
              <a:t>Награждён почётными грамотами и медалью «Участнику ликвидации последствий аварии на ЧАЭС</a:t>
            </a:r>
            <a:endParaRPr b="0" lang="en-US" sz="27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4032360" cy="5256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убатин С.Н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66920" y="549360"/>
            <a:ext cx="4535640" cy="4824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Фирсов А.Н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2360" y="907920"/>
            <a:ext cx="3245040" cy="4797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40036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  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Царёв А.И.</a:t>
            </a:r>
            <a:br>
              <a:rPr sz="4900"/>
            </a:br>
            <a:br>
              <a:rPr sz="4900"/>
            </a:br>
            <a:r>
              <a:rPr b="1" i="1" lang="ru-RU" sz="2400" spc="-1" strike="noStrike">
                <a:solidFill>
                  <a:srgbClr val="ffffff"/>
                </a:solidFill>
                <a:latin typeface="Palatino Linotype"/>
              </a:rPr>
              <a:t>Имеет награды: Памятная медаль в честь 20-летия чернобыльской трагедии, патриаршая  грамота от Патриарха Всея Руси Алексия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140360" y="1600200"/>
            <a:ext cx="50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Palatino Linotype"/>
              </a:rPr>
              <a:t>Наградные знаки: «Воин-интернационалист», «Участник ликвидации последствий аварии на ЧАЭ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Лагеев В.П.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700200"/>
            <a:ext cx="3324240" cy="47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4103640" cy="5381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5589360"/>
            <a:ext cx="5049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Липунов А.Е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248000" cy="5327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4920" y="5717880"/>
            <a:ext cx="48337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омиссаров В.Н.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5950080"/>
            <a:ext cx="8229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Рыженков В.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9920" y="5932440"/>
            <a:ext cx="7543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88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589104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Колесов В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274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5084640"/>
            <a:ext cx="8229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56000" y="115920"/>
            <a:ext cx="4608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Воеводин В.Г.</a:t>
            </a:r>
            <a:br>
              <a:rPr sz="4900"/>
            </a:br>
            <a:br>
              <a:rPr sz="4900"/>
            </a:br>
            <a:r>
              <a:rPr b="1" i="1" lang="ru-RU" sz="2400" spc="-1" strike="noStrike">
                <a:solidFill>
                  <a:srgbClr val="ffffff"/>
                </a:solidFill>
                <a:latin typeface="Palatino Linotype"/>
              </a:rPr>
              <a:t>Имеет 2 грамрты:за участие в ликвидации аварии и за отвагу.Правительственную медаль за службу перед Отечеством II степен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6291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27640" y="692280"/>
            <a:ext cx="3959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Боровой О.Е</a:t>
            </a: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Palatino Linotype"/>
              </a:rPr>
              <a:t>Имеет награду: медаль «За отличие в служб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4360" y="115920"/>
            <a:ext cx="7686720" cy="3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87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