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2D86-1231-4D18-B86B-3338029CF7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39C0-B4DB-4E5A-AD61-14DCC996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FCC1-A333-4F33-A6D1-EB45DD3D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84BF-883A-42D6-9225-2896F58BC9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44254-8E0B-4B0B-B82C-988C079949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09061-C37B-493D-9FFA-71C1C678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5D7A1-8625-49E4-B484-C7576D47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600DB-E7F4-4974-BCA5-7F062FE6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5CD64-A93E-4950-949E-C0E85238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B801C-69CD-4D74-B723-59E0F653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C3132-E861-40BA-8CBB-7650ED3A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FFE7-EE44-4DC1-AB4A-E297FB9D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DB884-A81C-4495-AA75-58083ED3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BB852-EE74-4B52-AF0F-6B2D4BD9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6C3F1-5E67-430B-94CF-86775666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C5B3F-4F7A-46A2-80B1-28BCE7BE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A899B-181D-4F50-8F2C-EED76953E4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E442-BCB9-4854-BE42-A16681DA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ACB6-88CB-48A1-BD17-7313A121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7F18-6563-4965-8F1B-1383F387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E5F4-4276-4019-AB27-8F8234DE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EE32-5F1C-491E-B616-7DCA2540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BE26-F38A-4775-AEA6-98F6AA42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8229-0955-4D73-BDA8-E07004F4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/>
              </a:gs>
              <a:gs pos="100000">
                <a:srgbClr val="2428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9740000">
            <a:off x="1371600" y="1039320"/>
            <a:ext cx="7240680" cy="5707080"/>
          </a:xfrm>
          <a:prstGeom prst="ellipse">
            <a:avLst/>
          </a:prstGeom>
          <a:gradFill rotWithShape="0">
            <a:gsLst>
              <a:gs pos="0">
                <a:srgbClr val="c4bcc6"/>
              </a:gs>
              <a:gs pos="100000">
                <a:srgbClr val="2428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7640000">
            <a:off x="-275040" y="1167120"/>
            <a:ext cx="5538600" cy="4479840"/>
          </a:xfrm>
          <a:prstGeom prst="ellipse">
            <a:avLst/>
          </a:prstGeom>
          <a:gradFill rotWithShape="0">
            <a:gsLst>
              <a:gs pos="0">
                <a:srgbClr val="c4bcc6"/>
              </a:gs>
              <a:gs pos="100000">
                <a:srgbClr val="2428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9740000">
            <a:off x="3276360" y="118800"/>
            <a:ext cx="6478560" cy="4754520"/>
          </a:xfrm>
          <a:prstGeom prst="ellipse">
            <a:avLst/>
          </a:prstGeom>
          <a:gradFill rotWithShape="0">
            <a:gsLst>
              <a:gs pos="0">
                <a:srgbClr val="c4bcc6"/>
              </a:gs>
              <a:gs pos="100000">
                <a:srgbClr val="2428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39480" indent="-3394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39480" indent="-3394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39480" indent="-3394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39480" indent="-3394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39480" indent="-3394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39480" indent="-3394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16.10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BCE6AB-4CEA-4E5A-94E0-AAA08CBE23A4}" type="slidenum">
              <a: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/>
              </a:gs>
              <a:gs pos="100000">
                <a:srgbClr val="2428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740000">
            <a:off x="1371600" y="1039320"/>
            <a:ext cx="7240680" cy="5707080"/>
          </a:xfrm>
          <a:prstGeom prst="ellipse">
            <a:avLst/>
          </a:prstGeom>
          <a:gradFill rotWithShape="0">
            <a:gsLst>
              <a:gs pos="0">
                <a:srgbClr val="c4bcc6"/>
              </a:gs>
              <a:gs pos="100000">
                <a:srgbClr val="2428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7640000">
            <a:off x="-275040" y="1167120"/>
            <a:ext cx="5538600" cy="4479840"/>
          </a:xfrm>
          <a:prstGeom prst="ellipse">
            <a:avLst/>
          </a:prstGeom>
          <a:gradFill rotWithShape="0">
            <a:gsLst>
              <a:gs pos="0">
                <a:srgbClr val="c4bcc6"/>
              </a:gs>
              <a:gs pos="100000">
                <a:srgbClr val="2428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740000">
            <a:off x="3276360" y="118800"/>
            <a:ext cx="6478560" cy="4754520"/>
          </a:xfrm>
          <a:prstGeom prst="ellipse">
            <a:avLst/>
          </a:prstGeom>
          <a:gradFill rotWithShape="0">
            <a:gsLst>
              <a:gs pos="0">
                <a:srgbClr val="c4bcc6"/>
              </a:gs>
              <a:gs pos="100000">
                <a:srgbClr val="2428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16548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7960" y="1218960"/>
            <a:ext cx="75420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16.10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82EB66-6521-4EF1-864C-A4DAEF05E84A}" type="slidenum">
              <a: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176880"/>
            <a:ext cx="8229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Иванютит А.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99920" y="57340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66920" y="189000"/>
            <a:ext cx="4464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98600" y="5589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Колесов В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41702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82920" y="189000"/>
            <a:ext cx="42591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84720" y="692280"/>
            <a:ext cx="4859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Хрульков А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Palatino Linotype"/>
              </a:rPr>
              <a:t>Имеет награды:Почётные грамоты ,медали трёх степеней  за отличие  в службе ,медаль за доблесть в сл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5040" y="549360"/>
            <a:ext cx="377352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75280" y="549360"/>
            <a:ext cx="3672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32480" y="274320"/>
            <a:ext cx="451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Супонин В.Н.</a:t>
            </a:r>
            <a:br>
              <a:rPr sz="4900"/>
            </a:br>
            <a:br>
              <a:rPr sz="4900"/>
            </a:br>
            <a:r>
              <a:rPr b="1" i="1" lang="ru-RU" sz="2400" spc="-1" strike="noStrike">
                <a:solidFill>
                  <a:srgbClr val="ffffff"/>
                </a:solidFill>
                <a:latin typeface="Palatino Linotype"/>
              </a:rPr>
              <a:t>Кавалер ордена Мужества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222120"/>
            <a:ext cx="4308480" cy="63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Писарев И.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115920"/>
            <a:ext cx="44370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3600360" cy="525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61032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Агеев А.Н.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4103640" cy="5256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2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Попов А.В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70040" y="260280"/>
            <a:ext cx="4089600" cy="5184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Теремков В.В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4032360" cy="5184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551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</a:t>
            </a: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Мирошин А.И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527280" cy="4680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5616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рючков И.Ф</a:t>
            </a:r>
            <a:br>
              <a:rPr sz="4900"/>
            </a:br>
            <a:br>
              <a:rPr sz="4900"/>
            </a:br>
            <a:r>
              <a:rPr b="1" i="1" lang="ru-RU" sz="3200" spc="-1" strike="noStrike">
                <a:solidFill>
                  <a:srgbClr val="ffffff"/>
                </a:solidFill>
                <a:latin typeface="Palatino Linotype"/>
              </a:rPr>
              <a:t>Правительственная награда, орден «Мужества»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42920" y="101520"/>
            <a:ext cx="4248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Palatino Linotype"/>
              </a:rPr>
              <a:t>Царёва В.Д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4720" y="1339920"/>
            <a:ext cx="4859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Имеет награды: Памятная медаль 25-летия  чернобыльской трагедии, медаль 65 лет-Освобождения Брянщины,благодарность от губернатора Брянской области, почётные грамоты, патриаршая грамота Патриарха Всея Руси Алексе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380880"/>
            <a:ext cx="395604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4103640" cy="5327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ирченко М.К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527640" cy="4896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08000" y="260280"/>
            <a:ext cx="57085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</a:t>
            </a: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Царёв И.Н.</a:t>
            </a:r>
            <a:br>
              <a:rPr sz="4900"/>
            </a:br>
            <a:br>
              <a:rPr sz="4900"/>
            </a:br>
            <a:r>
              <a:rPr b="1" i="1" lang="ru-RU" sz="2200" spc="-1" strike="noStrike">
                <a:solidFill>
                  <a:srgbClr val="ffffff"/>
                </a:solidFill>
                <a:latin typeface="Palatino Linotype"/>
              </a:rPr>
              <a:t>Наградные знаки «Участник ликвидации последствий аварии на ЧАЭС»,грамота губернатора брянской области,грамоты администрации района,грамота за выслугу лет.</a:t>
            </a:r>
            <a:endParaRPr b="0" lang="en-US" sz="2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424836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Прудников П.В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159000" cy="45352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95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Чехмарёв Г.М.</a:t>
            </a:r>
            <a:br>
              <a:rPr sz="4900"/>
            </a:br>
            <a:br>
              <a:rPr sz="4900"/>
            </a:br>
            <a:r>
              <a:rPr b="1" i="1" lang="ru-RU" sz="2700" spc="-1" strike="noStrike">
                <a:solidFill>
                  <a:srgbClr val="ffffff"/>
                </a:solidFill>
                <a:latin typeface="Palatino Linotype"/>
              </a:rPr>
              <a:t>Награждён почётными грамотами и медалью «Участнику ликвидации последствий аварии на ЧАЭС</a:t>
            </a:r>
            <a:endParaRPr b="0" lang="en-US" sz="27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4032360" cy="5256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убатин С.Н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66920" y="549360"/>
            <a:ext cx="4535640" cy="4824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Фирсов А.Н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2360" y="907920"/>
            <a:ext cx="3245040" cy="4797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40036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Царёв А.И.</a:t>
            </a:r>
            <a:br>
              <a:rPr sz="4900"/>
            </a:br>
            <a:br>
              <a:rPr sz="4900"/>
            </a:br>
            <a:r>
              <a:rPr b="1" i="1" lang="ru-RU" sz="2400" spc="-1" strike="noStrike">
                <a:solidFill>
                  <a:srgbClr val="ffffff"/>
                </a:solidFill>
                <a:latin typeface="Palatino Linotype"/>
              </a:rPr>
              <a:t>Имеет награды: Памятная медаль в честь 20-летия чернобыльской трагедии, патриаршая  грамота от Патриарха Всея Руси Алексия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140360" y="1600200"/>
            <a:ext cx="50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Palatino Linotype"/>
              </a:rPr>
              <a:t>Наградные знаки: «Воин-интернационалист», «Участник ликвидации последствий аварии на ЧАЭ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Лагеев В.П.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700200"/>
            <a:ext cx="3324240" cy="47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4103640" cy="5381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5589360"/>
            <a:ext cx="5049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Липунов А.Е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248000" cy="5327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4920" y="5717880"/>
            <a:ext cx="48337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омиссаров В.Н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5950080"/>
            <a:ext cx="8229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Рыженков В.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9920" y="5932440"/>
            <a:ext cx="7543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88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589104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Колесов В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274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5084640"/>
            <a:ext cx="8229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56000" y="115920"/>
            <a:ext cx="4608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Воеводин В.Г.</a:t>
            </a:r>
            <a:br>
              <a:rPr sz="4900"/>
            </a:br>
            <a:br>
              <a:rPr sz="4900"/>
            </a:br>
            <a:r>
              <a:rPr b="1" i="1" lang="ru-RU" sz="2400" spc="-1" strike="noStrike">
                <a:solidFill>
                  <a:srgbClr val="ffffff"/>
                </a:solidFill>
                <a:latin typeface="Palatino Linotype"/>
              </a:rPr>
              <a:t>Имеет 2 грамрты:за участие в ликвидации аварии и за отвагу.Правительственную медаль за службу перед Отечеством II степен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6291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27640" y="692280"/>
            <a:ext cx="3959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Боровой О.Е</a:t>
            </a: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Palatino Linotype"/>
              </a:rPr>
              <a:t>Имеет награду: медаль «За отличие в служб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4360" y="115920"/>
            <a:ext cx="7686720" cy="3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876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