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A4DE-21F1-4989-8221-74107EBA2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1F7E-71A4-4345-8AFB-EDEDD85A7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1E3B-EF42-4607-ACD5-B15F48312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3B82-2AC1-4BF2-87E7-7F1EE14A4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75424-8898-4122-8581-838C04C9F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3E925-22B1-4C7B-96B0-D49053D78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2B7F0-7504-41CF-AD12-974C45B8B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F93A4-6512-419C-9531-805209AED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5DF75-4D05-4A12-A063-FFA95F218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D0A3B-83BE-496A-89FE-22D66E6BB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153F0-6203-4ACD-BDAE-88027F279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0373-20F2-4CA3-AE53-88AB6EC3D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5B9ED-E7ED-4650-B3EA-4527E9ACC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6BAED-141B-48B5-9878-19CE612CE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04F91-74B9-4708-9E11-D87EAE480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D8F87-8D6D-4B27-962A-565A930CB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B61DF-6BA8-4280-9FA5-67D234665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E2B1-B9C3-44B9-8985-1EDCBCBA6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6163-6447-4C12-8BEB-9883348B8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01D3-487A-44E4-98EC-79F7F71F6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6306-A459-4E28-A3D8-0BF4319B0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8EDD-EC83-4CA4-BB22-C62498DC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44D2-7822-418B-BA00-B6557D8AE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FCC7-E93F-422E-BE21-5CDB093A8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77661-ACC0-4056-A9D4-EF4BE2C4EE1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FA81C-1FC4-4EB9-92D9-AA67A325F56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11280" y="21337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Ошибки родителей </a:t>
            </a:r>
            <a:br>
              <a:rPr sz="4800"/>
            </a:b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в воспитании подростков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"/>
          <p:cNvSpPr/>
          <p:nvPr/>
        </p:nvSpPr>
        <p:spPr>
          <a:xfrm>
            <a:off x="611280" y="476280"/>
            <a:ext cx="7772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ГБОУ СПО МО «Волоколамский колледж права, 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экономики и безопасности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500720" y="4869000"/>
            <a:ext cx="40986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Автор: Дягилева Н.И., преподаватель, классный руководитель студентов 2 курс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50560" y="404640"/>
            <a:ext cx="856908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     </a:t>
            </a: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У семьи и учебного заведения </a:t>
            </a:r>
            <a:br>
              <a:rPr sz="3600"/>
            </a:b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      общие цели, единые задачи:</a:t>
            </a: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600"/>
            </a:b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-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реализация всех потенциальных возможностей ребенка;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- формирование его личности;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- формирование умственной и личностной активности;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- воспитание нравственной и социальной зрелости.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51832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Часто произносимые фразы родителям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2484000"/>
            <a:ext cx="85406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Я родитель – делай, как сказа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Мне все равно, делай так, как хочеш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Горе ты мое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Ты совсем, как твой отец (мать)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4216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одители пытаются ограничить активность, самостоятельность подростка, подчас в авторитарной форме высказывают мнения о его друзьях, интересах, пытаются влиять на увлечения ребенк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тсутствие должного, но уважительного контроля за подростком, его досугом, кругом знакомств, интерес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тсутствие такта в отношении с ребенком, не надо оттачивать свое остроумие на ребенке, порочить его в собственных глазах, а тем более - в глазах окружающи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уществует мнение, что все в ребенке от природы — и с этим ничего не поделаешь. Аргумент - в одной и той же семье растут совсем разные дети: один ребенок трудолюбивый, усидчивый, а другой отвлекается, не заставишь посидеть ни с книгой, ни над уроками; один чуткий, заботливый, а другой думает только о себе.  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епоследовательность предъявления требовани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Как разговаривать с подростком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1341000"/>
            <a:ext cx="8540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Уважайте друг друг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икогда не пытайтесь доказать что-то подростку если видите, что он рассержен, устал или просто не готов спокойно обсуждать проблему. Дайте ему возможность остыть и прийти в себя. «Я вижу, что ты сейчас очень рассержен (расстроен, обижен). Давай вернемся к этому разговору, когда ты успокоишься». 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е переходите на повышенные тона сами. Требовать к себе уважения справедливо в том случае, если вы сами относитесь к подростку уважительно и тепло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8T16:28:11Z</dcterms:created>
  <dc:creator>Admin</dc:creator>
  <dc:description/>
  <dc:language>en-US</dc:language>
  <cp:lastModifiedBy>Admin</cp:lastModifiedBy>
  <dcterms:modified xsi:type="dcterms:W3CDTF">2015-10-16T09:14:50Z</dcterms:modified>
  <cp:revision>10</cp:revision>
  <dc:subject/>
  <dc:title>Проблемы в воспитании подростков</dc:title>
</cp:coreProperties>
</file>