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2A9-803B-4A8D-9C15-99523415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6B7-7A98-4980-A91A-C7F9A37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3FB-B856-49CF-9D80-199760BF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F7B-5DBE-47D9-B41C-48EC1B3D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0E36-AFD3-40F3-8CA4-2EEEEF3F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5E66-E7A0-45C6-870B-DD6660F8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CA6B-87DF-42B0-8456-E990157E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93EF-AA05-401C-9596-5246C6B2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6A78-DCB8-44AD-9A56-97ED849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01B8-7F2F-4813-A9BF-459F003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9F51-75AE-47D2-8F52-84784E3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081-1E2A-4049-B289-E01D62B9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AA3A-6198-4231-B46A-8525DE7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7BC7-01E8-4F5C-84C4-ABD2B7E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5441-8F61-4B7F-AA9A-704FA993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A9B-3420-4B6E-9E1A-DF8A7DC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7930-5535-4656-9B7C-9E4F3725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E2C-6961-4986-90E3-15F1254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2EC-CF14-4CB7-82A0-2019AAB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343-6FDD-4881-89DF-24843214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5EF-4C55-447D-868E-EC52CDF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73B-7657-4669-BDFA-D780CA5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BC8-E246-4B1A-AE47-E9447B0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4EE-003C-4D7E-BD93-F552313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3A0-6A8B-4132-BB11-8E1DBFC03C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7B17-11FC-479D-AD08-5673D781E3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Ошибки родителей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 воспитании подростк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476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ГБОУ СПО МО «Волоколамский колледж права,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экономики и безопас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0720" y="4869000"/>
            <a:ext cx="4098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втор: Дягилева Н.И., преподаватель, классный руководитель студентов 2 кур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У семьи и учебного заведения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     общие цели, единые задачи: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еализация всех потенциальных возможностей ребенка;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формирование его личности;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формирование умственной и личностной активности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воспитание нравственной и социальной зрелости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183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асто произносимые фразы родителя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484000"/>
            <a:ext cx="85406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Я родитель – делай, как сказ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Мне все равно, делай так, как хоче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Горе ты мо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Ты совсем, как твой отец (мать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ители пытаются ограничить активность, самостоятельность подростка, подчас в авторитарной форме высказывают мнения о его друзьях, интересах, пытаются влиять на увлечения реб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должного, но уважительного контроля за подростком, его досугом, кругом знакомств, интере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такта в отношении с ребенком, не надо оттачивать свое остроумие на ребенке, порочить его в собственных глазах, а тем более - в глазах окружаю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ществует мнение, что все в ребенке от природы — и с этим ничего не поделаешь. Аргумент - в одной и той же семье растут совсем разные дети: один ребенок трудолюбивый, усидчивый, а другой отвлекается, не заставишь посидеть ни с книгой, ни над уроками; один чуткий, заботливый, а другой думает только о себе. 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следовательность предъявления требов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разговаривать с подростк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34100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ажайте друг друг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икогда не пытайтесь доказать что-то подростку если видите, что он рассержен, устал или просто не готов спокойно обсуждать проблему. Дайте ему возможность остыть и прийти в себя. «Я вижу, что ты сейчас очень рассержен (расстроен, обижен). Давай вернемся к этому разговору, когда ты успокоишься»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переходите на повышенные тона сами. Требовать к себе уважения справедливо в том случае, если вы сами относитесь к подростку уважительно и теп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8:11Z</dcterms:created>
  <dc:creator>Admin</dc:creator>
  <dc:description/>
  <dc:language>en-US</dc:language>
  <cp:lastModifiedBy>Admin</cp:lastModifiedBy>
  <dcterms:modified xsi:type="dcterms:W3CDTF">2015-10-16T09:14:50Z</dcterms:modified>
  <cp:revision>10</cp:revision>
  <dc:subject/>
  <dc:title>Проблемы в воспитании подростков</dc:title>
</cp:coreProperties>
</file>