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417082E-FFC0-4800-B8ED-373BE4FBC2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BB7976C-E36B-4903-A829-B9BBBDB811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C9A-268E-4143-B262-8E4034DD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DE9-E42B-4E84-A009-4AD86CFE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090-F0CA-4987-811F-C3F3FBDF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724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648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724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5800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851-04A0-4BB4-870F-16AE1232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0FA7-AE83-42F4-9A7F-03E19443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947F-D4FD-4137-BB45-3745A755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EAB9-2065-4F07-AD5E-60B53A51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5431-322A-44CF-8896-6CA2B99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74CB-32A2-4876-9D96-4E292324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76480" y="420840"/>
            <a:ext cx="8400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8336-9240-4566-9239-DAE4E61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14E9-CD3A-400E-ACCA-AF2F9C2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E7D-2DEB-474B-820C-5631EE3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54A7-8603-400E-902D-C08EF613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CFD3-BEE3-4909-B9D9-8951CCF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16D-F7DF-4C87-A1AE-F6C87BA4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29AD-AE76-40E9-A28B-9CDE513A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1724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7648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1724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5800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2386-4881-455E-979B-24B195DC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FA7-0616-448A-B257-7397F17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B3D-2FB0-4CD5-A586-2BBA090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D51-000C-4BDD-A3CB-B5DAB5A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6480" y="420840"/>
            <a:ext cx="8400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232-4CE3-408C-8B94-4A05888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FEE-9840-409E-A051-B14A8360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EF1-1860-43EC-81E5-70AE537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00D-0A09-470B-9949-41A9744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71400" y="252360"/>
            <a:ext cx="9083880" cy="70452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120680" y="1763640"/>
            <a:ext cx="84567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5440"/>
            <a:ext cx="1301760" cy="447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17080" y="6732720"/>
            <a:ext cx="2100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6640" y="6732720"/>
            <a:ext cx="31921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8758A26-3E9D-4946-A7F4-816E769437D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71400" y="252360"/>
            <a:ext cx="9083880" cy="70452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120680" y="1763640"/>
            <a:ext cx="84567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5440"/>
            <a:ext cx="1301760" cy="447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82480" y="222120"/>
            <a:ext cx="9258480" cy="712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:\minispir.GIF"/>
          <p:cNvPicPr/>
          <p:nvPr/>
        </p:nvPicPr>
        <p:blipFill>
          <a:blip r:embed="rId5"/>
          <a:stretch/>
        </p:blipFill>
        <p:spPr>
          <a:xfrm>
            <a:off x="0" y="55440"/>
            <a:ext cx="1301760" cy="4726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58800" y="4552920"/>
            <a:ext cx="114768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:\minispir.GIF"/>
          <p:cNvPicPr/>
          <p:nvPr/>
        </p:nvPicPr>
        <p:blipFill>
          <a:blip r:embed="rId7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95560" y="671976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882960" y="671976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664400" y="671976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DB54049-0E39-499B-8B74-0BEDAE2D29A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lday2.com/index.php?newsid=556664" TargetMode="External"/><Relationship Id="rId2" Type="http://schemas.openxmlformats.org/officeDocument/2006/relationships/hyperlink" Target="http://pedsovet.su/load/321-1-0-1456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Мои документы\фгос   ноо.JPG"/>
          <p:cNvPicPr/>
          <p:nvPr/>
        </p:nvPicPr>
        <p:blipFill>
          <a:blip r:embed="rId1"/>
          <a:stretch/>
        </p:blipFill>
        <p:spPr>
          <a:xfrm>
            <a:off x="1882800" y="379440"/>
            <a:ext cx="63151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53880" y="993240"/>
            <a:ext cx="8389800" cy="542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Отличительной особенностью начала обучения является то, что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ряду с традиционным письмом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ребенок сразу начинает осваивать 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атурный набор текста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      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е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4880" y="466560"/>
            <a:ext cx="9069480" cy="6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96800" y="1258920"/>
            <a:ext cx="8396280" cy="496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9600" y="539280"/>
            <a:ext cx="906912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96800" y="1564920"/>
            <a:ext cx="8251560" cy="434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82280" y="324000"/>
            <a:ext cx="796284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3880" y="1850760"/>
            <a:ext cx="82515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домашних заданий (начиная со второго полугодия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курсии, кружки, секции, олимпиады, соревн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овые исследования и выполнение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124000" y="333360"/>
            <a:ext cx="550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971640" y="836640"/>
            <a:ext cx="7921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286f88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http://allday2.com/index.php?newsid=5566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к презентации: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http://pedsovet.su/load/321-1-0-14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182600" y="1851120"/>
            <a:ext cx="30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111320" y="1582920"/>
            <a:ext cx="857088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3880" y="1332000"/>
            <a:ext cx="8318520" cy="180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68440" y="4065480"/>
            <a:ext cx="7889760" cy="285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280" y="250560"/>
            <a:ext cx="9069480" cy="115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  <a:ea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0960" y="2064960"/>
            <a:ext cx="8637480" cy="459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Целью школы становятся не только знания, но и 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ть цель и добиваться е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добывать и применять зн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ть план своих действий и самостоятельно оценивать их послед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вать вопрос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сно выражать свои мысл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ять и укреплять своё здоровь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31640" y="4140360"/>
            <a:ext cx="928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25092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27640" y="32400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511280" y="5003640"/>
            <a:ext cx="32418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36720" y="558000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256360" y="558000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977080" y="507528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36720" y="755640"/>
            <a:ext cx="374328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472000" y="825480"/>
            <a:ext cx="424836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392720" y="1042920"/>
            <a:ext cx="10681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4392720" y="2050920"/>
            <a:ext cx="10792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4392720" y="2916360"/>
            <a:ext cx="1128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4319640" y="3635280"/>
            <a:ext cx="1189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1079640" y="4467600"/>
            <a:ext cx="8064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2360" y="46656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27640" y="46656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0000" y="4067280"/>
            <a:ext cx="4224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55720" y="4643280"/>
            <a:ext cx="584280" cy="535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688000" y="457200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6348240" y="3995640"/>
            <a:ext cx="3372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36720" y="1042920"/>
            <a:ext cx="38862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, 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822920" y="1116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824360" y="2050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1152360" y="3492720"/>
            <a:ext cx="7561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36480" y="39528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53080" y="39528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27280" y="4643280"/>
            <a:ext cx="310824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000080" y="57643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176800" y="57243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977080" y="4643280"/>
            <a:ext cx="382716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182600" y="1042920"/>
            <a:ext cx="392904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040360" y="1116000"/>
            <a:ext cx="50403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152360" y="4140720"/>
            <a:ext cx="7561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655640" y="3274920"/>
            <a:ext cx="317988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071720" y="435600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208480" y="438624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796000" y="3274920"/>
            <a:ext cx="37814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08000" y="900000"/>
            <a:ext cx="38163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968720" y="82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68480" y="324000"/>
            <a:ext cx="4116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53080" y="32400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079640" y="2700720"/>
            <a:ext cx="75610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08000" y="1258920"/>
          <a:ext cx="8569440" cy="6083280"/>
        </p:xfrm>
        <a:graphic>
          <a:graphicData uri="http://schemas.openxmlformats.org/drawingml/2006/table">
            <a:tbl>
              <a:tblPr/>
              <a:tblGrid>
                <a:gridCol w="5807160"/>
                <a:gridCol w="1396800"/>
                <a:gridCol w="1365480"/>
              </a:tblGrid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мен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амооценка и оценка учи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10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 могу сказать,что и зачем мы будем делать на уро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Я могу сказать,что нового я узнал на уро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Я умею наблюдать и делать выв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Я могу запомнить важные све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Я с уважением отношусь к другим людя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Я выполняю правила, о которых мы договорились с ребятами в кла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Я умею объяснять, что я чувству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tangle 4"/>
          <p:cNvSpPr/>
          <p:nvPr/>
        </p:nvSpPr>
        <p:spPr>
          <a:xfrm>
            <a:off x="936720" y="340560"/>
            <a:ext cx="86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Чему я научился на уроках по всем предметам в этом учебном году (общеучебные и предметные ум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администратор</dc:creator>
  <dc:description/>
  <dc:language>en-US</dc:language>
  <cp:lastModifiedBy>Учитель</cp:lastModifiedBy>
  <dcterms:modified xsi:type="dcterms:W3CDTF">2014-03-11T08:28:21Z</dcterms:modified>
  <cp:revision>28</cp:revision>
  <dc:subject/>
  <dc:title>Слайд 1</dc:title>
</cp:coreProperties>
</file>