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221304"/>
                </a:solidFill>
                <a:latin typeface="Times New Roman"/>
              </a:rPr>
              <a:t>Click to move the slide</a:t>
            </a:r>
            <a:endParaRPr b="0" lang="en-US" sz="49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dt" idx="7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fld id="{6BBB4D7E-DCFE-411A-9679-26A37E40B11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fld id="{6EF703B3-EF16-4361-A967-75FD323C42A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B47C-7676-48AF-970D-4CD6BA19F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6480" y="420840"/>
            <a:ext cx="840096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6480" y="1932120"/>
            <a:ext cx="84009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6480" y="4301280"/>
            <a:ext cx="84009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23AF-9E5C-4686-B10D-0AE9C97DD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6480" y="420840"/>
            <a:ext cx="840096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6480" y="1932120"/>
            <a:ext cx="409932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481000" y="1932120"/>
            <a:ext cx="409932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6480" y="4301280"/>
            <a:ext cx="409932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481000" y="4301280"/>
            <a:ext cx="409932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A20B-6808-4740-8874-373985777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6480" y="420840"/>
            <a:ext cx="840096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6480" y="1932120"/>
            <a:ext cx="2705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017240" y="1932120"/>
            <a:ext cx="2705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0" y="1932120"/>
            <a:ext cx="2705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6480" y="4301280"/>
            <a:ext cx="2705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017240" y="4301280"/>
            <a:ext cx="2705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858000" y="4301280"/>
            <a:ext cx="2705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7EB3-5687-4F0A-9BF4-348B96507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1FE82-1109-444A-99F8-7051EFD2D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6480" y="420840"/>
            <a:ext cx="840096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176480" y="1932120"/>
            <a:ext cx="8400960" cy="45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EEE4B-DA7E-4F46-A740-A058AC979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76480" y="420840"/>
            <a:ext cx="840096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76480" y="1932120"/>
            <a:ext cx="840096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C02E6-F504-445F-AEAC-1C7DC5230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6480" y="420840"/>
            <a:ext cx="840096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6480" y="1932120"/>
            <a:ext cx="409932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481000" y="1932120"/>
            <a:ext cx="409932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6C0B9-ADBD-499E-9A8A-707D60895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76480" y="420840"/>
            <a:ext cx="840096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6F66A-E933-4546-8A28-7775BF04A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176480" y="420840"/>
            <a:ext cx="8400960" cy="58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FB693-92AA-4001-9B41-60ACF9FB0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76480" y="420840"/>
            <a:ext cx="840096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76480" y="1932120"/>
            <a:ext cx="409932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481000" y="1932120"/>
            <a:ext cx="409932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76480" y="4301280"/>
            <a:ext cx="409932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DAD5A-83AF-410A-910F-C2DDDA00C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6480" y="420840"/>
            <a:ext cx="840096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6480" y="1932120"/>
            <a:ext cx="8400960" cy="45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1124-9F79-44C8-9A7E-149B32276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76480" y="420840"/>
            <a:ext cx="840096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76480" y="1932120"/>
            <a:ext cx="409932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481000" y="1932120"/>
            <a:ext cx="409932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481000" y="4301280"/>
            <a:ext cx="409932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DC069-818B-42F9-91D2-09727E543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76480" y="420840"/>
            <a:ext cx="840096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76480" y="1932120"/>
            <a:ext cx="409932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481000" y="1932120"/>
            <a:ext cx="409932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76480" y="4301280"/>
            <a:ext cx="84009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8DD6C-90A1-4361-A473-47D603919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76480" y="420840"/>
            <a:ext cx="840096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76480" y="1932120"/>
            <a:ext cx="84009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176480" y="4301280"/>
            <a:ext cx="84009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D6FF6-3738-4BC6-916A-D34F417B5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76480" y="420840"/>
            <a:ext cx="840096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76480" y="1932120"/>
            <a:ext cx="409932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481000" y="1932120"/>
            <a:ext cx="409932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176480" y="4301280"/>
            <a:ext cx="409932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481000" y="4301280"/>
            <a:ext cx="409932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8D41D-3AC1-443C-B774-719249BFB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6480" y="420840"/>
            <a:ext cx="840096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76480" y="1932120"/>
            <a:ext cx="2705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017240" y="1932120"/>
            <a:ext cx="2705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0" y="1932120"/>
            <a:ext cx="2705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1176480" y="4301280"/>
            <a:ext cx="2705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4017240" y="4301280"/>
            <a:ext cx="2705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858000" y="4301280"/>
            <a:ext cx="2705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C0826-BDFD-4FFF-B2B8-EDEA24CF0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6480" y="420840"/>
            <a:ext cx="840096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6480" y="1932120"/>
            <a:ext cx="840096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0731-DC0A-45E9-97CC-BE5CB9725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6480" y="420840"/>
            <a:ext cx="840096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6480" y="1932120"/>
            <a:ext cx="409932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481000" y="1932120"/>
            <a:ext cx="409932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3C25-FE19-4379-8811-67B426710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6480" y="420840"/>
            <a:ext cx="840096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B989-E3E4-45BF-8A8D-0B70CC593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6480" y="420840"/>
            <a:ext cx="8400960" cy="58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25D6-227A-425A-A8A8-A04750D31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6480" y="420840"/>
            <a:ext cx="840096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6480" y="1932120"/>
            <a:ext cx="409932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81000" y="1932120"/>
            <a:ext cx="409932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6480" y="4301280"/>
            <a:ext cx="409932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5E83-C990-4897-B321-13581D3E7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6480" y="420840"/>
            <a:ext cx="840096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6480" y="1932120"/>
            <a:ext cx="409932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81000" y="1932120"/>
            <a:ext cx="409932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81000" y="4301280"/>
            <a:ext cx="409932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B4B4-269F-415C-9D9D-8EFD2C34D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6480" y="420840"/>
            <a:ext cx="840096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6480" y="1932120"/>
            <a:ext cx="409932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81000" y="1932120"/>
            <a:ext cx="409932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6480" y="4301280"/>
            <a:ext cx="84009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BDDD-2E9A-490A-A140-C398F807F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image" Target="../media/image2.jpe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5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671400" y="252360"/>
            <a:ext cx="9083880" cy="704520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Line 3"/>
          <p:cNvSpPr/>
          <p:nvPr/>
        </p:nvSpPr>
        <p:spPr>
          <a:xfrm>
            <a:off x="1120680" y="1763640"/>
            <a:ext cx="845676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440" rIns="100440" tIns="-50040" bIns="-500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4" descr="A:\minispir.GIF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5440"/>
            <a:ext cx="1301760" cy="447372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A:\minispir.GIF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654440"/>
            <a:ext cx="1301760" cy="2835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176480" y="420840"/>
            <a:ext cx="840096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176480" y="1932120"/>
            <a:ext cx="840096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7560" indent="-314280">
              <a:spcBef>
                <a:spcPts val="87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8920" indent="-250920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3" marL="1763640" indent="-250920">
              <a:spcBef>
                <a:spcPts val="87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4" marL="2266920" indent="-250920">
              <a:spcBef>
                <a:spcPts val="876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5" marL="2266920" indent="-250920">
              <a:spcBef>
                <a:spcPts val="876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6" marL="2266920" indent="-250920">
              <a:spcBef>
                <a:spcPts val="876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17080" y="6732720"/>
            <a:ext cx="2100600" cy="50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806640" y="6732720"/>
            <a:ext cx="3192120" cy="50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586640" y="6732720"/>
            <a:ext cx="2100240" cy="50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ru-RU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FC134625-F700-40F9-9496-3FB6A305D90C}" type="slidenum">
              <a:rPr b="0" lang="ru-RU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5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671400" y="252360"/>
            <a:ext cx="9083880" cy="704520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3"/>
          <p:cNvSpPr/>
          <p:nvPr/>
        </p:nvSpPr>
        <p:spPr>
          <a:xfrm>
            <a:off x="1120680" y="1763640"/>
            <a:ext cx="845676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440" rIns="100440" tIns="-50040" bIns="-500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A:\minispir.GIF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5440"/>
            <a:ext cx="1301760" cy="44737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A:\minispir.GIF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654440"/>
            <a:ext cx="1301760" cy="283536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2"/>
          <p:cNvSpPr/>
          <p:nvPr/>
        </p:nvSpPr>
        <p:spPr>
          <a:xfrm>
            <a:off x="582480" y="222120"/>
            <a:ext cx="9258480" cy="71294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A:\minispir.GIF"/>
          <p:cNvPicPr/>
          <p:nvPr/>
        </p:nvPicPr>
        <p:blipFill>
          <a:blip r:embed="rId5"/>
          <a:stretch/>
        </p:blipFill>
        <p:spPr>
          <a:xfrm>
            <a:off x="0" y="55440"/>
            <a:ext cx="1301760" cy="472608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4"/>
          <p:cNvSpPr/>
          <p:nvPr/>
        </p:nvSpPr>
        <p:spPr>
          <a:xfrm>
            <a:off x="658800" y="4552920"/>
            <a:ext cx="1147680" cy="5047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A:\minispir.GIF"/>
          <p:cNvPicPr/>
          <p:nvPr/>
        </p:nvPicPr>
        <p:blipFill>
          <a:blip r:embed="rId7"/>
          <a:srcRect l="0" t="40000" r="0" b="0"/>
          <a:stretch/>
        </p:blipFill>
        <p:spPr>
          <a:xfrm>
            <a:off x="0" y="4654440"/>
            <a:ext cx="1301760" cy="283536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6480" y="420840"/>
            <a:ext cx="840096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1176480" y="1932120"/>
            <a:ext cx="840096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7560" indent="-314280">
              <a:spcBef>
                <a:spcPts val="87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8920" indent="-250920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3" marL="1763640" indent="-250920">
              <a:spcBef>
                <a:spcPts val="87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4" marL="2266920" indent="-250920">
              <a:spcBef>
                <a:spcPts val="876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5" marL="2266920" indent="-250920">
              <a:spcBef>
                <a:spcPts val="876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6" marL="2266920" indent="-250920">
              <a:spcBef>
                <a:spcPts val="876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1195560" y="6719760"/>
            <a:ext cx="2100240" cy="50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882960" y="6719760"/>
            <a:ext cx="3192480" cy="50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7664400" y="6719760"/>
            <a:ext cx="2098800" cy="50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ru-RU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5D8043E2-BFC4-471A-BED4-E65BFC8E652B}" type="slidenum">
              <a:rPr b="0" lang="ru-RU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allday2.com/index.php?newsid=556664" TargetMode="External"/><Relationship Id="rId2" Type="http://schemas.openxmlformats.org/officeDocument/2006/relationships/hyperlink" Target="http://pedsovet.su/load/321-1-0-14568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C:\Documents and Settings\User\Мои документы\фгос   ноо.JPG"/>
          <p:cNvPicPr/>
          <p:nvPr/>
        </p:nvPicPr>
        <p:blipFill>
          <a:blip r:embed="rId1"/>
          <a:stretch/>
        </p:blipFill>
        <p:spPr>
          <a:xfrm>
            <a:off x="1882800" y="379440"/>
            <a:ext cx="631512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1253880" y="993240"/>
            <a:ext cx="8389800" cy="5424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2000"/>
          </a:bodyPr>
          <a:p>
            <a:pPr algn="ctr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Arial"/>
                <a:ea typeface="Arial"/>
              </a:rPr>
              <a:t>Отличительной особенностью начала обучения является то, что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наряду с традиционным письмом</a:t>
            </a:r>
            <a:r>
              <a:rPr b="0" lang="ru-RU" sz="35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Arial"/>
                <a:ea typeface="Arial"/>
              </a:rPr>
              <a:t>ребенок сразу начинает осваивать </a:t>
            </a:r>
            <a:r>
              <a:rPr b="1" lang="ru-RU" sz="35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клавиатурный набор текста.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Arial"/>
                <a:ea typeface="Arial"/>
              </a:rPr>
              <a:t>      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Arial"/>
                <a:ea typeface="Arial"/>
              </a:rPr>
              <a:t>В контексте изучения всех предметов будут использоваться различные источники информации, в том числе, в  </a:t>
            </a:r>
            <a:r>
              <a:rPr b="1" lang="ru-RU" sz="3500" spc="-1" strike="noStrike">
                <a:solidFill>
                  <a:srgbClr val="000000"/>
                </a:solidFill>
                <a:latin typeface="Arial"/>
                <a:ea typeface="Arial"/>
              </a:rPr>
              <a:t>Интернете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94880" y="466560"/>
            <a:ext cx="9069480" cy="6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Arial"/>
                <a:ea typeface="Arial"/>
              </a:rPr>
              <a:t>Что такое обучение деятельностью?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396800" y="1258920"/>
            <a:ext cx="8396280" cy="4968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5000"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В 1-ом классе реализуется цикл проектов, участвуя в которых,  дети знакомятся друг с другом, обмениваются информацией о себе, о школе, о своих интересах и увлечениях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Это, например, проекты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«Я и мое имя»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«Моя семья»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совместное издание Азбуки и многое другое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79600" y="539280"/>
            <a:ext cx="9069120" cy="576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Arial"/>
                <a:ea typeface="Arial"/>
              </a:rPr>
              <a:t>Что такое интегрированный подход к обучению?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396800" y="1564920"/>
            <a:ext cx="8251560" cy="4344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0000"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Интегрированный подход к обучению предполагает активное использование знаний, полученных при изучении одного предмета, на уроках по другим предметам. Например, на уроке русского языка идет работа над текстами-описаниями, эта же работа продолжается на уроке окружающего мира, например, в связи с изучением времен года. Результатом этой деятельности становится проект, например, видеорепортаж, описывающий картины природы, природные явления и т.п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682280" y="324000"/>
            <a:ext cx="7962840" cy="100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Arial"/>
                <a:ea typeface="Arial"/>
              </a:rPr>
              <a:t>Что такое внеурочная деятельность, каковы ее особенности ?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253880" y="1850760"/>
            <a:ext cx="8251560" cy="4824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>
              <a:lnSpc>
                <a:spcPct val="7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Добиться требуемых образовательных  результатов только на уроке нельзя. Поэтому очень важно, чтобы ребенок посещал специальные занятия во второй половине дня (внеурочную деятельность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3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      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         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Во внеурочную деятельность могут входить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76040">
              <a:lnSpc>
                <a:spcPct val="73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ыполнение домашних заданий (начиная со второго полугодия)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6040">
              <a:lnSpc>
                <a:spcPct val="73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ндивидуальные занятия учителя с детьми, требующими психолого-педагогической  и коррекционной поддержки (в том числе – индивидуальные занятия по постановке устной речи, почерка и письменной речи и т.д.)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6040">
              <a:lnSpc>
                <a:spcPct val="73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экскурсии, кружки, секции, олимпиады, соревнования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6040">
              <a:lnSpc>
                <a:spcPct val="73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оисковые исследования и выполнение проект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        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Box 1"/>
          <p:cNvSpPr/>
          <p:nvPr/>
        </p:nvSpPr>
        <p:spPr>
          <a:xfrm>
            <a:off x="2124000" y="333360"/>
            <a:ext cx="5508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точник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2"/>
          <p:cNvSpPr/>
          <p:nvPr/>
        </p:nvSpPr>
        <p:spPr>
          <a:xfrm>
            <a:off x="971640" y="836640"/>
            <a:ext cx="792144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41280" indent="-34128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</a:t>
            </a:r>
            <a:r>
              <a:rPr b="0" lang="ru-RU" sz="1800" spc="-1" strike="noStrike">
                <a:solidFill>
                  <a:srgbClr val="286f88"/>
                </a:solidFill>
                <a:latin typeface="Arial"/>
              </a:rPr>
              <a:t>: </a:t>
            </a:r>
            <a:r>
              <a:rPr b="0" lang="en-US" sz="1800" spc="-1" strike="noStrike" u="sng">
                <a:solidFill>
                  <a:srgbClr val="660066"/>
                </a:solidFill>
                <a:uFillTx/>
                <a:latin typeface="Arial"/>
                <a:hlinkClick r:id="rId1"/>
              </a:rPr>
              <a:t>http://allday2.com/index.php?newsid=5566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н к презентации: </a:t>
            </a:r>
            <a:r>
              <a:rPr b="0" lang="en-US" sz="1800" spc="-1" strike="noStrike" u="sng">
                <a:solidFill>
                  <a:srgbClr val="660066"/>
                </a:solidFill>
                <a:uFillTx/>
                <a:latin typeface="Arial"/>
                <a:hlinkClick r:id="rId2"/>
              </a:rPr>
              <a:t>http://pedsovet.su/load/321-1-0-1456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3"/>
          <p:cNvSpPr/>
          <p:nvPr/>
        </p:nvSpPr>
        <p:spPr>
          <a:xfrm>
            <a:off x="1182600" y="1851120"/>
            <a:ext cx="30006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точник: интер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1111320" y="1582920"/>
            <a:ext cx="8570880" cy="34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Главная цель введени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Федеральных Государственных образовательных стандартов начального общего образования (ФГОС НОО)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–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вышение качества образов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53880" y="1332000"/>
            <a:ext cx="8318520" cy="1805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694b6"/>
                </a:solidFill>
                <a:latin typeface="Arial"/>
                <a:ea typeface="Arial"/>
              </a:rPr>
              <a:t>Что такое </a:t>
            </a:r>
            <a:br>
              <a:rPr sz="3200"/>
            </a:br>
            <a:r>
              <a:rPr b="1" lang="ru-RU" sz="3200" spc="-1" strike="noStrike">
                <a:solidFill>
                  <a:srgbClr val="3694b6"/>
                </a:solidFill>
                <a:latin typeface="Arial"/>
                <a:ea typeface="Arial"/>
              </a:rPr>
              <a:t>Федеральный государственный стандарт</a:t>
            </a:r>
            <a:br>
              <a:rPr sz="3200"/>
            </a:br>
            <a:r>
              <a:rPr b="1" lang="ru-RU" sz="3200" spc="-1" strike="noStrike">
                <a:solidFill>
                  <a:srgbClr val="3694b6"/>
                </a:solidFill>
                <a:latin typeface="Arial"/>
                <a:ea typeface="Arial"/>
              </a:rPr>
              <a:t>начального общего образования?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468440" y="4065480"/>
            <a:ext cx="7889760" cy="2857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Arial"/>
                <a:ea typeface="Arial"/>
              </a:rPr>
              <a:t>Это - совокупность требований, которые обязательно должна выполнить каждая школа, организуя процесс обучения и воспитания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31280" y="250560"/>
            <a:ext cx="9069480" cy="115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Arial"/>
                <a:ea typeface="Arial"/>
              </a:rPr>
              <a:t>Что является отличительной особенностью нового Стандарта?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110960" y="2064960"/>
            <a:ext cx="8637480" cy="4592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6000"/>
          </a:bodyPr>
          <a:p>
            <a:pPr>
              <a:lnSpc>
                <a:spcPct val="73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Стандарты  первого поколения               Стандарты второго поколе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3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Формировать, давать знания                                 Развивать уме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3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3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Целью школы становятся не только знания, но и  умения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3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тавить цель и добиваться ее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3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амостоятельно добывать и применять знания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3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оставлять план своих действий и самостоятельно оценивать их последствия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3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задавать вопросы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3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ясно выражать свои мысли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3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заботиться о других, быть нравственным человек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3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охранять и укреплять своё здоровь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3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3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 информационном обществе главными стали не знания, а умения ими пользоваться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431640" y="4140360"/>
            <a:ext cx="92887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4"/>
          <p:cNvSpPr/>
          <p:nvPr/>
        </p:nvSpPr>
        <p:spPr>
          <a:xfrm>
            <a:off x="0" y="250920"/>
            <a:ext cx="427212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Arial"/>
              </a:rPr>
              <a:t>Так учили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5327640" y="324000"/>
            <a:ext cx="42004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Arial"/>
              </a:rPr>
              <a:t>Так будут учить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1511280" y="5003640"/>
            <a:ext cx="3241800" cy="20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Arial"/>
              </a:rPr>
              <a:t>Не заставляйте ребенка заучивать учебник и искать готовые ответы!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7" descr=""/>
          <p:cNvPicPr/>
          <p:nvPr/>
        </p:nvPicPr>
        <p:blipFill>
          <a:blip r:embed="rId1"/>
          <a:stretch/>
        </p:blipFill>
        <p:spPr>
          <a:xfrm>
            <a:off x="936720" y="5580000"/>
            <a:ext cx="584280" cy="5349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8" descr=""/>
          <p:cNvPicPr/>
          <p:nvPr/>
        </p:nvPicPr>
        <p:blipFill>
          <a:blip r:embed="rId2"/>
          <a:stretch/>
        </p:blipFill>
        <p:spPr>
          <a:xfrm>
            <a:off x="5256360" y="5580000"/>
            <a:ext cx="585720" cy="54612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9"/>
          <p:cNvSpPr/>
          <p:nvPr/>
        </p:nvSpPr>
        <p:spPr>
          <a:xfrm>
            <a:off x="5977080" y="5075280"/>
            <a:ext cx="4103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Arial"/>
              </a:rPr>
              <a:t>Текст нужно понять и уметь использовать!</a:t>
            </a:r>
            <a:r>
              <a:rPr b="1" lang="ru-RU" sz="31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936720" y="755640"/>
            <a:ext cx="3743280" cy="27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Учител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роверяет Д/з. </a:t>
            </a: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Учени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«выучил – пересказал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Учител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бъявляет новую те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Учитель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ъясняет новую тему («сиди и слушай!»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Учител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роверяет, как поняли «повтори!»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2"/>
          <p:cNvSpPr/>
          <p:nvPr/>
        </p:nvSpPr>
        <p:spPr>
          <a:xfrm>
            <a:off x="5472000" y="825480"/>
            <a:ext cx="4248360" cy="27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.Ученик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ами вспоминают знания, которые пригодятс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Учител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оздает ситуацию.</a:t>
            </a: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 Ученики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зывают тему, вопрос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Ученик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ами открывают новые знания (в диалоге с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учителе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в учебнике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Ученик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делают вывод по тем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3"/>
          <p:cNvSpPr/>
          <p:nvPr/>
        </p:nvSpPr>
        <p:spPr>
          <a:xfrm>
            <a:off x="4392720" y="1042920"/>
            <a:ext cx="1068120" cy="0"/>
          </a:xfrm>
          <a:prstGeom prst="line">
            <a:avLst/>
          </a:prstGeom>
          <a:ln w="76320">
            <a:solidFill>
              <a:srgbClr val="2b03f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4"/>
          <p:cNvSpPr/>
          <p:nvPr/>
        </p:nvSpPr>
        <p:spPr>
          <a:xfrm>
            <a:off x="4392720" y="2050920"/>
            <a:ext cx="1079280" cy="0"/>
          </a:xfrm>
          <a:prstGeom prst="line">
            <a:avLst/>
          </a:prstGeom>
          <a:ln w="76320">
            <a:solidFill>
              <a:srgbClr val="2b03f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5"/>
          <p:cNvSpPr/>
          <p:nvPr/>
        </p:nvSpPr>
        <p:spPr>
          <a:xfrm>
            <a:off x="4392720" y="2916360"/>
            <a:ext cx="1128600" cy="0"/>
          </a:xfrm>
          <a:prstGeom prst="line">
            <a:avLst/>
          </a:prstGeom>
          <a:ln w="76320">
            <a:solidFill>
              <a:srgbClr val="2b03f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6"/>
          <p:cNvSpPr/>
          <p:nvPr/>
        </p:nvSpPr>
        <p:spPr>
          <a:xfrm>
            <a:off x="4319640" y="3635280"/>
            <a:ext cx="1189080" cy="0"/>
          </a:xfrm>
          <a:prstGeom prst="line">
            <a:avLst/>
          </a:prstGeom>
          <a:ln w="76320">
            <a:solidFill>
              <a:srgbClr val="2b03f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5"/>
          <p:cNvSpPr/>
          <p:nvPr/>
        </p:nvSpPr>
        <p:spPr>
          <a:xfrm>
            <a:off x="1079640" y="4467600"/>
            <a:ext cx="8064360" cy="5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еняется и роль родител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1152360" y="466560"/>
            <a:ext cx="268956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Arial"/>
              </a:rPr>
              <a:t>Так учили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5327640" y="466560"/>
            <a:ext cx="42004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Arial"/>
              </a:rPr>
              <a:t>Так будут учить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1440000" y="4067280"/>
            <a:ext cx="4224240" cy="17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Arial"/>
              </a:rPr>
              <a:t>Не требуйте, чтобы ребенок читал и выполнял все, что есть в учебнике!</a:t>
            </a:r>
            <a:r>
              <a:rPr b="1" lang="ru-RU" sz="31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5" descr=""/>
          <p:cNvPicPr/>
          <p:nvPr/>
        </p:nvPicPr>
        <p:blipFill>
          <a:blip r:embed="rId1"/>
          <a:stretch/>
        </p:blipFill>
        <p:spPr>
          <a:xfrm>
            <a:off x="855720" y="4643280"/>
            <a:ext cx="584280" cy="5353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"/>
          <p:cNvPicPr/>
          <p:nvPr/>
        </p:nvPicPr>
        <p:blipFill>
          <a:blip r:embed="rId2"/>
          <a:stretch/>
        </p:blipFill>
        <p:spPr>
          <a:xfrm>
            <a:off x="5688000" y="4572000"/>
            <a:ext cx="585720" cy="54612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7"/>
          <p:cNvSpPr/>
          <p:nvPr/>
        </p:nvSpPr>
        <p:spPr>
          <a:xfrm>
            <a:off x="6348240" y="3995640"/>
            <a:ext cx="3372120" cy="13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Arial"/>
              </a:rPr>
              <a:t>Нужно учиться выбирать главное и интересное!</a:t>
            </a:r>
            <a:r>
              <a:rPr b="1" lang="ru-RU" sz="31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936720" y="1042920"/>
            <a:ext cx="3886200" cy="20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«Успешный ученик тот,  кто читает весь учебник и выполняет все задания – «от корки до корки»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0"/>
          <p:cNvSpPr/>
          <p:nvPr/>
        </p:nvSpPr>
        <p:spPr>
          <a:xfrm>
            <a:off x="4822920" y="1116000"/>
            <a:ext cx="525780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Задания и тексты в учебнике   даны с избытком – для выбор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9"/>
          <p:cNvSpPr/>
          <p:nvPr/>
        </p:nvSpPr>
        <p:spPr>
          <a:xfrm>
            <a:off x="4824360" y="2050920"/>
            <a:ext cx="5376960" cy="12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а контрольных спрашивается только малая часть того, что есть в учебник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7"/>
          <p:cNvSpPr/>
          <p:nvPr/>
        </p:nvSpPr>
        <p:spPr>
          <a:xfrm>
            <a:off x="1152360" y="3492720"/>
            <a:ext cx="7561440" cy="5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оль родител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636480" y="395280"/>
            <a:ext cx="411660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ак учи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4753080" y="395280"/>
            <a:ext cx="453528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ак будут уч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727280" y="4643280"/>
            <a:ext cx="3108240" cy="25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Arial"/>
              </a:rPr>
              <a:t>Нельзя останавливать ребенка словами: «Мал еще, взрослые лучше знают!»</a:t>
            </a:r>
            <a:r>
              <a:rPr b="1" lang="ru-RU" sz="31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5" descr=""/>
          <p:cNvPicPr/>
          <p:nvPr/>
        </p:nvPicPr>
        <p:blipFill>
          <a:blip r:embed="rId1"/>
          <a:stretch/>
        </p:blipFill>
        <p:spPr>
          <a:xfrm>
            <a:off x="1000080" y="5764320"/>
            <a:ext cx="584280" cy="5349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"/>
          <p:cNvPicPr/>
          <p:nvPr/>
        </p:nvPicPr>
        <p:blipFill>
          <a:blip r:embed="rId2"/>
          <a:stretch/>
        </p:blipFill>
        <p:spPr>
          <a:xfrm>
            <a:off x="5176800" y="5724360"/>
            <a:ext cx="584280" cy="54612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7"/>
          <p:cNvSpPr/>
          <p:nvPr/>
        </p:nvSpPr>
        <p:spPr>
          <a:xfrm>
            <a:off x="5977080" y="4643280"/>
            <a:ext cx="3827160" cy="17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Arial"/>
              </a:rPr>
              <a:t>Поддержите ребенка, если он высказывает и аргументирует свою точку зрения.</a:t>
            </a:r>
            <a:r>
              <a:rPr b="1" lang="ru-RU" sz="31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8"/>
          <p:cNvSpPr/>
          <p:nvPr/>
        </p:nvSpPr>
        <p:spPr>
          <a:xfrm>
            <a:off x="1182600" y="1042920"/>
            <a:ext cx="3929040" cy="305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 учебнике всегда есть один правильный ответ!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 учебнике излагается одна «правильная» точка зрения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0"/>
          <p:cNvSpPr/>
          <p:nvPr/>
        </p:nvSpPr>
        <p:spPr>
          <a:xfrm>
            <a:off x="5040360" y="1116000"/>
            <a:ext cx="5040360" cy="268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Часто в учебнике нет готового ответа, его надо создать самим, опираясь на текст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чти на любой творческий вопрос может быть несколько правильных ответов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2"/>
          <p:cNvSpPr/>
          <p:nvPr/>
        </p:nvSpPr>
        <p:spPr>
          <a:xfrm>
            <a:off x="1152360" y="4140720"/>
            <a:ext cx="7561440" cy="5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оль родител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4"/>
          <p:cNvSpPr/>
          <p:nvPr/>
        </p:nvSpPr>
        <p:spPr>
          <a:xfrm>
            <a:off x="1655640" y="3274920"/>
            <a:ext cx="3179880" cy="29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Arial"/>
              </a:rPr>
              <a:t>Не надо делать за ребенка домашнее задание и другие дела, которые он может сделать сам.</a:t>
            </a:r>
            <a:r>
              <a:rPr b="1" lang="ru-RU" sz="31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5" descr=""/>
          <p:cNvPicPr/>
          <p:nvPr/>
        </p:nvPicPr>
        <p:blipFill>
          <a:blip r:embed="rId1"/>
          <a:stretch/>
        </p:blipFill>
        <p:spPr>
          <a:xfrm>
            <a:off x="1071720" y="4356000"/>
            <a:ext cx="583920" cy="5367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6" descr=""/>
          <p:cNvPicPr/>
          <p:nvPr/>
        </p:nvPicPr>
        <p:blipFill>
          <a:blip r:embed="rId2"/>
          <a:stretch/>
        </p:blipFill>
        <p:spPr>
          <a:xfrm>
            <a:off x="5208480" y="4386240"/>
            <a:ext cx="584280" cy="54612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7"/>
          <p:cNvSpPr/>
          <p:nvPr/>
        </p:nvSpPr>
        <p:spPr>
          <a:xfrm>
            <a:off x="5796000" y="3274920"/>
            <a:ext cx="3781440" cy="17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Arial"/>
              </a:rPr>
              <a:t>Поддержите стремление ребенка быть самостоятельным.</a:t>
            </a:r>
            <a:r>
              <a:rPr b="1" lang="ru-RU" sz="31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8"/>
          <p:cNvSpPr/>
          <p:nvPr/>
        </p:nvSpPr>
        <p:spPr>
          <a:xfrm>
            <a:off x="1008000" y="900000"/>
            <a:ext cx="3816360" cy="168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«Если не успел что-то сделать на уроке – дома с родителями разберешься»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0"/>
          <p:cNvSpPr/>
          <p:nvPr/>
        </p:nvSpPr>
        <p:spPr>
          <a:xfrm>
            <a:off x="4968720" y="826920"/>
            <a:ext cx="4535640" cy="12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Домашнее задание – это способ развития самостоятельност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2"/>
          <p:cNvSpPr/>
          <p:nvPr/>
        </p:nvSpPr>
        <p:spPr>
          <a:xfrm>
            <a:off x="1068480" y="324000"/>
            <a:ext cx="411624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ак учи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4753080" y="324000"/>
            <a:ext cx="453528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ак будут уч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4"/>
          <p:cNvSpPr/>
          <p:nvPr/>
        </p:nvSpPr>
        <p:spPr>
          <a:xfrm>
            <a:off x="1079640" y="2700720"/>
            <a:ext cx="7561080" cy="5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оль родител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5"/>
          <p:cNvSpPr/>
          <p:nvPr/>
        </p:nvSpPr>
        <p:spPr>
          <a:xfrm>
            <a:off x="504720" y="6904080"/>
            <a:ext cx="201636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1008000" y="1258920"/>
          <a:ext cx="8569440" cy="6083280"/>
        </p:xfrm>
        <a:graphic>
          <a:graphicData uri="http://schemas.openxmlformats.org/drawingml/2006/table">
            <a:tbl>
              <a:tblPr/>
              <a:tblGrid>
                <a:gridCol w="5807160"/>
                <a:gridCol w="1396800"/>
                <a:gridCol w="1365480"/>
              </a:tblGrid>
              <a:tr h="849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Умения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Самооценка и оценка учител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5320"/>
                          <a:tab algn="l" pos="1343160"/>
                          <a:tab algn="l" pos="1790640"/>
                          <a:tab algn="l" pos="2238480"/>
                          <a:tab algn="l" pos="2685960"/>
                          <a:tab algn="l" pos="3133800"/>
                          <a:tab algn="l" pos="3581280"/>
                          <a:tab algn="l" pos="4029120"/>
                          <a:tab algn="l" pos="4476600"/>
                          <a:tab algn="l" pos="4924440"/>
                          <a:tab algn="l" pos="5372280"/>
                          <a:tab algn="l" pos="5819760"/>
                          <a:tab algn="l" pos="6267600"/>
                          <a:tab algn="l" pos="6715080"/>
                          <a:tab algn="l" pos="7162920"/>
                          <a:tab algn="l" pos="7610400"/>
                          <a:tab algn="l" pos="8058240"/>
                          <a:tab algn="l" pos="8505720"/>
                          <a:tab algn="l" pos="89535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5104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Я могу сказать,что и зачем мы будем делать на урок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924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. Я могу сказать,что нового я узнал на урок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. Я умею наблюдать и делать выводы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. Я могу запомнить важные сведени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960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. Я с уважением отношусь к другим людям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280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. Я выполняю правила, о которых мы договорились с ребятами в класс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. Я умею объяснять, что я чувствую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Rectangle 4"/>
          <p:cNvSpPr/>
          <p:nvPr/>
        </p:nvSpPr>
        <p:spPr>
          <a:xfrm>
            <a:off x="936720" y="340560"/>
            <a:ext cx="864072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  <a:ea typeface="Calibri"/>
              </a:rPr>
              <a:t>Чему я научился на уроках по всем предметам в этом учебном году (общеучебные и предметные умени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7T05:18:47Z</dcterms:created>
  <dc:creator>администратор</dc:creator>
  <dc:description/>
  <dc:language>en-US</dc:language>
  <cp:lastModifiedBy>Учитель</cp:lastModifiedBy>
  <dcterms:modified xsi:type="dcterms:W3CDTF">2014-03-11T08:28:21Z</dcterms:modified>
  <cp:revision>28</cp:revision>
  <dc:subject/>
  <dc:title>Слайд 1</dc:title>
</cp:coreProperties>
</file>