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96C34D3-4D8F-4A07-A0A6-0F015D94FE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3E39A80F-182A-411A-9E32-AB1012F934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2B6-DC8C-432C-884B-101DD597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ABD-DA60-4292-AFA4-DD74A1C1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DD5-6D64-4182-81E0-8D504BEF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724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648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1724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5800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3B4-606D-43A9-B139-C679C970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EF81-7A26-4505-B4B6-D2B96651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7941-991A-47C5-A260-20A7EC8C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8298-7954-4745-8F69-C60236F3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0C9C-1F77-4D6B-A915-B9660672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8614-1F3D-4835-99DC-2E344FE7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76480" y="420840"/>
            <a:ext cx="8400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C494-8D9C-4CEB-A7FA-588A18CA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B347-7F90-46D6-BFF6-BC427D3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032-C997-4C52-A2EB-BDA8B554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B148-DCA9-4C62-B3E2-B32653D0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C0B8-BB45-48BD-B3C7-574C7A70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8CCC-2FC9-4124-8C1D-5A26228C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1268-FADD-4B9B-B969-28EEDF19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1724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7648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1724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5800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7B7A-15B7-4265-A200-A27C92E7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F6D-60F5-4531-9236-46A3D1CA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9B6-9C7D-41A2-9041-975331E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7FD-B951-48EA-AFA0-E2923A35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6480" y="420840"/>
            <a:ext cx="8400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B3F-0401-4F9F-9BCF-9AF8882A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27F-5FE9-47A5-B841-50DBC16C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4AB-830E-4218-A34E-C93DB59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42D-8FBA-43E7-973B-DE8D1C28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71400" y="252360"/>
            <a:ext cx="9083880" cy="704520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120680" y="1763640"/>
            <a:ext cx="845676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5440"/>
            <a:ext cx="1301760" cy="4473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654440"/>
            <a:ext cx="13017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17080" y="6732720"/>
            <a:ext cx="2100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6640" y="6732720"/>
            <a:ext cx="319212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D9D8BB0-0804-4E7A-A84F-82D1567CB12D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71400" y="252360"/>
            <a:ext cx="9083880" cy="704520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1120680" y="1763640"/>
            <a:ext cx="845676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5440"/>
            <a:ext cx="1301760" cy="447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654440"/>
            <a:ext cx="1301760" cy="283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82480" y="222120"/>
            <a:ext cx="9258480" cy="7129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:\minispir.GIF"/>
          <p:cNvPicPr/>
          <p:nvPr/>
        </p:nvPicPr>
        <p:blipFill>
          <a:blip r:embed="rId5"/>
          <a:stretch/>
        </p:blipFill>
        <p:spPr>
          <a:xfrm>
            <a:off x="0" y="55440"/>
            <a:ext cx="1301760" cy="4726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58800" y="4552920"/>
            <a:ext cx="1147680" cy="50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:\minispir.GIF"/>
          <p:cNvPicPr/>
          <p:nvPr/>
        </p:nvPicPr>
        <p:blipFill>
          <a:blip r:embed="rId7"/>
          <a:srcRect l="0" t="40000" r="0" b="0"/>
          <a:stretch/>
        </p:blipFill>
        <p:spPr>
          <a:xfrm>
            <a:off x="0" y="4654440"/>
            <a:ext cx="1301760" cy="2835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195560" y="671976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882960" y="671976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664400" y="671976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0AE471F-2161-4CBC-8416-E44EAC20DFE3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llday2.com/index.php?newsid=556664" TargetMode="External"/><Relationship Id="rId2" Type="http://schemas.openxmlformats.org/officeDocument/2006/relationships/hyperlink" Target="http://pedsovet.su/load/321-1-0-14568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User\Мои документы\фгос   ноо.JPG"/>
          <p:cNvPicPr/>
          <p:nvPr/>
        </p:nvPicPr>
        <p:blipFill>
          <a:blip r:embed="rId1"/>
          <a:stretch/>
        </p:blipFill>
        <p:spPr>
          <a:xfrm>
            <a:off x="1882800" y="379440"/>
            <a:ext cx="63151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53880" y="993240"/>
            <a:ext cx="8389800" cy="542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Отличительной особенностью начала обучения является то, что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ряду с традиционным письмом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ребенок сразу начинает осваивать </a:t>
            </a:r>
            <a:r>
              <a:rPr b="1" lang="ru-RU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авиатурный набор текста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      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В контексте изучения всех предметов будут использоваться различные источники информации, в том числе, в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е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4880" y="466560"/>
            <a:ext cx="9069480" cy="6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  <a:ea typeface="Arial"/>
              </a:rPr>
              <a:t>Что такое обучение деятельностью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96800" y="1258920"/>
            <a:ext cx="8396280" cy="496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1-ом классе реализуется цикл проектов, участвуя в которых,  дети знакомятся друг с другом, обмениваются информацией о себе, о школе, о своих интересах и увлечен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, например, проек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Я и мое имя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Моя семья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вместное издание Азбуки и многое друго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9600" y="539280"/>
            <a:ext cx="9069120" cy="57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  <a:ea typeface="Arial"/>
              </a:rPr>
              <a:t>Что такое интегрированный подход к обучению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96800" y="1564920"/>
            <a:ext cx="8251560" cy="434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ый подход к обучению предполагает активное использование знаний, полученных при изучении одного предмета, на уроках по другим предметам. Например, на уроке русского языка идет работа над текстами-описаниями, эта же работа продолжается на уроке окружающего мира, например, в связи с изучением времен года. Результатом этой деятельности становится проект, например, видеорепортаж, описывающий картины природы, природные явления и т.п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82280" y="324000"/>
            <a:ext cx="796284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  <a:ea typeface="Arial"/>
              </a:rPr>
              <a:t>Что такое внеурочная деятельность, каковы ее особенности 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53880" y="1850760"/>
            <a:ext cx="82515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биться требуемых образовательных  результатов только на уроке нельзя. Поэтому очень важно, чтобы ребенок посещал специальные занятия во второй половине дня (внеурочную деятель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    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 внеурочную деятельность могут входить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домашних заданий (начиная со второго полугодия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занятия учителя с детьми, требующими психолого-педагогической  и коррекционной поддержки (в том числе – индивидуальные занятия по постановке устной речи, почерка и письменной речи и т.д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курсии, кружки, секции, олимпиады, соревн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сковые исследования и выполнение про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124000" y="333360"/>
            <a:ext cx="5508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971640" y="836640"/>
            <a:ext cx="7921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286f88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1"/>
              </a:rPr>
              <a:t>http://allday2.com/index.php?newsid=5566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 к презентации: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2"/>
              </a:rPr>
              <a:t>http://pedsovet.su/load/321-1-0-145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1182600" y="1851120"/>
            <a:ext cx="3000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: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111320" y="1582920"/>
            <a:ext cx="857088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ая цель в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едеральных Государственных образовательных стандартов начального общего образования (ФГОС НОО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ышение качества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3880" y="1332000"/>
            <a:ext cx="8318520" cy="180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94b6"/>
                </a:solidFill>
                <a:latin typeface="Arial"/>
                <a:ea typeface="Arial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3694b6"/>
                </a:solidFill>
                <a:latin typeface="Arial"/>
                <a:ea typeface="Arial"/>
              </a:rPr>
              <a:t>Федеральный государственный стандарт</a:t>
            </a:r>
            <a:br>
              <a:rPr sz="3200"/>
            </a:br>
            <a:r>
              <a:rPr b="1" lang="ru-RU" sz="3200" spc="-1" strike="noStrike">
                <a:solidFill>
                  <a:srgbClr val="3694b6"/>
                </a:solidFill>
                <a:latin typeface="Arial"/>
                <a:ea typeface="Arial"/>
              </a:rPr>
              <a:t>начального общего образования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68440" y="4065480"/>
            <a:ext cx="7889760" cy="285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Это - совокупность требований, которые обязательно должна выполнить каждая школа, организуя процесс обучения и воспитани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280" y="250560"/>
            <a:ext cx="9069480" cy="115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  <a:ea typeface="Arial"/>
              </a:rPr>
              <a:t>Что является отличительной особенностью нового Стандарта?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0960" y="2064960"/>
            <a:ext cx="8637480" cy="459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>
              <a:lnSpc>
                <a:spcPct val="7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тандарты  первого поколения               Стандарты второго поко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ть, давать знания                                 Развивать ум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Целью школы становятся не только знания, но и  ум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ить цель и добиваться е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добывать и применять зн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ть план своих действий и самостоятельно оценивать их последств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вать вопрос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сно выражать свои мысл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ботиться о других, быть нравственным челове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хранять и укреплять своё здоровь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информационном обществе главными стали не знания, а умения ими пользоватьс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31640" y="4140360"/>
            <a:ext cx="928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250920"/>
            <a:ext cx="4272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27640" y="32400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511280" y="5003640"/>
            <a:ext cx="32418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936720" y="558000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256360" y="558000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5977080" y="5075280"/>
            <a:ext cx="4103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36720" y="755640"/>
            <a:ext cx="374328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Уче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472000" y="825480"/>
            <a:ext cx="424836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Уче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ет ситуацию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Учен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4392720" y="1042920"/>
            <a:ext cx="106812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4392720" y="2050920"/>
            <a:ext cx="10792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4392720" y="2916360"/>
            <a:ext cx="11286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4319640" y="3635280"/>
            <a:ext cx="11890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1079640" y="4467600"/>
            <a:ext cx="806436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яется и 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2360" y="466560"/>
            <a:ext cx="2689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27640" y="46656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0000" y="4067280"/>
            <a:ext cx="4224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855720" y="4643280"/>
            <a:ext cx="584280" cy="535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688000" y="457200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6348240" y="3995640"/>
            <a:ext cx="33721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936720" y="1042920"/>
            <a:ext cx="38862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Успешный ученик тот,  кто читает весь учебник и выполняет все задания – «от корки до кор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822920" y="1116000"/>
            <a:ext cx="5257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я и тексты в учебнике   даны с избытком – для выб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824360" y="2050920"/>
            <a:ext cx="53769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1152360" y="3492720"/>
            <a:ext cx="7561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36480" y="39528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53080" y="39528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27280" y="4643280"/>
            <a:ext cx="3108240" cy="25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000080" y="576432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5176800" y="572436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5977080" y="4643280"/>
            <a:ext cx="382716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182600" y="1042920"/>
            <a:ext cx="392904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040360" y="1116000"/>
            <a:ext cx="504036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1152360" y="4140720"/>
            <a:ext cx="7561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655640" y="3274920"/>
            <a:ext cx="317988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071720" y="4356000"/>
            <a:ext cx="583920" cy="53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5208480" y="438624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5796000" y="3274920"/>
            <a:ext cx="37814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08000" y="900000"/>
            <a:ext cx="38163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968720" y="826920"/>
            <a:ext cx="45356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068480" y="324000"/>
            <a:ext cx="4116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53080" y="32400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1079640" y="2700720"/>
            <a:ext cx="756108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04720" y="6904080"/>
            <a:ext cx="20163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08000" y="1258920"/>
          <a:ext cx="8569440" cy="6083280"/>
        </p:xfrm>
        <a:graphic>
          <a:graphicData uri="http://schemas.openxmlformats.org/drawingml/2006/table">
            <a:tbl>
              <a:tblPr/>
              <a:tblGrid>
                <a:gridCol w="5807160"/>
                <a:gridCol w="1396800"/>
                <a:gridCol w="1365480"/>
              </a:tblGrid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мен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амооценка и оценка учител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10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 могу сказать,что и зачем мы будем делать на урок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Я могу сказать,что нового я узнал на урок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 Я умею наблюдать и делать выв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Я могу запомнить важные све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Я с уважением отношусь к другим людя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Я выполняю правила, о которых мы договорились с ребятами в кла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Я умею объяснять, что я чувству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Rectangle 4"/>
          <p:cNvSpPr/>
          <p:nvPr/>
        </p:nvSpPr>
        <p:spPr>
          <a:xfrm>
            <a:off x="936720" y="340560"/>
            <a:ext cx="86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Чему я научился на уроках по всем предметам в этом учебном году (общеучебные и предметные ум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>администратор</dc:creator>
  <dc:description/>
  <dc:language>en-US</dc:language>
  <cp:lastModifiedBy>Учитель</cp:lastModifiedBy>
  <dcterms:modified xsi:type="dcterms:W3CDTF">2014-03-11T08:28:21Z</dcterms:modified>
  <cp:revision>28</cp:revision>
  <dc:subject/>
  <dc:title>Слайд 1</dc:title>
</cp:coreProperties>
</file>