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D44-78E5-4369-853B-5D85550F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168-D218-499E-A0FF-D7F087E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675-556B-4AA0-8E4C-4D833A38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A52-8BB5-4BE8-B8A5-6FE1F0CE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949-A757-432F-8480-9EAD63F1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462-9195-439E-A589-3490E27F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B23-8AE1-43DD-A7CF-DA48AA3B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F60-7059-42E6-9F25-9178D07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F94-4DB6-43E5-B204-4D0D6708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F1A-A2DF-437B-837F-3CD7D14B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4F0-7B5B-4C0D-9042-F6C2D12D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A81-45C5-45E1-9663-6E7E2C4F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E0FC-74B5-4CBD-B295-BE11654EB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useumsport.ru/netcat_files/userfiles/history/gto0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ГТО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Готов к Труду и Обороне!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Горжусь Тобой Отечеств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86028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Харина Ю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LA\Pictures\gto-stup-02.jpg"/>
          <p:cNvPicPr/>
          <p:nvPr/>
        </p:nvPicPr>
        <p:blipFill>
          <a:blip r:embed="rId3"/>
          <a:stretch/>
        </p:blipFill>
        <p:spPr>
          <a:xfrm>
            <a:off x="1187280" y="1254240"/>
            <a:ext cx="6840720" cy="550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LA\Pictures\logo.png"/>
          <p:cNvPicPr/>
          <p:nvPr/>
        </p:nvPicPr>
        <p:blipFill>
          <a:blip r:embed="rId4"/>
          <a:stretch/>
        </p:blipFill>
        <p:spPr>
          <a:xfrm>
            <a:off x="1403280" y="260280"/>
            <a:ext cx="64818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바탕"/>
              </a:rPr>
              <a:t>Викторина о спорт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796000" y="1114560"/>
            <a:ext cx="28908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ат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аскетбо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да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лимпийские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кор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196920"/>
            <a:ext cx="55800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Как называются соревнования велосипедистов и лыжников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Как называются соревнования, куда входят лыжные гонки со стрельбой на огневом рубеже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Через сколько лет проводятся чемпионаты мира по футболу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Как называется покров футбольного поля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Какой мяч тяжелее: футбольный, волейбольный, гандбольный или баскетбольны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Сколько человек входит в состав судейской коллегии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Наказание в спортивных иг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Палка для игры в городк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Чем являются слова "Быстрее, выше, сильнее?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Что стремится установить спортсм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549000"/>
            <a:ext cx="5040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. Спортивный переходящий приз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. В какой игре используется клюшка и шай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. Теннисная площад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. Хоккей - шайба, футбол - мяч, бадминтон-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. Она является залогом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. Лучшая тяжесть для любителей утренней заряд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. Специалист по поднятию тяжес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. Ледовая площ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. Сколько игроков в футбольной коман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.Какой вид спорта самый многочислен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35280" y="620640"/>
            <a:ext cx="3251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кк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ист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ант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танг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т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333360"/>
            <a:ext cx="497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1.Начало пути к финиш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2. Чего не надо, если есть сила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3. Инструмент спортивного судь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4. Боксерский кор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5.Спортивный снаряд , который  перетягиваю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6. "Бородатый" спортивный снаряд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. Танцор на ль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. Спортсмен, который ходит сид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9. Предки кроссово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0. Её должен взять прыгу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08720" y="333360"/>
            <a:ext cx="3178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ис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н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зё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гур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ахмат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о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333000"/>
            <a:ext cx="5051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.Как часто проводятся Олимпийские игр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.Назовите  5 спортивных терминов, начинающихся с буквы «С»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3.Что означает переплетение разноцветных колец в эмблеме олимпийских  игр?(Символ дружбы пяти континент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4. Страна зимних олимпийских игр 2014?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35280" y="333360"/>
            <a:ext cx="352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раз в четыре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адион, сетка, секундомер, спартакиада, спри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вол дружбы пяти контин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сс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gifportal.ru/data/smiles/sporta-1299.gif"/>
          <p:cNvPicPr/>
          <p:nvPr/>
        </p:nvPicPr>
        <p:blipFill>
          <a:blip r:embed="rId2"/>
          <a:stretch/>
        </p:blipFill>
        <p:spPr>
          <a:xfrm>
            <a:off x="3471840" y="4724280"/>
            <a:ext cx="2009880" cy="162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Users\LA\Pictures\360420738.gif"/>
          <p:cNvPicPr/>
          <p:nvPr/>
        </p:nvPicPr>
        <p:blipFill>
          <a:blip r:embed="rId2"/>
          <a:stretch/>
        </p:blipFill>
        <p:spPr>
          <a:xfrm>
            <a:off x="611280" y="674640"/>
            <a:ext cx="828180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Указ презид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43040" y="272880"/>
            <a:ext cx="5243400" cy="62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лава России Владимир Путин подписал указ о возрождении в стране норм ГТО – физкультурной программы советских времен по воспитанию патриотической молодеж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акже в указе решено оставить и прежнее название данной программы – «Готов к труду и обороне». Этим нынешнее правительство страны подчеркивает дань традициям национальной истории, отметил Путин на прошедшем заседании Совета по развитию физкультуры и спорт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акже глава государства добавил, что для развития массового спорта в России даже имеются финансовые средства, поскольку не все выделенные бюджетные средства на Игры в Сочи были израсходованы в 2014 году. Именно эти средства и планируется освоить для начала действия программы Г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879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LA\Pictures\i (1).jpg"/>
          <p:cNvPicPr/>
          <p:nvPr/>
        </p:nvPicPr>
        <p:blipFill>
          <a:blip r:embed="rId2"/>
          <a:stretch/>
        </p:blipFill>
        <p:spPr>
          <a:xfrm>
            <a:off x="179280" y="1773360"/>
            <a:ext cx="3422880" cy="256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1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И вновь сдаём мы Г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34600"/>
            <a:ext cx="6480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ГТО — это программа физической подготовки, которая существовала не только в общеобразовательных, но и в спортивных, профильных, профессиональных организациях Советского Союза. Программа ГТО поддерживалась и финансировалась государством, ведь была частью системы патриотического воспитания. Просуществовала ГТО ровно 60 лет, успев стать частью жизни нескольких поколений наших соотечественников. Сегодня, после 23 лет забвения ГТО возвращается в школы, в высшие учебные заведения, в жизнь каждого гражданина, занимая важные позиции в качестве показателя успеваемости абитури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LA\Pictures\гто1.jpg"/>
          <p:cNvPicPr/>
          <p:nvPr/>
        </p:nvPicPr>
        <p:blipFill>
          <a:blip r:embed="rId2"/>
          <a:stretch/>
        </p:blipFill>
        <p:spPr>
          <a:xfrm>
            <a:off x="6732720" y="2421000"/>
            <a:ext cx="222084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Знак ГТО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на груди у нег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35280" y="33300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азвитие физической культуры и обучение населения военным навыкам становятся в СССР главной задачей молодой страны. В первый же год советской власти ВЦИК РСФСР принимает декрет «Об обязательном обучении военному искусству». Начиная с апреля 1918 года мужчины и женщины от 18 до 40 лет обязаны обучаться военному делу по месту рабо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Для этих целей в 1920 году  в Москве создается военно-научное общество (ВНО) 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Знак ГТО 1 ступени. 1930-е годы"/>
          <p:cNvPicPr/>
          <p:nvPr/>
        </p:nvPicPr>
        <p:blipFill>
          <a:blip r:embed="rId2"/>
          <a:stretch/>
        </p:blipFill>
        <p:spPr>
          <a:xfrm>
            <a:off x="547560" y="1773360"/>
            <a:ext cx="280836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507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바탕"/>
              </a:rPr>
              <a:t>Развитие ГТО в 30-е годы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5111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1931 года активисты ОСОАВИАХИМа ведут широкую пропагандистскую деятельность, проводят занятия по противовоздушной и противохимической обороне на заводах и фабриках, в государственных учреждениях и учебных заведениях. К обязательным занятиям привлекаются все учащиеся общеобразовательных школ, профессионально-технических, средних специальных и высших учебных заведений, личный состав Вооружённых Сил СССР, милиции и некоторых других организаций. Желающие заниматься физкультурой и спортом в свободное от работы и учёбы время посещают учебно-тренировочные занятия и участвуют в спортивных соревнован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4" descr="Женщины-милиционеры выполняют гимнастические упражнен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97560" y="2060640"/>
            <a:ext cx="363528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Популярность компл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чень быстро спортивно-оборонный комплекс становится популярен. Нормы ГТО сдаются в школах, колхозных бригадах, рабочими фабрик, заводов, железных дорог и т.д. Проводятся масштабные соревнования на звание Чемпионов комплекса ГТО по отдельным его видам, которые по популярности не уступают Спартакиадам и центральным футбольным матчам сезо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се сдают нормативы ГТО, их очевидная польза для укрепления здоровья и развития навыков и умений, необходимых в повседневной жизни, делают комплекс популярным среди населения и особенно среди молодежи. Носить значок ГТО становится престиж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Почтовая марка с знаком ГТО, 1940 год"/>
          <p:cNvPicPr/>
          <p:nvPr/>
        </p:nvPicPr>
        <p:blipFill>
          <a:blip r:embed="rId2"/>
          <a:stretch/>
        </p:blipFill>
        <p:spPr>
          <a:xfrm>
            <a:off x="468360" y="1557360"/>
            <a:ext cx="31669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492000" y="549000"/>
            <a:ext cx="5651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 структуре ГТО помимо значков были удостоверения. Первые значки ГТО были выданы в первый же год существования структуры, их получили 24 тысячи человек. Самым первым значок получил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Яков Мельников, конькобеже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который получил бронзу на чемпионате мира в 1923 году. К слову, у него, кроме этой победы было еще 27 национальных рекордов. С каждым годом число людей, получивших значки, росло. Так, к примеру, к 1932 году значок первой степени получили 465 тысяч человек, а уже через год – в два раза больше. Через десять лет после создания ГТО число людей, получивших золотой значок составляло 6 миллионов человек. Среди людей, которые получали значки ГТО были известные звезды спорта и культуры СССР,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Аркадий Гайдар, братья Знаменские, Василий Соловьев-Сед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2"/>
          <a:stretch/>
        </p:blipFill>
        <p:spPr>
          <a:xfrm>
            <a:off x="160200" y="549360"/>
            <a:ext cx="340848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95280" y="476280"/>
            <a:ext cx="82803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и и задачи Г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го, можно выделить 2 главные задачи ГТО – повышение общего уровня здоровья населения, и создание определенной прослойки в обществе, всегда готовой к военной обороне. Почему был выбран именно такой формат? Во первых, четкая система нормативов создавала соревновательность. Дети, подростки, старались превзойти сразу трех соперников – во первых, своих товарищей, участников соревнований, во вторых нормативы, указанные в таблице для того, чтобы получить значок. И в третьих, свои собственные результаты. Система ГТО являлась мощным стимулом для спорта. Нормативы развивали все группы мышц, увеличивали выносливость, координацию, умение рассчитывать свои си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LA\Pictures\гто2.jpeg"/>
          <p:cNvPicPr/>
          <p:nvPr/>
        </p:nvPicPr>
        <p:blipFill>
          <a:blip r:embed="rId2"/>
          <a:stretch/>
        </p:blipFill>
        <p:spPr>
          <a:xfrm>
            <a:off x="1979640" y="4292640"/>
            <a:ext cx="54720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Нормы ГТО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1 ступ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LA\Pictures\gto-stup-01.jpg"/>
          <p:cNvPicPr/>
          <p:nvPr/>
        </p:nvPicPr>
        <p:blipFill>
          <a:blip r:embed="rId2"/>
          <a:stretch/>
        </p:blipFill>
        <p:spPr>
          <a:xfrm>
            <a:off x="3579840" y="189000"/>
            <a:ext cx="5545080" cy="648000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7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2833560" cy="281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19:12:14Z</dcterms:created>
  <dc:creator>LA</dc:creator>
  <dc:description/>
  <dc:language>en-US</dc:language>
  <cp:lastModifiedBy>Харина</cp:lastModifiedBy>
  <dcterms:modified xsi:type="dcterms:W3CDTF">2015-09-01T08:24:40Z</dcterms:modified>
  <cp:revision>13</cp:revision>
  <dc:subject/>
  <dc:title>ГТО Готов к Труду и Обороне! Горжусь Тобой Отчизна!</dc:title>
</cp:coreProperties>
</file>