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0A9C-8DF0-4E53-9B1B-F834CAEFE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938B-D3DB-483F-8608-7B5DA7DD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6E29-A417-41C2-974F-43646C78A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F417-3B71-485D-99DE-A9514CA76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B4ED-4519-431E-8CBD-54F6BACD0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827B-C2CB-47D9-A3A1-AA8041E5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CBB4-1EC9-4340-A144-B0586113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2825-55D2-428F-91A9-7B04F919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2C92-AAA3-4507-929C-D997D050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7785-DAF8-4B1E-B652-761080E7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E037-5F31-451B-B231-5BB03C38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8371-B306-4C76-B480-57204637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20FA4-8147-416A-8F17-F568F15D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EBF0-B88D-4593-A05F-5F023CD4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8854-3638-487D-8109-FFC1684F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48E0-B82C-4660-8210-47EA8740C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9D33-1533-4F11-AEFD-228343444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9B31F-B58D-43D3-80E0-A89D91CF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363E2-1260-49D9-84DC-DC26EE39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ED068-CACC-41A6-AD81-225CABA1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02D61-48CA-4DF2-B804-8AF8FC25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5E474-7287-4E44-9DCE-53A14579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B174-81BC-4AF8-91BD-BE4C4927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EF92D-068D-4634-85F5-E484A7E3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56D0A-E3B4-4C69-AF3B-FBEDFA97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9171B-F2EC-47C0-9288-E4C5A8D4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CA0FD-4B16-4EAC-B13C-8F17BDE2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A51E9-23BC-4C33-A8B6-6DF92061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A6E16-97D4-4170-BBDE-F4C59E4A2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B782C-E7F5-4C65-9300-E2994F104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9387-3472-4694-871D-5B1C147B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C51A-9628-4820-B685-18F4FC58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8545-0342-4D38-8BD8-D7D4295C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DDBF-D2AF-490F-9B93-6899DA48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9F38-ED9C-4336-812E-BCF4B131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7BDE-5C26-43C3-ADFB-D4CCAA05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39920" cy="92052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072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Прямоугольный треугольник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88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4379760" y="6408720"/>
            <a:ext cx="23508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C35F57-96FC-4D2A-A7BC-4C47EC5B53AF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олилиния 12"/>
          <p:cNvSpPr/>
          <p:nvPr/>
        </p:nvSpPr>
        <p:spPr>
          <a:xfrm>
            <a:off x="500040" y="5945040"/>
            <a:ext cx="4939920" cy="92052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Полилиния 11"/>
          <p:cNvSpPr/>
          <p:nvPr/>
        </p:nvSpPr>
        <p:spPr>
          <a:xfrm>
            <a:off x="485640" y="5938920"/>
            <a:ext cx="369072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Прямоугольный треугольник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48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бразец текста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Образец заголовка</a:t>
            </a: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88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4379760" y="6408720"/>
            <a:ext cx="23508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169865C-5FCE-4BAC-84CA-F1EAC3DE83DF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олилиния 12"/>
          <p:cNvSpPr/>
          <p:nvPr/>
        </p:nvSpPr>
        <p:spPr>
          <a:xfrm>
            <a:off x="500040" y="5945040"/>
            <a:ext cx="4939920" cy="92052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Полилиния 11"/>
          <p:cNvSpPr/>
          <p:nvPr/>
        </p:nvSpPr>
        <p:spPr>
          <a:xfrm>
            <a:off x="485640" y="5938920"/>
            <a:ext cx="369072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Прямоугольный треугольник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93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Образец заголовка</a:t>
            </a: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88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8"/>
          </p:nvPr>
        </p:nvSpPr>
        <p:spPr>
          <a:xfrm>
            <a:off x="4379760" y="6408720"/>
            <a:ext cx="23508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40AF5E-922E-4788-BAEA-656DE4D20FFA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aphorism-list.com/a.php?page=gorkij" TargetMode="External"/><Relationship Id="rId2" Type="http://schemas.openxmlformats.org/officeDocument/2006/relationships/hyperlink" Target="http://aphorism-list.com/autors.php?page=makar&amp;tkautors=makar" TargetMode="External"/><Relationship Id="rId3" Type="http://schemas.openxmlformats.org/officeDocument/2006/relationships/hyperlink" Target="http://aphorism-list.com/autors.php?page=prutkov&amp;tkautors=prutkov" TargetMode="External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7640" y="1412640"/>
            <a:ext cx="835272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464646"/>
                </a:solidFill>
                <a:latin typeface="Lucida Sans Unicode"/>
              </a:rPr>
              <a:t>Игровые технологии в начальной школе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1" lang="ru-RU" sz="3700" spc="-1" strike="noStrike">
                <a:solidFill>
                  <a:srgbClr val="464646"/>
                </a:solidFill>
                <a:latin typeface="Lucida Sans Unicode"/>
              </a:rPr>
              <a:t>   </a:t>
            </a:r>
            <a:r>
              <a:rPr b="1" lang="ru-RU" sz="3700" spc="-1" strike="noStrike">
                <a:solidFill>
                  <a:schemeClr val="accent2"/>
                </a:solidFill>
                <a:latin typeface="Lucida Sans Unicode"/>
              </a:rPr>
              <a:t>Факторы, способствующие воз-никновению игрового интереса:</a:t>
            </a:r>
            <a:r>
              <a:rPr b="1" lang="ru-RU" sz="3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0" lang="ru-RU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7859520" cy="4017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удовольствие от контактов с партнерами по игре; 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- удовольствие от демонстрации партнерам своих возможностей как игрока; 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- азарт, от ожидания непредвиденных игровых ситуаций и последовательных их разрешений в ходе игры; 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- необходимость принимать решения в сложных и часто неопределенных условиях; 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- удовлетворение от успеха – промежуточного и окончательного; 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- если игра ролевая, то удовольствие от процесса – перевоплощение в роль. 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1" lang="ru-RU" sz="37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1" lang="ru-RU" sz="3700" spc="-1" strike="noStrike">
                <a:solidFill>
                  <a:srgbClr val="464646"/>
                </a:solidFill>
                <a:latin typeface="Lucida Sans Unicode"/>
              </a:rPr>
              <a:t>В играх могут быть реализованы следующие потребности: </a:t>
            </a:r>
            <a:endParaRPr b="0" lang="ru-RU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8002080" cy="4161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личие собственной деятельности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творчество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общение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власть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потребность в ином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самоопределение через ролевое экспе-риментирование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самоопределение через пробы деятель-ностей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160" cy="1498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Требования к играм в образовании: </a:t>
            </a: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18080" cy="4161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Игровая оболочка (игровой сюжет);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ключенность каждого: команды в целом и каждого игрока лично;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озможность действия для каждого ученика;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Результат игры должен быть различен в зависимости от усилий играющих; должен быть риск неудачи. 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Игровые задания должны быть подобраны так, чтобы их выполнение было связано с определенными сложностями. С другой стороны, задания должны быть доступны каждому, поэтому необходимо учитывать уровень участников игры и задания подбирать от легких (для отработки учебного навыка) до тех, выполнение которых требует значительных усилий (формирование новых знаний и умений). 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ариативность – в игре не должно быть единственно возможного пути достижения цели. 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Должны быть заложены разные средства для достижения игровых целей. 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Этапы структуры игры:</a:t>
            </a: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8002080" cy="4161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целеполагание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ланирование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ализация цели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нализ результатов, в которых личность полностью реализует себя как субъект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озможность выбора и элементов соревновательности, удовлетворения потребностей, самоутверждения, самореализации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424360" cy="5328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роли, взятые на себя играющими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игровые действия как средства реализации этих ролей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игровое употребление предметов, т.е. замещение реальных вещей игровыми, условными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реальные отношения между играющими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сюжет (содержание) – область действительности, условно воспроизводимая в игре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2123640" y="197640"/>
            <a:ext cx="468000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Структура игры:</a:t>
            </a: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435520" cy="5471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свободная развивающая деятельность, предпринимаемая лишь по желанию ребенка, ради удовольствия от самого процесса деятельности, а не только от результата (процедурное удовольствие)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творческий, в значительной мере импровизационный, активный характер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этой деятельности («поле творчества»)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эмоциональная приподнятость деятельности, соперничество, состязательность, конкуренция («эмоциональное напряжение»)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наличие прямых или косвенных правил, отражающих содержание игры, логическую и временную последовательность ее развития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Отличительные черты игр:</a:t>
            </a: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дидактическим целям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организационной структуре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возрастным возможностям их использования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специфике содержания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Разнообразие педагогических игр по:</a:t>
            </a: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3023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обучающие, тренировочные, контролирующие, обобщающие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познавательные, воспитательные, развивающие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репродуктивные, продуктивные, творческие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коммуникативные, диагностические, профориентационные, психотехнические и другие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323640" y="404640"/>
            <a:ext cx="8352720" cy="92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8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  </a:t>
            </a: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По характеру педагогического процесса бывают: </a:t>
            </a:r>
            <a:br>
              <a:rPr sz="4100"/>
            </a:b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755640" y="148428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предметные,                                                      -сюжетные,                                                   -ролевые,                                                      -деловые,                                                      -имитационные,                                                -игры – драматизации. 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323640" y="620640"/>
            <a:ext cx="80298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34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По характеру игровой методики           делятся на: </a:t>
            </a:r>
            <a:br>
              <a:rPr sz="4100"/>
            </a:b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с предметами и без них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настольные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комнатные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уличные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на местности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компьютерные и с ТСО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с различными средствами передвижения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По игровой среде различают игры:</a:t>
            </a: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7640" y="620640"/>
            <a:ext cx="8229240" cy="51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та – это то, что человек обязан делать, а игра – то, что не обязан. Поэтому делать искусственные цветы или приносить воду в решете есть работа, а сбивать кегли или восходить на Монблан – забав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Марк Твен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540280" cy="4422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Дети очень часто умнее взрослых и всегда искреннее.</a:t>
            </a:r>
            <a:endParaRPr b="0" lang="ru-RU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19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М. Горький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Воспитание происходит всегда, даже тогда, когда вас нет дома.</a:t>
            </a:r>
            <a:endParaRPr b="0" lang="ru-RU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2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А.С. Макаренко</a:t>
            </a:r>
            <a:endParaRPr b="0" lang="ru-RU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 всех плодов наилучшие приносит хорошее воспитание.</a:t>
            </a:r>
            <a:endParaRPr b="0" lang="ru-RU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19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К. Прутков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Прямоугольник 3"/>
          <p:cNvSpPr/>
          <p:nvPr/>
        </p:nvSpPr>
        <p:spPr>
          <a:xfrm>
            <a:off x="1258920" y="404640"/>
            <a:ext cx="70005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АФОРИЗМЫ ПРО ВОСПИ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435520" cy="497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. Игровые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. Догматические, репродуктивные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. Объяснительно-иллюстративные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. Развивающие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5. Проблемные, поисковые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. Программированные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7. Диалогические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8. Творческие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9. Саморазвивающие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0. Информационные (компьютерные)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93000"/>
          </a:bodyPr>
          <a:p>
            <a:pPr indent="0">
              <a:lnSpc>
                <a:spcPct val="100000"/>
              </a:lnSpc>
              <a:buNone/>
            </a:pPr>
            <a:r>
              <a:rPr b="1" lang="ru-RU" sz="3700" spc="-1" strike="noStrike">
                <a:solidFill>
                  <a:srgbClr val="464646"/>
                </a:solidFill>
                <a:latin typeface="Lucida Sans Unicode"/>
              </a:rPr>
              <a:t>Педагогические технологии:</a:t>
            </a:r>
            <a:br>
              <a:rPr sz="3700"/>
            </a:br>
            <a:endParaRPr b="0" lang="ru-RU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700" spc="-1" strike="noStrike">
                <a:solidFill>
                  <a:schemeClr val="accent2"/>
                </a:solidFill>
                <a:latin typeface="Lucida Sans Unicode"/>
              </a:rPr>
              <a:t>Функции игры:</a:t>
            </a:r>
            <a:br>
              <a:rPr sz="3700"/>
            </a:br>
            <a:endParaRPr b="0" lang="ru-RU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ru-RU" sz="2000" spc="-1" strike="noStrike">
                <a:solidFill>
                  <a:schemeClr val="accent2"/>
                </a:solidFill>
                <a:latin typeface="Lucida Sans Unicode"/>
              </a:rPr>
              <a:t>развлекательная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(основная функция игры – развлечь, доставить удовольствие, воодушевить, пробудить интерес); 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ru-RU" sz="2000" spc="-1" strike="noStrike">
                <a:solidFill>
                  <a:schemeClr val="accent2"/>
                </a:solidFill>
                <a:latin typeface="Lucida Sans Unicode"/>
              </a:rPr>
              <a:t>коммуникативная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: освоение диалектики общения; 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 по самореализации в игре как на «полигоне человеческой практики»; 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ru-RU" sz="2000" spc="-1" strike="noStrike">
                <a:solidFill>
                  <a:schemeClr val="accent2"/>
                </a:solidFill>
                <a:latin typeface="Lucida Sans Unicode"/>
              </a:rPr>
              <a:t>терапевтическая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: преодоление различных трудностей, возникающих в других видах жизнедеятельности; 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ru-RU" sz="2000" spc="-1" strike="noStrike">
                <a:solidFill>
                  <a:schemeClr val="accent2"/>
                </a:solidFill>
                <a:latin typeface="Lucida Sans Unicode"/>
              </a:rPr>
              <a:t>диагностическая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: выявление отклонений от нормативного поведения, самопознание в процессе игры; 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ru-RU" sz="2000" spc="-1" strike="noStrike">
                <a:solidFill>
                  <a:schemeClr val="accent2"/>
                </a:solidFill>
                <a:latin typeface="Lucida Sans Unicode"/>
              </a:rPr>
              <a:t>коррекционная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: внесение позитивных изменений в структуру личностных показателей; - межнациональной коммуникации: усвоение единых для всех людей социокультурных ценностей; 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 социализации: включение в систему общественных отношений, усвоение норм человеческого общежития.  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Значение игры</a:t>
            </a:r>
            <a:endParaRPr b="0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гровая деятельность используется в следующих случаях: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в качестве самостоятельных технологий для освоения понятия, темы и даже раздела учебного предмета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как элементы более обширной технологии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в качестве урока (занятия) и его части (введения, объяснения, закрепления, упражнения, контроля)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как технология внеклассной работы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93000"/>
          </a:bodyPr>
          <a:p>
            <a:pPr indent="0">
              <a:lnSpc>
                <a:spcPct val="100000"/>
              </a:lnSpc>
              <a:buNone/>
            </a:pPr>
            <a:r>
              <a:rPr b="1" lang="ru-RU" sz="3700" spc="-1" strike="noStrike">
                <a:solidFill>
                  <a:srgbClr val="464646"/>
                </a:solidFill>
                <a:latin typeface="Lucida Sans Unicode"/>
              </a:rPr>
              <a:t>Направления игровых приёмов и ситуаций:</a:t>
            </a:r>
            <a:endParaRPr b="0" lang="ru-RU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- дидактическая цель ставится перед учащимися в форме игровой задачи; 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- учебная деятельность подчиняется правилам игры; 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- учебный материал используется в качестве её средства; 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- в учебную деятельность вводятся соревнования, которые способствуют переходу дидактических задач в разряд игровых; 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- успешное выполнение дидактического задания связывается с игровым результатом. 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148104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«Для дитяти игра – действительность, и действительность гораздо более интересная, чем та, которая его окружает. Интереснее она для ребенка именно потому, что отчасти есть его собственное создание. В игре дитя живет, и следы этой жизни глубже остаются в нем, чем следы действительной жизни…(К.Д.Ушинский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496000" cy="302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7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1" lang="ru-RU" sz="3700" spc="-1" strike="noStrike">
                <a:solidFill>
                  <a:srgbClr val="464646"/>
                </a:solidFill>
                <a:latin typeface="Lucida Sans Unicode"/>
              </a:rPr>
              <a:t>Факторы, делающие игру для ре-бёнка не просто привлекательной, но и незаменимой, единственной сферой реализации потребностей: </a:t>
            </a:r>
            <a:endParaRPr b="0" lang="ru-RU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324000" y="3716280"/>
            <a:ext cx="8819640" cy="2376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109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мостоятельность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озможность творчеств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247</TotalTime>
  <Application>LibreOffice/7.4.7.2$Linux_X86_64 LibreOffice_project/40$Build-2</Application>
  <AppVersion>15.0000</AppVersion>
  <Words>885</Words>
  <Paragraphs>111</Paragraphs>
  <Company>school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6:22:50Z</dcterms:created>
  <dc:creator>mobil2</dc:creator>
  <dc:description/>
  <dc:language>en-US</dc:language>
  <cp:lastModifiedBy>1</cp:lastModifiedBy>
  <dcterms:modified xsi:type="dcterms:W3CDTF">2015-10-06T11:07:49Z</dcterms:modified>
  <cp:revision>15</cp:revision>
  <dc:subject/>
  <dc:title>Игровые технологии в начальной школ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9</vt:r8>
  </property>
</Properties>
</file>