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A36-18D2-44C8-9D71-5CEA210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86C-5686-41B0-8113-FA4F7AAA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F78-39F6-47B5-90A6-4E3C4387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A68-090E-45A6-AF2F-B368457A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514-CEC1-42FB-9C02-731AEFF7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01E4-6A1E-4EE4-BBB5-3794E47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5D8-D198-421B-B49B-F9CCAF3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628-D66A-4D71-A8B7-FEBD1F6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87D-A6DF-4767-9A1A-42AADDB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B2BB-4D22-45EF-9C91-0AFDD6F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642E-0AD5-4648-8AA7-DB70F01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AD8-951D-4F05-BE49-A21A1432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92E-7DD5-45B9-B37F-062ACE8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76A0-80C9-4A83-8D9A-2155FD4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447D-9E15-45EE-84C9-B1742761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9B83-BBD7-4989-A14E-C65BB192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7A0-967C-4777-B384-406B0104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E6D4-941B-444B-AC3C-05B60CFA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39D9-75A0-40BC-A605-B36B0B40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C3CF-59B6-40E5-82C9-71DE37C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3CD0-FD21-444E-A0DC-F00DD02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87D6-8DCA-42AF-B79E-4C014F3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EA1-A860-4AEA-A097-ED44F21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C37F-F9F9-4170-81E7-7F14013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380A-A5EB-426C-A143-71BE7C7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E1EB-1EFA-434B-B796-97FAB03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827D-A824-416A-8397-14D13EC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CA41-9E91-4931-8F0C-3C15688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37D0-D822-436A-A8FA-3B74DD1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1E53-5224-43C2-B481-FEBF01C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00D-D239-4E3D-A8B2-F869C1E8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31D-2CEF-4CE4-93E6-340E1F6A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77E-5365-4A4C-814C-3CB1BC9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28F-7035-4341-AE06-47DC4EB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233-9DD4-47A5-B6D7-4CC1DAE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B6A-C129-4271-85B7-E29A0A6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8FFF9A-2CEB-486B-9240-D898FFF878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48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38821E-3718-4A2B-8715-9B645EF6695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95686-BB19-457F-911E-FF2E6B3A7DC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phorism-list.com/a.php?page=gorkij" TargetMode="External"/><Relationship Id="rId2" Type="http://schemas.openxmlformats.org/officeDocument/2006/relationships/hyperlink" Target="http://aphorism-list.com/autors.php?page=makar&amp;tkautors=makar" TargetMode="External"/><Relationship Id="rId3" Type="http://schemas.openxmlformats.org/officeDocument/2006/relationships/hyperlink" Target="http://aphorism-list.com/autors.php?page=prutkov&amp;tkautors=prutkov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1412640"/>
            <a:ext cx="835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Игровые технологии в начальной школе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1" lang="ru-RU" sz="3700" spc="-1" strike="noStrike">
                <a:solidFill>
                  <a:schemeClr val="accent2"/>
                </a:solidFill>
                <a:latin typeface="Lucida Sans Unicode"/>
              </a:rPr>
              <a:t>Факторы, способствующие воз-никновению игрового интереса: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59520" cy="401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довольствие от контактов с партнерами по игре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ольствие от демонстрации партнерам своих возможностей как игрок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азарт, от ожидания непредвиденных игровых ситуаций и последовательных их разрешений в ходе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необходимость принимать решения в сложных и часто неопределенных условия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летворение от успеха – промежуточного и окончательного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если игра ролевая, то удовольствие от процесса – перевоплощение в роль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В играх могут быть реализованы следующие потребности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собственной деятель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тв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ще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ласть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требность в ино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ролевое экспе-римент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пробы деятель-ност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16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ебования к играм в образовании: 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18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ая оболочка (игровой сюжет)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ключенность каждого: команды в целом и каждого игрока лично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сть действия для каждого ученика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зультат игры должен быть различен в зависимости от усилий играющих; должен быть риск неудач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ые задания должны быть подобраны так, чтобы их выполнение было связано с определенными сложностями. С другой стороны, задания должны быть доступны каждому, поэтому необходимо учитывать уровень участников игры и задания подбирать от легких (для отработки учебного навыка) до тех, выполнение которых требует значительных усилий (формирование новых знаний и умений)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ариативность – в игре не должно быть единственно возможного пути достижения цел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олжны быть заложены разные средства для достижения игровых целей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структуры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леполаг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лан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ализация цел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результатов, в которых личность полностью реализует себя как субъект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выбора и элементов соревновательности, удовлетворения потребностей, самоутверждения, самореализации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36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оли, взятые на себя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ые действия как средства реализации этих ролей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ое употребление предметов, т.е. замещение реальных вещей игровыми, условны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альные отношения между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южет (содержание) – область действительности, условно воспроизводимая в игр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123640" y="197640"/>
            <a:ext cx="46800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труктура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35520" cy="54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вободная развивающая деятельность, предпринимаемая лишь по желанию ребенка, ради удовольствия от самого процесса деятельности, а не только от результата (процедурное удовольствие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кий, в значительной мере импровизационный, активный характер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й деятельности («поле творчества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моциональная приподнятость деятельности, соперничество, состязательность, конкуренция («эмоциональное напряжение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личие прямых или косвенных правил, отражающих содержание игры, логическую и временную последовательность ее развит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тличительные черты игр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дидактическим целя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рганизационной структур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озрастным возможностям их использования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пецифике содержа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знообразие педагогических игр по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3023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учающие, тренировочные, контролирующие, обобщ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знавательные, воспитательные, развив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продуктивные, продуктивные, творческ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муникативные, диагностические, профориентационные, психотехнические и друг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2720" cy="92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  </a:t>
            </a: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педагогического процесса бывают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редметные,                                                      -сюжетные,                                                   -ролевые,                                                      -деловые,                                                      -имитационные,                                                -игры – драматизации.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23640" y="620640"/>
            <a:ext cx="80298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игровой методики           делятся на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предметами и без них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столь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нат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улич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 мест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пьютерные и с ТС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различными средствами передвиж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игровой среде различают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51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– это то, что человек обязан делать, а игра – то, что не обязан. Поэтому делать искусственные цветы или приносить воду в решете есть работа, а сбивать кегли или восходить на Монблан – заба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Марк Тве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280" cy="4422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Дети очень часто умнее взрослых и всегда искренне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М. Горький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оспитание происходит всегда, даже тогда, когда вас нет дома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.С. Макаренко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всех плодов наилучшие приносит хорошее воспитани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. Прутков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1258920" y="404640"/>
            <a:ext cx="7000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АФОРИЗМЫ ПРО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435520" cy="497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Игр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Догматические, репродук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Объяснительно-иллюстра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Проблемные, поиск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Программирован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. Диалогическ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8. Творческие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. Само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0. Информационные (компьютерные)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Педагогические технологии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700" spc="-1" strike="noStrike">
                <a:solidFill>
                  <a:schemeClr val="accent2"/>
                </a:solidFill>
                <a:latin typeface="Lucida Sans Unicode"/>
              </a:rPr>
              <a:t>Функции игры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развлекатель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основная функция игры – развлечь, доставить удовольствие, воодушевить, пробудить интерес)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ммуникатив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освоение диалектики общения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по самореализации в игре как на «полигоне человеческой практики»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терапев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преодоление различных трудностей, возникающих в других видах жизнедеятельности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диагнос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ыявление отклонений от нормативного поведения, самопознание в процессе игры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ррекцион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несение позитивных изменений в структуру личностных показателей; - межнациональной коммуникации: усвоение единых для всех людей социокультурных ценностей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социализации: включение в систему общественных отношений, усвоение норм человеческого общежития. 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начение игры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овая деятельность используется в следующих случаях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самостоятельных технологий для освоения понятия, темы и даже раздела учебного предмета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элементы более обширной технологи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урока (занятия) и его части (введения, объяснения, закрепления, упражнения, контроля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технология внеклассной работы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Направления игровых приёмов и ситуаций: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дидактическая цель ставится перед учащимися в форме игровой задачи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ая деятельность подчиняется правилам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ый материал используется в качестве её средств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в учебную деятельность вводятся соревнования, которые способствуют переходу дидактических задач в разряд игровы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спешное выполнение дидактического задания связывается с игровым результатом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Для дитяти игра – действительность, и действительность гораздо более интересная, чем та, которая его окружает. Интереснее она для ребенка именно потому, что отчасти есть его собственное создание. В игре дитя живет, и следы этой жизни глубже остаются в нем, чем следы действительной жизни…(К.Д.Ушинский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Факторы, делающие игру для ре-бёнка не просто привлекательной, но и незаменимой, единственной сферой реализации потребностей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24000" y="3716280"/>
            <a:ext cx="8819640" cy="23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мостоятельност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творче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47</TotalTime>
  <Application>LibreOffice/7.4.7.2$Linux_X86_64 LibreOffice_project/40$Build-2</Application>
  <AppVersion>15.0000</AppVersion>
  <Words>885</Words>
  <Paragraphs>111</Paragraphs>
  <Company>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22:50Z</dcterms:created>
  <dc:creator>mobil2</dc:creator>
  <dc:description/>
  <dc:language>en-US</dc:language>
  <cp:lastModifiedBy>1</cp:lastModifiedBy>
  <dcterms:modified xsi:type="dcterms:W3CDTF">2015-10-06T11:07:49Z</dcterms:modified>
  <cp:revision>15</cp:revision>
  <dc:subject/>
  <dc:title>Игровые технологии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