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CB3-0378-4559-B576-4E19B845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CC6-BEB4-4D55-AF9B-5F21BA9D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169-3371-4C1F-90C3-618EB42C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B58-FB6B-4F51-9E23-50ED7FA9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3063-D1FC-4239-904E-CF5B8DDA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533F-4EB6-41F1-88DA-3AEE5CA1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38BA-74E9-4FB2-8301-983C9B65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44B3-D200-45B4-AB69-571F5ED1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E7D6-8093-41AA-B88A-6F7C7082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BF52-3933-4B4D-880F-9CA6C423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E8D0-32F7-43DB-908C-468AB265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CCE-A762-44D9-8B60-FB6EBE84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E402-382F-4D62-9EE4-B5654747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A1B1-9ECF-49F0-A3B1-8E2E9D83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F2F8-870A-4CF9-A065-31D082D1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6674-83F9-4B4B-B94D-D5825D85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83DE-1E5C-4398-BF10-084F64C3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094-AAE4-40C8-8AD9-0A2E5B4E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207-49F3-41A7-86F5-3D7CB5C0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0CD-5EFA-4CC0-A646-BCEAED2B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4FF-5171-453E-B879-48A5106B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C1A-E034-4077-9CF3-E0A0DC34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31A-A4BC-4C8F-B4F1-E6C84B20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581-8E63-4131-B3C2-7A8BBB0F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2141-32A7-457A-B901-09328EEC9C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1AD3-CE92-4B0A-BBBA-E0905FE316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372564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КА -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63280" y="256536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НОВА СТРОЕНИЯ И РОСТА ЖИВЫХ ОРГАНИЗ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Шолоховская гимназ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530064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боту выполнила Лаврова Арина             4 Б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Любой организм – растение, животное, человек, состоит из клеток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7" descr="1201615606_ss_00"/>
          <p:cNvPicPr/>
          <p:nvPr/>
        </p:nvPicPr>
        <p:blipFill>
          <a:blip r:embed="rId1"/>
          <a:stretch/>
        </p:blipFill>
        <p:spPr>
          <a:xfrm>
            <a:off x="1287360" y="1905120"/>
            <a:ext cx="30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1188567062_sg_03"/>
          <p:cNvPicPr/>
          <p:nvPr/>
        </p:nvPicPr>
        <p:blipFill>
          <a:blip r:embed="rId2"/>
          <a:stretch/>
        </p:blipFill>
        <p:spPr>
          <a:xfrm>
            <a:off x="5535720" y="190512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189527071_iic_mu_vol01_118"/>
          <p:cNvPicPr/>
          <p:nvPr/>
        </p:nvPicPr>
        <p:blipFill>
          <a:blip r:embed="rId3"/>
          <a:stretch/>
        </p:blipFill>
        <p:spPr>
          <a:xfrm>
            <a:off x="5529240" y="4076640"/>
            <a:ext cx="2703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первые клетку организма обнаружили в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XVII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веке, когда изобрели микроскоп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editor185"/>
          <p:cNvPicPr/>
          <p:nvPr/>
        </p:nvPicPr>
        <p:blipFill>
          <a:blip r:embed="rId1"/>
          <a:stretch/>
        </p:blipFill>
        <p:spPr>
          <a:xfrm>
            <a:off x="2814480" y="1905120"/>
            <a:ext cx="4052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Сравнивая разные клетки, ученые обнаружили, что некоторые из них можно увидеть невооруженным глазом.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8" descr="23545"/>
          <p:cNvPicPr/>
          <p:nvPr/>
        </p:nvPicPr>
        <p:blipFill>
          <a:blip r:embed="rId1"/>
          <a:stretch/>
        </p:blipFill>
        <p:spPr>
          <a:xfrm>
            <a:off x="1538280" y="1905120"/>
            <a:ext cx="2525760" cy="2019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9237"/>
          <p:cNvPicPr/>
          <p:nvPr/>
        </p:nvPicPr>
        <p:blipFill>
          <a:blip r:embed="rId2"/>
          <a:stretch/>
        </p:blipFill>
        <p:spPr>
          <a:xfrm>
            <a:off x="1285920" y="4076640"/>
            <a:ext cx="3031920" cy="201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115588791126"/>
          <p:cNvPicPr/>
          <p:nvPr/>
        </p:nvPicPr>
        <p:blipFill>
          <a:blip r:embed="rId3"/>
          <a:stretch/>
        </p:blipFill>
        <p:spPr>
          <a:xfrm>
            <a:off x="6167520" y="243828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b_1170"/>
          <p:cNvPicPr/>
          <p:nvPr/>
        </p:nvPicPr>
        <p:blipFill>
          <a:blip r:embed="rId4"/>
          <a:stretch/>
        </p:blipFill>
        <p:spPr>
          <a:xfrm>
            <a:off x="5535720" y="4076640"/>
            <a:ext cx="2692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XIX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веке ученые доказали, что клетка является основой всякого живого организм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5" descr="13"/>
          <p:cNvPicPr/>
          <p:nvPr/>
        </p:nvPicPr>
        <p:blipFill>
          <a:blip r:embed="rId1"/>
          <a:stretch/>
        </p:blipFill>
        <p:spPr>
          <a:xfrm>
            <a:off x="3651120" y="2838600"/>
            <a:ext cx="238140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летка – это маленький живой организ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дышит, питается, растет, размножается и умир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9" descr="kletka"/>
          <p:cNvPicPr/>
          <p:nvPr/>
        </p:nvPicPr>
        <p:blipFill>
          <a:blip r:embed="rId1"/>
          <a:stretch/>
        </p:blipFill>
        <p:spPr>
          <a:xfrm>
            <a:off x="5786280" y="2448000"/>
            <a:ext cx="21909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летки, имеющие одинаковое строение, собранные вместе, и выполняющие одинаковую работу, образуют ткань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человека 4 вида ткани : мышечная, нервная, соединительная и эпителиаль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оение клет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5" descr="p0092"/>
          <p:cNvPicPr/>
          <p:nvPr/>
        </p:nvPicPr>
        <p:blipFill>
          <a:blip r:embed="rId1"/>
          <a:stretch/>
        </p:blipFill>
        <p:spPr>
          <a:xfrm>
            <a:off x="1571760" y="1285920"/>
            <a:ext cx="67863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9:18:29Z</dcterms:created>
  <dc:creator>Polina</dc:creator>
  <dc:description/>
  <dc:language>en-US</dc:language>
  <cp:lastModifiedBy>Admin</cp:lastModifiedBy>
  <dcterms:modified xsi:type="dcterms:W3CDTF">2015-10-15T17:49:24Z</dcterms:modified>
  <cp:revision>6</cp:revision>
  <dc:subject/>
  <dc:title>КЛЕТКА -</dc:title>
</cp:coreProperties>
</file>