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9A62-63D5-4A99-9B8F-7F38CB24D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78CA-A620-4699-A9B0-38DEB6CA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74F2-BCFA-4E78-A7D3-053768BC1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963D-ED06-485E-8C78-744F08A82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91B5-42B2-4566-A874-CB90993A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DB80-BC96-4204-BD0F-EBF6D6E1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E345-2AFE-4362-8A9B-940927A6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C7F0-7B58-4839-92A2-CF1E6E79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3CFD-7519-456E-9154-68D2CA52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09A2-D78C-4B25-B070-E825EA62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3FF7-4F5B-49F1-BE94-EE237F1E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364F-1A04-43F9-896E-DF98CEF7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E510-ABCA-4E1D-96F8-F17CE39E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17526-6999-40B6-BD74-4C47AA18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431D-EE9A-4CF5-BE05-A8CF8960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F4A1-3075-43B0-8517-68197BA69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AC89-D91D-44BF-9E7F-160E57FF6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4B69-ACAD-43C7-8663-F515221D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BF20-7494-4038-A16A-B10AF4AA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2BCA-5286-4D00-9475-01688877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8895-DED3-431E-8B11-C00CB321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0454-325C-4282-8F53-07DABE14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0D29-4569-4CE5-8D17-8C35AF6A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DC72-775B-4C6B-933D-C19F07C6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E1AF-B8C3-43BE-9B59-02ADE97CEE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9CB2-12C7-4D81-8298-ABEDF949F8D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1773000"/>
            <a:ext cx="372564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КЛЕТКА -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763280" y="2565360"/>
            <a:ext cx="6782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ОСНОВА СТРОЕНИЯ И РОСТА ЖИВЫХ ОРГАНИЗМ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47640" y="33336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БОУ «Шолоховская гимназ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59280" y="5300640"/>
            <a:ext cx="46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боту выполнила Лаврова Арина             4 Б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Любой организм – растение, животное, человек, состоит из клеток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" name="Picture 7" descr="1201615606_ss_00"/>
          <p:cNvPicPr/>
          <p:nvPr/>
        </p:nvPicPr>
        <p:blipFill>
          <a:blip r:embed="rId1"/>
          <a:stretch/>
        </p:blipFill>
        <p:spPr>
          <a:xfrm>
            <a:off x="1287360" y="1905120"/>
            <a:ext cx="30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1188567062_sg_03"/>
          <p:cNvPicPr/>
          <p:nvPr/>
        </p:nvPicPr>
        <p:blipFill>
          <a:blip r:embed="rId2"/>
          <a:stretch/>
        </p:blipFill>
        <p:spPr>
          <a:xfrm>
            <a:off x="5535720" y="1905120"/>
            <a:ext cx="2692440" cy="2019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1189527071_iic_mu_vol01_118"/>
          <p:cNvPicPr/>
          <p:nvPr/>
        </p:nvPicPr>
        <p:blipFill>
          <a:blip r:embed="rId3"/>
          <a:stretch/>
        </p:blipFill>
        <p:spPr>
          <a:xfrm>
            <a:off x="5529240" y="4076640"/>
            <a:ext cx="27036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Впервые клетку организма обнаружили в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XVII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веке, когда изобрели микроскоп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Picture 5" descr="editor185"/>
          <p:cNvPicPr/>
          <p:nvPr/>
        </p:nvPicPr>
        <p:blipFill>
          <a:blip r:embed="rId1"/>
          <a:stretch/>
        </p:blipFill>
        <p:spPr>
          <a:xfrm>
            <a:off x="2814480" y="1905120"/>
            <a:ext cx="40528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Сравнивая разные клетки, ученые обнаружили, что некоторые из них можно увидеть невооруженным глазом. 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Picture 8" descr="23545"/>
          <p:cNvPicPr/>
          <p:nvPr/>
        </p:nvPicPr>
        <p:blipFill>
          <a:blip r:embed="rId1"/>
          <a:stretch/>
        </p:blipFill>
        <p:spPr>
          <a:xfrm>
            <a:off x="1538280" y="1905120"/>
            <a:ext cx="2525760" cy="2019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9237"/>
          <p:cNvPicPr/>
          <p:nvPr/>
        </p:nvPicPr>
        <p:blipFill>
          <a:blip r:embed="rId2"/>
          <a:stretch/>
        </p:blipFill>
        <p:spPr>
          <a:xfrm>
            <a:off x="1285920" y="4076640"/>
            <a:ext cx="3031920" cy="2019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115588791126"/>
          <p:cNvPicPr/>
          <p:nvPr/>
        </p:nvPicPr>
        <p:blipFill>
          <a:blip r:embed="rId3"/>
          <a:stretch/>
        </p:blipFill>
        <p:spPr>
          <a:xfrm>
            <a:off x="6167520" y="2438280"/>
            <a:ext cx="1428840" cy="952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b_1170"/>
          <p:cNvPicPr/>
          <p:nvPr/>
        </p:nvPicPr>
        <p:blipFill>
          <a:blip r:embed="rId4"/>
          <a:stretch/>
        </p:blipFill>
        <p:spPr>
          <a:xfrm>
            <a:off x="5535720" y="4076640"/>
            <a:ext cx="26924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 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XIX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веке ученые доказали, что клетка является основой всякого живого организма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Picture 5" descr="13"/>
          <p:cNvPicPr/>
          <p:nvPr/>
        </p:nvPicPr>
        <p:blipFill>
          <a:blip r:embed="rId1"/>
          <a:stretch/>
        </p:blipFill>
        <p:spPr>
          <a:xfrm>
            <a:off x="3651120" y="2838600"/>
            <a:ext cx="2381400" cy="23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летка – это маленький живой организ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а дышит, питается, растет, размножается и умира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9" descr="kletka"/>
          <p:cNvPicPr/>
          <p:nvPr/>
        </p:nvPicPr>
        <p:blipFill>
          <a:blip r:embed="rId1"/>
          <a:stretch/>
        </p:blipFill>
        <p:spPr>
          <a:xfrm>
            <a:off x="5786280" y="2448000"/>
            <a:ext cx="219096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Клетки, имеющие одинаковое строение, собранные вместе, и выполняющие одинаковую работу, образуют ткань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человека 4 вида ткани : мышечная, нервная, соединительная и эпителиальна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троение клет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Picture 5" descr="p0092"/>
          <p:cNvPicPr/>
          <p:nvPr/>
        </p:nvPicPr>
        <p:blipFill>
          <a:blip r:embed="rId1"/>
          <a:stretch/>
        </p:blipFill>
        <p:spPr>
          <a:xfrm>
            <a:off x="1571760" y="1285920"/>
            <a:ext cx="678636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09:18:29Z</dcterms:created>
  <dc:creator>Polina</dc:creator>
  <dc:description/>
  <dc:language>en-US</dc:language>
  <cp:lastModifiedBy>Admin</cp:lastModifiedBy>
  <dcterms:modified xsi:type="dcterms:W3CDTF">2015-10-15T17:49:24Z</dcterms:modified>
  <cp:revision>6</cp:revision>
  <dc:subject/>
  <dc:title>КЛЕТКА -</dc:title>
</cp:coreProperties>
</file>