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654-3B05-46FC-A12A-3297E8CD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495-1C71-4E3A-B58F-E7AB679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9FD-D1BD-463C-953F-E57E6071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D14-42CD-4D9F-8D3F-60D12578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8168-183E-4489-96D0-B09B75D9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8704-3D45-486E-B6B2-50F270A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1464-54EE-410C-AF81-DF7E364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7193-2C0F-4575-905A-19EAF4D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2B62-ADD7-4E30-B257-4E7CCCB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24B4-8B55-4E0D-95FB-7AFE13AE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7FAA-9BC7-4F83-8BA9-F419F39E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B2C-A2B2-4100-995D-08C502E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FD48-4B90-4FEB-B165-36C390C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A4F4-C92D-4577-9EBF-5520512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7AD2-1103-4330-A8C5-7A78941A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8B52-DFB2-4B7F-8114-71E6B60C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4E37-2865-4784-AFB4-B8E7620E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857-5A41-4C62-BE93-1A72C757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D23-19FC-4B82-886D-4505B566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1DB-0475-4DDA-860D-F9E80E13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7E4-455F-4480-8DFD-66B9D839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5F4-1952-4501-A6A6-F8F0FBF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52A-B79A-4276-9254-51C5632F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620-964B-4794-A81F-7CFD37E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399-4E63-448D-93AB-B87042CC80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639-CAF1-4354-B7CF-080E5ED41E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"/><Relationship Id="rId8" Type="http://schemas.openxmlformats.org/officeDocument/2006/relationships/slide" Target="slide17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"/><Relationship Id="rId12" Type="http://schemas.openxmlformats.org/officeDocument/2006/relationships/slide" Target="slide18.xml"/><Relationship Id="rId13" Type="http://schemas.openxmlformats.org/officeDocument/2006/relationships/slide" Target="slide28.xml"/><Relationship Id="rId14" Type="http://schemas.openxmlformats.org/officeDocument/2006/relationships/slide" Target="slide15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"/><Relationship Id="rId19" Type="http://schemas.openxmlformats.org/officeDocument/2006/relationships/slide" Target="slide20.xml"/><Relationship Id="rId20" Type="http://schemas.openxmlformats.org/officeDocument/2006/relationships/slide" Target=""/><Relationship Id="rId21" Type="http://schemas.openxmlformats.org/officeDocument/2006/relationships/slide" Target="slide21.xml"/><Relationship Id="rId22" Type="http://schemas.openxmlformats.org/officeDocument/2006/relationships/slide" Target=""/><Relationship Id="rId23" Type="http://schemas.openxmlformats.org/officeDocument/2006/relationships/slide" Target="slide22.xml"/><Relationship Id="rId24" Type="http://schemas.openxmlformats.org/officeDocument/2006/relationships/slide" Target=""/><Relationship Id="rId25" Type="http://schemas.openxmlformats.org/officeDocument/2006/relationships/slide" Target="slide23.xml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457200" y="1828800"/>
            <a:ext cx="8305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онкурс масте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 переплётно - картонаж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е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7" name="Picture 7" descr="Parchment Books Pieces - Polyvore"/>
          <p:cNvPicPr/>
          <p:nvPr/>
        </p:nvPicPr>
        <p:blipFill>
          <a:blip r:embed="rId7"/>
          <a:stretch/>
        </p:blipFill>
        <p:spPr>
          <a:xfrm>
            <a:off x="533520" y="3962520"/>
            <a:ext cx="3085920" cy="2068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ваш сервис альбом для рисования 12л, дрис, скреп, 55гр, а4,мелов.карт, маша и медведь в Картриджи,Тонеры,Компьютерные комплектую"/>
          <p:cNvPicPr/>
          <p:nvPr/>
        </p:nvPicPr>
        <p:blipFill>
          <a:blip r:embed="rId8"/>
          <a:stretch/>
        </p:blipFill>
        <p:spPr>
          <a:xfrm>
            <a:off x="5943600" y="3962520"/>
            <a:ext cx="243828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Материалы или инструменты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133720"/>
          <a:ext cx="8229600" cy="308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Матери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Инстру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ая бум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не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н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анд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333">
            <a:hlinkClick r:id="rId1" action="ppaction://hlinksldjump"/>
          </p:cNvPr>
          <p:cNvSpPr/>
          <p:nvPr/>
        </p:nvSpPr>
        <p:spPr>
          <a:xfrm>
            <a:off x="3786120" y="3500280"/>
            <a:ext cx="798480" cy="79884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34">
            <a:hlinkClick r:id="rId3" action="ppaction://hlinksldjump"/>
          </p:cNvPr>
          <p:cNvSpPr/>
          <p:nvPr/>
        </p:nvSpPr>
        <p:spPr>
          <a:xfrm>
            <a:off x="3786120" y="428616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38">
            <a:hlinkClick r:id="rId5" action="ppaction://hlinksldjump"/>
          </p:cNvPr>
          <p:cNvSpPr/>
          <p:nvPr/>
        </p:nvSpPr>
        <p:spPr>
          <a:xfrm>
            <a:off x="4572000" y="3500280"/>
            <a:ext cx="798480" cy="79884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6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39">
            <a:hlinkClick r:id="rId7" action="ppaction://hlinksldjump"/>
          </p:cNvPr>
          <p:cNvSpPr/>
          <p:nvPr/>
        </p:nvSpPr>
        <p:spPr>
          <a:xfrm>
            <a:off x="4572000" y="428616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43">
            <a:hlinkClick r:id="rId9" action="ppaction://hlinksldjump"/>
          </p:cNvPr>
          <p:cNvSpPr/>
          <p:nvPr/>
        </p:nvSpPr>
        <p:spPr>
          <a:xfrm>
            <a:off x="5357880" y="3500280"/>
            <a:ext cx="798480" cy="79884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44">
            <a:hlinkClick r:id="rId11" action="ppaction://hlinksldjump"/>
          </p:cNvPr>
          <p:cNvSpPr/>
          <p:nvPr/>
        </p:nvSpPr>
        <p:spPr>
          <a:xfrm>
            <a:off x="5369040" y="425772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2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48">
            <a:hlinkClick r:id="rId13" action="ppaction://hlinksldjump"/>
          </p:cNvPr>
          <p:cNvSpPr/>
          <p:nvPr/>
        </p:nvSpPr>
        <p:spPr>
          <a:xfrm>
            <a:off x="6154560" y="3500280"/>
            <a:ext cx="798840" cy="798840"/>
          </a:xfrm>
          <a:custGeom>
            <a:avLst/>
            <a:gdLst>
              <a:gd name="textAreaLeft" fmla="*/ 51480 w 798840"/>
              <a:gd name="textAreaRight" fmla="*/ 747360 w 798840"/>
              <a:gd name="textAreaTop" fmla="*/ 51480 h 798840"/>
              <a:gd name="textAreaBottom" fmla="*/ 747360 h 79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49">
            <a:hlinkClick r:id="rId15" action="ppaction://hlinksldjump"/>
          </p:cNvPr>
          <p:cNvSpPr/>
          <p:nvPr/>
        </p:nvSpPr>
        <p:spPr>
          <a:xfrm>
            <a:off x="6143760" y="428616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6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68">
            <a:hlinkClick r:id="rId17" action="ppaction://hlinksldjump"/>
          </p:cNvPr>
          <p:cNvSpPr/>
          <p:nvPr/>
        </p:nvSpPr>
        <p:spPr>
          <a:xfrm>
            <a:off x="8305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34">
            <a:hlinkClick r:id="rId18" action="ppaction://hlinksldjump"/>
          </p:cNvPr>
          <p:cNvSpPr/>
          <p:nvPr/>
        </p:nvSpPr>
        <p:spPr>
          <a:xfrm>
            <a:off x="378612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9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39">
            <a:hlinkClick r:id="rId20" action="ppaction://hlinksldjump"/>
          </p:cNvPr>
          <p:cNvSpPr/>
          <p:nvPr/>
        </p:nvSpPr>
        <p:spPr>
          <a:xfrm>
            <a:off x="457200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1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44">
            <a:hlinkClick r:id="rId22" action="ppaction://hlinksldjump"/>
          </p:cNvPr>
          <p:cNvSpPr/>
          <p:nvPr/>
        </p:nvSpPr>
        <p:spPr>
          <a:xfrm>
            <a:off x="535788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3" action="ppaction://hlinksldjump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49">
            <a:hlinkClick r:id="rId24" action="ppaction://hlinksldjump"/>
          </p:cNvPr>
          <p:cNvSpPr/>
          <p:nvPr/>
        </p:nvSpPr>
        <p:spPr>
          <a:xfrm>
            <a:off x="6143760" y="5072040"/>
            <a:ext cx="798480" cy="798480"/>
          </a:xfrm>
          <a:custGeom>
            <a:avLst/>
            <a:gdLst>
              <a:gd name="textAreaLeft" fmla="*/ 51480 w 798480"/>
              <a:gd name="textAreaRight" fmla="*/ 747000 w 798480"/>
              <a:gd name="textAreaTop" fmla="*/ 51480 h 798480"/>
              <a:gd name="textAreaBottom" fmla="*/ 74700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5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5"/>
          <p:cNvSpPr/>
          <p:nvPr/>
        </p:nvSpPr>
        <p:spPr>
          <a:xfrm>
            <a:off x="914400" y="35812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рени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96"/>
          <p:cNvSpPr/>
          <p:nvPr/>
        </p:nvSpPr>
        <p:spPr>
          <a:xfrm>
            <a:off x="700200" y="434340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7"/>
          <p:cNvSpPr/>
          <p:nvPr/>
        </p:nvSpPr>
        <p:spPr>
          <a:xfrm>
            <a:off x="645120" y="56437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106"/>
          <p:cNvSpPr/>
          <p:nvPr/>
        </p:nvSpPr>
        <p:spPr>
          <a:xfrm flipH="1" flipV="1">
            <a:off x="428400" y="349992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108"/>
          <p:cNvSpPr/>
          <p:nvPr/>
        </p:nvSpPr>
        <p:spPr>
          <a:xfrm flipH="1" flipV="1">
            <a:off x="499680" y="428580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110"/>
          <p:cNvSpPr/>
          <p:nvPr/>
        </p:nvSpPr>
        <p:spPr>
          <a:xfrm flipH="1" flipV="1">
            <a:off x="499680" y="507204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112"/>
          <p:cNvSpPr/>
          <p:nvPr/>
        </p:nvSpPr>
        <p:spPr>
          <a:xfrm flipH="1" flipV="1">
            <a:off x="395280" y="5877000"/>
            <a:ext cx="8105760" cy="5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0"/>
          <p:cNvSpPr/>
          <p:nvPr/>
        </p:nvSpPr>
        <p:spPr>
          <a:xfrm>
            <a:off x="457200" y="5105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ческие опера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06"/>
          <p:cNvSpPr/>
          <p:nvPr/>
        </p:nvSpPr>
        <p:spPr>
          <a:xfrm flipV="1">
            <a:off x="395280" y="3500280"/>
            <a:ext cx="0" cy="23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2133720" y="8380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Блиц - 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16000" y="34290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4683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cccc00"/>
                </a:solidFill>
                <a:latin typeface="Times New Roman"/>
              </a:rPr>
              <a:t>1</a:t>
            </a:r>
            <a:endParaRPr b="0" lang="en-US" sz="6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447920" y="2666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олько миллиметров в 15 с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809880" y="5105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3520" y="25909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колько сторон у треугольник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098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6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443120" y="5072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33520" y="6094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85840" y="2531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сстояние, измеряемое между концами отрезк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738240" y="507204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ДЛИ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609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6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981080" y="21337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ему равна половина от целого числ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505320" y="5029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1756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7720" y="205740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делия, изготовленные из белой незапечатанной бумаги (без текста и иллюстраций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90920" y="52578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Беловые това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762120" y="838080"/>
            <a:ext cx="527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523880" y="20574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делия из отрывных листов (бывают настольными, настенными и карманными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505320" y="5257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Блокн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652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6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84360" y="191628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Верхняя одежда» книжных блоков – это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287440" y="4495680"/>
            <a:ext cx="51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Обложка ил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переплётная кры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2438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2120" y="1905120"/>
            <a:ext cx="761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500040"/>
            <a:ext cx="9716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8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1979640" y="458136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Короб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374120" y="1981080"/>
            <a:ext cx="70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большой ящик для упаковк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нения и переноски чего-либо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орудует так быстро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ратно, тонко, чисто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жет, режет всё подряд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пилу чуть-чуть похож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торожно, остр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НО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838080" y="685800"/>
            <a:ext cx="743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11280" y="227664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бивка отверстий либо просечка штрихов в блоках для того, чтобы листы свободно отрывалис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2056680" y="48578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Перфор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33520" y="609480"/>
            <a:ext cx="609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80880" y="22050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цесс складывания (сгибания) листа бумаги в определенной последовательности для получения тетради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3309480" y="4952880"/>
            <a:ext cx="27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Фальц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685800" y="685800"/>
            <a:ext cx="743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611280" y="20606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цесс вырезания бумажных деталей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274200" y="5105520"/>
            <a:ext cx="20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Раскр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685800" y="685800"/>
            <a:ext cx="743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2000160" y="20001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-252360" y="1557360"/>
            <a:ext cx="878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3404160" y="4869000"/>
            <a:ext cx="17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Times New Roman"/>
              </a:rPr>
              <a:t>Шить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219320" y="2133720"/>
            <a:ext cx="608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особ скрепления тетрадей в книжный блок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Физкультмину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0" name="Гимнастика для глаз.mp4" descr=""/>
          <p:cNvPicPr/>
          <p:nvPr/>
        </p:nvPicPr>
        <p:blipFill>
          <a:blip r:embed="rId1"/>
          <a:stretch/>
        </p:blipFill>
        <p:spPr>
          <a:xfrm>
            <a:off x="1523880" y="2184480"/>
            <a:ext cx="60962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Чёрный ящик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2" name="Picture 5" descr="Черный Ящик Доступные Изображения (Страница 1) - AzImage.com"/>
          <p:cNvPicPr/>
          <p:nvPr/>
        </p:nvPicPr>
        <p:blipFill>
          <a:blip r:embed="rId1"/>
          <a:stretch/>
        </p:blipFill>
        <p:spPr>
          <a:xfrm>
            <a:off x="1447920" y="1828800"/>
            <a:ext cx="6524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Последовательность изготовления детской книжк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1. Фальцовка листов в один сги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2. Комплектовка бл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3. Фальцовка облож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4. Накидка обложки на бл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5. Шитьё изделия скоб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6. Обрезка изделия с трёх сто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Банковская техника, ЗАО, Санкт-Петербург : Компании : ALL.BIZ: Россия"/>
          <p:cNvPicPr/>
          <p:nvPr/>
        </p:nvPicPr>
        <p:blipFill>
          <a:blip r:embed="rId1"/>
          <a:stretch/>
        </p:blipFill>
        <p:spPr>
          <a:xfrm>
            <a:off x="228600" y="1981080"/>
            <a:ext cx="4495680" cy="3009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1447920" y="838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Оборудование для оперативной полиграфии - ООО &quot;РЕЙТИНГ&quot;"/>
          <p:cNvPicPr/>
          <p:nvPr/>
        </p:nvPicPr>
        <p:blipFill>
          <a:blip r:embed="rId2"/>
          <a:stretch/>
        </p:blipFill>
        <p:spPr>
          <a:xfrm>
            <a:off x="4648320" y="2362320"/>
            <a:ext cx="4086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9" name="Picture 5" descr="Книжка-малышка Котенька, купить в розницу. 465782 - Книжки-малышки - Товаромания.РФ"/>
          <p:cNvPicPr/>
          <p:nvPr/>
        </p:nvPicPr>
        <p:blipFill>
          <a:blip r:embed="rId1"/>
          <a:stretch/>
        </p:blipFill>
        <p:spPr>
          <a:xfrm>
            <a:off x="914400" y="2057400"/>
            <a:ext cx="3951360" cy="42480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" descr=""/>
          <p:cNvPicPr/>
          <p:nvPr/>
        </p:nvPicPr>
        <p:blipFill>
          <a:blip r:embed="rId2"/>
          <a:stretch/>
        </p:blipFill>
        <p:spPr>
          <a:xfrm>
            <a:off x="5084640" y="3413160"/>
            <a:ext cx="2595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448000" y="2644920"/>
            <a:ext cx="4248000" cy="157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участ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конкурс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пликации, картин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ебристые снежин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жешь сотворить и фл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 листов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де упрётся хвост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ет дырка пот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Ш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лговязый Тимошка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жит по узенькой дорожке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го следы – твои тру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нишь рваную тетрад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 листы намажь ско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жно крепко их прижа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б быстрее высох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х листов плотнее он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лый и цветной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КАРТ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66"/>
                </a:solidFill>
                <a:latin typeface="Times New Roman"/>
              </a:rPr>
              <a:t>Конкурс загадо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люблю прямоту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сама пряма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делать ровную черту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м я помогаю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66"/>
                </a:solidFill>
                <a:latin typeface="Times New Roman"/>
              </a:rPr>
              <a:t>Конкурс «Материалы или инструменты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4" name="Picture 5" descr="Клей, Зенит, мчп (металлобаза) в Одессе, - Клей"/>
          <p:cNvPicPr/>
          <p:nvPr/>
        </p:nvPicPr>
        <p:blipFill>
          <a:blip r:embed="rId1"/>
          <a:stretch/>
        </p:blipFill>
        <p:spPr>
          <a:xfrm>
            <a:off x="457200" y="1828800"/>
            <a:ext cx="1747800" cy="242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@дневники - What I learned today?"/>
          <p:cNvPicPr/>
          <p:nvPr/>
        </p:nvPicPr>
        <p:blipFill>
          <a:blip r:embed="rId2"/>
          <a:stretch/>
        </p:blipFill>
        <p:spPr>
          <a:xfrm>
            <a:off x="5257800" y="1905120"/>
            <a:ext cx="3276720" cy="56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Инструменты для работы с полимерной глиной"/>
          <p:cNvPicPr/>
          <p:nvPr/>
        </p:nvPicPr>
        <p:blipFill>
          <a:blip r:embed="rId3"/>
          <a:stretch/>
        </p:blipFill>
        <p:spPr>
          <a:xfrm>
            <a:off x="2590920" y="205740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Описание товара"/>
          <p:cNvPicPr/>
          <p:nvPr/>
        </p:nvPicPr>
        <p:blipFill>
          <a:blip r:embed="rId4"/>
          <a:stretch/>
        </p:blipFill>
        <p:spPr>
          <a:xfrm>
            <a:off x="5334120" y="243828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Ножницами желудок порезать проще всего, вот только вчера. 500x451 - 640x577 pesiq.ru"/>
          <p:cNvPicPr/>
          <p:nvPr/>
        </p:nvPicPr>
        <p:blipFill>
          <a:blip r:embed="rId5"/>
          <a:stretch/>
        </p:blipFill>
        <p:spPr>
          <a:xfrm>
            <a:off x="3048120" y="3962520"/>
            <a:ext cx="2609640" cy="2354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Карандаш ч/г М, Конструктор - Механические карандаши, сменные графиты - shkolarshop.ru"/>
          <p:cNvPicPr/>
          <p:nvPr/>
        </p:nvPicPr>
        <p:blipFill>
          <a:blip r:embed="rId6"/>
          <a:stretch/>
        </p:blipFill>
        <p:spPr>
          <a:xfrm>
            <a:off x="6400800" y="468648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ртон асбестовый Каон цена, купить, оптом Строительные това…"/>
          <p:cNvPicPr/>
          <p:nvPr/>
        </p:nvPicPr>
        <p:blipFill>
          <a:blip r:embed="rId7"/>
          <a:stretch/>
        </p:blipFill>
        <p:spPr>
          <a:xfrm>
            <a:off x="0" y="4267080"/>
            <a:ext cx="29955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02T19:54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