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7DF-0CF0-4457-AF82-AE170200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5BD-CD03-4F15-B56B-CF42E250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F54-66E2-4360-B094-96F8CE5C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2B4-64D0-44A1-A131-D1A5AE24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036-1159-4B3B-86F3-0FDB5FE1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8636-E1FD-4234-B880-A2BCABFA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183-2F35-4592-A042-2DF37AE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B3CF-673B-4825-BDE3-2839F3A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5680-FA14-4B54-B5CF-6CCC1FD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200E-2294-4B25-AF61-5732774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3679-9A9F-4170-897B-7059C14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EFF-6366-4802-AD94-67E04327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28D-EDC4-4503-BD9C-9813B10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7B5E-667F-4C02-9C1A-C22DDFD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BCF-56BC-4572-B84E-477754A3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A798-E970-492F-9488-45FA264F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057C-5FC1-4956-A77F-D951D5B7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C98B-3AEB-454C-9520-64166D99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E441-096D-4CB2-A8E2-8921D870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227B-FB69-4728-9F94-96443ED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6103-732E-4D85-AB72-FFBE20F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BAD3-A7A9-463A-997F-E06321C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E2-C286-407E-A8B2-875B921B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9A66-4DA1-4B1F-8193-B0A9AB3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9FA4-5DA9-4DB6-A8FE-C58587F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5DAF-3F04-4B91-9256-5337656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7E47-8E2E-4B6D-B06D-D13F6C7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48F3-E690-4953-AB59-F187197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7078-046F-431E-A2C5-B44A00B3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B997-5BDF-4DB5-919F-199541AA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4948-5986-43AE-94F9-23A948F3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8F0B-07C4-4A7C-912B-D855130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3884-6469-47BD-BB34-8CB8644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D2B-53B4-439D-9591-2F326FB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AD80-87DC-498D-9417-400A9A9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4F5F-0F6F-4E1C-9D63-66AA12A3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B074-50F5-41C0-AA9B-7AFA777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BD1D-1736-41BB-9FD1-6CFBDC2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E438-43A8-4E42-81AA-6C59AC7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3054-2EBC-4C8E-86C9-2CC7D65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FD69-4F66-418E-A278-F39122A2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3E9A-2027-4663-880E-87580B4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2C68-C4E6-49B1-9EA2-134495F5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D7FE-978B-46AE-B7BC-A08F5B52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207-B997-4F5A-88D9-B35293D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890FC-B798-422B-A035-7F26AB1C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67C9-F3E6-45BB-9853-11B30DFF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C9D5-7CC0-4DAE-9B20-6099E8E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16064-BCB5-4378-9BE3-D763B299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0F82-DEE2-4AA4-BEF7-FC68290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A714-51AB-4B09-B0BA-1E43D2E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A87D-4724-4E72-83E5-0BF6D6B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1A89-2327-438D-BEE4-7CAC3CA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2C3A-3D0E-4825-BF35-DD0332D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0757-1411-4028-9A9E-C4E24EF0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B74-3B98-4E3F-B686-A9880AE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489C-C261-4542-8736-3054E674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EBE2-0D2A-46A3-9303-127968B2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DA8D-A9F1-4424-875D-3232230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1D40-6557-4E49-A850-8BCAA7F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634A-79F0-4536-9E13-80864F1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E6A4-EEB2-44F1-96AF-366394C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FA18-29B7-46A0-A114-2889832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5CB7-4A53-4A3B-8A13-03A45E1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6455-5AEB-422F-A930-3797505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23A70-E4D5-4218-9AB0-667DC42D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0DF-440D-428C-A02B-17727F3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80CD2-C5FF-46E6-918A-DC308E9E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A3F47-071C-4E07-872C-CC51228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52D4-4EF3-4C84-8D0A-BC60E0EB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39BF-9917-4042-AA71-40A3726B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8A0E-B86C-4D40-9189-7AC06F14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535B-653C-4C54-B5C8-237CCD8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75C5-D65C-4BA7-A393-95AB7119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9A5E3-5473-4C5D-ADB9-3FE70D31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7792-5D31-4795-B577-334CD3C4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DDED-5EA2-408A-8C14-68B0D77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CD4-48C1-4A91-A708-3FDA99B2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B4C7-53D6-43B9-B236-94377C9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4E7E-147A-4508-8515-60D384B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A2AA-9551-49B9-859D-666B1A0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E80A8-DC0C-4F40-9A47-2022A1D6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358B-5C9E-4250-8701-98BA3783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046-5844-4AD9-96CB-677181A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829-1A69-43B4-AAF5-928D5C4130F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74FE-29E3-45FE-99D9-459C8841CC8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27D7-B011-4FBB-ACC3-9BDEB07C60A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84EC-CAF1-447B-84B3-3E337A9E16D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C43F-1CBF-470A-9E8B-0C557A41569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CD48-F7E6-41B1-9203-A60C56CE876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010-64DD-4B2F-B267-9C2D250613F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655344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br>
              <a:rPr sz="2200"/>
            </a:b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Педагогический колледж № 4 Санкт-Петербурга»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емы оптимизация двигательной активности детей раннего возра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484360" y="44370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раброва М.А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руководитель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усяинова Н.Ш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7985160" cy="46400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Три группы 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детей с разной Д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щая продолжительность двигательной активности занимает не менее 60% периода бодрствов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одержанием двигательного режима является двигательная деятельность, разнообразная по составу движений, физическим упражнениям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ериоды активности чередуются со “спокойными” видами деятель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аждому ребенку необходимо дать возможность двигаться самостоятель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равила разработки двигательного режима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Объект 4" descr=""/>
          <p:cNvPicPr/>
          <p:nvPr/>
        </p:nvPicPr>
        <p:blipFill>
          <a:blip r:embed="rId1"/>
          <a:stretch/>
        </p:blipFill>
        <p:spPr>
          <a:xfrm>
            <a:off x="871560" y="2676600"/>
            <a:ext cx="7407360" cy="3449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пытно-экспериментальная работа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птимизации двигательной активности детей раннего возраста</a:t>
            </a: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Задачи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условия, выявить уровень  и  особенности двигательной активности детей экспериментальной групп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хронометраж двигательной активности  и анализ содержания  двигательной деятельности детей экспериментальной групп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ение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 родител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ометраж двигательной активности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еда с медицинской сестрой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Констатирующий  эксперимент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вигательной деятельности 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Объект 4" descr=""/>
          <p:cNvPicPr/>
          <p:nvPr/>
        </p:nvPicPr>
        <p:blipFill>
          <a:blip r:embed="rId1"/>
          <a:stretch/>
        </p:blipFill>
        <p:spPr>
          <a:xfrm>
            <a:off x="820800" y="2624040"/>
            <a:ext cx="7510320" cy="35528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1406160" y="22766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вижени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5219640" y="20001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хронометража   двигательной активности на этапе констатирующего экспери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Диаграмма 5" descr=""/>
          <p:cNvPicPr/>
          <p:nvPr/>
        </p:nvPicPr>
        <p:blipFill>
          <a:blip r:embed="rId2"/>
          <a:stretch/>
        </p:blipFill>
        <p:spPr>
          <a:xfrm>
            <a:off x="4808520" y="2871720"/>
            <a:ext cx="349884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здать физкультурно-игровую здоровьесберегающую среду в  групп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работать план оптимизации организованной двигательной деятельности и  апробировать его на практике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работать план оптимизации самостоятельной  двигательной деятельности и  апробировать его на практ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исать и проанализировать формы работы по оптимизации двигательной активности детей с высоким и низким уровнем 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ять взаимодействие с родителями по оптимизации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821844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ормирующего  эксперимен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9" descr=""/>
          <p:cNvPicPr/>
          <p:nvPr/>
        </p:nvPicPr>
        <p:blipFill>
          <a:blip r:embed="rId1"/>
          <a:stretch/>
        </p:blipFill>
        <p:spPr>
          <a:xfrm>
            <a:off x="895320" y="2133720"/>
            <a:ext cx="7510320" cy="3468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ndara"/>
              </a:rPr>
              <a:t>Физкультурно-игровая сред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051760" cy="57909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имерное содержание упражнений и игр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77080" cy="3733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Физкультурный уголо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26560" y="256500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контрольного эксперимента были поставлены следующие 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Провести повторно хронометраж двигательной активности и диагностику сформированности двигательных умений и навы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Обработать  и проанализировать содержание и объем двигательной  активности детей, сформированность двигательных уменийи навы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роанализировать, полученные результаты, выделить условия и приемы  оптимизации двигательной активности дет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опытно - экспериментальной работы по оптимизации двигательной активности детей раннего возраста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й эксперимент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63760" y="1699920"/>
            <a:ext cx="6780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условий и приемов оптимизации       организованной и самостоятельной двигательной деятельности  детей  раннего возраст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собенности двигательной активности детей раннего возраст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емы оптимизации организованной и самостоятельной двигательной деятельности  детей одного двух лет в группе раннего развит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двигательной деятельности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454200" cy="2195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"/>
          <a:stretch/>
        </p:blipFill>
        <p:spPr>
          <a:xfrm>
            <a:off x="4343400" y="1916280"/>
            <a:ext cx="3611520" cy="22334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3134160" y="151596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вижени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2340000" y="4149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хронометража   двигательной активности на этапе контрольного экспери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Диаграмма 6" descr=""/>
          <p:cNvPicPr/>
          <p:nvPr/>
        </p:nvPicPr>
        <p:blipFill>
          <a:blip r:embed="rId3"/>
          <a:stretch/>
        </p:blipFill>
        <p:spPr>
          <a:xfrm>
            <a:off x="2428920" y="4602240"/>
            <a:ext cx="38275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249120" y="566640"/>
            <a:ext cx="11442960" cy="5894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804960" y="1725480"/>
            <a:ext cx="10217160" cy="4767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оптимизации двигательной активност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риемы повышения двигательной активности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ение детей старшего дошкольного возраст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слово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ние движениям животных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ые задания «Идите (бегите) ко мне», «Принеси игрушку, Перешагни палку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я в игровой форме: «Прогулка с куклой Катей», « Вот поезд наш едет»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2" name="Picture 2" descr="C:\Users\Сергей\Desktop\IMG_0529.JPG"/>
          <p:cNvPicPr/>
          <p:nvPr/>
        </p:nvPicPr>
        <p:blipFill>
          <a:blip r:embed="rId1"/>
          <a:stretch/>
        </p:blipFill>
        <p:spPr>
          <a:xfrm>
            <a:off x="5292720" y="1484280"/>
            <a:ext cx="3166920" cy="2200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Сергей\Desktop\IMG_0527.JPG"/>
          <p:cNvPicPr/>
          <p:nvPr/>
        </p:nvPicPr>
        <p:blipFill>
          <a:blip r:embed="rId2"/>
          <a:stretch/>
        </p:blipFill>
        <p:spPr>
          <a:xfrm>
            <a:off x="4716360" y="378936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Спасибо за 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внимание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200" y="1773360"/>
            <a:ext cx="787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зучить значение, особенности двигательной активности и двигательного режима  детей раннего возраст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ить возрастные возможности детей и пути оптимизация организованной и самостоятельной двигательной деятельности детей раннего возраст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зучить условия, выявить уровень  и  особенности двигательной активности детей экспериментальной групп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ать режим двигательной деятельности   и оптимизации двигательной активности детей  в группе раннего развития и  апробировать его на практик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ботать и проанализировать полученные результаты оптимизации двигательной активности детей экспериментальной групп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ботать и проанализировать, полученные результаты, выделить условия и приемы  оптимизации двигательной активности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436b"/>
                </a:solidFill>
                <a:latin typeface="Candara"/>
              </a:rPr>
              <a:t>Задачи исследован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вигательная активность основа жизнеобеспечения детского организм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вигате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жим включает в себя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виды организованной и самостоятельной деятельности, в которых четко выступают локомоторные (связанные с перемещением в пространстве)действия дет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амостоятельная двигательная деятельность - это деятельность, характеризующая активность двигательного аппарата ребенка во время самостоятельной деятельности дете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ованная двигательная деятельность - это деятельность, характеризующая активность двигательного аппарата  ребенка в разных формах организации физического  воспитания, которые проводит педагог в с детьми в течение дн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ронометраж двигательной активности отражает общую продолжительность, ее интенсивность, состав движений. С  помощью секундомера определяется время организованной и самостоятельной  двигательной деятельности в течение дн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Основные понят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Объект 3" descr=""/>
          <p:cNvPicPr/>
          <p:nvPr/>
        </p:nvPicPr>
        <p:blipFill>
          <a:blip r:embed="rId1"/>
          <a:stretch/>
        </p:blipFill>
        <p:spPr>
          <a:xfrm>
            <a:off x="542880" y="811080"/>
            <a:ext cx="7454880" cy="54975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365040" y="871560"/>
            <a:ext cx="84139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Объект 4" descr=""/>
          <p:cNvPicPr/>
          <p:nvPr/>
        </p:nvPicPr>
        <p:blipFill>
          <a:blip r:embed="rId1"/>
          <a:stretch/>
        </p:blipFill>
        <p:spPr>
          <a:xfrm>
            <a:off x="841320" y="1414440"/>
            <a:ext cx="7485120" cy="4724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амостоятельная двигательная активность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39640" y="1477800"/>
            <a:ext cx="777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Двигательный режим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76440" y="1989000"/>
            <a:ext cx="3822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вигательный режим  включает в себя все виды организованной и самостоятельной деятельности, в которых четко выступают  действия связанные с перемещением в пространств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ми критериями оценки двигательного режима являются объём, продолжительность, содержание, интенсивность двигательной актив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Объект 4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26920" y="2060280"/>
            <a:ext cx="367200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амостоятельная ходьба, ускоренная и быстрая ходьб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Бег “с полетом” с 1г.9мес. 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Катание мяча отталкивая его двумя руками, бросан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азание, ползание;  перелезание, подлезан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дпрыгивания на месте, прыжки в длин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стые упражнения в равновесии: ходьба по дос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собенности физического развития, характеристика возрастных возможностей  детей раннего возраста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2376360" cy="16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Users\Сергей\Desktop\MXnJVYxfC1M[1].jpg"/>
          <p:cNvPicPr/>
          <p:nvPr/>
        </p:nvPicPr>
        <p:blipFill>
          <a:blip r:embed="rId2"/>
          <a:stretch/>
        </p:blipFill>
        <p:spPr>
          <a:xfrm>
            <a:off x="4572000" y="393372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03:14Z</dcterms:created>
  <dc:creator>Сергей</dc:creator>
  <dc:description/>
  <dc:language>en-US</dc:language>
  <cp:lastModifiedBy>Сергей</cp:lastModifiedBy>
  <dcterms:modified xsi:type="dcterms:W3CDTF">2014-06-15T19:10:04Z</dcterms:modified>
  <cp:revision>129</cp:revision>
  <dc:subject/>
  <dc:title>Оптимизация двигательной активности детей на дополнительных занятиях в группе раннего возраста</dc:title>
</cp:coreProperties>
</file>