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8.png" ContentType="image/png"/>
  <Override PartName="/ppt/media/image12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F9A-50E9-4E2E-9DE1-FA3CB061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766-E7EC-48C6-B774-3F84F183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944-5748-4CCF-8FDD-D7AE3C73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211-1CFC-45A3-9598-BD43A610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1955-30AA-436C-8BC7-3EFCC90A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6B9B-B199-418D-9811-5F5EA260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6A71-ABF7-485F-943A-DB75C699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EE2D-1F52-4BF2-81C6-BFB140B2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EA44-68AB-41CA-8D9F-FAB15162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E915-9888-4F09-A8CA-F356BA24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4A76-42EB-4F89-AACD-750C9721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D55-4ED7-4A98-A75B-99332545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E389-4C1B-4230-90E1-C820A248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D64B-EE89-4F6E-8BB4-FBA7BB41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2280-AC05-4F86-BD4D-67A8D52D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91CC-D843-4D42-A066-3E589C34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4BFF-87FD-446E-82A7-F497C3E8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0E3F-5B19-4FB6-94ED-06A73180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3858-8DD0-4532-B5C5-91D74BE7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22B3-8AC0-4B7D-A07D-906DF8B5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6478F-CE6A-4190-AFA8-B419ED74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1145-1D1C-4D67-B5B8-58F0C8AF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A96-F91C-4889-B14B-64144A41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74E03-4BEF-4468-87DA-5F0BC33C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BD78-02B4-460B-8AC7-6C254430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4433-B8B4-4029-B36F-4757885D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E94A-339E-4785-97D0-3A1C6959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2F3A2-7560-49F6-B3EE-A7984729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053C6-9D63-4DE1-AD6D-D3F22EBD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F483F-F8A0-4D7C-91FA-4309F4E3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A01A7-2AFB-4BE7-988D-A7EDA7DD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A1444-C9BD-4610-BF59-5323F7E6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5B547-A308-4857-AB2E-ADB47EFD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939-7E8B-410E-B53E-267684A5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1A58-B83B-4B04-97FC-4A366FB9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65E7E-2DAE-492A-BC9D-EF27E561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4CEE6-022E-4651-A64F-238F97CD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28076-0F0E-405E-88A2-C390D03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05CEE-E8B7-4252-AF6A-CC6A47C5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C6CAA-6547-4125-BC79-0E3707EB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D3E58-A2D6-4294-BDC4-97621322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4C345-9543-4821-9D1F-624E4EFA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B1C4C-06B9-4DB9-B409-25853577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49DB6-4C67-4993-9459-E2F6F4F9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C6A-5F71-4831-BC4B-21512588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C74E4-998B-4856-B1BB-7737C88F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82CC7-C446-4016-848F-DC8C9CB9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9B59A-D3DC-4574-9B4C-68C66738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1126B-ECA6-47F0-8910-4DB777E8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10E1-6698-4C14-88B6-1CD89844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21F3-3B30-4A77-B105-8A2E218F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B77CF-F74B-4983-99A1-F7606CE0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0135F-D2B5-4036-8D14-F6508ABE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75762-23DD-405D-BC30-ED3DA412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B3765-4043-4D73-A719-82AE5E64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AFD-A4D7-4CA6-829C-F79ABC67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CA27-F440-4FB6-80B6-BFDC4569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C4084-14FB-4641-9CB1-5D1AEA0F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A8C6E-2E9A-4180-98B1-A4EFFD7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F7F64-65EB-4394-B810-4120BA2D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BCE27-D385-42ED-B6B7-D7983398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D2665-1183-4023-B0CA-D30797B6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7FD54-9112-4D7F-9769-3BA7D156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594E6-64F3-4FF7-AD76-946E1111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E3B5F-0591-40E3-B286-DFD164A7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0EDBD-D57F-4EB8-9739-95437B64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411-D71E-4EB7-8510-8E7D9203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1DF07-0A97-4089-8876-4EBECBC2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22365-C64D-4181-B623-25CEC41D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4DCFB-B4E4-4DDB-93AC-752F1E38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58B43-1BA4-42AB-B0CE-8FFEAB80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EA198-5068-4670-9525-E6A4F3F0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7B0CB-EED8-4F87-B63E-78458955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D0E61-107B-412A-878E-2B82094F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5DF5A-5267-4109-8770-73FB9CE5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FB521-9640-45CB-BCA2-B4251C99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4E594-3D4E-4EDD-AD8B-3323F79C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CB6-07A4-4963-A962-1DE003AD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C4520-0979-4118-BD16-06F93AE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17F03-2CFF-49F0-934F-A1F24729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2A7CE-F171-4634-A536-B31180B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F163D-C641-4C1F-9E1E-15C50807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BF98F-0E08-4FE1-95EE-500161FD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CA0-7EFB-4CCE-B053-490652ED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47E0-2E9F-4315-AACD-04DAECAA80E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E2A1-5EC3-43C7-8111-CC74F44D8EC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792A-E707-423F-9799-35F8F81366D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902E-C176-4915-A68A-67D2372B6E8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D129-854F-4731-AF9E-0A581A4D442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1C95-61F0-457A-AFD7-7737D86E665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DBC5-EFFA-4E78-B221-3DF3D9B6894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03280" y="692280"/>
            <a:ext cx="6553440" cy="34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 </a:t>
            </a:r>
            <a:br>
              <a:rPr sz="2200"/>
            </a:br>
            <a:r>
              <a:rPr b="0" lang="ru-RU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«Педагогический колледж № 4 Санкт-Петербурга»</a:t>
            </a:r>
            <a:br>
              <a:rPr sz="4000"/>
            </a:b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емы оптимизация двигательной активности детей раннего возраст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2484360" y="44370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раброва М.А.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руководитель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усяинова Н.Ш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Объект 3" descr=""/>
          <p:cNvPicPr/>
          <p:nvPr/>
        </p:nvPicPr>
        <p:blipFill>
          <a:blip r:embed="rId1"/>
          <a:stretch/>
        </p:blipFill>
        <p:spPr>
          <a:xfrm>
            <a:off x="573120" y="1700280"/>
            <a:ext cx="7985160" cy="464004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Три группы 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детей с разной Д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щая продолжительность двигательной активности занимает не менее 60% периода бодрствова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одержанием двигательного режима является двигательная деятельность, разнообразная по составу движений, физическим упражнениям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ериоды активности чередуются со “спокойными” видами деятельност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аждому ребенку необходимо дать возможность двигаться самостоятельно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Правила разработки двигательного режима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Объект 4" descr=""/>
          <p:cNvPicPr/>
          <p:nvPr/>
        </p:nvPicPr>
        <p:blipFill>
          <a:blip r:embed="rId1"/>
          <a:stretch/>
        </p:blipFill>
        <p:spPr>
          <a:xfrm>
            <a:off x="871560" y="2676600"/>
            <a:ext cx="7407360" cy="34495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пытно-экспериментальная работа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птимизации двигательной активности детей раннего возраста</a:t>
            </a: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Задачи: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условия, выявить уровень  и  особенности двигательной активности детей экспериментальной группы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хронометраж двигательной активности  и анализ содержания  двигательной деятельности детей экспериментальной групп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блюдение,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кетирование родителе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ометраж двигательной активности,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седа с медицинской сестрой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Констатирующий  эксперимент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двигательной деятельности 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Объект 4" descr=""/>
          <p:cNvPicPr/>
          <p:nvPr/>
        </p:nvPicPr>
        <p:blipFill>
          <a:blip r:embed="rId1"/>
          <a:stretch/>
        </p:blipFill>
        <p:spPr>
          <a:xfrm>
            <a:off x="820800" y="2624040"/>
            <a:ext cx="7510320" cy="355284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2"/>
          <p:cNvSpPr/>
          <p:nvPr/>
        </p:nvSpPr>
        <p:spPr>
          <a:xfrm>
            <a:off x="1406160" y="22766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вижений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5219640" y="200016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хронометража   двигательной активности на этапе констатирующего экспери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Диаграмма 5" descr=""/>
          <p:cNvPicPr/>
          <p:nvPr/>
        </p:nvPicPr>
        <p:blipFill>
          <a:blip r:embed="rId2"/>
          <a:stretch/>
        </p:blipFill>
        <p:spPr>
          <a:xfrm>
            <a:off x="4808520" y="2871720"/>
            <a:ext cx="3498840" cy="288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здать физкультурно-игровую здоровьесберегающую среду в  группе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зработать план оптимизации организованной двигательной деятельности и  апробировать его на практике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зработать план оптимизации самостоятельной  двигательной деятельности и  апробировать его на практик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исать и проанализировать формы работы по оптимизации двигательной активности детей с высоким и низким уровнем  двигательной актив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уществлять взаимодействие с родителями по оптимизации двигательной актив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821844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формирующего  эксперимент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Объект 9" descr=""/>
          <p:cNvPicPr/>
          <p:nvPr/>
        </p:nvPicPr>
        <p:blipFill>
          <a:blip r:embed="rId1"/>
          <a:stretch/>
        </p:blipFill>
        <p:spPr>
          <a:xfrm>
            <a:off x="895320" y="2133720"/>
            <a:ext cx="7510320" cy="34686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ndara"/>
              </a:rPr>
              <a:t>Физкультурно-игровая сред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Объект 3" descr=""/>
          <p:cNvPicPr/>
          <p:nvPr/>
        </p:nvPicPr>
        <p:blipFill>
          <a:blip r:embed="rId1"/>
          <a:stretch/>
        </p:blipFill>
        <p:spPr>
          <a:xfrm>
            <a:off x="469800" y="549360"/>
            <a:ext cx="8051760" cy="57909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римерное содержание упражнений и игр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977080" cy="37339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Физкультурный уголок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26560" y="256500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апе контрольного эксперимента были поставлены следующие задач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Провести повторно хронометраж двигательной активности и диагностику сформированности двигательных умений и навык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Обработать  и проанализировать содержание и объем двигательной  активности детей, сформированность двигательных уменийи навык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Проанализировать, полученные результаты, выделить условия и приемы  оптимизации двигательной активности дете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опытно - экспериментальной работы по оптимизации двигательной активности детей раннего возраста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й эксперимент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63760" y="1699920"/>
            <a:ext cx="67802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Цель исследования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явление условий и приемов оптимизации       организованной и самостоятельной двигательной деятельности  детей  раннего возраста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собенности двигательной активности детей раннего возраста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дмет исследования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емы оптимизации организованной и самостоятельной двигательной деятельности  детей одного двух лет в группе раннего развит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 двигательной деятельности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454200" cy="2195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"/>
          <p:cNvPicPr/>
          <p:nvPr/>
        </p:nvPicPr>
        <p:blipFill>
          <a:blip r:embed="rId2"/>
          <a:stretch/>
        </p:blipFill>
        <p:spPr>
          <a:xfrm>
            <a:off x="4343400" y="1916280"/>
            <a:ext cx="3611520" cy="223344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2"/>
          <p:cNvSpPr/>
          <p:nvPr/>
        </p:nvSpPr>
        <p:spPr>
          <a:xfrm>
            <a:off x="3134160" y="151596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вижений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2340000" y="41497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хронометража   двигательной активности на этапе контрольного экспери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Диаграмма 6" descr=""/>
          <p:cNvPicPr/>
          <p:nvPr/>
        </p:nvPicPr>
        <p:blipFill>
          <a:blip r:embed="rId3"/>
          <a:stretch/>
        </p:blipFill>
        <p:spPr>
          <a:xfrm>
            <a:off x="2428920" y="4602240"/>
            <a:ext cx="382752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Объект 3" descr=""/>
          <p:cNvPicPr/>
          <p:nvPr/>
        </p:nvPicPr>
        <p:blipFill>
          <a:blip r:embed="rId1"/>
          <a:stretch/>
        </p:blipFill>
        <p:spPr>
          <a:xfrm>
            <a:off x="249120" y="566640"/>
            <a:ext cx="11442960" cy="58946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Объект 3" descr=""/>
          <p:cNvPicPr/>
          <p:nvPr/>
        </p:nvPicPr>
        <p:blipFill>
          <a:blip r:embed="rId1"/>
          <a:stretch/>
        </p:blipFill>
        <p:spPr>
          <a:xfrm>
            <a:off x="804960" y="1725480"/>
            <a:ext cx="10217160" cy="47674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оптимизации двигательной активности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Приемы повышения двигательной активности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лашение детей старшего дошкольного возраст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слово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ние движениям животных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ые задания «Идите (бегите) ко мне», «Принеси игрушку, Перешагни палку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ые занятия в игровой форме: «Прогулка с куклой Катей», « Вот поезд наш едет»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2" name="Picture 2" descr="C:\Users\Сергей\Desktop\IMG_0529.JPG"/>
          <p:cNvPicPr/>
          <p:nvPr/>
        </p:nvPicPr>
        <p:blipFill>
          <a:blip r:embed="rId1"/>
          <a:stretch/>
        </p:blipFill>
        <p:spPr>
          <a:xfrm>
            <a:off x="5292720" y="1484280"/>
            <a:ext cx="3166920" cy="2200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Users\Сергей\Desktop\IMG_0527.JPG"/>
          <p:cNvPicPr/>
          <p:nvPr/>
        </p:nvPicPr>
        <p:blipFill>
          <a:blip r:embed="rId2"/>
          <a:stretch/>
        </p:blipFill>
        <p:spPr>
          <a:xfrm>
            <a:off x="4716360" y="3789360"/>
            <a:ext cx="309564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Спасибо за 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внимание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200" y="1773360"/>
            <a:ext cx="7877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зучить значение, особенности двигательной активности и двигательного режима  детей раннего возраст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пределить возрастные возможности детей и пути оптимизация организованной и самостоятельной двигательной деятельности детей раннего возраст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зучить условия, выявить уровень  и  особенности двигательной активности детей экспериментальной группы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работать режим двигательной деятельности   и оптимизации двигательной активности детей  в группе раннего развития и  апробировать его на практике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работать и проанализировать полученные результаты оптимизации двигательной активности детей экспериментальной групп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работать и проанализировать, полученные результаты, выделить условия и приемы  оптимизации двигательной активности дете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436b"/>
                </a:solidFill>
                <a:latin typeface="Candara"/>
              </a:rPr>
              <a:t>Задачи исследования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50920" y="1483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вигательная активность основа жизнеобеспечения детского организма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вигательный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жим включает в себя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 виды организованной и самостоятельной деятельности, в которых четко выступают локомоторные (связанные с перемещением в пространстве)действия дете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амостоятельная двигательная деятельность - это деятельность, характеризующая активность двигательного аппарата ребенка во время самостоятельной деятельности детей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рганизованная двигательная деятельность - это деятельность, характеризующая активность двигательного аппарата  ребенка в разных формах организации физического  воспитания, которые проводит педагог в с детьми в течение дня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ронометраж двигательной активности отражает общую продолжительность, ее интенсивность, состав движений. С  помощью секундомера определяется время организованной и самостоятельной  двигательной деятельности в течение дня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Основные поняти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Объект 3" descr=""/>
          <p:cNvPicPr/>
          <p:nvPr/>
        </p:nvPicPr>
        <p:blipFill>
          <a:blip r:embed="rId1"/>
          <a:stretch/>
        </p:blipFill>
        <p:spPr>
          <a:xfrm>
            <a:off x="542880" y="811080"/>
            <a:ext cx="7454880" cy="549756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365040" y="871560"/>
            <a:ext cx="84139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Объект 4" descr=""/>
          <p:cNvPicPr/>
          <p:nvPr/>
        </p:nvPicPr>
        <p:blipFill>
          <a:blip r:embed="rId1"/>
          <a:stretch/>
        </p:blipFill>
        <p:spPr>
          <a:xfrm>
            <a:off x="841320" y="1414440"/>
            <a:ext cx="7485120" cy="4724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Самостоятельная двигательная активность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39640" y="1477800"/>
            <a:ext cx="7777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Двигательный режим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76440" y="1989000"/>
            <a:ext cx="3822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Двигательный режим  включает в себя все виды организованной и самостоятельной деятельности, в которых четко выступают  действия связанные с перемещением в пространстве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Основными критериями оценки двигательного режима являются объём, продолжительность, содержание, интенсивность двигательной актив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Объект 4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374472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26920" y="2060280"/>
            <a:ext cx="3672000" cy="36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Самостоятельная ходьба, ускоренная и быстрая ходьб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Бег “с полетом” с 1г.9мес. 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Катание мяча отталкивая его двумя руками, бросани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Лазание, ползание;  перелезание, подлезани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одпрыгивания на месте, прыжки в длин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ростые упражнения в равновесии: ходьба по доск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собенности физического развития, характеристика возрастных возможностей  детей раннего возраста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Объект 4" descr=""/>
          <p:cNvPicPr/>
          <p:nvPr/>
        </p:nvPicPr>
        <p:blipFill>
          <a:blip r:embed="rId1"/>
          <a:stretch/>
        </p:blipFill>
        <p:spPr>
          <a:xfrm>
            <a:off x="5651640" y="2205000"/>
            <a:ext cx="2376360" cy="161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Users\Сергей\Desktop\MXnJVYxfC1M[1].jpg"/>
          <p:cNvPicPr/>
          <p:nvPr/>
        </p:nvPicPr>
        <p:blipFill>
          <a:blip r:embed="rId2"/>
          <a:stretch/>
        </p:blipFill>
        <p:spPr>
          <a:xfrm>
            <a:off x="4572000" y="3933720"/>
            <a:ext cx="237636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7:03:14Z</dcterms:created>
  <dc:creator>Сергей</dc:creator>
  <dc:description/>
  <dc:language>en-US</dc:language>
  <cp:lastModifiedBy>Сергей</cp:lastModifiedBy>
  <dcterms:modified xsi:type="dcterms:W3CDTF">2014-06-15T19:10:04Z</dcterms:modified>
  <cp:revision>129</cp:revision>
  <dc:subject/>
  <dc:title>Оптимизация двигательной активности детей на дополнительных занятиях в группе раннего возраста</dc:title>
</cp:coreProperties>
</file>