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0.jpeg" ContentType="image/jpeg"/>
  <Override PartName="/ppt/media/image23.jpeg" ContentType="image/jpeg"/>
  <Override PartName="/ppt/media/image18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5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B473-6676-4F2B-93A7-C3C05BBF7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E317-1BB8-43E7-A154-39DD81AE8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1659-25A0-4EF5-BB53-CACB92DC9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9E86-4AD5-414D-BA30-8204AEEFD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0AD0A-CC96-41CA-BD7C-7DBC891E3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CBA3D-63A9-47AF-ADD5-286BF3373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56D55-5499-488D-9E33-C7A2351E7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27FED-2837-43AC-B92A-EEC3AFECB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6D020-C777-493F-A08D-3B50738BB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C11C5-94D0-4F48-A411-EDD98865F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48345-E1F3-4272-820E-8E9F0AFA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DCAA-2CB2-4AA7-AD2D-408DAD226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5DBC0-C436-43DD-8926-02DEC39C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69259-3CAA-47FB-A782-7EDEF752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5E80D-6EEB-4DC0-8ADC-547C031F9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A4A58-02F9-4423-88FB-A25A8F460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46E19-429C-4CAE-A877-35BA26A7E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C159B-1264-4F5C-95C8-E7D9C5826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51FDF-A2D2-4ED1-9F07-E7BB8BC84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0C2BB-BA48-44BF-BD6E-E9237D937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D7488-1769-4B7D-8009-5347F4838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D2C5D-27CE-4DEE-B9C5-5CE11313F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700E-280D-40EF-8C55-191F4D5AB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AAA95-678B-47A9-8EFE-094A1AF6A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9A14F-6EDB-4967-AB46-C773C732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8FB8C-1DAC-45E0-A0B5-1C3E2FC4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66ACC-3C05-407D-9F9C-F3E2537F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09E2B-3730-4830-9ABD-1D93803EE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144DC-C0B8-405C-BA60-E8FDCFE18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2300E-1CB2-4627-A3EA-6BAAC37BF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A9EBE-8A6E-46BB-83AE-9FB108B5A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4E8A1-C0AA-4E78-8F44-FCF193CD5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63C6B-2449-4C21-8FCF-2720D0529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160C-D9AD-4B94-A267-3E959BA75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1EFAC-6238-4709-8CE3-9A6DDB5F3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3B24C-0ADB-4503-AC0C-36646FACC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23B84-D90C-42CE-BC83-17B73F89A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5C905-E44F-4E26-B083-AA5C7198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98A54-5307-4855-93B0-4525E589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98695-4334-4FA6-A9D0-BC1398F0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5A26A-2136-4C16-804D-677713E75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03CBD-352D-4F10-9F96-403435D57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B675A-DF17-449E-8D7B-293517912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60685-B397-4D5B-A965-0DB466946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DB38-EBA8-427D-8294-B6E0CCBB8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99037-B9E7-4700-BAEC-4F586F8E0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C862D-FF1B-4940-B867-787046AF5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0F6E6-860A-4E92-B4AD-3A0BB09B5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4ED5D-AE6B-44CD-80DF-605112F94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3698D-C9D0-436F-8520-776AD5F63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A56B3-2F3E-4106-AF61-24E44874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6D364-961E-496B-97B9-FE333184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D9882-FBCE-4283-9965-F9848936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5B942F-FA18-4D00-AD7C-10CC11463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8C485-724A-45B3-9D3E-C3E7394CF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6AED-D71A-430A-A1BE-E6B737BB6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F2183-2AE4-4504-9172-E09DAD462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A035B-1FDA-436D-8E50-6E0DE26FB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193B5-D449-4772-8FE5-668330F7B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EC910-F70D-4DE7-9E80-391AFC326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007CC2-B502-46AB-BF2C-D24D2473E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ACE35-A645-4EE7-8F8B-E8223517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87E11-CEE5-4CE6-B22F-8D01A7ACA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E07B3-63A2-4128-A2C2-78E186CA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FF375-113A-4585-B589-C4AF2AC0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BCF9E-54AF-477A-AF74-3720C237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3211-B35A-441B-80A7-6E5F5BE6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00119-BD3E-47BE-9CBD-677817BCF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2685A-B9C9-44A5-A110-6A8B6B670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59544E-F539-4749-9C33-B9CED35BC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E89B1C-247A-4072-B486-D9ADDAFFD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3B026-5347-46D5-8DDB-E31F96BB1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6A0A4-FF16-41FA-8A3E-A7360734A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A978A-A6CA-4DB1-B7C4-7C138D4D6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17E11-0AB0-47F8-97E2-9EFCC3411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7DFD4C-621F-46D6-8162-0C8AA48F2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EAD3A0-3994-40E2-83E0-4E634E1A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7FD9-6050-49E5-9CEC-51A92AA4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129A5-466B-49BE-BD6F-6C1D8DDE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5E312-DF9E-4C4A-903C-50AC79C3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A0204E-F6F3-429A-BC9C-E2948A683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0715B5-CC1A-4F7D-81D9-2F6B43518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AAC3F-461E-4090-9FDA-2FB2292D5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3C27-5DE3-4BCA-A2FB-B6709983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12192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12192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17B19-6ECE-40EE-986C-0ECD9E4D6CC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1193760" y="1738440"/>
            <a:ext cx="99662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8"/>
          <p:cNvSpPr/>
          <p:nvPr/>
        </p:nvSpPr>
        <p:spPr>
          <a:xfrm>
            <a:off x="1208160" y="4343400"/>
            <a:ext cx="98758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7777E-F4ED-44C0-A7DB-844908074E3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traight Connector 8"/>
          <p:cNvSpPr/>
          <p:nvPr/>
        </p:nvSpPr>
        <p:spPr>
          <a:xfrm>
            <a:off x="1208160" y="4343400"/>
            <a:ext cx="98758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9C795-B8AE-42C5-9EE1-F8C2BB96BE5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EB930-C00D-4944-8F59-E0F5985658E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0" y="0"/>
            <a:ext cx="4051440" cy="68580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4040280" y="0"/>
            <a:ext cx="63360" cy="68580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465120" y="6459480"/>
            <a:ext cx="261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4800600" y="6459480"/>
            <a:ext cx="464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6370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14BA7-20A9-4ABA-A4C8-E10A925B95FE}" type="slidenum">
              <a:rPr b="0" lang="ru-RU" sz="1000" spc="-1" strike="noStrike">
                <a:solidFill>
                  <a:srgbClr val="63705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0" y="4952880"/>
            <a:ext cx="12188880" cy="190512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491508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134F5-6609-4F6F-9443-5053AE1F248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CE4B1-4E9F-4514-B644-A6F747664C0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hyperlink" Target="http://nsportal.ru/" TargetMode="External"/><Relationship Id="rId4" Type="http://schemas.openxmlformats.org/officeDocument/2006/relationships/hyperlink" Target="http://nsportal.ru/" TargetMode="External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-360" y="2475000"/>
            <a:ext cx="12192120" cy="129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25a2c"/>
                </a:solidFill>
                <a:latin typeface="Times New Roman"/>
              </a:rPr>
              <a:t>Создание программы внеурочной деятельности  </a:t>
            </a:r>
            <a:br>
              <a:rPr sz="4000"/>
            </a:br>
            <a:r>
              <a:rPr b="1" lang="ru-RU" sz="4000" spc="-1" strike="noStrike">
                <a:solidFill>
                  <a:srgbClr val="c25a2c"/>
                </a:solidFill>
                <a:latin typeface="Times New Roman"/>
              </a:rPr>
              <a:t>в соответствии требованиям ФГОС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5" name="Прямоугольник 4"/>
          <p:cNvSpPr/>
          <p:nvPr/>
        </p:nvSpPr>
        <p:spPr>
          <a:xfrm>
            <a:off x="3951360" y="4780080"/>
            <a:ext cx="48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749b"/>
                </a:solidFill>
                <a:latin typeface="Calibri"/>
              </a:rPr>
              <a:t>Составитель: Аристова Галина Александр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749b"/>
                </a:solidFill>
                <a:latin typeface="Calibri"/>
              </a:rPr>
              <a:t>педагог ГБОУ СО ЦПМСС « Эх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Рисунок 5" descr="echo_logo_top_1175.png"/>
          <p:cNvPicPr/>
          <p:nvPr/>
        </p:nvPicPr>
        <p:blipFill>
          <a:blip r:embed="rId2"/>
          <a:stretch/>
        </p:blipFill>
        <p:spPr>
          <a:xfrm>
            <a:off x="163440" y="185760"/>
            <a:ext cx="1202868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09520" y="194760"/>
            <a:ext cx="11741040" cy="6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15481"/>
                </a:solidFill>
                <a:latin typeface="Times New Roman"/>
              </a:rPr>
              <a:t>4. Мониторинг отслеживания результативности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9" name="Rectangle 5"/>
          <p:cNvSpPr/>
          <p:nvPr/>
        </p:nvSpPr>
        <p:spPr>
          <a:xfrm>
            <a:off x="439560" y="2465280"/>
            <a:ext cx="9779040" cy="21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914400" indent="-914400" algn="ctr">
              <a:lnSpc>
                <a:spcPct val="85000"/>
              </a:lnSpc>
              <a:buClr>
                <a:srgbClr val="c25a2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25a2c"/>
                </a:solidFill>
                <a:latin typeface="Times New Roman"/>
              </a:rPr>
              <a:t>Социально – педагогические карты</a:t>
            </a:r>
            <a:br>
              <a:rPr sz="2800"/>
            </a:br>
            <a:r>
              <a:rPr b="1" lang="ru-RU" sz="2800" spc="-1" strike="noStrike">
                <a:solidFill>
                  <a:srgbClr val="c25a2c"/>
                </a:solidFill>
                <a:latin typeface="Times New Roman"/>
              </a:rPr>
              <a:t>Анализ – отчет за четверть, год</a:t>
            </a:r>
            <a:br>
              <a:rPr sz="2800"/>
            </a:br>
            <a:r>
              <a:rPr b="1" lang="ru-RU" sz="2800" spc="-1" strike="noStrike">
                <a:solidFill>
                  <a:srgbClr val="c25a2c"/>
                </a:solidFill>
                <a:latin typeface="Times New Roman"/>
              </a:rPr>
              <a:t>Критерии становления личности</a:t>
            </a:r>
            <a:br>
              <a:rPr sz="2800"/>
            </a:br>
            <a:r>
              <a:rPr b="1" lang="ru-RU" sz="2800" spc="-1" strike="noStrike">
                <a:solidFill>
                  <a:srgbClr val="c25a2c"/>
                </a:solidFill>
                <a:latin typeface="Times New Roman"/>
              </a:rPr>
              <a:t>Аналитический отчет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c25a2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6"/>
          <p:cNvSpPr/>
          <p:nvPr/>
        </p:nvSpPr>
        <p:spPr>
          <a:xfrm>
            <a:off x="477720" y="1484280"/>
            <a:ext cx="1068084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d3319"/>
                </a:solidFill>
                <a:latin typeface="Times New Roman"/>
              </a:rPr>
              <a:t>1. Внутришкольные отчетные докумен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171360" y="3448080"/>
            <a:ext cx="1133172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914400" indent="-914400" algn="ctr">
              <a:lnSpc>
                <a:spcPct val="85000"/>
              </a:lnSpc>
              <a:buClr>
                <a:srgbClr val="6d331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6d3319"/>
                </a:solidFill>
                <a:latin typeface="Times New Roman"/>
              </a:rPr>
              <a:t>2. Дополнительная мониторинговая диагностика отслеживания результатов освоения программы</a:t>
            </a:r>
            <a:br>
              <a:rPr sz="4800"/>
            </a:br>
            <a:br>
              <a:rPr sz="2400"/>
            </a:br>
            <a:r>
              <a:rPr b="1" lang="ru-RU" sz="2800" spc="-1" strike="noStrike">
                <a:solidFill>
                  <a:srgbClr val="c25a2c"/>
                </a:solidFill>
                <a:latin typeface="Times New Roman"/>
              </a:rPr>
              <a:t>Тестирование</a:t>
            </a:r>
            <a:br>
              <a:rPr sz="2800"/>
            </a:br>
            <a:r>
              <a:rPr b="1" lang="ru-RU" sz="2800" spc="-1" strike="noStrike">
                <a:solidFill>
                  <a:srgbClr val="c25a2c"/>
                </a:solidFill>
                <a:latin typeface="Times New Roman"/>
              </a:rPr>
              <a:t>Анкетиров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69560" y="287280"/>
            <a:ext cx="11634840" cy="5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15481"/>
                </a:solidFill>
                <a:latin typeface="Arial"/>
              </a:rPr>
              <a:t>5. Литература и используемые ресурсы</a:t>
            </a:r>
            <a:endParaRPr b="0" lang="en-US" sz="2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21760" y="932040"/>
            <a:ext cx="10720440" cy="5016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3000"/>
          </a:bodyPr>
          <a:p>
            <a:pPr marL="531360" indent="-531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</a:rPr>
              <a:t>1. НПА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531360" indent="-531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</a:rPr>
              <a:t>2. Литература рекомендованная государственным  органом управления образования;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531360" indent="-531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</a:rPr>
              <a:t>3. Авторские книги.  Нужно указать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531360" indent="-531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</a:rPr>
              <a:t>- Фамилию и инициалы автора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531360" indent="-531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</a:rPr>
              <a:t>- Полное название книги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531360" indent="-531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</a:rPr>
              <a:t>- Издательство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531360" indent="-531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</a:rPr>
              <a:t>- Год издания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531360" indent="-531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</a:rPr>
              <a:t>Желательно  разделить  литературу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531360" indent="-531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</a:rPr>
              <a:t>на несколько разделов: для педагогов;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531360" indent="-531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</a:rPr>
              <a:t>для обучающихся;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531360" indent="-531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</a:rPr>
              <a:t>для родителей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531360" indent="-531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</a:rPr>
              <a:t>4. Сайты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531360" indent="0">
              <a:lnSpc>
                <a:spcPct val="9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44" name="Picture 8" descr="i?id=244829540-08-72&amp;n=21"/>
          <p:cNvPicPr/>
          <p:nvPr/>
        </p:nvPicPr>
        <p:blipFill>
          <a:blip r:embed="rId1"/>
          <a:stretch/>
        </p:blipFill>
        <p:spPr>
          <a:xfrm>
            <a:off x="7184880" y="4056120"/>
            <a:ext cx="1349640" cy="20635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0" descr="i?id=391190428-25-72&amp;n=21"/>
          <p:cNvPicPr/>
          <p:nvPr/>
        </p:nvPicPr>
        <p:blipFill>
          <a:blip r:embed="rId2"/>
          <a:stretch/>
        </p:blipFill>
        <p:spPr>
          <a:xfrm>
            <a:off x="8763120" y="4041720"/>
            <a:ext cx="1554120" cy="21970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2" descr="i?id=6177486-21-72&amp;n=21"/>
          <p:cNvPicPr/>
          <p:nvPr/>
        </p:nvPicPr>
        <p:blipFill>
          <a:blip r:embed="rId3"/>
          <a:stretch/>
        </p:blipFill>
        <p:spPr>
          <a:xfrm>
            <a:off x="5457960" y="1812960"/>
            <a:ext cx="1495440" cy="20764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6" descr="i?id=31926827-50-72&amp;n=21"/>
          <p:cNvPicPr/>
          <p:nvPr/>
        </p:nvPicPr>
        <p:blipFill>
          <a:blip r:embed="rId4"/>
          <a:stretch/>
        </p:blipFill>
        <p:spPr>
          <a:xfrm>
            <a:off x="8771040" y="1917720"/>
            <a:ext cx="1422360" cy="199404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8" descr="i?id=114547034-44-72&amp;n=21"/>
          <p:cNvPicPr/>
          <p:nvPr/>
        </p:nvPicPr>
        <p:blipFill>
          <a:blip r:embed="rId5"/>
          <a:stretch/>
        </p:blipFill>
        <p:spPr>
          <a:xfrm>
            <a:off x="7145280" y="1824120"/>
            <a:ext cx="1411200" cy="20574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2" descr="i?id=169629906-21-72&amp;n=21"/>
          <p:cNvPicPr/>
          <p:nvPr/>
        </p:nvPicPr>
        <p:blipFill>
          <a:blip r:embed="rId6"/>
          <a:stretch/>
        </p:blipFill>
        <p:spPr>
          <a:xfrm>
            <a:off x="10420200" y="1922400"/>
            <a:ext cx="1521000" cy="20271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26" descr="i?id=164786466-22-72&amp;n=21"/>
          <p:cNvPicPr/>
          <p:nvPr/>
        </p:nvPicPr>
        <p:blipFill>
          <a:blip r:embed="rId7"/>
          <a:stretch/>
        </p:blipFill>
        <p:spPr>
          <a:xfrm>
            <a:off x="10450440" y="4079880"/>
            <a:ext cx="1551240" cy="21034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6" descr="i?id=114660157-55-72&amp;n=21"/>
          <p:cNvPicPr/>
          <p:nvPr/>
        </p:nvPicPr>
        <p:blipFill>
          <a:blip r:embed="rId8"/>
          <a:stretch/>
        </p:blipFill>
        <p:spPr>
          <a:xfrm>
            <a:off x="5489640" y="4041720"/>
            <a:ext cx="147312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Прямоугольник 4"/>
          <p:cNvSpPr/>
          <p:nvPr/>
        </p:nvSpPr>
        <p:spPr>
          <a:xfrm>
            <a:off x="2792880" y="258840"/>
            <a:ext cx="641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24209"/>
                </a:solidFill>
                <a:latin typeface="Times New Roman"/>
                <a:ea typeface="Times New Roman"/>
              </a:rPr>
              <a:t>Дополнительная информац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3" name="Рисунок 8" descr="но.png"/>
          <p:cNvPicPr/>
          <p:nvPr/>
        </p:nvPicPr>
        <p:blipFill>
          <a:blip r:embed="rId1"/>
          <a:stretch/>
        </p:blipFill>
        <p:spPr>
          <a:xfrm>
            <a:off x="212760" y="1012680"/>
            <a:ext cx="5656320" cy="3090960"/>
          </a:xfrm>
          <a:prstGeom prst="rect">
            <a:avLst/>
          </a:prstGeom>
          <a:ln w="0">
            <a:noFill/>
          </a:ln>
        </p:spPr>
      </p:pic>
      <p:pic>
        <p:nvPicPr>
          <p:cNvPr id="354" name="Рисунок 9" descr="но2.png"/>
          <p:cNvPicPr/>
          <p:nvPr/>
        </p:nvPicPr>
        <p:blipFill>
          <a:blip r:embed="rId2"/>
          <a:stretch/>
        </p:blipFill>
        <p:spPr>
          <a:xfrm>
            <a:off x="5964120" y="1023840"/>
            <a:ext cx="5837400" cy="3168720"/>
          </a:xfrm>
          <a:prstGeom prst="rect">
            <a:avLst/>
          </a:prstGeom>
          <a:ln w="0">
            <a:noFill/>
          </a:ln>
        </p:spPr>
      </p:pic>
      <p:sp>
        <p:nvSpPr>
          <p:cNvPr id="355" name="Прямоугольник 10"/>
          <p:cNvSpPr/>
          <p:nvPr/>
        </p:nvSpPr>
        <p:spPr>
          <a:xfrm>
            <a:off x="208080" y="4186080"/>
            <a:ext cx="11664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d3319"/>
                </a:solidFill>
                <a:latin typeface="Times New Roman"/>
                <a:ea typeface="Times New Roman"/>
              </a:rPr>
              <a:t>Поисковик   (Яндекс</a:t>
            </a:r>
            <a:r>
              <a:rPr b="1" lang="en-US" sz="2000" spc="-1" strike="noStrike">
                <a:solidFill>
                  <a:srgbClr val="6d3319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d3319"/>
                </a:solidFill>
                <a:latin typeface="Times New Roman"/>
                <a:ea typeface="Times New Roman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d3319"/>
                </a:solidFill>
                <a:latin typeface="Times New Roman"/>
                <a:ea typeface="Times New Roman"/>
              </a:rPr>
              <a:t>Социальная сеть работников образования </a:t>
            </a:r>
            <a:r>
              <a:rPr b="0" lang="ru-RU" sz="2000" spc="-1" strike="noStrike" u="sng">
                <a:solidFill>
                  <a:srgbClr val="2998e3"/>
                </a:solidFill>
                <a:uFillTx/>
                <a:latin typeface="Times New Roman"/>
                <a:ea typeface="Times New Roman"/>
                <a:hlinkClick r:id="rId3"/>
              </a:rPr>
              <a:t> </a:t>
            </a:r>
            <a:r>
              <a:rPr b="0" lang="en-US" sz="2000" spc="-1" strike="noStrike" u="sng">
                <a:solidFill>
                  <a:srgbClr val="2998e3"/>
                </a:solidFill>
                <a:uFillTx/>
                <a:latin typeface="Times New Roman"/>
                <a:ea typeface="Times New Roman"/>
                <a:hlinkClick r:id="rId4"/>
              </a:rPr>
              <a:t>nsportal.ru</a:t>
            </a:r>
            <a:r>
              <a:rPr b="1" lang="ru-RU" sz="2000" spc="-1" strike="noStrike">
                <a:solidFill>
                  <a:srgbClr val="6d3319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d3319"/>
                </a:solidFill>
                <a:latin typeface="Times New Roman"/>
                <a:ea typeface="Times New Roman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d3319"/>
                </a:solidFill>
                <a:latin typeface="Times New Roman"/>
                <a:ea typeface="Times New Roman"/>
              </a:rPr>
              <a:t>Поиск по сайту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d3319"/>
                </a:solidFill>
                <a:latin typeface="Times New Roman"/>
                <a:ea typeface="Times New Roman"/>
              </a:rPr>
              <a:t>Сайт педагога ЦПМСС «Эхо» Аристова Галина Александро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AutoShape 22"/>
          <p:cNvSpPr/>
          <p:nvPr/>
        </p:nvSpPr>
        <p:spPr>
          <a:xfrm>
            <a:off x="5950080" y="4548240"/>
            <a:ext cx="260280" cy="339840"/>
          </a:xfrm>
          <a:prstGeom prst="downArrow">
            <a:avLst>
              <a:gd name="adj1" fmla="val 50000"/>
              <a:gd name="adj2" fmla="val 32642"/>
            </a:avLst>
          </a:prstGeom>
          <a:solidFill>
            <a:srgbClr val="a64e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AutoShape 23"/>
          <p:cNvSpPr/>
          <p:nvPr/>
        </p:nvSpPr>
        <p:spPr>
          <a:xfrm>
            <a:off x="5952960" y="5132520"/>
            <a:ext cx="260640" cy="353880"/>
          </a:xfrm>
          <a:prstGeom prst="downArrow">
            <a:avLst>
              <a:gd name="adj1" fmla="val 50000"/>
              <a:gd name="adj2" fmla="val 33943"/>
            </a:avLst>
          </a:prstGeom>
          <a:solidFill>
            <a:srgbClr val="a64e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AutoShape 24"/>
          <p:cNvSpPr/>
          <p:nvPr/>
        </p:nvSpPr>
        <p:spPr>
          <a:xfrm>
            <a:off x="5948280" y="5776920"/>
            <a:ext cx="260280" cy="301680"/>
          </a:xfrm>
          <a:prstGeom prst="downArrow">
            <a:avLst>
              <a:gd name="adj1" fmla="val 50000"/>
              <a:gd name="adj2" fmla="val 28976"/>
            </a:avLst>
          </a:prstGeom>
          <a:solidFill>
            <a:srgbClr val="a64e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Рисунок 6" descr="C:\Documents and Settings\User\Рабочий стол\логотип центра\Копия ПЕРЕДЕЛАННЫЙ2.jpg"/>
          <p:cNvPicPr/>
          <p:nvPr/>
        </p:nvPicPr>
        <p:blipFill>
          <a:blip r:embed="rId5"/>
          <a:stretch/>
        </p:blipFill>
        <p:spPr>
          <a:xfrm>
            <a:off x="249120" y="0"/>
            <a:ext cx="1208160" cy="8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0" y="1430280"/>
            <a:ext cx="12192120" cy="5095800"/>
          </a:xfrm>
          <a:prstGeom prst="rect">
            <a:avLst/>
          </a:prstGeom>
          <a:ln w="0">
            <a:noFill/>
          </a:ln>
        </p:spPr>
      </p:pic>
      <p:sp>
        <p:nvSpPr>
          <p:cNvPr id="361" name="Прямоугольник 5"/>
          <p:cNvSpPr/>
          <p:nvPr/>
        </p:nvSpPr>
        <p:spPr>
          <a:xfrm>
            <a:off x="2075040" y="395280"/>
            <a:ext cx="9320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ab620e"/>
                </a:solidFill>
                <a:latin typeface="Monotype Corsiva"/>
              </a:rPr>
              <a:t>Благодарю  за  внимание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2" name="Рисунок 6" descr="C:\Documents and Settings\User\Рабочий стол\логотип центра\Копия ПЕРЕДЕЛАННЫЙ2.jpg"/>
          <p:cNvPicPr/>
          <p:nvPr/>
        </p:nvPicPr>
        <p:blipFill>
          <a:blip r:embed="rId2"/>
          <a:stretch/>
        </p:blipFill>
        <p:spPr>
          <a:xfrm>
            <a:off x="182520" y="184320"/>
            <a:ext cx="1765440" cy="128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8"/>
          <p:cNvSpPr/>
          <p:nvPr/>
        </p:nvSpPr>
        <p:spPr>
          <a:xfrm>
            <a:off x="388800" y="1752480"/>
            <a:ext cx="11363400" cy="43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   </a:t>
            </a:r>
            <a:r>
              <a:rPr b="1" lang="ru-RU" sz="3600" spc="-1" strike="noStrike" u="sng">
                <a:solidFill>
                  <a:srgbClr val="bd582c"/>
                </a:solidFill>
                <a:uFillTx/>
                <a:latin typeface="Times New Roman"/>
              </a:rPr>
              <a:t>Федеральный государственный образовательный стандарт</a:t>
            </a:r>
            <a:r>
              <a:rPr b="0" lang="ru-RU" sz="3600" spc="-1" strike="noStrike" u="sng">
                <a:solidFill>
                  <a:srgbClr val="bd582c"/>
                </a:solidFill>
                <a:uFillTx/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bd582c"/>
                </a:solidFill>
                <a:latin typeface="Times New Roman"/>
              </a:rPr>
              <a:t>– документ, который определяет комплекс норм и требований к структуре образования, его содержанию, объему учебной нагрузки и уровню подготовки обучающихся. Стандарт не регламентирует образовательные технологии, методы и приемы, средства обучения, формы и способы получения образования.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9"/>
          <p:cNvSpPr/>
          <p:nvPr/>
        </p:nvSpPr>
        <p:spPr>
          <a:xfrm>
            <a:off x="3817800" y="503280"/>
            <a:ext cx="560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15481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115481"/>
                </a:solidFill>
                <a:latin typeface="Times New Roman"/>
              </a:rPr>
              <a:t>Понятие ФГО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9" name="Picture 6" descr=""/>
          <p:cNvPicPr/>
          <p:nvPr/>
        </p:nvPicPr>
        <p:blipFill>
          <a:blip r:embed="rId1"/>
          <a:stretch/>
        </p:blipFill>
        <p:spPr>
          <a:xfrm>
            <a:off x="252360" y="176040"/>
            <a:ext cx="264816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96520" y="490680"/>
            <a:ext cx="11595240" cy="121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115481"/>
                </a:solidFill>
                <a:latin typeface="Times New Roman"/>
              </a:rPr>
              <a:t>Требования ФГОС </a:t>
            </a:r>
            <a:br>
              <a:rPr sz="1800"/>
            </a:br>
            <a:r>
              <a:rPr b="1" lang="ru-RU" sz="2200" spc="-1" strike="noStrike">
                <a:solidFill>
                  <a:srgbClr val="115481"/>
                </a:solidFill>
                <a:latin typeface="Times New Roman"/>
              </a:rPr>
              <a:t>Обеспечить максимальное раскрытие                                                                       потенциальных возможностей каждого ребёнка</a:t>
            </a:r>
            <a:endParaRPr b="0" lang="en-US" sz="2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64600" y="1726920"/>
            <a:ext cx="115556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libri"/>
              </a:rPr>
              <a:t>     </a:t>
            </a:r>
            <a:r>
              <a:rPr b="1" lang="ru-RU" sz="1600" spc="-1" strike="noStrike">
                <a:solidFill>
                  <a:srgbClr val="6d3319"/>
                </a:solidFill>
                <a:latin typeface="Times New Roman"/>
              </a:rPr>
              <a:t>В целях обеспечения раскрытия потенциальных возможностей обучающихся учебный план предусматривает </a:t>
            </a:r>
            <a:r>
              <a:rPr b="1" i="1" lang="ru-RU" sz="1600" spc="-1" strike="noStrike">
                <a:solidFill>
                  <a:srgbClr val="6d3319"/>
                </a:solidFill>
                <a:latin typeface="Times New Roman"/>
              </a:rPr>
              <a:t> внеурочную деятельность</a:t>
            </a:r>
            <a:r>
              <a:rPr b="1" lang="ru-RU" sz="1600" spc="-1" strike="noStrike">
                <a:solidFill>
                  <a:srgbClr val="6d3319"/>
                </a:solidFill>
                <a:latin typeface="Times New Roman"/>
              </a:rPr>
              <a:t> . 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d3319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1" lang="ru-RU" sz="1600" spc="-1" strike="noStrike">
                <a:solidFill>
                  <a:srgbClr val="6d3319"/>
                </a:solidFill>
                <a:latin typeface="Times New Roman"/>
              </a:rPr>
              <a:t>1.Количество занятий -10 часов в неделю.                                                                                                                                                    </a:t>
            </a:r>
            <a:r>
              <a:rPr b="1" lang="ru-RU" sz="1600" spc="-1" strike="noStrike">
                <a:solidFill>
                  <a:srgbClr val="c25a2c"/>
                </a:solidFill>
                <a:latin typeface="Times New Roman"/>
              </a:rPr>
              <a:t>Время, отводимое на внеурочную деятельность в соответствии требованиям ФГОС</a:t>
            </a:r>
            <a:r>
              <a:rPr b="1" i="1" lang="ru-RU" sz="1600" spc="-1" strike="noStrike">
                <a:solidFill>
                  <a:srgbClr val="c25a2c"/>
                </a:solidFill>
                <a:latin typeface="Times New Roman"/>
              </a:rPr>
              <a:t>,</a:t>
            </a:r>
            <a:r>
              <a:rPr b="1" lang="ru-RU" sz="1600" spc="-1" strike="noStrike">
                <a:solidFill>
                  <a:srgbClr val="c25a2c"/>
                </a:solidFill>
                <a:latin typeface="Times New Roman"/>
              </a:rPr>
              <a:t> между участниками образовательного процесса распределяется по усмотрению администрации школы.   При этом могут быть задействованы ресурсы учреждений дополнительного образования, организаций культуры и спорта.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d3319"/>
                </a:solidFill>
                <a:latin typeface="Times New Roman"/>
              </a:rPr>
              <a:t>2. В начальной школе внеурочная деятельность</a:t>
            </a:r>
            <a:r>
              <a:rPr b="1" i="1" lang="ru-RU" sz="1600" spc="-1" strike="noStrike">
                <a:solidFill>
                  <a:srgbClr val="6d3319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6d3319"/>
                </a:solidFill>
                <a:latin typeface="Times New Roman"/>
              </a:rPr>
              <a:t>организуется по направлениям:                                                                                       </a:t>
            </a:r>
            <a:r>
              <a:rPr b="1" lang="ru-RU" sz="1600" spc="-1" strike="noStrike">
                <a:solidFill>
                  <a:srgbClr val="a64e26"/>
                </a:solidFill>
                <a:latin typeface="Times New Roman"/>
              </a:rPr>
              <a:t>- </a:t>
            </a:r>
            <a:r>
              <a:rPr b="1" i="1" lang="ru-RU" sz="1600" spc="-1" strike="noStrike">
                <a:solidFill>
                  <a:srgbClr val="a64e26"/>
                </a:solidFill>
                <a:latin typeface="Times New Roman"/>
              </a:rPr>
              <a:t>спортивно-оздоровительное                                                                                                                                                                            - духовно-нравственное                                                                                                                                                                                         - социальное                                                                                                                                                                                                               - общеинтеллектуальное                                                                                                                                                                                     - общекультурное 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d3319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6d3319"/>
                </a:solidFill>
                <a:latin typeface="Times New Roman"/>
              </a:rPr>
              <a:t>3. Современный национальный воспитательный идеал –</a:t>
            </a:r>
            <a:r>
              <a:rPr b="1" lang="ru-RU" sz="1600" spc="-1" strike="noStrike">
                <a:solidFill>
                  <a:srgbClr val="6d3319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a64e26"/>
                </a:solidFill>
                <a:latin typeface="Times New Roman"/>
              </a:rPr>
              <a:t>высоконравственный, творческий, компетентный гражданин России, принимающий судьбу Отечества как свою личную, осознающей ответственность за настоящее и будущее своей страны, укорененный в духовных и культурных  традициях российского народа.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12" name="Picture 6" descr=""/>
          <p:cNvPicPr/>
          <p:nvPr/>
        </p:nvPicPr>
        <p:blipFill>
          <a:blip r:embed="rId1"/>
          <a:stretch/>
        </p:blipFill>
        <p:spPr>
          <a:xfrm>
            <a:off x="252360" y="176040"/>
            <a:ext cx="2548080" cy="13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96920" y="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15481"/>
                </a:solidFill>
                <a:latin typeface="Times New Roman"/>
              </a:rPr>
              <a:t>Организация внеурочной деятельности в соответствии требованиям ФГОС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0043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25a2c"/>
                </a:solidFill>
                <a:latin typeface="Arial"/>
              </a:rPr>
              <a:t>Примерная сетка распределения часов  внеурочной деятельности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15" name="Picture 6" descr=""/>
          <p:cNvPicPr/>
          <p:nvPr/>
        </p:nvPicPr>
        <p:blipFill>
          <a:blip r:embed="rId1"/>
          <a:stretch/>
        </p:blipFill>
        <p:spPr>
          <a:xfrm>
            <a:off x="9169560" y="1800360"/>
            <a:ext cx="1927080" cy="2867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16" name="Rectangle 5"/>
          <p:cNvSpPr/>
          <p:nvPr/>
        </p:nvSpPr>
        <p:spPr>
          <a:xfrm>
            <a:off x="8785080" y="4691160"/>
            <a:ext cx="340704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Calibri"/>
              </a:rPr>
              <a:t>Для развития потенциала  детей со сложными ограниченными возможностями здоровья могут разрабатываться индивидуальные сет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317520" y="2311560"/>
          <a:ext cx="8296200" cy="3768480"/>
        </p:xfrm>
        <a:graphic>
          <a:graphicData uri="http://schemas.openxmlformats.org/drawingml/2006/table">
            <a:tbl>
              <a:tblPr/>
              <a:tblGrid>
                <a:gridCol w="1871640"/>
                <a:gridCol w="4054320"/>
                <a:gridCol w="525600"/>
                <a:gridCol w="598680"/>
                <a:gridCol w="622080"/>
                <a:gridCol w="623880"/>
              </a:tblGrid>
              <a:tr h="282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61811"/>
                          </a:solidFill>
                          <a:latin typeface="Calibri"/>
                          <a:ea typeface="Arial"/>
                        </a:rPr>
                        <a:t>Направ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61811"/>
                          </a:solidFill>
                          <a:latin typeface="Calibri"/>
                          <a:ea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161811"/>
                          </a:solidFill>
                          <a:latin typeface="Calibri"/>
                          <a:ea typeface="Arial"/>
                        </a:rPr>
                        <a:t>Организации внеурочной деятельност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61811"/>
                          </a:solidFill>
                          <a:latin typeface="Calibri"/>
                          <a:ea typeface="Arial"/>
                        </a:rPr>
                        <a:t>Распределение час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61811"/>
                          </a:solidFill>
                          <a:latin typeface="Calibri"/>
                          <a:ea typeface="Arial"/>
                        </a:rPr>
                        <a:t>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d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61811"/>
                          </a:solidFill>
                          <a:latin typeface="Calibri"/>
                          <a:ea typeface="Arial"/>
                        </a:rPr>
                        <a:t>Д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d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61811"/>
                          </a:solidFill>
                          <a:latin typeface="Calibri"/>
                          <a:ea typeface="Arial"/>
                        </a:rPr>
                        <a:t>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d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61811"/>
                          </a:solidFill>
                          <a:latin typeface="Calibri"/>
                          <a:ea typeface="Arial"/>
                        </a:rPr>
                        <a:t>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dcd9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61811"/>
                          </a:solidFill>
                          <a:latin typeface="Calibri"/>
                          <a:ea typeface="Arial"/>
                        </a:rPr>
                        <a:t>Спортивно-оздоровитель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61811"/>
                          </a:solidFill>
                          <a:latin typeface="Calibri"/>
                          <a:ea typeface="Arial"/>
                        </a:rPr>
                        <a:t>Программа  «Подвижные игры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61811"/>
                          </a:solidFill>
                          <a:latin typeface="Calibri"/>
                          <a:ea typeface="Arial"/>
                        </a:rPr>
                        <a:t>ЛФК. Бадминтон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61811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61811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fed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61811"/>
                          </a:solidFill>
                          <a:latin typeface="Calibri"/>
                          <a:ea typeface="Arial"/>
                        </a:rPr>
                        <a:t>Общекультур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d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61811"/>
                          </a:solidFill>
                          <a:latin typeface="Calibri"/>
                          <a:ea typeface="Arial"/>
                        </a:rPr>
                        <a:t>ИЗО-Студия «Юный художник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61811"/>
                          </a:solidFill>
                          <a:latin typeface="Calibri"/>
                          <a:ea typeface="Arial"/>
                        </a:rPr>
                        <a:t>« Граждановедение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d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61811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d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61811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d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d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dcd9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61811"/>
                          </a:solidFill>
                          <a:latin typeface="Calibri"/>
                          <a:ea typeface="Arial"/>
                        </a:rPr>
                        <a:t>Общеинтеллектуаль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61811"/>
                          </a:solidFill>
                          <a:latin typeface="Calibri"/>
                          <a:ea typeface="Arial"/>
                        </a:rPr>
                        <a:t>Программа « Творчество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61811"/>
                          </a:solidFill>
                          <a:latin typeface="Calibri"/>
                          <a:ea typeface="Arial"/>
                        </a:rPr>
                        <a:t>Классные ча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61811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61811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fed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61811"/>
                          </a:solidFill>
                          <a:latin typeface="Calibri"/>
                          <a:ea typeface="Arial"/>
                        </a:rPr>
                        <a:t>Духовно-нравствен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d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61811"/>
                          </a:solidFill>
                          <a:latin typeface="Calibri"/>
                          <a:ea typeface="Arial"/>
                        </a:rPr>
                        <a:t>Программа «Обществоведение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61811"/>
                          </a:solidFill>
                          <a:latin typeface="Calibri"/>
                          <a:ea typeface="Arial"/>
                        </a:rPr>
                        <a:t>Народный танец «Калинк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d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61811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d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61811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d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d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dcd9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61811"/>
                          </a:solidFill>
                          <a:latin typeface="Calibri"/>
                          <a:ea typeface="Arial"/>
                        </a:rPr>
                        <a:t>Социаль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61811"/>
                          </a:solidFill>
                          <a:latin typeface="Calibri"/>
                          <a:ea typeface="Arial"/>
                        </a:rPr>
                        <a:t>Программа « Обществоведение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61811"/>
                          </a:solidFill>
                          <a:latin typeface="Calibri"/>
                          <a:ea typeface="Arial"/>
                        </a:rPr>
                        <a:t>« Жестовое пение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61811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61811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fed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61811"/>
                          </a:solidFill>
                          <a:latin typeface="Calibri"/>
                          <a:ea typeface="Arial"/>
                        </a:rPr>
                        <a:t>Итого: 10 час/не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bd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bd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61811"/>
                          </a:solidFill>
                          <a:latin typeface="Calibri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bd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61811"/>
                          </a:solidFill>
                          <a:latin typeface="Calibri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bd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61811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bd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61811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bdc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17560" y="0"/>
            <a:ext cx="10018800" cy="118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15481"/>
                </a:solidFill>
                <a:latin typeface="Times New Roman"/>
              </a:rPr>
              <a:t>Организация внеурочной деятельности в соответствии требованиям ФГОС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19" name="Picture 4" descr=""/>
          <p:cNvPicPr/>
          <p:nvPr/>
        </p:nvPicPr>
        <p:blipFill>
          <a:blip r:embed="rId1"/>
          <a:stretch/>
        </p:blipFill>
        <p:spPr>
          <a:xfrm>
            <a:off x="9831240" y="2422440"/>
            <a:ext cx="2008440" cy="30146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6" descr="ScreenShot_20150404181452"/>
          <p:cNvPicPr/>
          <p:nvPr/>
        </p:nvPicPr>
        <p:blipFill>
          <a:blip r:embed="rId2"/>
          <a:stretch/>
        </p:blipFill>
        <p:spPr>
          <a:xfrm>
            <a:off x="604800" y="1722600"/>
            <a:ext cx="9040680" cy="4584600"/>
          </a:xfrm>
          <a:prstGeom prst="rect">
            <a:avLst/>
          </a:prstGeom>
          <a:ln w="0">
            <a:noFill/>
          </a:ln>
        </p:spPr>
      </p:pic>
      <p:sp>
        <p:nvSpPr>
          <p:cNvPr id="321" name="Rectangle 7"/>
          <p:cNvSpPr/>
          <p:nvPr/>
        </p:nvSpPr>
        <p:spPr>
          <a:xfrm>
            <a:off x="198360" y="1279440"/>
            <a:ext cx="1073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25a2c"/>
                </a:solidFill>
                <a:latin typeface="Arial"/>
              </a:rPr>
              <a:t>Направления внеурочной деятельности. Цели, задачи, формируемые цен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69560" y="0"/>
            <a:ext cx="1162188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15481"/>
                </a:solidFill>
                <a:latin typeface="Times New Roman"/>
              </a:rPr>
              <a:t>Создание программы внеурочной деятельности  в соответствии требованиям ФГОС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23" name="Picture 4" descr=""/>
          <p:cNvPicPr/>
          <p:nvPr/>
        </p:nvPicPr>
        <p:blipFill>
          <a:blip r:embed="rId1"/>
          <a:stretch/>
        </p:blipFill>
        <p:spPr>
          <a:xfrm>
            <a:off x="9128160" y="2424240"/>
            <a:ext cx="2616120" cy="3654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24" name="Rectangle 3"/>
          <p:cNvSpPr/>
          <p:nvPr/>
        </p:nvSpPr>
        <p:spPr>
          <a:xfrm>
            <a:off x="617400" y="2489040"/>
            <a:ext cx="832176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Титульный ли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Программу внеурочной деятель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Тематическое планиров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 Формы  мониторинга результатов  и их фиксирование   (Тесты, анкеты, критерии, оценивание..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. Список литерату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277920" y="1828800"/>
            <a:ext cx="928368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25a2c"/>
                </a:solidFill>
                <a:latin typeface="Times New Roman"/>
              </a:rPr>
              <a:t>Программа внеурочной деятельности включает в себ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84320" y="1895040"/>
            <a:ext cx="6148080" cy="41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15481"/>
                </a:solidFill>
                <a:latin typeface="Times New Roman"/>
              </a:rPr>
              <a:t>1. Титульный лист</a:t>
            </a:r>
            <a:endParaRPr b="0" lang="en-US" sz="25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63680" y="2293920"/>
            <a:ext cx="834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1.Полное наименование образовательного учреждения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2. Эмблема организации с расшифровкой 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3.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Где, когда и кем утверждена данная образовательная программа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Программа рассмотрена на ______  протокол №__ от «___» 20____г.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Руководитель МО_________   Согласовано «_»__20__г. 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Утверждаю.  «__»______20____г. Директор _________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4.</a:t>
            </a:r>
            <a:r>
              <a:rPr b="1" i="1" lang="ru-RU" sz="1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Полное название программы 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5. Возраст детей,(класс) на которых программа рассчитана.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6. Срок реализации программы. 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7. Ф. И. О. и должность составителя.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8. Название города.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9. Год разработки программы.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28" name="Picture 4" descr="ScreenShot_ТИТУЛЬНЫЙ ЛИСТ"/>
          <p:cNvPicPr/>
          <p:nvPr/>
        </p:nvPicPr>
        <p:blipFill>
          <a:blip r:embed="rId1"/>
          <a:stretch/>
        </p:blipFill>
        <p:spPr>
          <a:xfrm>
            <a:off x="8647200" y="1841400"/>
            <a:ext cx="3116160" cy="434016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5"/>
          <p:cNvSpPr/>
          <p:nvPr/>
        </p:nvSpPr>
        <p:spPr>
          <a:xfrm>
            <a:off x="8852040" y="1841400"/>
            <a:ext cx="2719080" cy="416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0" name="Picture 7" descr="СКРИН СТАНДАРТЫ"/>
          <p:cNvPicPr/>
          <p:nvPr/>
        </p:nvPicPr>
        <p:blipFill>
          <a:blip r:embed="rId2"/>
          <a:stretch/>
        </p:blipFill>
        <p:spPr>
          <a:xfrm>
            <a:off x="703440" y="230040"/>
            <a:ext cx="610848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49120" y="291600"/>
            <a:ext cx="8229600" cy="120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r>
              <a:rPr b="1" lang="ru-RU" sz="2500" spc="-1" strike="noStrike">
                <a:solidFill>
                  <a:srgbClr val="115481"/>
                </a:solidFill>
                <a:latin typeface="Georgia"/>
              </a:rPr>
              <a:t>2. Программа внеурочной деятельности</a:t>
            </a:r>
            <a:br>
              <a:rPr sz="2500"/>
            </a:br>
            <a:br>
              <a:rPr sz="2500"/>
            </a:br>
            <a:r>
              <a:rPr b="1" lang="ru-RU" sz="1800" spc="-1" strike="noStrike">
                <a:solidFill>
                  <a:srgbClr val="6d3319"/>
                </a:solidFill>
                <a:latin typeface="Georgia"/>
              </a:rPr>
              <a:t>Содержание программы внеурочной деятельности</a:t>
            </a: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98240" y="1724040"/>
            <a:ext cx="11412360" cy="45417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8088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 Пояснительная записка (Сущность данной программы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80880" indent="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 Актуальность программы (Новизна, актуальность, значимость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80880" indent="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. Цели и задачи программы (Цель  программы – это стратегия, фиксирующая конечный результат.  Задачи – это ступеньки лестницы, ведущей к достижению цели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80880" indent="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. Направления программы с указанием цели, задач и формируемых ценностей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. Количество часов программы и  их распределение по направлениям                                                (1 час в неделю на каждое направление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6. Основные виды деятельности и формы реализации программы ( Беседы, ролевые игры, творческие мастерские, проекты, викторины, экскурсии, выставки, конкурсы…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7. Обеспечение программы ( ЭОР, литература, технические ресурсы ...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80880" indent="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7. Планируемые результаты освоения  программы внеурочной деятельности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80880" indent="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25a2c"/>
                </a:solidFill>
                <a:latin typeface="Times New Roman"/>
              </a:rPr>
              <a:t>Общая целевая ориентация программы должна учитывать  развитие личностных, познавательных, регулятивных и коммуникативных универсальных учебных действий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33" name="Picture 4" descr="users_914_fgos2"/>
          <p:cNvPicPr/>
          <p:nvPr/>
        </p:nvPicPr>
        <p:blipFill>
          <a:blip r:embed="rId1"/>
          <a:stretch/>
        </p:blipFill>
        <p:spPr>
          <a:xfrm>
            <a:off x="8663040" y="289080"/>
            <a:ext cx="334656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31560" y="-360"/>
            <a:ext cx="11860200" cy="91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15481"/>
                </a:solidFill>
                <a:latin typeface="Times New Roman"/>
              </a:rPr>
              <a:t>3. Тематическое планирование</a:t>
            </a:r>
            <a:br>
              <a:rPr sz="2800"/>
            </a:br>
            <a:br>
              <a:rPr sz="1600"/>
            </a:br>
            <a:r>
              <a:rPr b="1" lang="ru-RU" sz="1800" spc="-1" strike="noStrike">
                <a:solidFill>
                  <a:srgbClr val="6d3319"/>
                </a:solidFill>
                <a:latin typeface="Times New Roman"/>
              </a:rPr>
              <a:t>ФГОС не определяет и не задаёт формы для тематического планирования внеурочной деятельности</a:t>
            </a: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368280" y="1011240"/>
          <a:ext cx="11501280" cy="1942920"/>
        </p:xfrm>
        <a:graphic>
          <a:graphicData uri="http://schemas.openxmlformats.org/drawingml/2006/table">
            <a:tbl>
              <a:tblPr/>
              <a:tblGrid>
                <a:gridCol w="519120"/>
                <a:gridCol w="987480"/>
                <a:gridCol w="2135160"/>
                <a:gridCol w="1965240"/>
                <a:gridCol w="1079640"/>
                <a:gridCol w="1457280"/>
                <a:gridCol w="1519200"/>
                <a:gridCol w="492120"/>
                <a:gridCol w="1346040"/>
              </a:tblGrid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</a:rPr>
                        <a:t>Да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</a:rPr>
                        <a:t>Тема зан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</a:rPr>
                        <a:t>Зада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</a:rPr>
                        <a:t>Речевой матери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</a:rPr>
                        <a:t>Место и форма прове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</a:rPr>
                        <a:t>Обеспе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4040"/>
                          </a:solidFill>
                          <a:latin typeface="Times New Roman"/>
                        </a:rPr>
                        <a:t>+  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</a:rPr>
                        <a:t>Примеч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0404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04040"/>
                          </a:solidFill>
                          <a:latin typeface="Times New Roman"/>
                        </a:rPr>
                        <a:t>05.09. 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04040"/>
                          </a:solidFill>
                          <a:latin typeface="Times New Roman"/>
                        </a:rPr>
                        <a:t>Повторение правил дорожного движения. Правила пешеход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04040"/>
                          </a:solidFill>
                          <a:latin typeface="Times New Roman"/>
                        </a:rPr>
                        <a:t>Диагностировать знания детей о правилах пешеходов. Повторение и закрепление ПД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04040"/>
                          </a:solidFill>
                          <a:latin typeface="Times New Roman"/>
                        </a:rPr>
                        <a:t>Конспект №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04040"/>
                          </a:solidFill>
                          <a:latin typeface="Times New Roman"/>
                        </a:rPr>
                        <a:t>Класс. Просмотр, обсуждение, игровые зад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04040"/>
                          </a:solidFill>
                          <a:latin typeface="Times New Roman"/>
                        </a:rPr>
                        <a:t>ПК, ЭОР – ОБЖ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0404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04040"/>
                          </a:solidFill>
                          <a:latin typeface="Times New Roman"/>
                        </a:rPr>
                        <a:t>Требуется индивидуальная работа с Поповым Саш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6" name="Rectangle 130"/>
          <p:cNvSpPr/>
          <p:nvPr/>
        </p:nvSpPr>
        <p:spPr>
          <a:xfrm>
            <a:off x="395280" y="3220920"/>
            <a:ext cx="1147140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3319"/>
                </a:solidFill>
                <a:latin typeface="Times New Roman"/>
              </a:rPr>
              <a:t>Данный образец тематического планирования составлен с учетом внутришкольных требовани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3319"/>
                </a:solidFill>
                <a:latin typeface="Times New Roman"/>
              </a:rPr>
              <a:t>Позволяет значительно упростить отчетность и анализ работы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5481"/>
                </a:solidFill>
                <a:latin typeface="Times New Roman"/>
              </a:rPr>
              <a:t>3.1. Приложение к тематическому планированию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5481"/>
                </a:solidFill>
                <a:latin typeface="Times New Roman"/>
              </a:rPr>
              <a:t>Недельная сетк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438120" y="4903920"/>
          <a:ext cx="11593440" cy="1325520"/>
        </p:xfrm>
        <a:graphic>
          <a:graphicData uri="http://schemas.openxmlformats.org/drawingml/2006/table">
            <a:tbl>
              <a:tblPr/>
              <a:tblGrid>
                <a:gridCol w="1928880"/>
                <a:gridCol w="1938240"/>
                <a:gridCol w="1930320"/>
                <a:gridCol w="2124360"/>
                <a:gridCol w="1742760"/>
                <a:gridCol w="1928880"/>
              </a:tblGrid>
              <a:tr h="46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</a:rPr>
                        <a:t>        </a:t>
                      </a: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</a:rPr>
                        <a:t>День нед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</a:rPr>
                        <a:t>Понедель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</a:rPr>
                        <a:t>Втор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</a:rPr>
                        <a:t>Сре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</a:rPr>
                        <a:t>Четвер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</a:rPr>
                        <a:t>Пятн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04040"/>
                          </a:solidFill>
                          <a:latin typeface="Times New Roman"/>
                        </a:rPr>
                        <a:t>Направ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04040"/>
                          </a:solidFill>
                          <a:latin typeface="Times New Roman"/>
                        </a:rPr>
                        <a:t>Общекультур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04040"/>
                          </a:solidFill>
                          <a:latin typeface="Times New Roman"/>
                        </a:rPr>
                        <a:t>Социаль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04040"/>
                          </a:solidFill>
                          <a:latin typeface="Times New Roman"/>
                        </a:rPr>
                        <a:t>Общеинтеллектуаль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04040"/>
                          </a:solidFill>
                          <a:latin typeface="Times New Roman"/>
                        </a:rPr>
                        <a:t>Духовно - нравствен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04040"/>
                          </a:solidFill>
                          <a:latin typeface="Times New Roman"/>
                        </a:rPr>
                        <a:t>Спортивно -оздоровитель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04040"/>
                          </a:solidFill>
                          <a:latin typeface="Times New Roman"/>
                        </a:rPr>
                        <a:t>Название зан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04040"/>
                          </a:solidFill>
                          <a:latin typeface="Times New Roman"/>
                        </a:rPr>
                        <a:t>Общ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04040"/>
                          </a:solidFill>
                          <a:latin typeface="Times New Roman"/>
                        </a:rPr>
                        <a:t>СБ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04040"/>
                          </a:solidFill>
                          <a:latin typeface="Times New Roman"/>
                        </a:rPr>
                        <a:t>Творч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04040"/>
                          </a:solidFill>
                          <a:latin typeface="Times New Roman"/>
                        </a:rPr>
                        <a:t>ЗО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4T05:33:18Z</dcterms:created>
  <dc:creator>я</dc:creator>
  <dc:description/>
  <dc:language>en-US</dc:language>
  <cp:lastModifiedBy>Адм</cp:lastModifiedBy>
  <dcterms:modified xsi:type="dcterms:W3CDTF">2015-10-16T10:14:13Z</dcterms:modified>
  <cp:revision>18</cp:revision>
  <dc:subject/>
  <dc:title>«Затруднения в обучении ребенка с тяжелыми множественными нарушениями развития и пути их решения »</dc:title>
</cp:coreProperties>
</file>