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9F5-7318-4F5D-8A63-EA6AAEC4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D8F-3E4D-43FC-8F43-6B5BA267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52A-725D-4083-9C3C-9F841E2F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A8F-B3A2-4DAF-A927-42F579CF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CBE1-085A-459D-BB89-6AD357BE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B001-6A13-41D0-BE8D-A387A739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0E75-761B-4F52-AD46-B1F89255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C6BC-E15F-4866-8851-3756C4DF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E968-75BB-499D-BA02-B837250A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B8A6-A111-408D-8916-C4373723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FE5A-C257-4730-BE46-F002E2F8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AE7-92A6-4D89-AF38-D334A9D6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7D3F-BB08-4F74-9429-E17C8D22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DAFB-DFA9-42B7-9019-32FE703F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3E70-4747-4D82-900E-4FBE730F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4636-BA37-40D0-819A-323FE15F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814F-6A3F-4C4B-BCE3-99414FB6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FBBF6-B7F5-422A-9E43-87BB60C7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59506-7675-4F58-A50C-AEDE0BC7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E0F1A-E64A-474D-BA49-8E9248A8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E1F9-5C1A-4B76-8C6E-A857E3F8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768F4-7538-4311-AD38-8C3EE4DC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70A-490F-4C71-8E95-EA327B67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AA363-3CC6-48BA-892D-2C5CC415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6379E-805F-4C7B-AC03-AB0DC3BD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71AAA-07A9-4A89-8B7A-789EC803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ACD72-9DEE-4645-9D28-A9177972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69062-B3A9-4C84-852E-210174EF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97149-A4BC-4356-AE20-8038C128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93EF1-C7E4-4B47-84A5-00649A7D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8D5E1-05A2-47E0-BF01-B1826595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0A1AE-3C91-4073-9DF7-84351122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0AF6E-03C9-4467-B8D6-1651F893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E16-386A-4500-A007-FFDDE2F4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B43CD-8131-444E-9B29-1FEBBC8B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8F25C-9C41-42BA-8545-5B601968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EF4B2-D75F-4C31-8849-F34FF3A6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0D3C2-3AF5-4634-A2EA-CDAB5824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90789-D3EA-470C-814A-70F8E8B2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CC4C9-C1B8-4E0C-8F93-A1778765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09F3A-AB92-44C9-9E97-A1B8977B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E9C09-EC69-47E0-925B-2E8F5A8E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FECC4-7DA6-4416-B813-E4A857AF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9A102-4467-41F6-8782-BCB565CA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86C-151C-4D8A-B4E0-51898546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60FCB-1294-4440-B8E6-9A029DEF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B50E3-D068-4997-80EB-63795AFE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E676C-CF45-41C9-8E7A-B8EFAA5D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47BF1-D724-4924-909B-83471202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7BCED-E348-4062-9024-24793357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F7D0C-193F-49BC-9478-5878D1B0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84045-3E78-416E-A75D-F1667357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E9CF5-0C2A-4A12-9F62-0552011F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909C4-9523-43D4-8865-37E0C53E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DBD0C-9044-4531-8964-731453D2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26C-F1B0-44E8-83D0-312312E7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7D73E-3F40-4FB8-B033-974DD785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F3714-CDD9-4E4C-BC32-49E53A00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41227-3B99-4A2C-AA4A-81D8F064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ADBB9-95C8-4CBE-B208-41493C47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43A08-AAA0-4951-B5F1-15EC1460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317D3-1989-4130-8BC2-A2420D49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B6566-09E9-4E3D-8ECB-216DD513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CBFBF-507A-4716-BE44-D9128A89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232E3-6901-4F36-90AB-8AE05881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6C88D-780D-4804-895A-221B0D37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121-0D2B-4AA4-970A-22BA4EB6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0E16C-4FAC-4D9D-9139-C888168A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AC535-6783-4E3F-BB05-9716668F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EE5F5-572B-4497-8597-3605CAFA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FDCD9-C7C2-4040-97A5-79E2611C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5A90B-2AB1-412F-8E0B-5E912E2B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F0AD3-7D1E-4800-AC78-6D4D5A79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88540-C63E-4C58-A7BA-C34A8DBA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6D8F6-3374-49A8-97FB-200C7609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40987-F8F2-40BF-A856-80629B9A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4802D-C882-41A8-A5A3-14B29D10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E3B-F26D-4EC6-8A6C-70E0B003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D3ECF-04FA-41C1-A1A3-5FA08E27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F4845-DFE3-4222-8BE3-2436C20E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B8015-340E-4ABB-B1E6-36514A3A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4C3E6-D29F-46C5-9DCB-B4366EF3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FDCE7-AAB4-4275-9A68-A6466C8F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A69-0999-419C-A31F-9825B9B4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137E-3D94-4E6E-8F03-E4450A5668F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CFD4-986D-4DB3-A37F-C14A25038BF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545B-66F1-4DBB-AC03-F4D9FAC934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5CDA-FD35-4515-A743-CDE100263F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DAC2-742F-424A-9257-3E54F70C59FA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D4BD-5812-4740-9DB5-6DB52477CB6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143F-6744-40DB-9F28-13FC00FB05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nsportal.ru/" TargetMode="External"/><Relationship Id="rId4" Type="http://schemas.openxmlformats.org/officeDocument/2006/relationships/hyperlink" Target="http://nsportal.ru/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2475000"/>
            <a:ext cx="12192120" cy="129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5a2c"/>
                </a:solidFill>
                <a:latin typeface="Times New Roman"/>
              </a:rPr>
              <a:t>Создание программы внеурочной деятельности  </a:t>
            </a:r>
            <a:br>
              <a:rPr sz="4000"/>
            </a:br>
            <a:r>
              <a:rPr b="1" lang="ru-RU" sz="4000" spc="-1" strike="noStrike">
                <a:solidFill>
                  <a:srgbClr val="c25a2c"/>
                </a:solidFill>
                <a:latin typeface="Times New Roman"/>
              </a:rPr>
              <a:t>в соответствии требованиям ФГОС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Прямоугольник 4"/>
          <p:cNvSpPr/>
          <p:nvPr/>
        </p:nvSpPr>
        <p:spPr>
          <a:xfrm>
            <a:off x="3951360" y="4780080"/>
            <a:ext cx="48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Составитель: Аристова Галина Александ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педагог ГБОУ СО ЦПМСС « Эх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Рисунок 5" descr="echo_logo_top_1175.png"/>
          <p:cNvPicPr/>
          <p:nvPr/>
        </p:nvPicPr>
        <p:blipFill>
          <a:blip r:embed="rId2"/>
          <a:stretch/>
        </p:blipFill>
        <p:spPr>
          <a:xfrm>
            <a:off x="163440" y="185760"/>
            <a:ext cx="120286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09520" y="194760"/>
            <a:ext cx="11741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5481"/>
                </a:solidFill>
                <a:latin typeface="Times New Roman"/>
              </a:rPr>
              <a:t>4. Мониторинг отслеживания результативности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439560" y="2465280"/>
            <a:ext cx="97790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 algn="ctr">
              <a:lnSpc>
                <a:spcPct val="85000"/>
              </a:lnSpc>
              <a:buClr>
                <a:srgbClr val="c25a2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5a2c"/>
                </a:solidFill>
                <a:latin typeface="Times New Roman"/>
              </a:rPr>
              <a:t>Социально – педагогические карты</a:t>
            </a:r>
            <a:br>
              <a:rPr sz="2800"/>
            </a:br>
            <a:r>
              <a:rPr b="1" lang="ru-RU" sz="2800" spc="-1" strike="noStrike">
                <a:solidFill>
                  <a:srgbClr val="c25a2c"/>
                </a:solidFill>
                <a:latin typeface="Times New Roman"/>
              </a:rPr>
              <a:t>Анализ – отчет за четверть, год</a:t>
            </a:r>
            <a:br>
              <a:rPr sz="2800"/>
            </a:br>
            <a:r>
              <a:rPr b="1" lang="ru-RU" sz="2800" spc="-1" strike="noStrike">
                <a:solidFill>
                  <a:srgbClr val="c25a2c"/>
                </a:solidFill>
                <a:latin typeface="Times New Roman"/>
              </a:rPr>
              <a:t>Критерии становления личности</a:t>
            </a:r>
            <a:br>
              <a:rPr sz="2800"/>
            </a:br>
            <a:r>
              <a:rPr b="1" lang="ru-RU" sz="2800" spc="-1" strike="noStrike">
                <a:solidFill>
                  <a:srgbClr val="c25a2c"/>
                </a:solidFill>
                <a:latin typeface="Times New Roman"/>
              </a:rPr>
              <a:t>Аналитический отчет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25a2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477720" y="1484280"/>
            <a:ext cx="106808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d3319"/>
                </a:solidFill>
                <a:latin typeface="Times New Roman"/>
              </a:rPr>
              <a:t>1. Внутришкольные отчетные док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171360" y="3448080"/>
            <a:ext cx="113317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 algn="ctr">
              <a:lnSpc>
                <a:spcPct val="85000"/>
              </a:lnSpc>
              <a:buClr>
                <a:srgbClr val="6d331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6d3319"/>
                </a:solidFill>
                <a:latin typeface="Times New Roman"/>
              </a:rPr>
              <a:t>2. Дополнительная мониторинговая диагностика отслеживания результатов освоения программы</a:t>
            </a:r>
            <a:br>
              <a:rPr sz="4800"/>
            </a:br>
            <a:br>
              <a:rPr sz="2400"/>
            </a:br>
            <a:r>
              <a:rPr b="1" lang="ru-RU" sz="2800" spc="-1" strike="noStrike">
                <a:solidFill>
                  <a:srgbClr val="c25a2c"/>
                </a:solidFill>
                <a:latin typeface="Times New Roman"/>
              </a:rPr>
              <a:t>Тестирование</a:t>
            </a:r>
            <a:br>
              <a:rPr sz="2800"/>
            </a:br>
            <a:r>
              <a:rPr b="1" lang="ru-RU" sz="2800" spc="-1" strike="noStrike">
                <a:solidFill>
                  <a:srgbClr val="c25a2c"/>
                </a:solidFill>
                <a:latin typeface="Times New Roman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560" y="287280"/>
            <a:ext cx="1163484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5481"/>
                </a:solidFill>
                <a:latin typeface="Arial"/>
              </a:rPr>
              <a:t>5. Литература и используемые ресурсы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1760" y="932040"/>
            <a:ext cx="10720440" cy="5016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1. НП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2. Литература рекомендованная государственным  органом управления образования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3. Авторские книги.  Нужно указать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- Фамилию и инициалы автор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- Полное название книг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- Издательство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- Год издания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Желательно  разделить  литературу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на несколько разделов: для педагогов;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для обучающихся;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для родителе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-531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4. Сайты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1360" indent="0">
              <a:lnSpc>
                <a:spcPct val="9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4" name="Picture 8" descr="i?id=244829540-08-72&amp;n=21"/>
          <p:cNvPicPr/>
          <p:nvPr/>
        </p:nvPicPr>
        <p:blipFill>
          <a:blip r:embed="rId1"/>
          <a:stretch/>
        </p:blipFill>
        <p:spPr>
          <a:xfrm>
            <a:off x="7184880" y="4056120"/>
            <a:ext cx="1349640" cy="2063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i?id=391190428-25-72&amp;n=21"/>
          <p:cNvPicPr/>
          <p:nvPr/>
        </p:nvPicPr>
        <p:blipFill>
          <a:blip r:embed="rId2"/>
          <a:stretch/>
        </p:blipFill>
        <p:spPr>
          <a:xfrm>
            <a:off x="8763120" y="4041720"/>
            <a:ext cx="1554120" cy="2197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i?id=6177486-21-72&amp;n=21"/>
          <p:cNvPicPr/>
          <p:nvPr/>
        </p:nvPicPr>
        <p:blipFill>
          <a:blip r:embed="rId3"/>
          <a:stretch/>
        </p:blipFill>
        <p:spPr>
          <a:xfrm>
            <a:off x="5457960" y="1812960"/>
            <a:ext cx="1495440" cy="20764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i?id=31926827-50-72&amp;n=21"/>
          <p:cNvPicPr/>
          <p:nvPr/>
        </p:nvPicPr>
        <p:blipFill>
          <a:blip r:embed="rId4"/>
          <a:stretch/>
        </p:blipFill>
        <p:spPr>
          <a:xfrm>
            <a:off x="8771040" y="1917720"/>
            <a:ext cx="1422360" cy="19940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8" descr="i?id=114547034-44-72&amp;n=21"/>
          <p:cNvPicPr/>
          <p:nvPr/>
        </p:nvPicPr>
        <p:blipFill>
          <a:blip r:embed="rId5"/>
          <a:stretch/>
        </p:blipFill>
        <p:spPr>
          <a:xfrm>
            <a:off x="7145280" y="1824120"/>
            <a:ext cx="1411200" cy="20574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2" descr="i?id=169629906-21-72&amp;n=21"/>
          <p:cNvPicPr/>
          <p:nvPr/>
        </p:nvPicPr>
        <p:blipFill>
          <a:blip r:embed="rId6"/>
          <a:stretch/>
        </p:blipFill>
        <p:spPr>
          <a:xfrm>
            <a:off x="10420200" y="1922400"/>
            <a:ext cx="1521000" cy="2027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6" descr="i?id=164786466-22-72&amp;n=21"/>
          <p:cNvPicPr/>
          <p:nvPr/>
        </p:nvPicPr>
        <p:blipFill>
          <a:blip r:embed="rId7"/>
          <a:stretch/>
        </p:blipFill>
        <p:spPr>
          <a:xfrm>
            <a:off x="10450440" y="4079880"/>
            <a:ext cx="1551240" cy="2103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i?id=114660157-55-72&amp;n=21"/>
          <p:cNvPicPr/>
          <p:nvPr/>
        </p:nvPicPr>
        <p:blipFill>
          <a:blip r:embed="rId8"/>
          <a:stretch/>
        </p:blipFill>
        <p:spPr>
          <a:xfrm>
            <a:off x="5489640" y="4041720"/>
            <a:ext cx="14731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4"/>
          <p:cNvSpPr/>
          <p:nvPr/>
        </p:nvSpPr>
        <p:spPr>
          <a:xfrm>
            <a:off x="2792880" y="258840"/>
            <a:ext cx="64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24209"/>
                </a:solidFill>
                <a:latin typeface="Times New Roman"/>
                <a:ea typeface="Times New Roman"/>
              </a:rPr>
              <a:t>Дополнительная информа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Рисунок 8" descr="но.png"/>
          <p:cNvPicPr/>
          <p:nvPr/>
        </p:nvPicPr>
        <p:blipFill>
          <a:blip r:embed="rId1"/>
          <a:stretch/>
        </p:blipFill>
        <p:spPr>
          <a:xfrm>
            <a:off x="212760" y="1012680"/>
            <a:ext cx="5656320" cy="30909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9" descr="но2.png"/>
          <p:cNvPicPr/>
          <p:nvPr/>
        </p:nvPicPr>
        <p:blipFill>
          <a:blip r:embed="rId2"/>
          <a:stretch/>
        </p:blipFill>
        <p:spPr>
          <a:xfrm>
            <a:off x="5964120" y="1023840"/>
            <a:ext cx="5837400" cy="316872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10"/>
          <p:cNvSpPr/>
          <p:nvPr/>
        </p:nvSpPr>
        <p:spPr>
          <a:xfrm>
            <a:off x="208080" y="4186080"/>
            <a:ext cx="116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3319"/>
                </a:solidFill>
                <a:latin typeface="Times New Roman"/>
                <a:ea typeface="Times New Roman"/>
              </a:rPr>
              <a:t>Поисковик   (Яндекс</a:t>
            </a:r>
            <a:r>
              <a:rPr b="1" lang="en-US" sz="2000" spc="-1" strike="noStrike">
                <a:solidFill>
                  <a:srgbClr val="6d331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3319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3319"/>
                </a:solidFill>
                <a:latin typeface="Times New Roman"/>
                <a:ea typeface="Times New Roman"/>
              </a:rPr>
              <a:t>Социальная сеть работников образования </a:t>
            </a:r>
            <a:r>
              <a:rPr b="0" lang="ru-RU" sz="2000" spc="-1" strike="noStrike" u="sng">
                <a:solidFill>
                  <a:srgbClr val="2998e3"/>
                </a:solidFill>
                <a:uFillTx/>
                <a:latin typeface="Times New Roman"/>
                <a:ea typeface="Times New Roman"/>
                <a:hlinkClick r:id="rId3"/>
              </a:rPr>
              <a:t> </a:t>
            </a:r>
            <a:r>
              <a:rPr b="0" lang="en-US" sz="2000" spc="-1" strike="noStrike" u="sng">
                <a:solidFill>
                  <a:srgbClr val="2998e3"/>
                </a:solidFill>
                <a:uFillTx/>
                <a:latin typeface="Times New Roman"/>
                <a:ea typeface="Times New Roman"/>
                <a:hlinkClick r:id="rId4"/>
              </a:rPr>
              <a:t>nsportal.ru</a:t>
            </a:r>
            <a:r>
              <a:rPr b="1" lang="ru-RU" sz="2000" spc="-1" strike="noStrike">
                <a:solidFill>
                  <a:srgbClr val="6d3319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3319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3319"/>
                </a:solidFill>
                <a:latin typeface="Times New Roman"/>
                <a:ea typeface="Times New Roman"/>
              </a:rPr>
              <a:t>Поиск по сайт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3319"/>
                </a:solidFill>
                <a:latin typeface="Times New Roman"/>
                <a:ea typeface="Times New Roman"/>
              </a:rPr>
              <a:t>Сайт педагога ЦПМСС «Эхо» Аристова Галина Александ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22"/>
          <p:cNvSpPr/>
          <p:nvPr/>
        </p:nvSpPr>
        <p:spPr>
          <a:xfrm>
            <a:off x="5950080" y="4548240"/>
            <a:ext cx="260280" cy="339840"/>
          </a:xfrm>
          <a:prstGeom prst="downArrow">
            <a:avLst>
              <a:gd name="adj1" fmla="val 50000"/>
              <a:gd name="adj2" fmla="val 32642"/>
            </a:avLst>
          </a:prstGeom>
          <a:solidFill>
            <a:srgbClr val="a64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AutoShape 23"/>
          <p:cNvSpPr/>
          <p:nvPr/>
        </p:nvSpPr>
        <p:spPr>
          <a:xfrm>
            <a:off x="5952960" y="5132520"/>
            <a:ext cx="260640" cy="353880"/>
          </a:xfrm>
          <a:prstGeom prst="downArrow">
            <a:avLst>
              <a:gd name="adj1" fmla="val 50000"/>
              <a:gd name="adj2" fmla="val 33943"/>
            </a:avLst>
          </a:prstGeom>
          <a:solidFill>
            <a:srgbClr val="a64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24"/>
          <p:cNvSpPr/>
          <p:nvPr/>
        </p:nvSpPr>
        <p:spPr>
          <a:xfrm>
            <a:off x="5948280" y="5776920"/>
            <a:ext cx="260280" cy="301680"/>
          </a:xfrm>
          <a:prstGeom prst="downArrow">
            <a:avLst>
              <a:gd name="adj1" fmla="val 50000"/>
              <a:gd name="adj2" fmla="val 28976"/>
            </a:avLst>
          </a:prstGeom>
          <a:solidFill>
            <a:srgbClr val="a64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Рисунок 6" descr="C:\Documents and Settings\User\Рабочий стол\логотип центра\Копия ПЕРЕДЕЛАННЫЙ2.jpg"/>
          <p:cNvPicPr/>
          <p:nvPr/>
        </p:nvPicPr>
        <p:blipFill>
          <a:blip r:embed="rId5"/>
          <a:stretch/>
        </p:blipFill>
        <p:spPr>
          <a:xfrm>
            <a:off x="249120" y="0"/>
            <a:ext cx="12081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0" y="1430280"/>
            <a:ext cx="12192120" cy="509580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5"/>
          <p:cNvSpPr/>
          <p:nvPr/>
        </p:nvSpPr>
        <p:spPr>
          <a:xfrm>
            <a:off x="2075040" y="395280"/>
            <a:ext cx="932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ab620e"/>
                </a:solidFill>
                <a:latin typeface="Monotype Corsiva"/>
              </a:rPr>
              <a:t>Благодарю  за  внима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Рисунок 6" descr="C:\Documents and Settings\User\Рабочий стол\логотип центра\Копия ПЕРЕДЕЛАННЫЙ2.jpg"/>
          <p:cNvPicPr/>
          <p:nvPr/>
        </p:nvPicPr>
        <p:blipFill>
          <a:blip r:embed="rId2"/>
          <a:stretch/>
        </p:blipFill>
        <p:spPr>
          <a:xfrm>
            <a:off x="182520" y="184320"/>
            <a:ext cx="176544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800" y="1752480"/>
            <a:ext cx="1136340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ru-RU" sz="3600" spc="-1" strike="noStrike" u="sng">
                <a:solidFill>
                  <a:srgbClr val="bd582c"/>
                </a:solidFill>
                <a:uFillTx/>
                <a:latin typeface="Times New Roman"/>
              </a:rPr>
              <a:t>Федеральный государственный образовательный стандарт</a:t>
            </a:r>
            <a:r>
              <a:rPr b="0" lang="ru-RU" sz="3600" spc="-1" strike="noStrike" u="sng">
                <a:solidFill>
                  <a:srgbClr val="bd582c"/>
                </a:solidFill>
                <a:uFillTx/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bd582c"/>
                </a:solidFill>
                <a:latin typeface="Times New Roman"/>
              </a:rPr>
              <a:t>– документ, который определяет комплекс норм и требований к структуре образования, его содержанию, объему учебной нагрузки и уровню подготовки обучающихся. Стандарт не регламентирует образовательные технологии, методы и приемы, средства обучения, формы и способы получения образования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3817800" y="503280"/>
            <a:ext cx="560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5481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115481"/>
                </a:solidFill>
                <a:latin typeface="Times New Roman"/>
              </a:rPr>
              <a:t>Понятие ФГО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6" descr=""/>
          <p:cNvPicPr/>
          <p:nvPr/>
        </p:nvPicPr>
        <p:blipFill>
          <a:blip r:embed="rId1"/>
          <a:stretch/>
        </p:blipFill>
        <p:spPr>
          <a:xfrm>
            <a:off x="252360" y="176040"/>
            <a:ext cx="264816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96520" y="490680"/>
            <a:ext cx="11595240" cy="121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115481"/>
                </a:solidFill>
                <a:latin typeface="Times New Roman"/>
              </a:rPr>
              <a:t>Требования ФГОС </a:t>
            </a:r>
            <a:br>
              <a:rPr sz="1800"/>
            </a:br>
            <a:r>
              <a:rPr b="1" lang="ru-RU" sz="2200" spc="-1" strike="noStrike">
                <a:solidFill>
                  <a:srgbClr val="115481"/>
                </a:solidFill>
                <a:latin typeface="Times New Roman"/>
              </a:rPr>
              <a:t>Обеспечить максимальное раскрытие                                                                       потенциальных возможностей каждого ребёнка</a:t>
            </a:r>
            <a:endParaRPr b="0" lang="en-US" sz="2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4600" y="1726920"/>
            <a:ext cx="11555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В целях обеспечения раскрытия потенциальных возможностей обучающихся учебный план предусматривает </a:t>
            </a:r>
            <a:r>
              <a:rPr b="1" i="1" lang="ru-RU" sz="1600" spc="-1" strike="noStrike">
                <a:solidFill>
                  <a:srgbClr val="6d3319"/>
                </a:solidFill>
                <a:latin typeface="Times New Roman"/>
              </a:rPr>
              <a:t> внеурочную деятельность</a:t>
            </a: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 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1.Количество занятий -10 часов в неделю.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c25a2c"/>
                </a:solidFill>
                <a:latin typeface="Times New Roman"/>
              </a:rPr>
              <a:t>Время, отводимое на внеурочную деятельность в соответствии требованиям ФГОС</a:t>
            </a:r>
            <a:r>
              <a:rPr b="1" i="1" lang="ru-RU" sz="1600" spc="-1" strike="noStrike">
                <a:solidFill>
                  <a:srgbClr val="c25a2c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c25a2c"/>
                </a:solidFill>
                <a:latin typeface="Times New Roman"/>
              </a:rPr>
              <a:t> между участниками образовательного процесса распределяется по усмотрению администрации школы.   При этом могут быть задействованы ресурсы учреждений дополнительного образования, организаций культуры и спорт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2. В начальной школе внеурочная деятельность</a:t>
            </a:r>
            <a:r>
              <a:rPr b="1" i="1" lang="ru-RU" sz="1600" spc="-1" strike="noStrike">
                <a:solidFill>
                  <a:srgbClr val="6d331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организуется по направлениям:                                                                                       </a:t>
            </a:r>
            <a:r>
              <a:rPr b="1" lang="ru-RU" sz="1600" spc="-1" strike="noStrike">
                <a:solidFill>
                  <a:srgbClr val="a64e26"/>
                </a:solidFill>
                <a:latin typeface="Times New Roman"/>
              </a:rPr>
              <a:t>- </a:t>
            </a:r>
            <a:r>
              <a:rPr b="1" i="1" lang="ru-RU" sz="1600" spc="-1" strike="noStrike">
                <a:solidFill>
                  <a:srgbClr val="a64e26"/>
                </a:solidFill>
                <a:latin typeface="Times New Roman"/>
              </a:rPr>
              <a:t>спортивно-оздоровительное                                                                                                                                                                            - духовно-нравственное                                                                                                                                                                                         - социальное                                                                                                                                                                                                               - общеинтеллектуальное                                                                                                                                                                                     - общекультурное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3. Современный национальный воспитательный идеал –</a:t>
            </a:r>
            <a:r>
              <a:rPr b="1" lang="ru-RU" sz="1600" spc="-1" strike="noStrike">
                <a:solidFill>
                  <a:srgbClr val="6d331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a64e26"/>
                </a:solidFill>
                <a:latin typeface="Times New Roman"/>
              </a:rPr>
              <a:t>высоконравственный, творческий, компетентный гражданин России, принимающий судьбу Отечества как свою личную, осознающей ответственность за настоящее и будущее своей страны, укорененный в духовных и культурных  традициях российского народ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2" name="Picture 6" descr=""/>
          <p:cNvPicPr/>
          <p:nvPr/>
        </p:nvPicPr>
        <p:blipFill>
          <a:blip r:embed="rId1"/>
          <a:stretch/>
        </p:blipFill>
        <p:spPr>
          <a:xfrm>
            <a:off x="252360" y="176040"/>
            <a:ext cx="254808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96920" y="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481"/>
                </a:solidFill>
                <a:latin typeface="Times New Roman"/>
              </a:rPr>
              <a:t>Организация внеурочной деятельности в соответствии требованиям ФГОС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0043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25a2c"/>
                </a:solidFill>
                <a:latin typeface="Arial"/>
              </a:rPr>
              <a:t>Примерная сетка распределения часов  внеурочной деятельности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5" name="Picture 6" descr=""/>
          <p:cNvPicPr/>
          <p:nvPr/>
        </p:nvPicPr>
        <p:blipFill>
          <a:blip r:embed="rId1"/>
          <a:stretch/>
        </p:blipFill>
        <p:spPr>
          <a:xfrm>
            <a:off x="9169560" y="1800360"/>
            <a:ext cx="1927080" cy="286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16" name="Rectangle 5"/>
          <p:cNvSpPr/>
          <p:nvPr/>
        </p:nvSpPr>
        <p:spPr>
          <a:xfrm>
            <a:off x="8785080" y="4691160"/>
            <a:ext cx="340704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alibri"/>
              </a:rPr>
              <a:t>Для развития потенциала  детей со сложными ограниченными возможностями здоровья могут разрабатываться индивидуальные сет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17520" y="2311560"/>
          <a:ext cx="8296200" cy="3768480"/>
        </p:xfrm>
        <a:graphic>
          <a:graphicData uri="http://schemas.openxmlformats.org/drawingml/2006/table">
            <a:tbl>
              <a:tblPr/>
              <a:tblGrid>
                <a:gridCol w="1871640"/>
                <a:gridCol w="4054320"/>
                <a:gridCol w="525600"/>
                <a:gridCol w="598680"/>
                <a:gridCol w="622080"/>
                <a:gridCol w="623880"/>
              </a:tblGrid>
              <a:tr h="282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На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Организации внеурочной деятель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Распределение час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Спортивно-оздоровите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Программа  «Подвижные игр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ЛФК. Бадминт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Общекультур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ИЗО-Студия «Юный художн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« Граждановеден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Общеинтеллекту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Программа « Творчеств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Классные ч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Духовно-нравствен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Программа «Обществоведен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Народный танец «Калин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Соци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Программа « Обществоведен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« Жестовое пен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fe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Итого: 10 час/н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811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d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17560" y="0"/>
            <a:ext cx="10018800" cy="118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481"/>
                </a:solidFill>
                <a:latin typeface="Times New Roman"/>
              </a:rPr>
              <a:t>Организация внеурочной деятельности в соответствии требованиям ФГОС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9831240" y="2422440"/>
            <a:ext cx="2008440" cy="3014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ScreenShot_20150404181452"/>
          <p:cNvPicPr/>
          <p:nvPr/>
        </p:nvPicPr>
        <p:blipFill>
          <a:blip r:embed="rId2"/>
          <a:stretch/>
        </p:blipFill>
        <p:spPr>
          <a:xfrm>
            <a:off x="604800" y="1722600"/>
            <a:ext cx="9040680" cy="45846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7"/>
          <p:cNvSpPr/>
          <p:nvPr/>
        </p:nvSpPr>
        <p:spPr>
          <a:xfrm>
            <a:off x="198360" y="1279440"/>
            <a:ext cx="107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25a2c"/>
                </a:solidFill>
                <a:latin typeface="Arial"/>
              </a:rPr>
              <a:t>Направления внеурочной деятельности. Цели, задачи, формируемые ц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560" y="0"/>
            <a:ext cx="116218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481"/>
                </a:solidFill>
                <a:latin typeface="Times New Roman"/>
              </a:rPr>
              <a:t>Создание программы внеурочной деятельности  в соответствии требованиям ФГОС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9128160" y="2424240"/>
            <a:ext cx="2616120" cy="36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24" name="Rectangle 3"/>
          <p:cNvSpPr/>
          <p:nvPr/>
        </p:nvSpPr>
        <p:spPr>
          <a:xfrm>
            <a:off x="617400" y="2489040"/>
            <a:ext cx="832176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Титульный ли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рограмму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Тематическое планир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Формы  мониторинга результатов  и их фиксирование   (Тесты, анкеты, критерии, оценивание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Список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277920" y="1828800"/>
            <a:ext cx="92836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5a2c"/>
                </a:solidFill>
                <a:latin typeface="Times New Roman"/>
              </a:rPr>
              <a:t>Программа внеурочной деятельности включает в себ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4320" y="1895040"/>
            <a:ext cx="6148080" cy="41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15481"/>
                </a:solidFill>
                <a:latin typeface="Times New Roman"/>
              </a:rPr>
              <a:t>1. Титульный лист</a:t>
            </a:r>
            <a:endParaRPr b="0" lang="en-US" sz="25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3680" y="2293920"/>
            <a:ext cx="834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1.Полное наименование образовательного учреждения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2. Эмблема организации с расшифровкой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Где, когда и кем утверждена данная образовательная программа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Программа рассмотрена на ______  протокол №__ от «___» 20____г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уководитель МО_________   Согласовано «_»__20__г.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Утверждаю.  «__»______20____г. Директор _________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1" i="1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олное название программы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5. Возраст детей,(класс) на которых программа рассчитана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6. Срок реализации программы.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7. Ф. И. О. и должность составителя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8. Название города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9. Год разработки программы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8" name="Picture 4" descr="ScreenShot_ТИТУЛЬНЫЙ ЛИСТ"/>
          <p:cNvPicPr/>
          <p:nvPr/>
        </p:nvPicPr>
        <p:blipFill>
          <a:blip r:embed="rId1"/>
          <a:stretch/>
        </p:blipFill>
        <p:spPr>
          <a:xfrm>
            <a:off x="8647200" y="1841400"/>
            <a:ext cx="3116160" cy="43401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5"/>
          <p:cNvSpPr/>
          <p:nvPr/>
        </p:nvSpPr>
        <p:spPr>
          <a:xfrm>
            <a:off x="8852040" y="1841400"/>
            <a:ext cx="2719080" cy="416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7" descr="СКРИН СТАНДАРТЫ"/>
          <p:cNvPicPr/>
          <p:nvPr/>
        </p:nvPicPr>
        <p:blipFill>
          <a:blip r:embed="rId2"/>
          <a:stretch/>
        </p:blipFill>
        <p:spPr>
          <a:xfrm>
            <a:off x="703440" y="230040"/>
            <a:ext cx="61084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9120" y="291600"/>
            <a:ext cx="8229600" cy="120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115481"/>
                </a:solidFill>
                <a:latin typeface="Georgia"/>
              </a:rPr>
              <a:t>2. Программа внеурочной деятельности</a:t>
            </a:r>
            <a:br>
              <a:rPr sz="2500"/>
            </a:br>
            <a:br>
              <a:rPr sz="2500"/>
            </a:br>
            <a:r>
              <a:rPr b="1" lang="ru-RU" sz="1800" spc="-1" strike="noStrike">
                <a:solidFill>
                  <a:srgbClr val="6d3319"/>
                </a:solidFill>
                <a:latin typeface="Georgia"/>
              </a:rPr>
              <a:t>Содержание программы внеурочной деятельности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98240" y="1724040"/>
            <a:ext cx="1141236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808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Пояснительная записка (Сущность данной программы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Актуальность программы (Новизна, актуальность, значимость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Цели и задачи программы (Цель  программы – это стратегия, фиксирующая конечный результат.  Задачи – это ступеньки лестницы, ведущей к достижению цели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Направления программы с указанием цели, задач и формируемых ценносте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Количество часов программы и  их распределение по направлениям                                                (1 час в неделю на каждое направление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Основные виды деятельности и формы реализации программы ( Беседы, ролевые игры, творческие мастерские, проекты, викторины, экскурсии, выставки, конкурсы…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Обеспечение программы ( ЭОР, литература, технические ресурсы ...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Планируемые результаты освоения  программы внеурочной деятельности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25a2c"/>
                </a:solidFill>
                <a:latin typeface="Times New Roman"/>
              </a:rPr>
              <a:t>Общая целевая ориентация программы должна учитывать  развитие личностных, познавательных, регулятивных и коммуникативных универсальных учебных действий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3" name="Picture 4" descr="users_914_fgos2"/>
          <p:cNvPicPr/>
          <p:nvPr/>
        </p:nvPicPr>
        <p:blipFill>
          <a:blip r:embed="rId1"/>
          <a:stretch/>
        </p:blipFill>
        <p:spPr>
          <a:xfrm>
            <a:off x="8663040" y="289080"/>
            <a:ext cx="334656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31560" y="-360"/>
            <a:ext cx="118602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5481"/>
                </a:solidFill>
                <a:latin typeface="Times New Roman"/>
              </a:rPr>
              <a:t>3. Тематическое планирование</a:t>
            </a:r>
            <a:br>
              <a:rPr sz="2800"/>
            </a:br>
            <a:br>
              <a:rPr sz="1600"/>
            </a:br>
            <a:r>
              <a:rPr b="1" lang="ru-RU" sz="1800" spc="-1" strike="noStrike">
                <a:solidFill>
                  <a:srgbClr val="6d3319"/>
                </a:solidFill>
                <a:latin typeface="Times New Roman"/>
              </a:rPr>
              <a:t>ФГОС не определяет и не задаёт формы для тематического планирования внеурочной деятельности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368280" y="1011240"/>
          <a:ext cx="11501280" cy="1942920"/>
        </p:xfrm>
        <a:graphic>
          <a:graphicData uri="http://schemas.openxmlformats.org/drawingml/2006/table">
            <a:tbl>
              <a:tblPr/>
              <a:tblGrid>
                <a:gridCol w="519120"/>
                <a:gridCol w="987480"/>
                <a:gridCol w="2135160"/>
                <a:gridCol w="1965240"/>
                <a:gridCol w="1079640"/>
                <a:gridCol w="1457280"/>
                <a:gridCol w="1519200"/>
                <a:gridCol w="492120"/>
                <a:gridCol w="134604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Тема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Речевой матери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Место и форма пр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+ 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05.09.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Повторение правил дорожного движения. Правила пешеход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Диагностировать знания детей о правилах пешеходов. Повторение и закрепление ПД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Конспект №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Класс. Просмотр, обсуждение, игровые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ПК, ЭОР – ОБЖ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Требуется индивидуальная работа с Поповым Саш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Rectangle 130"/>
          <p:cNvSpPr/>
          <p:nvPr/>
        </p:nvSpPr>
        <p:spPr>
          <a:xfrm>
            <a:off x="395280" y="3220920"/>
            <a:ext cx="114714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3319"/>
                </a:solidFill>
                <a:latin typeface="Times New Roman"/>
              </a:rPr>
              <a:t>Данный образец тематического планирования составлен с учетом внутришкольных требова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3319"/>
                </a:solidFill>
                <a:latin typeface="Times New Roman"/>
              </a:rPr>
              <a:t>Позволяет значительно упростить отчетность и анализ работ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481"/>
                </a:solidFill>
                <a:latin typeface="Times New Roman"/>
              </a:rPr>
              <a:t>3.1. Приложение к тематическому планировани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481"/>
                </a:solidFill>
                <a:latin typeface="Times New Roman"/>
              </a:rPr>
              <a:t>Недельная сет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38120" y="4903920"/>
          <a:ext cx="11593440" cy="1325520"/>
        </p:xfrm>
        <a:graphic>
          <a:graphicData uri="http://schemas.openxmlformats.org/drawingml/2006/table">
            <a:tbl>
              <a:tblPr/>
              <a:tblGrid>
                <a:gridCol w="1928880"/>
                <a:gridCol w="1938240"/>
                <a:gridCol w="1930320"/>
                <a:gridCol w="2124360"/>
                <a:gridCol w="1742760"/>
                <a:gridCol w="1928880"/>
              </a:tblGrid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День не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Понеде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Напра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Общекультур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Соци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Общеинтеллекту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Духовно - нравствен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Спортивно -оздоровите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Название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Об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СБ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Твор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ЗО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4T05:33:18Z</dcterms:created>
  <dc:creator>я</dc:creator>
  <dc:description/>
  <dc:language>en-US</dc:language>
  <cp:lastModifiedBy>Адм</cp:lastModifiedBy>
  <dcterms:modified xsi:type="dcterms:W3CDTF">2015-10-16T10:14:13Z</dcterms:modified>
  <cp:revision>18</cp:revision>
  <dc:subject/>
  <dc:title>«Затруднения в обучении ребенка с тяжелыми множественными нарушениями развития и пути их решения »</dc:title>
</cp:coreProperties>
</file>