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4.jpeg" ContentType="image/jpeg"/>
  <Override PartName="/ppt/media/image2.png" ContentType="image/png"/>
  <Override PartName="/ppt/media/image31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30.jpeg" ContentType="image/jpeg"/>
  <Override PartName="/ppt/media/image33.png" ContentType="image/png"/>
  <Override PartName="/ppt/media/image14.jpeg" ContentType="image/jpeg"/>
  <Override PartName="/ppt/media/image25.png" ContentType="image/png"/>
  <Override PartName="/ppt/media/image19.jpeg" ContentType="image/jpeg"/>
  <Override PartName="/ppt/media/image7.png" ContentType="image/png"/>
  <Override PartName="/ppt/media/image11.png" ContentType="image/png"/>
  <Override PartName="/ppt/media/image9.jpeg" ContentType="image/jpeg"/>
  <Override PartName="/ppt/media/image1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3.gif" ContentType="image/gif"/>
  <Override PartName="/ppt/media/image26.png" ContentType="image/png"/>
  <Override PartName="/ppt/media/image22.gif" ContentType="image/gif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2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3067-9D2D-4AE7-A0FD-45ED4FB3BC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3DF5-5DCF-4D05-9EDC-111CC6DA92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CF2-A5F8-49A2-B3D3-8C3421A3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15C-F39A-419B-A7ED-5B4238EC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028-1DE1-4DE5-9234-604A8C5D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7AD-A278-4FE5-9C3C-A6B52E8F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22D1-06DD-439C-A1E0-C76480CC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B65-A28B-43D2-B763-AC0487CC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CC9F-D0D3-4653-BE1D-1DF136C2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A3BA-B2CC-45E4-9ED3-51A630A2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30CD-CCD2-4A9D-8533-00C79E60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774-E9BE-4788-915A-B32942B0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553-2D19-40DE-A213-668084B2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2B4-8BC4-4136-8B7C-664D21FD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37F4-81B2-4F02-A20B-B71749F0C9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articles/520792/" TargetMode="External"/><Relationship Id="rId2" Type="http://schemas.openxmlformats.org/officeDocument/2006/relationships/hyperlink" Target="http://brestschool7.iatp.by/metod_2_vospitatrabota.ht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7389365_6705228_5163404_20995341_20624273_7189252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ypodermic needle 3"/>
          <p:cNvPicPr/>
          <p:nvPr/>
        </p:nvPicPr>
        <p:blipFill>
          <a:blip r:embed="rId2"/>
          <a:stretch/>
        </p:blipFill>
        <p:spPr>
          <a:xfrm>
            <a:off x="0" y="692280"/>
            <a:ext cx="4716360" cy="3654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4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ff00"/>
                </a:solidFill>
                <a:latin typeface="a_ConceptoTitulLdBk"/>
              </a:rPr>
              <a:t>Наркотики -</a:t>
            </a:r>
            <a:r>
              <a:rPr b="0" lang="ru-RU" sz="8000" spc="-1" strike="noStrike">
                <a:solidFill>
                  <a:srgbClr val="000000"/>
                </a:solidFill>
                <a:latin typeface="a_ConceptoTitulLdBk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03280" y="3714480"/>
            <a:ext cx="640080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_SimplerGr"/>
              </a:rPr>
              <a:t>путь в никуда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J0189242"/>
          <p:cNvPicPr/>
          <p:nvPr/>
        </p:nvPicPr>
        <p:blipFill>
          <a:blip r:embed="rId3"/>
          <a:stretch/>
        </p:blipFill>
        <p:spPr>
          <a:xfrm>
            <a:off x="5580000" y="1773360"/>
            <a:ext cx="1851120" cy="18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6945335_207859_55718_serdca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аркотики – это прежде всего проблемы с самим собо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79280" y="1605600"/>
            <a:ext cx="5329440" cy="51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Самое ценное в твоей жизни – свою свободу и независимость – ты бросишь ради очередной до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Мыслить, чувствовать,  ты сможешь только под « кайфо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Мозг тупеет, память отшибает. Работа, учеба, бизнес – на этом можно ставить кр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Тебе никогда не дадут права на машину. Найти хоть какую – нибудь работу будет практически невозм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Ты окажешься в тупике, из которого нет вы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luer[1]"/>
          <p:cNvPicPr/>
          <p:nvPr/>
        </p:nvPicPr>
        <p:blipFill>
          <a:blip r:embed="rId2">
            <a:lum contrast="30000"/>
          </a:blip>
          <a:srcRect l="5208" t="12039" r="4074" b="27431"/>
          <a:stretch/>
        </p:blipFill>
        <p:spPr>
          <a:xfrm>
            <a:off x="5651640" y="1557360"/>
            <a:ext cx="34923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17498786_13751245_13078744_12487334_9646490_5528168_5130788_eng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1000201363"/>
          <p:cNvPicPr/>
          <p:nvPr/>
        </p:nvPicPr>
        <p:blipFill>
          <a:blip r:embed="rId2"/>
          <a:stretch/>
        </p:blipFill>
        <p:spPr>
          <a:xfrm>
            <a:off x="4572000" y="476280"/>
            <a:ext cx="3745080" cy="403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1935"/>
          <p:cNvPicPr/>
          <p:nvPr/>
        </p:nvPicPr>
        <p:blipFill>
          <a:blip r:embed="rId3"/>
          <a:stretch/>
        </p:blipFill>
        <p:spPr>
          <a:xfrm>
            <a:off x="468360" y="2708280"/>
            <a:ext cx="3529080" cy="38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vysotsky_young"/>
          <p:cNvPicPr/>
          <p:nvPr/>
        </p:nvPicPr>
        <p:blipFill>
          <a:blip r:embed="rId2"/>
          <a:stretch/>
        </p:blipFill>
        <p:spPr>
          <a:xfrm>
            <a:off x="6227640" y="2637000"/>
            <a:ext cx="2232000" cy="280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995817856"/>
          <p:cNvPicPr/>
          <p:nvPr/>
        </p:nvPicPr>
        <p:blipFill>
          <a:blip r:embed="rId3"/>
          <a:stretch/>
        </p:blipFill>
        <p:spPr>
          <a:xfrm>
            <a:off x="1116000" y="189000"/>
            <a:ext cx="4272120" cy="624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8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lalbum_2207142414"/>
          <p:cNvPicPr/>
          <p:nvPr/>
        </p:nvPicPr>
        <p:blipFill>
          <a:blip r:embed="rId2"/>
          <a:stretch/>
        </p:blipFill>
        <p:spPr>
          <a:xfrm>
            <a:off x="1476360" y="549360"/>
            <a:ext cx="640872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black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3480" y="260280"/>
            <a:ext cx="8229600" cy="59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ркотики - это разрушение души и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ркотики –это деградация личности - интеллектуальная, моральная, социаль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ркотики - это когда мир сужается и распад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ркотики - это когда человек больной и не осознает эт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mozg"/>
          <p:cNvPicPr/>
          <p:nvPr/>
        </p:nvPicPr>
        <p:blipFill>
          <a:blip r:embed="rId2"/>
          <a:stretch/>
        </p:blipFill>
        <p:spPr>
          <a:xfrm>
            <a:off x="7380360" y="5373720"/>
            <a:ext cx="176364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Новый рисунок (6)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Наркоман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Новый рисунок (1)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Тебе это надо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Новый рисунок (3)"/>
          <p:cNvPicPr/>
          <p:nvPr/>
        </p:nvPicPr>
        <p:blipFill>
          <a:blip r:embed="rId1"/>
          <a:stretch/>
        </p:blipFill>
        <p:spPr>
          <a:xfrm>
            <a:off x="0" y="0"/>
            <a:ext cx="491004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634920" y="549360"/>
            <a:ext cx="4969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Разве это        не страшно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Молодость за дозу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narkomany_prt2_010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609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narkomany_prt2_01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Это наверное больн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2384088_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способствовать  формированию  знаний  о болезнях химической зависимости; росту  самосознания  и  самооценки  подрос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дачи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ь  умение  аргументировать  свою  точку  з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чь  школьникам  выработать  зрелую,  обоснованную  позицию  в  отношении употребления  наркотиков,  осознать  глубину  данной 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ывать  потребность  в  здоровом  образе 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narkomany_prt2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Живой скелет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87640" y="1773000"/>
            <a:ext cx="40384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ка ещё жив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narkomany_prt3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ак он и умер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narkomany_prt2_01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10260000" cy="6838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Узники концлагер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5081400"/>
            <a:ext cx="8075520" cy="10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т. Дети подземел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narkomany_prt2_06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ка ещё живы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black99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nelomay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908000" y="907920"/>
            <a:ext cx="5759640" cy="532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м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festival.1september.ru/articles/520792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restschool7.iatp.by/metod_2_vospitatrabot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uchportal.ru/load/90-1-0-1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krasnouralsk.ucoz.ru/publ/1-1-0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sverdlovsk-school8.nm.ru/docklruk/docklruk3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pedagog.bn.by/pg042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twirpx.com/file/81118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pedsovet.su/load/210-1-0-1581?l1wP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rusedu.ru/search.php?tag=%C7%E4%EE%F0%EE%E2%FC%E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t-n.ru/communities.aspx?cat_no=1191&amp;lib_no=10063&amp;tmpl=lib&amp;page=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ruclip.com/video/C8Cqx0l1CXM/влияние-наркотиков.htm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ruclip.com/video/6n9WWeUOsEw/наркотики-это-вред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7389365_6705228_5163404_20995341_20624273_7189252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250920" y="236880"/>
            <a:ext cx="8713800" cy="40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чём вред наркомании?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1 - е: организм начинает разрушаться, сгорают нервные клетки, снижаются защитные реакции организма, человек подвержен заболеваниям. Наркотики вызывают предраковые процессы в лёгких, атрофию мозга, разрушается кровь.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2 - е: идёт общая деградация личности в 15 - 20 раз быстрее, чем от алкоголя.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3 - е: наркоманы - потенциальные преступники: стремясь получить свою дозу наркотика, часто прибегают к насилию, преступлению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НАРКОТИКИ1"/>
          <p:cNvPicPr/>
          <p:nvPr/>
        </p:nvPicPr>
        <p:blipFill>
          <a:blip r:embed="rId2"/>
          <a:stretch/>
        </p:blipFill>
        <p:spPr>
          <a:xfrm>
            <a:off x="2843280" y="3284640"/>
            <a:ext cx="4157640" cy="35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7389365_6705228_5163404_20995341_20624273_7189252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person holding head"/>
          <p:cNvPicPr/>
          <p:nvPr/>
        </p:nvPicPr>
        <p:blipFill>
          <a:blip r:embed="rId2"/>
          <a:stretch/>
        </p:blipFill>
        <p:spPr>
          <a:xfrm>
            <a:off x="4500720" y="2133720"/>
            <a:ext cx="4371840" cy="44845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5005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пасен любой наркотик, даже одноразовая его проба. Неизбежно появляется привычка. При отсутствии наркотика человек испытывает мучительное состояние – абстиненцию. Его преследует отчаяние, беспокойство, раздражительность, нетерпение, боли в костях и мышцах; он, как при пытке, страдает от тяжкой бессонницы или кошмарных снов. Приём наркотика прекращает эту муку, но ненадол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7389365_6705228_5163404_20995341_20624273_7189252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spider web"/>
          <p:cNvPicPr/>
          <p:nvPr/>
        </p:nvPicPr>
        <p:blipFill>
          <a:blip r:embed="rId2"/>
          <a:stretch/>
        </p:blipFill>
        <p:spPr>
          <a:xfrm>
            <a:off x="684360" y="141120"/>
            <a:ext cx="7632720" cy="6716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1457280"/>
            <a:ext cx="82296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Организм требует новой встряски. И снова под воздействием наркотика возбуждается нервная система. Могут возникнуть  болезненный восторг, иллюзии или галлюцинации. Но потом будто бы происходит падение с вершины в глубокую пропасть – следует торможение. Настроение становится крайне угнетённым, подавленным, наступает тяжёлая депрес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6945335_207859_55718_serdca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ызывает большую тревогу, что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Число подростков и студентов, больных наркоманией, за минувшие 4 года в крупных городах выросло в 6-8 раз, число женщин-наркоманок за последние 10 лет увеличилось в 6,5 р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 некоторым данным, в стране сейчас примерно 2 млн. людей, регулярно употребляющих наркотики, примерно 4 млн. человек уже пробовали их, 3/4 из них - молодежь от 14 до 30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аждый десятый школьник уже пробовал наркот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 разных регионах России, по данным правоохранительных органов, насчитывается от 2 до 25 % старшеклассников, которые так или иначе знакомы с употреблением наркот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1 наркоман втягивает за год от 4 до 17 человек. При таких темпах через 5 лет в стране более чем 1/4 населения попробует наркот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6945335_207859_55718_serdca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Наркотики, порождают ряд пробле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В школе  тебе больше не добиться успеха – изменяются цели, мысли о будущем только меш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 ты теряешь контакт с близкими люд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ногие друзья перестают понимать тебя, они растут, а ты –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Настоящие чувства не для т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120040713204739_1-narkotiki[1]"/>
          <p:cNvPicPr/>
          <p:nvPr/>
        </p:nvPicPr>
        <p:blipFill>
          <a:blip r:embed="rId2"/>
          <a:stretch/>
        </p:blipFill>
        <p:spPr>
          <a:xfrm>
            <a:off x="2484360" y="4292640"/>
            <a:ext cx="4033800" cy="25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6945335_207859_55718_serdca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Наркотик укорачивает жизнь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За удовольствие надо платить – отдавать приходится драгоценное -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Опасность заражения СПИ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Передозировка – часть ее последствия – быстрая см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Окружение наркомана – сплошной криминал, убийство наркомана – обыденный случ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Часто жить становиться настолько « хорошо», что больше и не хоч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12"/>
          <p:cNvPicPr/>
          <p:nvPr/>
        </p:nvPicPr>
        <p:blipFill>
          <a:blip r:embed="rId2"/>
          <a:stretch/>
        </p:blipFill>
        <p:spPr>
          <a:xfrm>
            <a:off x="1763640" y="4581360"/>
            <a:ext cx="2233800" cy="2276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STOP_GRUGS[1]"/>
          <p:cNvPicPr/>
          <p:nvPr/>
        </p:nvPicPr>
        <p:blipFill>
          <a:blip r:embed="rId3"/>
          <a:stretch/>
        </p:blipFill>
        <p:spPr>
          <a:xfrm>
            <a:off x="4859280" y="4508640"/>
            <a:ext cx="230508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6945335_207859_55718_serdca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аркотики влияют на психику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50920" y="1326240"/>
            <a:ext cx="871380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Твои мысли и чувства уже не принадлежат т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Твой разум засыпает, слабеет в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Ты уже не в состоянии созидать и творить, зато натворить, пожалуй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Твое будущее – ограниченность, перспектива – направление движения только вн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vsheu[1]"/>
          <p:cNvPicPr/>
          <p:nvPr/>
        </p:nvPicPr>
        <p:blipFill>
          <a:blip r:embed="rId2"/>
          <a:stretch/>
        </p:blipFill>
        <p:spPr>
          <a:xfrm>
            <a:off x="2484360" y="3789360"/>
            <a:ext cx="381636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7:09:06Z</dcterms:created>
  <dc:creator>Terminator</dc:creator>
  <dc:description/>
  <dc:language>en-US</dc:language>
  <cp:lastModifiedBy>ОЛЕГ</cp:lastModifiedBy>
  <dcterms:modified xsi:type="dcterms:W3CDTF">2014-12-15T17:49:39Z</dcterms:modified>
  <cp:revision>28</cp:revision>
  <dc:subject/>
  <dc:title>Наркомания</dc:title>
</cp:coreProperties>
</file>