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408-A806-4561-A66D-A176F0F0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1AC9-DDEE-4F80-A0D5-F3E22FB9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0E80-2566-4BC2-8A7C-8B42B0BE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E1D8-C3FB-42F3-B3B2-69BC3C0E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09C5-23DF-480E-8800-D81A2F00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3BF0-E3DC-4CAF-A568-72FD8262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BC88-1360-4296-BC75-8904F3E0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EB7B-50BF-4D83-9F1E-AC354EE6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0A8E-2AE1-4A3B-B70A-93D5AD12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86AE-32E7-49DB-B689-F6FFDEAE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DC21-F90F-4FA2-9323-A3075C20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FD3F-12B1-45F5-9E9D-F13527C9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7145-ED25-4B8A-9DBC-C355DB34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9B4D-70AB-4B52-B38C-22CCB65C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C529-0004-41D0-9CC1-3205656C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D6A0-3F49-4743-AE01-441F4108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E1EF-82FC-427D-A130-1E0EABE9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B97B-B423-4766-88DA-574FE35C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A88B-9520-4FC6-BD63-DAECB2E0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740B-E9CD-4AC5-AA31-435FEB02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C6D0-088E-41F8-87B6-8865F26F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C2EE-6C10-4F3B-B22D-19247952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61B-3D6B-4260-A90E-767B33FA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BF72-9B65-4235-B050-CAC7DC14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3A3D-4AE4-4D90-BE85-7041EFE4D6C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400C-E748-4787-9FA0-3EA95004437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9"/>
          <p:cNvSpPr txBox="1"/>
          <p:nvPr/>
        </p:nvSpPr>
        <p:spPr>
          <a:xfrm>
            <a:off x="755640" y="476280"/>
            <a:ext cx="784872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atin typeface="Times New Roman"/>
              </a:rPr>
              <a:t>А если пересечемся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268360" y="3776760"/>
            <a:ext cx="64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торы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ртемов Илья, 7 класс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я-консультанты: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убарева И.П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Diagram 5"/>
          <p:cNvGrpSpPr/>
          <p:nvPr/>
        </p:nvGrpSpPr>
        <p:grpSpPr>
          <a:xfrm>
            <a:off x="539640" y="1773000"/>
            <a:ext cx="8147160" cy="4392720"/>
            <a:chOff x="539640" y="1773000"/>
            <a:chExt cx="8147160" cy="4392720"/>
          </a:xfrm>
        </p:grpSpPr>
        <p:sp>
          <p:nvSpPr>
            <p:cNvPr id="196" name="_s2052"/>
            <p:cNvSpPr/>
            <p:nvPr/>
          </p:nvSpPr>
          <p:spPr>
            <a:xfrm>
              <a:off x="3780000" y="1773000"/>
              <a:ext cx="4906800" cy="410364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7" name="_s2053"/>
            <p:cNvSpPr/>
            <p:nvPr/>
          </p:nvSpPr>
          <p:spPr>
            <a:xfrm>
              <a:off x="6237360" y="3654360"/>
              <a:ext cx="17002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8" name="_s2054"/>
            <p:cNvSpPr/>
            <p:nvPr/>
          </p:nvSpPr>
          <p:spPr>
            <a:xfrm>
              <a:off x="539640" y="2060280"/>
              <a:ext cx="4978440" cy="410544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9" name="_s2055"/>
            <p:cNvSpPr/>
            <p:nvPr/>
          </p:nvSpPr>
          <p:spPr>
            <a:xfrm>
              <a:off x="1204920" y="3654360"/>
              <a:ext cx="17002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00" name="Line 30"/>
            <p:cNvSpPr/>
            <p:nvPr/>
          </p:nvSpPr>
          <p:spPr>
            <a:xfrm flipV="1">
              <a:off x="4427640" y="4149360"/>
              <a:ext cx="1440" cy="21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201" name="WordArt 22"/>
          <p:cNvSpPr txBox="1"/>
          <p:nvPr/>
        </p:nvSpPr>
        <p:spPr>
          <a:xfrm>
            <a:off x="826920" y="3789360"/>
            <a:ext cx="288612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вершенно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2" name="WordArt 23"/>
          <p:cNvSpPr txBox="1"/>
          <p:nvPr/>
        </p:nvSpPr>
        <p:spPr>
          <a:xfrm>
            <a:off x="5796000" y="3716280"/>
            <a:ext cx="273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лительно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3" name="WordArt 24"/>
          <p:cNvSpPr txBox="1"/>
          <p:nvPr/>
        </p:nvSpPr>
        <p:spPr>
          <a:xfrm>
            <a:off x="826920" y="333360"/>
            <a:ext cx="7561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atin typeface="Times New Roman"/>
              </a:rPr>
              <a:t>Знач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4" name="WordArt 28"/>
          <p:cNvSpPr txBox="1"/>
          <p:nvPr/>
        </p:nvSpPr>
        <p:spPr>
          <a:xfrm rot="5400000">
            <a:off x="1858320" y="3981240"/>
            <a:ext cx="52293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вершенно  длительно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06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Verdana"/>
              </a:rPr>
              <a:t>В. Крестьянская война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Verdana"/>
              </a:rPr>
              <a:t> 1773-1775 г. г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уроках истории в 7 классе мы изучали крестьянскую войну во главе Емельяна Пугачева. Познакомившись с элементами теории множеств, мы заметили, что данный этап истории  нашей страны может быть примером для объяснения свойств пересечения и объединения множест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4825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сстание казаков, крестьян, рабочих Урала, нерусских народов под руководством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. И. Пугачева было вызвано резким ухудшением уровня жизни. Интересы этих групп населения пересеклись, а их силы, направленные  на борьбу за улучшение своего положения, объединились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364000" y="558972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Е.И. Пугаче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09" name="Picture 10" descr="Рисунок5"/>
          <p:cNvPicPr/>
          <p:nvPr/>
        </p:nvPicPr>
        <p:blipFill>
          <a:blip r:embed="rId1"/>
          <a:stretch/>
        </p:blipFill>
        <p:spPr>
          <a:xfrm>
            <a:off x="5292720" y="620640"/>
            <a:ext cx="3386160" cy="4300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сстание поддержали волжские казаки, но донские остались верны правительству. К началу 1774 года произошло полное объединение сил казачества. И донские казаки действовали в армии Пугачев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12" descr="Рисунок6"/>
          <p:cNvPicPr/>
          <p:nvPr/>
        </p:nvPicPr>
        <p:blipFill>
          <a:blip r:embed="rId1"/>
          <a:stretch/>
        </p:blipFill>
        <p:spPr>
          <a:xfrm>
            <a:off x="539640" y="620640"/>
            <a:ext cx="3888000" cy="576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е предположение подтвердилось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ематические свойства пересечения и объединения множеств применяются в грамматике английского языка и хорошо просматриваются в исторических факта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WordArt 5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atin typeface="Times New Roman"/>
              </a:rPr>
              <a:t>Вывод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280"/>
                            </p:stCondLst>
                            <p:childTnLst>
                              <p:par>
                                <p:cTn id="2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ecff"/>
                </a:solidFill>
                <a:uFillTx/>
                <a:latin typeface="Verdana"/>
              </a:rPr>
              <a:t>Проблемный вопрос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2565360"/>
            <a:ext cx="8642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оявляются свойства пересечения и  объединения множеств в гуманитарных науках?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Verdana"/>
              </a:rPr>
              <a:t>Цель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яснить, как проявляются свойства пересечения и объединения множеств в гуманитарных науках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сти приме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Verdana"/>
              </a:rPr>
              <a:t>Гипотез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: Свойства объединения и пересечения множеств помогают изучать гуманитарные наук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ecff"/>
                </a:solidFill>
                <a:uFillTx/>
                <a:latin typeface="Verdana"/>
              </a:rPr>
              <a:t>Что мы решили исследовать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захотели посмотреть, как  знания темы «Элементы теории множеств» могут помочь в изучении английского языка и истор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ecff"/>
                </a:solidFill>
                <a:uFillTx/>
                <a:latin typeface="Verdana"/>
              </a:rPr>
              <a:t>План исследов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8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.Рассмотреть формы трёх грамматических времён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erfect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rogressive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erfect Progressiv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; проанализируем их значе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08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.Привести пример исторического события, где можно проследить факт существования. математических свойств множест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08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.Сделать вывод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и грамматические явления выглядят так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resent Perfec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resent Progress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ve                    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s                      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resent Perfect Progress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s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WordArt 5"/>
          <p:cNvSpPr txBox="1"/>
          <p:nvPr/>
        </p:nvSpPr>
        <p:spPr>
          <a:xfrm>
            <a:off x="4067280" y="5877000"/>
            <a:ext cx="129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been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7" name="WordArt 6"/>
          <p:cNvSpPr txBox="1"/>
          <p:nvPr/>
        </p:nvSpPr>
        <p:spPr>
          <a:xfrm>
            <a:off x="5508720" y="5950080"/>
            <a:ext cx="1181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V-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395280" y="189000"/>
            <a:ext cx="8518680" cy="1139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cccc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cccc"/>
                    </a:gs>
                  </a:gsLst>
                  <a:lin ang="5400000"/>
                </a:gradFill>
                <a:latin typeface="Times New Roman"/>
              </a:rPr>
              <a:t>А. Present Perfect and Present Progressi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ccc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5580000" y="3645000"/>
            <a:ext cx="129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V-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2124000" y="3500280"/>
            <a:ext cx="5144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V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WordArt 10"/>
          <p:cNvSpPr txBox="1"/>
          <p:nvPr/>
        </p:nvSpPr>
        <p:spPr>
          <a:xfrm>
            <a:off x="2700360" y="3789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обнаружили: - две пары пересекающихся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жеств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erfect Progressiv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 с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erfect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 и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gressiv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 с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erfect Progressiv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;- объединение подмножеств множества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erfect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,состоящее из элементов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has, have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дмножества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rogressiv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, состоящего из элемента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-ing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3" name="Diagram 5"/>
          <p:cNvGrpSpPr/>
          <p:nvPr/>
        </p:nvGrpSpPr>
        <p:grpSpPr>
          <a:xfrm>
            <a:off x="3301920" y="4653000"/>
            <a:ext cx="5662800" cy="2205000"/>
            <a:chOff x="3301920" y="4653000"/>
            <a:chExt cx="5662800" cy="2205000"/>
          </a:xfrm>
        </p:grpSpPr>
        <p:sp>
          <p:nvSpPr>
            <p:cNvPr id="174" name="_s1028"/>
            <p:cNvSpPr/>
            <p:nvPr/>
          </p:nvSpPr>
          <p:spPr>
            <a:xfrm>
              <a:off x="5435640" y="4653000"/>
              <a:ext cx="3384360" cy="213372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5" name="_s1029"/>
            <p:cNvSpPr/>
            <p:nvPr/>
          </p:nvSpPr>
          <p:spPr>
            <a:xfrm>
              <a:off x="7534440" y="5299200"/>
              <a:ext cx="14302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6" name="_s1030"/>
            <p:cNvSpPr/>
            <p:nvPr/>
          </p:nvSpPr>
          <p:spPr>
            <a:xfrm>
              <a:off x="3348000" y="4797360"/>
              <a:ext cx="3672000" cy="206064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7" name="_s1031"/>
            <p:cNvSpPr/>
            <p:nvPr/>
          </p:nvSpPr>
          <p:spPr>
            <a:xfrm>
              <a:off x="3301920" y="5299200"/>
              <a:ext cx="14302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8" name="WordArt 26"/>
            <p:cNvSpPr txBox="1"/>
            <p:nvPr/>
          </p:nvSpPr>
          <p:spPr>
            <a:xfrm>
              <a:off x="5796000" y="5805360"/>
              <a:ext cx="657360" cy="34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been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79" name="WordArt 14"/>
            <p:cNvSpPr txBox="1"/>
            <p:nvPr/>
          </p:nvSpPr>
          <p:spPr>
            <a:xfrm>
              <a:off x="5805360" y="5086440"/>
              <a:ext cx="63828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hav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80" name="WordArt 15"/>
            <p:cNvSpPr txBox="1"/>
            <p:nvPr/>
          </p:nvSpPr>
          <p:spPr>
            <a:xfrm>
              <a:off x="5815080" y="5445000"/>
              <a:ext cx="485640" cy="34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has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81" name="WordArt 16"/>
            <p:cNvSpPr txBox="1"/>
            <p:nvPr/>
          </p:nvSpPr>
          <p:spPr>
            <a:xfrm>
              <a:off x="5738760" y="6254640"/>
              <a:ext cx="704880" cy="34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V-ing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2" name="WordArt 17"/>
          <p:cNvSpPr txBox="1"/>
          <p:nvPr/>
        </p:nvSpPr>
        <p:spPr>
          <a:xfrm>
            <a:off x="4356000" y="5157720"/>
            <a:ext cx="79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WordArt 18"/>
          <p:cNvSpPr txBox="1"/>
          <p:nvPr/>
        </p:nvSpPr>
        <p:spPr>
          <a:xfrm>
            <a:off x="7020000" y="5013360"/>
            <a:ext cx="5047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m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WordArt 19"/>
          <p:cNvSpPr txBox="1"/>
          <p:nvPr/>
        </p:nvSpPr>
        <p:spPr>
          <a:xfrm>
            <a:off x="7164360" y="544500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WordArt 20"/>
          <p:cNvSpPr txBox="1"/>
          <p:nvPr/>
        </p:nvSpPr>
        <p:spPr>
          <a:xfrm>
            <a:off x="6948360" y="6093000"/>
            <a:ext cx="6667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re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4788000" y="5734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have done my             I am do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mework already.     homework now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have been doing my homework for 2 hou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идим, что при составлении предложения в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erfect Progressiv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спользуются элементы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erfect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rogress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6"/>
          <p:cNvSpPr/>
          <p:nvPr/>
        </p:nvSpPr>
        <p:spPr>
          <a:xfrm rot="16200000">
            <a:off x="4138560" y="-1322280"/>
            <a:ext cx="792000" cy="8278920"/>
          </a:xfrm>
          <a:custGeom>
            <a:avLst/>
            <a:gdLst>
              <a:gd name="textAreaLeft" fmla="*/ 506160 w 792000"/>
              <a:gd name="textAreaRight" fmla="*/ 792360 w 792000"/>
              <a:gd name="textAreaTop" fmla="*/ 215640 h 8278920"/>
              <a:gd name="textAreaBottom" fmla="*/ 8063280 h 827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WordArt 9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atin typeface="Times New Roman"/>
              </a:rPr>
              <a:t>Пример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0" name="Line 10"/>
          <p:cNvSpPr/>
          <p:nvPr/>
        </p:nvSpPr>
        <p:spPr>
          <a:xfrm flipH="1">
            <a:off x="1258920" y="1989000"/>
            <a:ext cx="2174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Line 11"/>
          <p:cNvSpPr/>
          <p:nvPr/>
        </p:nvSpPr>
        <p:spPr>
          <a:xfrm flipH="1">
            <a:off x="4140360" y="2133720"/>
            <a:ext cx="302400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2411280" y="198900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ecff"/>
                </a:solidFill>
                <a:uFillTx/>
                <a:latin typeface="Verdana"/>
              </a:rPr>
              <a:t>Значение данных грамматических явлен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erfect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значает действие, которое завершилось к настоящему моменту време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rogressive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значает действие, которое происходит сейчас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Perfect Progressive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значает действие, часть которого завершилось, а другая часть продолж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0:28:59Z</dcterms:created>
  <dc:creator>школа</dc:creator>
  <dc:description/>
  <dc:language>en-US</dc:language>
  <cp:lastModifiedBy>Андрей</cp:lastModifiedBy>
  <dcterms:modified xsi:type="dcterms:W3CDTF">2015-10-16T20:21:27Z</dcterms:modified>
  <cp:revision>52</cp:revision>
  <dc:subject/>
  <dc:title>иропрпа</dc:title>
</cp:coreProperties>
</file>