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BD9-5A1D-4949-ACF8-CAE33CB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C4A-1FEA-4EE3-8557-6832212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71-56D1-4B52-AF02-093B3BF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EFD-AEAE-42BE-91B2-77A0165C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5474-56D9-45A6-9355-B6C79EF6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926-83C0-4227-88D7-F4A9985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4BC-76F5-486C-B7E5-08220D0D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4C63-B6B8-4EC5-A00D-376DDFDE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29B1-78C9-4FD8-928D-99FC8E5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FDB7-EF9A-4F3B-884B-0E595E3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811-3B7D-4701-9899-F107B10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3EA-22FC-4065-8194-7B90EFA3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0BB1-CB7C-4607-922E-A2DC2AE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991-710F-4DFB-BC49-F6D6A46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863E-2248-4346-9032-B893794D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2D03-283D-4A78-BAE5-AF8BFA20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0276-1C9E-48D4-B00F-2F07EBB3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7A6-7844-4208-8563-066110F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F9D-12F1-412A-8CD7-110B464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946-259D-457A-B03C-423C588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B4C-BA63-4D5B-8D29-B3E63ABE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834-8B33-46B9-8367-53C1946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E8D-FEC6-456A-9317-202153E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18A-9F1F-4E61-9A54-6ADD974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9CBB-2BDD-4947-8367-DE3A4B0D1B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AD99-D067-46EF-937F-AF7BD4230F7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9"/>
          <p:cNvSpPr txBox="1"/>
          <p:nvPr/>
        </p:nvSpPr>
        <p:spPr>
          <a:xfrm>
            <a:off x="755640" y="476280"/>
            <a:ext cx="784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А если пересечемс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268360" y="3776760"/>
            <a:ext cx="64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мов Илья, 7 класс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я-консультанты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барева И.П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Diagram 5"/>
          <p:cNvGrpSpPr/>
          <p:nvPr/>
        </p:nvGrpSpPr>
        <p:grpSpPr>
          <a:xfrm>
            <a:off x="539640" y="1773000"/>
            <a:ext cx="8147160" cy="4392720"/>
            <a:chOff x="539640" y="1773000"/>
            <a:chExt cx="8147160" cy="4392720"/>
          </a:xfrm>
        </p:grpSpPr>
        <p:sp>
          <p:nvSpPr>
            <p:cNvPr id="196" name="_s2052"/>
            <p:cNvSpPr/>
            <p:nvPr/>
          </p:nvSpPr>
          <p:spPr>
            <a:xfrm>
              <a:off x="3780000" y="1773000"/>
              <a:ext cx="4906800" cy="41036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_s2053"/>
            <p:cNvSpPr/>
            <p:nvPr/>
          </p:nvSpPr>
          <p:spPr>
            <a:xfrm>
              <a:off x="6237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_s2054"/>
            <p:cNvSpPr/>
            <p:nvPr/>
          </p:nvSpPr>
          <p:spPr>
            <a:xfrm>
              <a:off x="539640" y="2060280"/>
              <a:ext cx="4978440" cy="4105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_s2055"/>
            <p:cNvSpPr/>
            <p:nvPr/>
          </p:nvSpPr>
          <p:spPr>
            <a:xfrm>
              <a:off x="120492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 flipV="1">
              <a:off x="4427640" y="4149360"/>
              <a:ext cx="1440" cy="21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1" name="WordArt 22"/>
          <p:cNvSpPr txBox="1"/>
          <p:nvPr/>
        </p:nvSpPr>
        <p:spPr>
          <a:xfrm>
            <a:off x="826920" y="3789360"/>
            <a:ext cx="28861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вершен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23"/>
          <p:cNvSpPr txBox="1"/>
          <p:nvPr/>
        </p:nvSpPr>
        <p:spPr>
          <a:xfrm>
            <a:off x="5796000" y="3716280"/>
            <a:ext cx="27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итель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24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4" name="WordArt 28"/>
          <p:cNvSpPr txBox="1"/>
          <p:nvPr/>
        </p:nvSpPr>
        <p:spPr>
          <a:xfrm rot="5400000">
            <a:off x="1858320" y="398124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вершенно  длительн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Verdana"/>
              </a:rPr>
              <a:t>В. Крестьянская война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Verdana"/>
              </a:rPr>
              <a:t> 1773-1775 г.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роках истории в 7 классе мы изучали крестьянскую войну во главе Емельяна Пугачева. Познакомившись с элементами теории множеств, мы заметили, что данный этап истории  нашей страны может быть примером для объяснения свойств пересечения и объединения множе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82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стание казаков, крестьян, рабочих Урала, нерусских народов под руководств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. И. Пугачева было вызвано резким ухудшением уровня жизни. Интересы этих групп населения пересеклись, а их силы, направленные  на борьбу за улучшение своего положения, объединились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6400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Е.И. Пугаче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9" name="Picture 10" descr="Рисунок5"/>
          <p:cNvPicPr/>
          <p:nvPr/>
        </p:nvPicPr>
        <p:blipFill>
          <a:blip r:embed="rId1"/>
          <a:stretch/>
        </p:blipFill>
        <p:spPr>
          <a:xfrm>
            <a:off x="5292720" y="620640"/>
            <a:ext cx="3386160" cy="43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стание поддержали волжские казаки, но донские остались верны правительству. К началу 1774 года произошло полное объединение сил казачества. И донские казаки действовали в армии Пугаче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2" descr="Рисунок6"/>
          <p:cNvPicPr/>
          <p:nvPr/>
        </p:nvPicPr>
        <p:blipFill>
          <a:blip r:embed="rId1"/>
          <a:stretch/>
        </p:blipFill>
        <p:spPr>
          <a:xfrm>
            <a:off x="539640" y="620640"/>
            <a:ext cx="388800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предположение подтвердилос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матические свойства пересечения и объединения множеств применяются в грамматике английского языка и хорошо просматриваются в исторических фак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Вывод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Проблемный вопро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являются свойства пересечения и  объединения множеств в гуманитарных науках?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снить, как проявляются свойства пересечения и объединения множеств в гуманитарных наука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сти 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Свойства объединения и пересечения множеств помогают изучать гуманитарные наук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Что мы решили исследовать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хотели посмотреть, как  знания темы «Элементы теории множеств» могут помочь в изучении английского языка и истор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План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Рассмотреть формы трёх грамматических времён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проанализируем их знач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Привести пример исторического события, где можно проследить факт существования. математических свойств множест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Сделать выв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грамматические явления выглядят та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erfe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                   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                     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erfec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4067280" y="587700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bee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5508720" y="5950080"/>
            <a:ext cx="118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-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5280" y="189000"/>
            <a:ext cx="851868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cc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cc"/>
                    </a:gs>
                  </a:gsLst>
                  <a:lin ang="5400000"/>
                </a:gradFill>
                <a:latin typeface="Times New Roman"/>
              </a:rPr>
              <a:t>А. Present Perfect and Present Progres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cc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5580000" y="3645000"/>
            <a:ext cx="129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-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124000" y="3500280"/>
            <a:ext cx="514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2700360" y="378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бнаружили: - две пары пересекающихс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жеств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с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и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с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;- объединение подмножеств множества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состоящее из элемент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as, ha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множества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состоящего из элемент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-in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Diagram 5"/>
          <p:cNvGrpSpPr/>
          <p:nvPr/>
        </p:nvGrpSpPr>
        <p:grpSpPr>
          <a:xfrm>
            <a:off x="3301920" y="4653000"/>
            <a:ext cx="5662800" cy="2205000"/>
            <a:chOff x="3301920" y="4653000"/>
            <a:chExt cx="5662800" cy="2205000"/>
          </a:xfrm>
        </p:grpSpPr>
        <p:sp>
          <p:nvSpPr>
            <p:cNvPr id="174" name="_s1028"/>
            <p:cNvSpPr/>
            <p:nvPr/>
          </p:nvSpPr>
          <p:spPr>
            <a:xfrm>
              <a:off x="5435640" y="4653000"/>
              <a:ext cx="3384360" cy="21337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_s1029"/>
            <p:cNvSpPr/>
            <p:nvPr/>
          </p:nvSpPr>
          <p:spPr>
            <a:xfrm>
              <a:off x="7534440" y="5299200"/>
              <a:ext cx="14302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_s1030"/>
            <p:cNvSpPr/>
            <p:nvPr/>
          </p:nvSpPr>
          <p:spPr>
            <a:xfrm>
              <a:off x="3348000" y="4797360"/>
              <a:ext cx="3672000" cy="20606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_s1031"/>
            <p:cNvSpPr/>
            <p:nvPr/>
          </p:nvSpPr>
          <p:spPr>
            <a:xfrm>
              <a:off x="3301920" y="5299200"/>
              <a:ext cx="14302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WordArt 26"/>
            <p:cNvSpPr txBox="1"/>
            <p:nvPr/>
          </p:nvSpPr>
          <p:spPr>
            <a:xfrm>
              <a:off x="5796000" y="5805360"/>
              <a:ext cx="65736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een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9" name="WordArt 14"/>
            <p:cNvSpPr txBox="1"/>
            <p:nvPr/>
          </p:nvSpPr>
          <p:spPr>
            <a:xfrm>
              <a:off x="5805360" y="5086440"/>
              <a:ext cx="63828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hav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0" name="WordArt 15"/>
            <p:cNvSpPr txBox="1"/>
            <p:nvPr/>
          </p:nvSpPr>
          <p:spPr>
            <a:xfrm>
              <a:off x="5815080" y="5445000"/>
              <a:ext cx="4856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1" name="WordArt 16"/>
            <p:cNvSpPr txBox="1"/>
            <p:nvPr/>
          </p:nvSpPr>
          <p:spPr>
            <a:xfrm>
              <a:off x="5738760" y="6254640"/>
              <a:ext cx="70488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V-ing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WordArt 17"/>
          <p:cNvSpPr txBox="1"/>
          <p:nvPr/>
        </p:nvSpPr>
        <p:spPr>
          <a:xfrm>
            <a:off x="4356000" y="5157720"/>
            <a:ext cx="7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WordArt 18"/>
          <p:cNvSpPr txBox="1"/>
          <p:nvPr/>
        </p:nvSpPr>
        <p:spPr>
          <a:xfrm>
            <a:off x="7020000" y="5013360"/>
            <a:ext cx="504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WordArt 19"/>
          <p:cNvSpPr txBox="1"/>
          <p:nvPr/>
        </p:nvSpPr>
        <p:spPr>
          <a:xfrm>
            <a:off x="7164360" y="544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20"/>
          <p:cNvSpPr txBox="1"/>
          <p:nvPr/>
        </p:nvSpPr>
        <p:spPr>
          <a:xfrm>
            <a:off x="6948360" y="6093000"/>
            <a:ext cx="666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788000" y="5734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done my             I am do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 already.     homework n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been doing my homework for 2 hou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, что при составлении предложения 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пользуются элемент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6"/>
          <p:cNvSpPr/>
          <p:nvPr/>
        </p:nvSpPr>
        <p:spPr>
          <a:xfrm rot="16200000">
            <a:off x="4138560" y="-1322280"/>
            <a:ext cx="792000" cy="8278920"/>
          </a:xfrm>
          <a:custGeom>
            <a:avLst/>
            <a:gdLst>
              <a:gd name="textAreaLeft" fmla="*/ 506160 w 792000"/>
              <a:gd name="textAreaRight" fmla="*/ 792360 w 792000"/>
              <a:gd name="textAreaTop" fmla="*/ 215640 h 8278920"/>
              <a:gd name="textAreaBottom" fmla="*/ 8063280 h 827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Приме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1258920" y="1989000"/>
            <a:ext cx="217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4140360" y="2133720"/>
            <a:ext cx="3024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2411280" y="1989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Значение данных грамматических явл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которое завершилось к настоящему моменту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которое происходит сейча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часть которого завершилось, а другая часть продолж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8:59Z</dcterms:created>
  <dc:creator>школа</dc:creator>
  <dc:description/>
  <dc:language>en-US</dc:language>
  <cp:lastModifiedBy>Андрей</cp:lastModifiedBy>
  <dcterms:modified xsi:type="dcterms:W3CDTF">2015-10-16T20:21:27Z</dcterms:modified>
  <cp:revision>52</cp:revision>
  <dc:subject/>
  <dc:title>иропрпа</dc:title>
</cp:coreProperties>
</file>