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4032-996F-4BE2-9869-B41939395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9D28-8FBA-43E0-BCDB-D081C5D234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0A22-86C9-4BC7-AC20-23FF97378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4F8-A930-42D7-B091-6AF75F29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E06-F04F-4052-B1D2-6BFD8279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B38-959F-4DFB-9403-FD554253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9A0-AC6D-4A48-92FB-CC1E748D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D028-4870-4D57-BF20-9DA8DDEB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40C5-8FC0-41D3-8282-85AF7EE0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6A11-AE17-4934-92F2-3074DA59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EDF3-3130-452C-9535-5363CFA9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E324-A2E3-4AA2-8EF9-E9065345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5935-B608-4153-A119-0F7332AB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E7FB-5706-444B-8491-41766AE1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72D-037F-4E0F-85E8-E863AB95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6C29-0481-45DA-8338-9AB8D545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140E-2524-43AD-B077-2815CA58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16D6-090E-4A61-BEBD-1125BDE1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D2DD-0088-4EF9-B8EC-3883D635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5835-61AD-4A51-9852-E004433A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EF26-F476-469E-A99F-69AEFC70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6A9C-3612-475D-AD3A-65BA629C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8BB6-34AE-4DF5-B3C9-1215B442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F8B8-16FA-4CCC-8C1F-6B5F823A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0600-101F-4FF7-A4A3-F1100D1B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7AF-F93C-4A48-AD72-AE0B43C9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D539E-9C94-4591-B905-12183FB9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D6C5A-41DD-434F-B5AA-15714C8C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93E2-20BE-4059-9A92-826C8ED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B7900-4613-49C1-9881-2F3F9497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D5B1-B0F8-49C1-A8B7-4A1A9E19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4CC1-D8AB-4D1C-A652-38520ACD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2F77-5431-42BD-884C-E432FBFB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5F0-E24B-469D-B36E-02D81EA6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7A2-7702-44A3-8591-F8D7A7B9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F52-F266-42E1-B11B-5F4000E3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CF1-B355-4453-AA2B-9A98743B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94F-94E1-420A-98D4-69F6D041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CC8-EB0E-440A-90F2-F3BEDE0E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1483-06B9-42ED-B931-BBE14D8655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C2FE-F591-4AF9-ABA4-44C2130FDB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2C89-7CC1-4F51-AD4C-73A72CE3C4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 метод статистики. Структура статистики и ее организация в Российской Федера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C73F-09D6-430F-A4F6-E9EB40875ED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371600"/>
            <a:ext cx="83059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еская совокуп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множество однородных хотя бы по одному какому-либо признаку явлений, существование которых ограничено в пространстве и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отдельно взятый элемент статистической совокупности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ей статистической совокуп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истического исследования являются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еские призна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сителем которой являются единицы статистической совокуп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тистическим признак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будем принимать определенно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личественно характеризующее единицу статистической совокупности или статистическую совокупность в цел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5190-D064-497D-81D0-FF18A4951A5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533520" y="2286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ект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истического исследования является статистическая совокуп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A2A7-10C7-4D8E-A2CB-9C542156118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533520" y="1522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ивные и количественные статистические призна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34286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ивный призна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чественно характеризует единицу статистической совокуп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й (имеющие числовое выражени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рассмотрим статистическую совокупность «Предприятия Челябинской области». Единицей в этом случае будет являться отдельное предприятие. Для него признак «Организационно-правовая форма» будет атрибутивным, в то время, как для всей совокупности соответствующий признак «Число предприятий определенной организационно-правовой формы» будет количественны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Group 2" descr=""/>
          <p:cNvPicPr/>
          <p:nvPr/>
        </p:nvPicPr>
        <p:blipFill>
          <a:blip r:embed="rId1"/>
          <a:stretch/>
        </p:blipFill>
        <p:spPr>
          <a:xfrm>
            <a:off x="987480" y="1219320"/>
            <a:ext cx="67611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304920"/>
            <a:ext cx="830592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кретные признак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ются только внутри множества отдельных значений, например, множеств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ых чисе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прерыв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 признаки могут принимать любые значения на допустимом интервале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ами дискретного признак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служить размер обуви, число полных лет, количество работающих, 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ом непрерывн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ъем производства, прибыль, среднедушевой доход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ED4E-B1F0-4BF5-A86C-2BD5135F9F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арактеризуйте приведенные статистические призна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DB5E-8D70-4F3E-AFA2-DB31F6EB27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09480" y="1600200"/>
          <a:ext cx="8153640" cy="4722840"/>
        </p:xfrm>
        <a:graphic>
          <a:graphicData uri="http://schemas.openxmlformats.org/drawingml/2006/table">
            <a:tbl>
              <a:tblPr/>
              <a:tblGrid>
                <a:gridCol w="416160"/>
                <a:gridCol w="3774960"/>
                <a:gridCol w="3962520"/>
              </a:tblGrid>
              <a:tr h="55872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ая совокуп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ий при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я г. Кышт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правова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г. Кышт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(полных 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г. Кышт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доход на душу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я Челябинской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ая выручка от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Радиозаво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ерсо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ое мнение на выб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е денежн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иторы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срок дебиторской задолж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иторы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ебиторской задолж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фонд г. Кышты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кварти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интерпретаций термина «статистика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A288-C7C2-498F-91CB-E0D9845C2B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1600200" y="1752480"/>
            <a:ext cx="6324480" cy="4427640"/>
            <a:chOff x="1600200" y="1752480"/>
            <a:chExt cx="6324480" cy="4427640"/>
          </a:xfrm>
        </p:grpSpPr>
        <p:sp>
          <p:nvSpPr>
            <p:cNvPr id="140" name="AutoShape 7"/>
            <p:cNvSpPr/>
            <p:nvPr/>
          </p:nvSpPr>
          <p:spPr>
            <a:xfrm>
              <a:off x="1600200" y="1752480"/>
              <a:ext cx="632448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3971880" y="1752480"/>
              <a:ext cx="1580400" cy="142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трасль практической деятельност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1757880" y="3176280"/>
              <a:ext cx="1581480" cy="142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Наука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6185160" y="3176280"/>
              <a:ext cx="1581480" cy="142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Параметр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3971880" y="4756320"/>
              <a:ext cx="1581480" cy="142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Числовые данны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AutoShape 12"/>
            <p:cNvSpPr/>
            <p:nvPr/>
          </p:nvSpPr>
          <p:spPr>
            <a:xfrm>
              <a:off x="3814200" y="3491640"/>
              <a:ext cx="1897200" cy="9478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татисти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4762800" y="317628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3339360" y="3966840"/>
              <a:ext cx="47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>
              <a:off x="5711760" y="3966840"/>
              <a:ext cx="47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4762800" y="444096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зависимости от контекста под термином «статистика» могут понимать следующе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одна из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х наук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ая целью сбор, упорядочивание, анализ и сопоставление числового представления фактов, относящихся к самым разнообразным массовым явления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также одна из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 практической деятельности людей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торой - сбор, обработка и   анализ массовых данных о тех или иных массовых явления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 также различного род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вые данные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щие социально-экономические я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а случайных величин, полученный на основе эмпирических наблюдений и определенных расче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52A4-7872-49BD-B3A8-31C67F22F3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статистики как н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0AE8-F951-47D4-B11A-5CC5B931A85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6"/>
          <p:cNvSpPr/>
          <p:nvPr/>
        </p:nvSpPr>
        <p:spPr>
          <a:xfrm>
            <a:off x="0" y="605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Group 27"/>
          <p:cNvGrpSpPr/>
          <p:nvPr/>
        </p:nvGrpSpPr>
        <p:grpSpPr>
          <a:xfrm>
            <a:off x="609480" y="990720"/>
            <a:ext cx="8077320" cy="5443560"/>
            <a:chOff x="609480" y="990720"/>
            <a:chExt cx="8077320" cy="5443560"/>
          </a:xfrm>
        </p:grpSpPr>
        <p:sp>
          <p:nvSpPr>
            <p:cNvPr id="158" name="AutoShape 28"/>
            <p:cNvSpPr/>
            <p:nvPr/>
          </p:nvSpPr>
          <p:spPr>
            <a:xfrm>
              <a:off x="609480" y="990720"/>
              <a:ext cx="8077320" cy="54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>
              <a:off x="3594960" y="990720"/>
              <a:ext cx="2282400" cy="210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 статистик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Oval 30"/>
            <p:cNvSpPr/>
            <p:nvPr/>
          </p:nvSpPr>
          <p:spPr>
            <a:xfrm>
              <a:off x="1135440" y="2570760"/>
              <a:ext cx="2635200" cy="228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ает количественную сторону качественно определенных явлений и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цессов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Oval 31"/>
            <p:cNvSpPr/>
            <p:nvPr/>
          </p:nvSpPr>
          <p:spPr>
            <a:xfrm>
              <a:off x="3945960" y="3624120"/>
              <a:ext cx="1931400" cy="175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ает массовые явления и процессы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Oval 32"/>
            <p:cNvSpPr/>
            <p:nvPr/>
          </p:nvSpPr>
          <p:spPr>
            <a:xfrm>
              <a:off x="6052680" y="2747160"/>
              <a:ext cx="2107440" cy="193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ает явления и процессы в конкретных условиях места и времен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AutoShape 33"/>
            <p:cNvSpPr/>
            <p:nvPr/>
          </p:nvSpPr>
          <p:spPr>
            <a:xfrm>
              <a:off x="960840" y="4677480"/>
              <a:ext cx="525960" cy="527760"/>
            </a:xfrm>
            <a:prstGeom prst="borderCallout1">
              <a:avLst>
                <a:gd name="adj1" fmla="val 18750"/>
                <a:gd name="adj2" fmla="val -8333"/>
                <a:gd name="adj3" fmla="val -16634"/>
                <a:gd name="adj4" fmla="val 1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AutoShape 34"/>
            <p:cNvSpPr/>
            <p:nvPr/>
          </p:nvSpPr>
          <p:spPr>
            <a:xfrm>
              <a:off x="5112720" y="5732280"/>
              <a:ext cx="588240" cy="526320"/>
            </a:xfrm>
            <a:prstGeom prst="borderCallout1">
              <a:avLst>
                <a:gd name="adj1" fmla="val 18750"/>
                <a:gd name="adj2" fmla="val -8333"/>
                <a:gd name="adj3" fmla="val -83300"/>
                <a:gd name="adj4" fmla="val -46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AutoShape 35"/>
            <p:cNvSpPr/>
            <p:nvPr/>
          </p:nvSpPr>
          <p:spPr>
            <a:xfrm>
              <a:off x="7395840" y="4853880"/>
              <a:ext cx="588240" cy="526320"/>
            </a:xfrm>
            <a:prstGeom prst="borderCallout1">
              <a:avLst>
                <a:gd name="adj1" fmla="val 18750"/>
                <a:gd name="adj2" fmla="val -8333"/>
                <a:gd name="adj3" fmla="val -83518"/>
                <a:gd name="adj4" fmla="val -761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36"/>
            <p:cNvSpPr/>
            <p:nvPr/>
          </p:nvSpPr>
          <p:spPr>
            <a:xfrm>
              <a:off x="4823640" y="3097440"/>
              <a:ext cx="1080" cy="5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37"/>
            <p:cNvSpPr/>
            <p:nvPr/>
          </p:nvSpPr>
          <p:spPr>
            <a:xfrm flipH="1">
              <a:off x="3594600" y="2747160"/>
              <a:ext cx="351000" cy="35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38"/>
            <p:cNvSpPr/>
            <p:nvPr/>
          </p:nvSpPr>
          <p:spPr>
            <a:xfrm>
              <a:off x="5526360" y="2747160"/>
              <a:ext cx="702360" cy="5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татистики как нау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BA9E-A804-43EE-8D10-00C0964B649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1166760" y="1676520"/>
            <a:ext cx="6453360" cy="5049720"/>
            <a:chOff x="1166760" y="1676520"/>
            <a:chExt cx="6453360" cy="5049720"/>
          </a:xfrm>
        </p:grpSpPr>
        <p:sp>
          <p:nvSpPr>
            <p:cNvPr id="172" name="AutoShape 6"/>
            <p:cNvSpPr/>
            <p:nvPr/>
          </p:nvSpPr>
          <p:spPr>
            <a:xfrm>
              <a:off x="1166760" y="1676520"/>
              <a:ext cx="6453360" cy="50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Oval 7"/>
            <p:cNvSpPr/>
            <p:nvPr/>
          </p:nvSpPr>
          <p:spPr>
            <a:xfrm>
              <a:off x="3505320" y="1816200"/>
              <a:ext cx="1870200" cy="154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 структуры и распределе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Oval 8"/>
            <p:cNvSpPr/>
            <p:nvPr/>
          </p:nvSpPr>
          <p:spPr>
            <a:xfrm>
              <a:off x="3658320" y="3639600"/>
              <a:ext cx="1904760" cy="140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чи статистик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Oval 9"/>
            <p:cNvSpPr/>
            <p:nvPr/>
          </p:nvSpPr>
          <p:spPr>
            <a:xfrm>
              <a:off x="5515560" y="4481280"/>
              <a:ext cx="1875240" cy="154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 взаимосвяз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 flipH="1">
              <a:off x="3832560" y="4762080"/>
              <a:ext cx="1396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Oval 11"/>
            <p:cNvSpPr/>
            <p:nvPr/>
          </p:nvSpPr>
          <p:spPr>
            <a:xfrm>
              <a:off x="2289240" y="4622040"/>
              <a:ext cx="1683000" cy="154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 динамик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4533840" y="335952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5234760" y="4762080"/>
              <a:ext cx="28044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AutoShape 14"/>
            <p:cNvSpPr/>
            <p:nvPr/>
          </p:nvSpPr>
          <p:spPr>
            <a:xfrm>
              <a:off x="1681560" y="6024600"/>
              <a:ext cx="561240" cy="420480"/>
            </a:xfrm>
            <a:prstGeom prst="borderCallout1">
              <a:avLst>
                <a:gd name="adj1" fmla="val 18750"/>
                <a:gd name="adj2" fmla="val -8333"/>
                <a:gd name="adj3" fmla="val -33518"/>
                <a:gd name="adj4" fmla="val 18344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AutoShape 15"/>
            <p:cNvSpPr/>
            <p:nvPr/>
          </p:nvSpPr>
          <p:spPr>
            <a:xfrm>
              <a:off x="5703840" y="2797920"/>
              <a:ext cx="561240" cy="420480"/>
            </a:xfrm>
            <a:prstGeom prst="borderCallout1">
              <a:avLst>
                <a:gd name="adj1" fmla="val 18750"/>
                <a:gd name="adj2" fmla="val -8333"/>
                <a:gd name="adj3" fmla="val -33518"/>
                <a:gd name="adj4" fmla="val -746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16"/>
            <p:cNvSpPr/>
            <p:nvPr/>
          </p:nvSpPr>
          <p:spPr>
            <a:xfrm>
              <a:off x="6684840" y="6164640"/>
              <a:ext cx="561240" cy="420480"/>
            </a:xfrm>
            <a:prstGeom prst="borderCallout1">
              <a:avLst>
                <a:gd name="adj1" fmla="val 18750"/>
                <a:gd name="adj2" fmla="val -8333"/>
                <a:gd name="adj3" fmla="val -66851"/>
                <a:gd name="adj4" fmla="val -748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160" y="16761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ая наука, которая изучает количественную сторону качественно определенных массовых социально-экономических явлений и процессов, их структуру, движение во времени, выявляет взаимосвязи, причем в конкретных условиях места и време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C5F-FBF0-4047-9588-8846119AA8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ни стати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055A-496E-49B3-89DB-C8653AA0EA4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0" y="605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Group 2" descr=""/>
          <p:cNvPicPr/>
          <p:nvPr/>
        </p:nvPicPr>
        <p:blipFill>
          <a:blip r:embed="rId1"/>
          <a:stretch/>
        </p:blipFill>
        <p:spPr>
          <a:xfrm>
            <a:off x="1146240" y="457200"/>
            <a:ext cx="59436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6FB1-1DF1-4A61-934F-503905DDE0F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Group 2" descr=""/>
          <p:cNvPicPr/>
          <p:nvPr/>
        </p:nvPicPr>
        <p:blipFill>
          <a:blip r:embed="rId1"/>
          <a:stretch/>
        </p:blipFill>
        <p:spPr>
          <a:xfrm>
            <a:off x="1450800" y="0"/>
            <a:ext cx="5864400" cy="682164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8"/>
          <p:cNvSpPr/>
          <p:nvPr/>
        </p:nvSpPr>
        <p:spPr>
          <a:xfrm>
            <a:off x="2286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онная структура Госкомстата Р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7CC0-0C82-41A1-A2C0-C8B5D361A1F4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533520" y="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статистического исслед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" name="Group 2"/>
          <p:cNvGrpSpPr/>
          <p:nvPr/>
        </p:nvGrpSpPr>
        <p:grpSpPr>
          <a:xfrm>
            <a:off x="762120" y="730080"/>
            <a:ext cx="7772400" cy="6127920"/>
            <a:chOff x="762120" y="730080"/>
            <a:chExt cx="7772400" cy="6127920"/>
          </a:xfrm>
        </p:grpSpPr>
        <p:sp>
          <p:nvSpPr>
            <p:cNvPr id="196" name="AutoShape 3"/>
            <p:cNvSpPr/>
            <p:nvPr/>
          </p:nvSpPr>
          <p:spPr>
            <a:xfrm>
              <a:off x="762120" y="730080"/>
              <a:ext cx="7772400" cy="612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Rectangle 4"/>
            <p:cNvSpPr/>
            <p:nvPr/>
          </p:nvSpPr>
          <p:spPr>
            <a:xfrm>
              <a:off x="2405880" y="1028520"/>
              <a:ext cx="5680800" cy="44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атистическое наблюдение - сбор данных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>
              <a:off x="2405880" y="3569760"/>
              <a:ext cx="5680800" cy="59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очечная и интервальная оценка статистических показател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2405880" y="2673360"/>
              <a:ext cx="5680800" cy="59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Графическое представление данных – наглядное представление результатов группировк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2405880" y="1775520"/>
              <a:ext cx="5680800" cy="59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атистическая сводка и группировка – первоначальная обработка полученной информаци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AutoShape 8"/>
            <p:cNvSpPr/>
            <p:nvPr/>
          </p:nvSpPr>
          <p:spPr>
            <a:xfrm>
              <a:off x="4648680" y="1476720"/>
              <a:ext cx="597240" cy="29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AutoShape 9"/>
            <p:cNvSpPr/>
            <p:nvPr/>
          </p:nvSpPr>
          <p:spPr>
            <a:xfrm>
              <a:off x="4648680" y="2374560"/>
              <a:ext cx="598680" cy="296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4648680" y="3270960"/>
              <a:ext cx="598680" cy="296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2854800" y="4167360"/>
              <a:ext cx="598680" cy="597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AutoShape 12"/>
            <p:cNvSpPr/>
            <p:nvPr/>
          </p:nvSpPr>
          <p:spPr>
            <a:xfrm>
              <a:off x="6591600" y="4167360"/>
              <a:ext cx="598680" cy="596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4648680" y="4167360"/>
              <a:ext cx="598680" cy="597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14"/>
            <p:cNvSpPr/>
            <p:nvPr/>
          </p:nvSpPr>
          <p:spPr>
            <a:xfrm>
              <a:off x="2405880" y="4764960"/>
              <a:ext cx="1793880" cy="59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нализ структуры и распределе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15"/>
            <p:cNvSpPr/>
            <p:nvPr/>
          </p:nvSpPr>
          <p:spPr>
            <a:xfrm>
              <a:off x="4349880" y="4764960"/>
              <a:ext cx="1793880" cy="59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нализ динамик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16"/>
            <p:cNvSpPr/>
            <p:nvPr/>
          </p:nvSpPr>
          <p:spPr>
            <a:xfrm>
              <a:off x="6292800" y="4764960"/>
              <a:ext cx="1793880" cy="5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нализ взаимосвяз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7"/>
            <p:cNvSpPr/>
            <p:nvPr/>
          </p:nvSpPr>
          <p:spPr>
            <a:xfrm>
              <a:off x="2854800" y="5364000"/>
              <a:ext cx="598680" cy="149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8"/>
            <p:cNvSpPr/>
            <p:nvPr/>
          </p:nvSpPr>
          <p:spPr>
            <a:xfrm>
              <a:off x="6591600" y="5364000"/>
              <a:ext cx="598680" cy="149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9"/>
            <p:cNvSpPr/>
            <p:nvPr/>
          </p:nvSpPr>
          <p:spPr>
            <a:xfrm>
              <a:off x="4648680" y="5364000"/>
              <a:ext cx="598680" cy="149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20"/>
            <p:cNvSpPr/>
            <p:nvPr/>
          </p:nvSpPr>
          <p:spPr>
            <a:xfrm>
              <a:off x="2405880" y="5506200"/>
              <a:ext cx="5680800" cy="59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оциально-экономическое прогнозирование на основе          динамических факторных модел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14" name="Rectangle 21" descr=""/>
            <p:cNvPicPr/>
            <p:nvPr/>
          </p:nvPicPr>
          <p:blipFill>
            <a:blip r:embed="rId1"/>
            <a:stretch/>
          </p:blipFill>
          <p:spPr>
            <a:xfrm>
              <a:off x="1499040" y="1115640"/>
              <a:ext cx="603000" cy="284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Line 22"/>
            <p:cNvSpPr/>
            <p:nvPr/>
          </p:nvSpPr>
          <p:spPr>
            <a:xfrm>
              <a:off x="1210680" y="879120"/>
              <a:ext cx="0" cy="3437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1210680" y="4316760"/>
              <a:ext cx="717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1210680" y="879120"/>
              <a:ext cx="717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8384400" y="879120"/>
              <a:ext cx="0" cy="3437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1210680" y="4466160"/>
              <a:ext cx="717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1210680" y="4466160"/>
              <a:ext cx="0" cy="2242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1210680" y="6708600"/>
              <a:ext cx="717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8384400" y="4466160"/>
              <a:ext cx="0" cy="2242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30"/>
            <p:cNvSpPr/>
            <p:nvPr/>
          </p:nvSpPr>
          <p:spPr>
            <a:xfrm>
              <a:off x="4114800" y="6248520"/>
              <a:ext cx="284040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Times New Roman"/>
                </a:rPr>
                <a:t>Аналитическая статистик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10-10T06:18:13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