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818-CBDF-437C-BA8E-428C48EAC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2362-80F5-41AC-8860-3D2B28F0A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C8C-FCB3-4554-9D32-B98084FE1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E48-3515-4901-89A3-B7DB3A6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A68-0932-4126-9AC4-A779A06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4F0-3905-4176-A2F4-2D969D7A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4B7-1375-4921-88E5-9E13D216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B638-E036-4E8B-97E6-62C179E5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557-7436-445F-B099-DDBC163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A77-0DDA-4DFE-B5D9-5940EB3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CE33-CADB-4D51-B9D4-AA297BE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F1E-E0C2-49C9-B8DB-C1E928A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59E-1CF7-45D2-A3E5-718133E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3DC1-8D41-42AC-990B-D1E7153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0C4-7C2B-43BE-848B-4A81061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C8B1-5B42-46BA-9145-26242E8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99BB-5045-4C41-A021-7082DC8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E0F4-AC76-4B41-A64E-C013492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616E-82EC-4270-B450-150F6247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B7A0-22BA-4BD9-B623-519A663A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39F0-2B48-4775-A094-C3111C06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49DE-D468-4482-91A3-BFC6965F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D289-A5C3-451F-9410-5ED4B0FA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14AB-C09E-4170-8035-264B775F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9B86-AD21-4581-8B1A-B387E94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30E-0318-4F1E-9455-820D790E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072D-83AF-40FE-9780-7D072613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3E73-7EF1-49F3-86C6-69C7700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13D9-F74B-4184-A6E9-1084294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5E11-1567-4051-BB57-2B53C36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7936-DBA6-4F5F-9533-8A796536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8C89-D64F-46E6-ABA9-3F92AFE1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C1D6-6FB5-4AA1-8A18-64D9C6D2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BAC-4548-4FDA-A99C-E6590C89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C89-82AE-4E58-B524-6AFCDED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922-E93C-4EE1-9E5F-ACDC0167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292-3A03-4AAD-82A6-10E8D22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B12-8831-43BD-B460-D29E6EE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880-67CC-4581-87B7-56C696CD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867B-0643-425D-86DD-401D11EC45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430-0FB6-4C06-9526-ABA01E1B89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6F41-2E05-4F0B-8C3A-338DEA80F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 метод статистики. Структура статистики и ее организация в Российской Федер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5E06-2338-43A9-A068-2B7F0CD5CF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371600"/>
            <a:ext cx="8305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ая совокуп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множество однородных хотя бы по одному какому-либо признаку явлений, существование которых ограничено в пространстве и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тдельно взятый элемент статистической совокупности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статистической совокуп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истического исследования являются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ие призна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сителем которой являются единицы статистической совокуп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истическим призна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удем принимать определен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личественно характеризующее единицу статистической совокупности или статистическую совокупность в це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58D8-1B99-481E-86EE-0D5B0E2FF1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533520" y="228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истического исследования является статистическая совокуп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1318-3578-4AA3-B658-A9BBFE1797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533520" y="1522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е и количественные статистические призна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34286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й призна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енно характеризует единицу статистической совокуп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й (имеющие числовое выражени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рассмотрим статистическую совокупность «Предприятия Челябинской области». Единицей в этом случае будет являться отдельное предприятие. Для него признак «Организационно-правовая форма» будет атрибутивным, в то время, как для всей совокупности соответствующий признак «Число предприятий определенной организационно-правовой формы» будет количественны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Group 2" descr=""/>
          <p:cNvPicPr/>
          <p:nvPr/>
        </p:nvPicPr>
        <p:blipFill>
          <a:blip r:embed="rId1"/>
          <a:stretch/>
        </p:blipFill>
        <p:spPr>
          <a:xfrm>
            <a:off x="987480" y="1219320"/>
            <a:ext cx="67611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304920"/>
            <a:ext cx="83059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кретные признак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тся только внутри множества отдельных значений, например, множеств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ых чис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рерыв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 признаки могут принимать любые значения на допустимом интервал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ами дискретного призна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служить размер обуви, число полных лет, количество работающих, 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ом непрерыв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м производства, прибыль, среднедушевой дохо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914F-C725-418C-B4C1-F15CBDD9C9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арактеризуйте приведенные статистические призна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8234-4F59-4FBF-BA74-0FE273865C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9480" y="1600200"/>
          <a:ext cx="8153640" cy="4722840"/>
        </p:xfrm>
        <a:graphic>
          <a:graphicData uri="http://schemas.openxmlformats.org/drawingml/2006/table">
            <a:tbl>
              <a:tblPr/>
              <a:tblGrid>
                <a:gridCol w="416160"/>
                <a:gridCol w="3774960"/>
                <a:gridCol w="3962520"/>
              </a:tblGrid>
              <a:tr h="5587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совокуп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й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правов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(полных 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доход на душу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Челябин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выручка от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Радиозав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ерсо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ое мнение на выб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е денежн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ито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срок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ито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фонд г. Кышты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варт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нтерпретаций термина «статистик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1C86-E6AE-4446-A2DC-4C31FC95F4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600200" y="1752480"/>
            <a:ext cx="6324480" cy="4427640"/>
            <a:chOff x="1600200" y="1752480"/>
            <a:chExt cx="6324480" cy="4427640"/>
          </a:xfrm>
        </p:grpSpPr>
        <p:sp>
          <p:nvSpPr>
            <p:cNvPr id="140" name="AutoShape 7"/>
            <p:cNvSpPr/>
            <p:nvPr/>
          </p:nvSpPr>
          <p:spPr>
            <a:xfrm>
              <a:off x="1600200" y="1752480"/>
              <a:ext cx="632448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3971880" y="1752480"/>
              <a:ext cx="1580400" cy="142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трасль практиче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757880" y="3176280"/>
              <a:ext cx="1581480" cy="142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ука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6185160" y="3176280"/>
              <a:ext cx="1581480" cy="142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араметр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3971880" y="4756320"/>
              <a:ext cx="1581480" cy="142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Числовые данны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AutoShape 12"/>
            <p:cNvSpPr/>
            <p:nvPr/>
          </p:nvSpPr>
          <p:spPr>
            <a:xfrm>
              <a:off x="3814200" y="3491640"/>
              <a:ext cx="1897200" cy="947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татисти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4762800" y="317628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339360" y="396684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5711760" y="3966840"/>
              <a:ext cx="47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4762800" y="444096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зависимости от контекста под термином «статистика» могут понимать следующ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дна и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наук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ая целью сбор, упорядочивание, анализ и сопоставление числового представления фактов, относящихся к самым разнообразным массовым явле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также одна и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 практической деятельности людей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торой - сбор, обработка и   анализ массовых данных о тех или иных массовых явления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также различного род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вые данные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е социально-экономические я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а случайных величин, полученный на основе эмпирических наблюдений и определенных расче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167-174D-4BCE-B3CA-D69A631A3C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татистики как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9E79-C3A6-495A-A801-6E0CB36EB9A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0" y="605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27"/>
          <p:cNvGrpSpPr/>
          <p:nvPr/>
        </p:nvGrpSpPr>
        <p:grpSpPr>
          <a:xfrm>
            <a:off x="609480" y="990720"/>
            <a:ext cx="8077320" cy="5443560"/>
            <a:chOff x="609480" y="990720"/>
            <a:chExt cx="8077320" cy="5443560"/>
          </a:xfrm>
        </p:grpSpPr>
        <p:sp>
          <p:nvSpPr>
            <p:cNvPr id="158" name="AutoShape 28"/>
            <p:cNvSpPr/>
            <p:nvPr/>
          </p:nvSpPr>
          <p:spPr>
            <a:xfrm>
              <a:off x="609480" y="990720"/>
              <a:ext cx="8077320" cy="54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>
              <a:off x="3594960" y="990720"/>
              <a:ext cx="2282400" cy="210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статистик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Oval 30"/>
            <p:cNvSpPr/>
            <p:nvPr/>
          </p:nvSpPr>
          <p:spPr>
            <a:xfrm>
              <a:off x="1135440" y="2570760"/>
              <a:ext cx="2635200" cy="228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количественную сторону качественно определенных явлений 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сс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31"/>
            <p:cNvSpPr/>
            <p:nvPr/>
          </p:nvSpPr>
          <p:spPr>
            <a:xfrm>
              <a:off x="3945960" y="3624120"/>
              <a:ext cx="1931400" cy="175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массовые явления и процесс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6052680" y="2747160"/>
              <a:ext cx="2107440" cy="193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явления и процессы в конкретных условиях места и времен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3"/>
            <p:cNvSpPr/>
            <p:nvPr/>
          </p:nvSpPr>
          <p:spPr>
            <a:xfrm>
              <a:off x="960840" y="4677480"/>
              <a:ext cx="525960" cy="527760"/>
            </a:xfrm>
            <a:prstGeom prst="borderCallout1">
              <a:avLst>
                <a:gd name="adj1" fmla="val 18750"/>
                <a:gd name="adj2" fmla="val -8333"/>
                <a:gd name="adj3" fmla="val -16634"/>
                <a:gd name="adj4" fmla="val 1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5112720" y="5732280"/>
              <a:ext cx="588240" cy="526320"/>
            </a:xfrm>
            <a:prstGeom prst="borderCallout1">
              <a:avLst>
                <a:gd name="adj1" fmla="val 18750"/>
                <a:gd name="adj2" fmla="val -8333"/>
                <a:gd name="adj3" fmla="val -83300"/>
                <a:gd name="adj4" fmla="val -46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7395840" y="4853880"/>
              <a:ext cx="588240" cy="526320"/>
            </a:xfrm>
            <a:prstGeom prst="borderCallout1">
              <a:avLst>
                <a:gd name="adj1" fmla="val 18750"/>
                <a:gd name="adj2" fmla="val -8333"/>
                <a:gd name="adj3" fmla="val -83518"/>
                <a:gd name="adj4" fmla="val -76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36"/>
            <p:cNvSpPr/>
            <p:nvPr/>
          </p:nvSpPr>
          <p:spPr>
            <a:xfrm>
              <a:off x="4823640" y="3097440"/>
              <a:ext cx="108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 flipH="1">
              <a:off x="3594600" y="2747160"/>
              <a:ext cx="35100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5526360" y="2747160"/>
              <a:ext cx="70236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татистики как на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2F16-B0C6-4CEB-9C54-D86088DFF2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166760" y="1676520"/>
            <a:ext cx="6453360" cy="5049720"/>
            <a:chOff x="1166760" y="1676520"/>
            <a:chExt cx="6453360" cy="5049720"/>
          </a:xfrm>
        </p:grpSpPr>
        <p:sp>
          <p:nvSpPr>
            <p:cNvPr id="172" name="AutoShape 6"/>
            <p:cNvSpPr/>
            <p:nvPr/>
          </p:nvSpPr>
          <p:spPr>
            <a:xfrm>
              <a:off x="1166760" y="1676520"/>
              <a:ext cx="6453360" cy="50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3505320" y="1816200"/>
              <a:ext cx="1870200" cy="154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структуры и распредел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3658320" y="3639600"/>
              <a:ext cx="1904760" cy="140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и статист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5515560" y="4481280"/>
              <a:ext cx="1875240" cy="154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взаимосвяз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H="1">
              <a:off x="3832560" y="476208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2289240" y="4622040"/>
              <a:ext cx="1683000" cy="154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динам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4533840" y="335952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5234760" y="4762080"/>
              <a:ext cx="2804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AutoShape 14"/>
            <p:cNvSpPr/>
            <p:nvPr/>
          </p:nvSpPr>
          <p:spPr>
            <a:xfrm>
              <a:off x="1681560" y="602460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33518"/>
                <a:gd name="adj4" fmla="val 1834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AutoShape 15"/>
            <p:cNvSpPr/>
            <p:nvPr/>
          </p:nvSpPr>
          <p:spPr>
            <a:xfrm>
              <a:off x="5703840" y="279792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33518"/>
                <a:gd name="adj4" fmla="val -746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16"/>
            <p:cNvSpPr/>
            <p:nvPr/>
          </p:nvSpPr>
          <p:spPr>
            <a:xfrm>
              <a:off x="6684840" y="616464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66851"/>
                <a:gd name="adj4" fmla="val -74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160" y="16761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ая наука, которая изучает количественную сторону качественно определенных массовых социально-экономических явлений и процессов, их структуру, движение во времени, выявляет взаимосвязи, причем в конкретных условиях места и време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561-B7C3-45B5-BCA1-6AC331C8CB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и стат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922-603D-4216-BF2C-060CB838899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0" y="605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Group 2" descr=""/>
          <p:cNvPicPr/>
          <p:nvPr/>
        </p:nvPicPr>
        <p:blipFill>
          <a:blip r:embed="rId1"/>
          <a:stretch/>
        </p:blipFill>
        <p:spPr>
          <a:xfrm>
            <a:off x="1146240" y="457200"/>
            <a:ext cx="5943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B4E1-CE32-4D64-AD18-2C636A39A26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Group 2" descr=""/>
          <p:cNvPicPr/>
          <p:nvPr/>
        </p:nvPicPr>
        <p:blipFill>
          <a:blip r:embed="rId1"/>
          <a:stretch/>
        </p:blipFill>
        <p:spPr>
          <a:xfrm>
            <a:off x="1450800" y="0"/>
            <a:ext cx="5864400" cy="68216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8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онная структура Госкомстата Р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019C-E666-4AF1-892C-2467B9E3AC7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53352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статистического исслед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762120" y="730080"/>
            <a:ext cx="7772400" cy="6127920"/>
            <a:chOff x="762120" y="730080"/>
            <a:chExt cx="7772400" cy="6127920"/>
          </a:xfrm>
        </p:grpSpPr>
        <p:sp>
          <p:nvSpPr>
            <p:cNvPr id="196" name="AutoShape 3"/>
            <p:cNvSpPr/>
            <p:nvPr/>
          </p:nvSpPr>
          <p:spPr>
            <a:xfrm>
              <a:off x="762120" y="730080"/>
              <a:ext cx="7772400" cy="612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2405880" y="1028520"/>
              <a:ext cx="568080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тистическое наблюдение - сбор данных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2405880" y="3569760"/>
              <a:ext cx="5680800" cy="5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очечная и интервальная оценка статистических показател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2405880" y="2673360"/>
              <a:ext cx="568080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рафическое представление данных – наглядное представление результатов группиров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2405880" y="1775520"/>
              <a:ext cx="5680800" cy="59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тистическая сводка и группировка – первоначальная обработка полученной информ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4648680" y="1476720"/>
              <a:ext cx="597240" cy="29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4648680" y="2374560"/>
              <a:ext cx="598680" cy="296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4648680" y="3270960"/>
              <a:ext cx="598680" cy="296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2854800" y="4167360"/>
              <a:ext cx="598680" cy="597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6591600" y="4167360"/>
              <a:ext cx="598680" cy="596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4648680" y="4167360"/>
              <a:ext cx="598680" cy="597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4"/>
            <p:cNvSpPr/>
            <p:nvPr/>
          </p:nvSpPr>
          <p:spPr>
            <a:xfrm>
              <a:off x="2405880" y="4764960"/>
              <a:ext cx="1793880" cy="5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структуры и распредел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4349880" y="4764960"/>
              <a:ext cx="1793880" cy="59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динам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6292800" y="4764960"/>
              <a:ext cx="1793880" cy="5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взаимосвяз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285480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>
              <a:off x="659160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>
              <a:off x="464868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20"/>
            <p:cNvSpPr/>
            <p:nvPr/>
          </p:nvSpPr>
          <p:spPr>
            <a:xfrm>
              <a:off x="2405880" y="5506200"/>
              <a:ext cx="568080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циально-экономическое прогнозирование на основе          динамических факторных модел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4" name="Rectangle 21" descr=""/>
            <p:cNvPicPr/>
            <p:nvPr/>
          </p:nvPicPr>
          <p:blipFill>
            <a:blip r:embed="rId1"/>
            <a:stretch/>
          </p:blipFill>
          <p:spPr>
            <a:xfrm>
              <a:off x="1499040" y="1115640"/>
              <a:ext cx="603000" cy="284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22"/>
            <p:cNvSpPr/>
            <p:nvPr/>
          </p:nvSpPr>
          <p:spPr>
            <a:xfrm>
              <a:off x="1210680" y="879120"/>
              <a:ext cx="0" cy="343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1210680" y="431676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1210680" y="87912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8384400" y="879120"/>
              <a:ext cx="0" cy="343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1210680" y="446616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1210680" y="4466160"/>
              <a:ext cx="0" cy="2242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1210680" y="670860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8384400" y="4466160"/>
              <a:ext cx="0" cy="2242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30"/>
            <p:cNvSpPr/>
            <p:nvPr/>
          </p:nvSpPr>
          <p:spPr>
            <a:xfrm>
              <a:off x="4114800" y="6248520"/>
              <a:ext cx="28404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</a:rPr>
                <a:t>Аналитическая стати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10-10T06:18:13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