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27A-BF44-41BB-ACC9-91B86958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91B-A963-4BCB-8F87-7EEF155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BBC-BD13-46ED-AB7F-CAA50736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676-344A-474E-BE6A-524E6E6D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DAFB-C275-4C7C-8C2C-E8D739B9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5CB9-F572-4653-9192-6E1A57EB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F691-B392-45C1-AF11-785F193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69F8-49A9-4116-B3F7-1C5CAA8B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2E0A-DF29-453C-A19F-2CF9517B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C2B1-E3B8-4D8F-8CAA-CF2A1B2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C026-D510-4006-8773-F9BDA5E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EDA-8D5F-408D-8EB2-CADBC918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F63-97AC-4774-A185-D9BCE9EB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CA5E-CCAF-4DBD-8920-40EA8C9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8B1-E67B-49B1-BEE8-315F49D0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076-D5AF-4B2B-9041-69F8B293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F549-C48B-48EE-886E-33C32715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10B-7BB3-48A6-BBC0-EE11CEB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C08-8B8E-459E-B843-58EA5F1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D81-FB9E-4CD3-8C37-D4B6D7B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0FF-B82D-4A0C-8E7E-792A0B2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4EB-90A3-4CC3-9E67-ED320E8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686-FF13-45D2-906D-2FAFD2D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01E-9CE4-4036-8638-FB4A458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B01-24C7-45BB-BBFE-F139793EC59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252-F858-4817-8F5D-7009F0ADFDA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01600" y="590400"/>
            <a:ext cx="8845560" cy="52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84000" y="4149360"/>
            <a:ext cx="52880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а воспитатель группы раннего возраста МБДОУ №25 «Ягодка» городского округа г.Бор Нижегородской об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бломова Наталья Леонид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0_8eaae_856ba44d_XL.png"/>
          <p:cNvPicPr/>
          <p:nvPr/>
        </p:nvPicPr>
        <p:blipFill>
          <a:blip r:embed="rId2"/>
          <a:stretch/>
        </p:blipFill>
        <p:spPr>
          <a:xfrm>
            <a:off x="0" y="374508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12120" cy="144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ДЕРЖАТЕЛЬНО-        НАСЫЩЕН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ОРМИРУЕМ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ФУНКЦИОНАЛЬ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РИАТИВН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СТУПНОЙ 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ОПАСН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ие возрастным возможностям детей и содержанию програм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, в том числе игровым, спортивным, оздоровительным оборудованием, инвентарем (в соответствии со спецификой Программы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образовательного пространства и разнообразие материалов, оборудования и инвентаря (в здании и на участке) должны обеспечивать: игровую, познавательную, исследовательскую и творческую активность, двигательну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агает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в Организации или Группе полифункциональных (не обладающих жестко закрепленным способом употребления) предметов, в том числе природных материалов, пригодных для использования в разных видах детской активности (в том числе в качестве  предметов-заместителей в детской игр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60360" y="92160"/>
            <a:ext cx="850896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just">
              <a:lnSpc>
                <a:spcPct val="11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личие в организации или группе различных пространств 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115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8321760" cy="166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еспечить необходимое оборудование для игровой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буждать детей играть в СРИ, через создание  разнообразных атрибу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оздавать условия для (игр, закаливания, развития двигательной активности, познавательной деятельности, речевого развития, развития математических способностей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гащать опыт детей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гащать двигательный опыт детей, создавая в группе обстановку (ситуацию) для подвижных иг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в группе ситуацию для развития мыслительных процессов у  де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ть детей(игровым, дидактическим и др.) материалом для развития мелкой моторики рук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ть детей в стремлении помогать взросл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условия и помогать организовывать сюжетно ролевые  иг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вать несложные знакомые детям конструкции, рисунки, для  самостоятельной деятельности детей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78920" cy="144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ланировании в целях поддержки индивидуальности ребё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значаются те виды, в которых ребёнок испытывает труд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писываются те виды игрового  задания, источник и содержания, которыми будет пользоваться  воспитате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3" descr="0_8eaae_856ba44d_XL.png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9:42:16Z</dcterms:created>
  <dc:creator>Наталья</dc:creator>
  <dc:description/>
  <dc:language>en-US</dc:language>
  <cp:lastModifiedBy>Наталья</cp:lastModifiedBy>
  <dcterms:modified xsi:type="dcterms:W3CDTF">2015-10-16T09:56:09Z</dcterms:modified>
  <cp:revision>7</cp:revision>
  <dc:subject/>
  <dc:title>Презентация «РАЗВИВАЮЩАЯ ПРЕДМЕТНО-ПРОСТРАНСТВЕННАЯ СРЕДА ООП ДОО»</dc:title>
</cp:coreProperties>
</file>