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DA3-919F-4273-AE58-75E82CDE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983-D3A4-4356-94E1-EB902065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CB6-3CD6-4748-875E-0631F3AB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170-B7A2-455E-8C57-62C157C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61B-83EE-4694-8807-61853C75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6804-E465-4DD3-AC32-8CFF2970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9C12-7D01-4DFB-98EF-D8C3A746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3FA-9E65-4B2C-A15E-0DE75D1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E46-24C3-4FD9-9C5B-C00695C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7FA2-DE7F-4CCA-A007-B217A940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ACA-3A1B-450E-834E-5272647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645-33EE-4747-A92C-98720E9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4F41-1066-45B3-975D-C2BBDE7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FD2-D908-4565-82FA-19E7A70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28CC-DECD-49DF-9EBE-FF7D125B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2348-AE98-4095-BEDE-5B82D141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40B-E6CF-46A7-AA74-8FBA311E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2D1-07F5-400F-8A79-4EFF167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350-1326-460E-B31C-70D233BB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616-8160-4BC7-8B88-939AAA8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9AB-43DB-4EB1-9B19-D895FB1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C72-2E85-493A-8A11-451D6A8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8F2-E6A6-4199-903C-8304B88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D21-57A5-4CDD-B931-A9289FA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FB0-C051-47FE-B1D8-62BE29A0C87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5EA-833B-4CCD-A486-B824FBC5BD5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01600" y="590400"/>
            <a:ext cx="8845560" cy="52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84000" y="4149360"/>
            <a:ext cx="52880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а воспитатель группы раннего возраста МБДОУ №25 «Ягодка» городского округа г.Бор Нижегородской об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бломова Наталья Леонид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0_8eaae_856ba44d_XL.png"/>
          <p:cNvPicPr/>
          <p:nvPr/>
        </p:nvPicPr>
        <p:blipFill>
          <a:blip r:embed="rId2"/>
          <a:stretch/>
        </p:blipFill>
        <p:spPr>
          <a:xfrm>
            <a:off x="0" y="374508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12120" cy="144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ДЕРЖАТЕЛЬНО-        НАСЫЩЕН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ОРМИРУЕМ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ФУНКЦИОНАЛЬ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РИАТИВ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СТУПНОЙ 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ОПАСН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ие возрастным возможностям детей и содержанию програм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, в том числе игровым, спортивным, оздоровительным оборудованием, инвентарем (в соответствии со спецификой Программы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образовательного пространства и разнообразие материалов, оборудования и инвентаря (в здании и на участке) должны обеспечивать: игровую, познавательную, исследовательскую и творческую активность, двигательну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агает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в Организации или Группе полифункциональных (не обладающих жестко закрепленным способом употребления) предметов, в том числе природных материалов, пригодных для использования в разных видах детской активности (в том числе в качестве  предметов-заместителей в детской игр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60360" y="92160"/>
            <a:ext cx="850896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just">
              <a:lnSpc>
                <a:spcPct val="11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личие в организации или группе различных пространств 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11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8321760" cy="166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еспечить необходимое оборудование для игровой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буждать детей играть в СРИ, через создание  разнообразных атрибу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оздавать условия для (игр, закаливания, развития двигательной активности, познавательной деятельности, речевого развития, развития математических способностей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гащать опыт детей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гащать двигательный опыт детей, создавая в группе обстановку (ситуацию) для подвижных иг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в группе ситуацию для развития мыслительных процессов у  де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ть детей(игровым, дидактическим и др.) материалом для развития мелкой моторики ру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ть детей в стремлении помогать взросл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условия и помогать организовывать сюжетно ролевые  иг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несложные знакомые детям конструкции, рисунки, для  самостоятельной деятельности детей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78920" cy="144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ланировании в целях поддержки индивидуальности ребё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значаются те виды, в которых ребёнок испытывает труд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писываются те виды игрового  задания, источник и содержания, которыми будет пользоваться  воспитате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3" descr="0_8eaae_856ba44d_XL.png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9:42:16Z</dcterms:created>
  <dc:creator>Наталья</dc:creator>
  <dc:description/>
  <dc:language>en-US</dc:language>
  <cp:lastModifiedBy>Наталья</cp:lastModifiedBy>
  <dcterms:modified xsi:type="dcterms:W3CDTF">2015-10-16T09:56:09Z</dcterms:modified>
  <cp:revision>7</cp:revision>
  <dc:subject/>
  <dc:title>Презентация «РАЗВИВАЮЩАЯ ПРЕДМЕТНО-ПРОСТРАНСТВЕННАЯ СРЕДА ООП ДОО»</dc:title>
</cp:coreProperties>
</file>