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1.jpeg" ContentType="image/jpeg"/>
  <Override PartName="/ppt/media/image26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16.png" ContentType="image/png"/>
  <Override PartName="/ppt/media/image14.wmf" ContentType="image/x-wmf"/>
  <Override PartName="/ppt/media/image6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29.gif" ContentType="image/gif"/>
  <Override PartName="/ppt/media/image17.wmf" ContentType="image/x-wmf"/>
  <Override PartName="/ppt/media/image31.gif" ContentType="image/gif"/>
  <Override PartName="/ppt/media/image12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5.wmf" ContentType="image/x-wmf"/>
  <Override PartName="/ppt/media/image19.jpeg" ContentType="image/jpeg"/>
  <Override PartName="/ppt/media/image32.gif" ContentType="image/gif"/>
  <Override PartName="/ppt/media/image11.wmf" ContentType="image/x-wmf"/>
  <Override PartName="/ppt/media/image34.jpeg" ContentType="image/jpeg"/>
  <Override PartName="/ppt/media/image10.wmf" ContentType="image/x-wmf"/>
  <Override PartName="/ppt/media/image8.wmf" ContentType="image/x-wmf"/>
  <Override PartName="/ppt/media/image4.jpeg" ContentType="image/jpeg"/>
  <Override PartName="/ppt/media/image25.jpeg" ContentType="image/jpeg"/>
  <Override PartName="/ppt/media/image27.jpeg" ContentType="image/jpeg"/>
  <Override PartName="/ppt/media/image13.wmf" ContentType="image/x-wmf"/>
  <Override PartName="/ppt/media/image23.jpeg" ContentType="image/jpeg"/>
  <Override PartName="/ppt/media/image35.jpeg" ContentType="image/jpeg"/>
  <Override PartName="/ppt/media/image1.jpeg" ContentType="image/jpeg"/>
  <Override PartName="/ppt/media/image15.wmf" ContentType="image/x-wmf"/>
  <Override PartName="/ppt/media/image9.png" ContentType="image/pn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8F6C-28A6-4AAC-AE7C-5B2825F4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9AE7-0298-4514-915E-09CEBEF8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0A95-7E8B-49B2-AD39-E263DA70B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ABF6-47CC-457E-A5A0-DDCD70CF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93CE-7E1A-4B80-A17E-AFE44565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5609-DD15-4E9A-8696-26A53A6B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1D6C-6E52-4672-B901-211D066D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5A63-B60C-4F62-A8C6-DE96820C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B606-51F4-404B-A615-32F41B29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68C5-A9B2-4DF6-AF60-61BB7C00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67B4-9885-42D1-8F37-E2D98838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55CA-B12A-48B5-A6A4-82CFE149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6474-F090-4E94-9FC2-0A79E5DC6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gif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8.wmf"/><Relationship Id="rId21" Type="http://schemas.openxmlformats.org/officeDocument/2006/relationships/image" Target="../media/image9.png"/><Relationship Id="rId22" Type="http://schemas.openxmlformats.org/officeDocument/2006/relationships/image" Target="../media/image13.wmf"/><Relationship Id="rId23" Type="http://schemas.openxmlformats.org/officeDocument/2006/relationships/image" Target="../media/image18.wmf"/><Relationship Id="rId24" Type="http://schemas.openxmlformats.org/officeDocument/2006/relationships/image" Target="../media/image18.wmf"/><Relationship Id="rId25" Type="http://schemas.openxmlformats.org/officeDocument/2006/relationships/image" Target="../media/image18.wmf"/><Relationship Id="rId2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ards.mail.ru/cardedit.html?tid=33" TargetMode="External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cards.mail.ru/dwp/dwp_view.html?did=44" TargetMode="External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go.mail.ru/frame.html?imgurl=http://www.umka.by/cms/images/6(3).jpg&amp;pageurl=http://mrart.ru%2Fsticker%2Ffarm-yard%2F&amp;id=23072399&amp;iid=5&amp;imgwidth=450&amp;imgheight=321&amp;imgsize=85861&amp;images_links=b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png"/><Relationship Id="rId8" Type="http://schemas.openxmlformats.org/officeDocument/2006/relationships/image" Target="../media/image10.wmf"/><Relationship Id="rId9" Type="http://schemas.openxmlformats.org/officeDocument/2006/relationships/image" Target="../media/image9.png"/><Relationship Id="rId10" Type="http://schemas.openxmlformats.org/officeDocument/2006/relationships/image" Target="../media/image11.wmf"/><Relationship Id="rId11" Type="http://schemas.openxmlformats.org/officeDocument/2006/relationships/image" Target="../media/image12.jpeg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7.wmf"/><Relationship Id="rId21" Type="http://schemas.openxmlformats.org/officeDocument/2006/relationships/image" Target="../media/image18.wmf"/><Relationship Id="rId2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image" Target="../media/image28.jpeg"/><Relationship Id="rId5" Type="http://schemas.openxmlformats.org/officeDocument/2006/relationships/image" Target="../media/image28.jpeg"/><Relationship Id="rId6" Type="http://schemas.openxmlformats.org/officeDocument/2006/relationships/image" Target="../media/image28.jpeg"/><Relationship Id="rId7" Type="http://schemas.openxmlformats.org/officeDocument/2006/relationships/image" Target="../media/image28.jpeg"/><Relationship Id="rId8" Type="http://schemas.openxmlformats.org/officeDocument/2006/relationships/image" Target="../media/image28.jpeg"/><Relationship Id="rId9" Type="http://schemas.openxmlformats.org/officeDocument/2006/relationships/image" Target="../media/image28.jpeg"/><Relationship Id="rId10" Type="http://schemas.openxmlformats.org/officeDocument/2006/relationships/image" Target="../media/image28.jpeg"/><Relationship Id="rId11" Type="http://schemas.openxmlformats.org/officeDocument/2006/relationships/image" Target="../media/image28.jpeg"/><Relationship Id="rId12" Type="http://schemas.openxmlformats.org/officeDocument/2006/relationships/image" Target="../media/image28.jpeg"/><Relationship Id="rId13" Type="http://schemas.openxmlformats.org/officeDocument/2006/relationships/image" Target="../media/image28.jpeg"/><Relationship Id="rId14" Type="http://schemas.openxmlformats.org/officeDocument/2006/relationships/image" Target="../media/image28.jpeg"/><Relationship Id="rId15" Type="http://schemas.openxmlformats.org/officeDocument/2006/relationships/image" Target="../media/image28.jpeg"/><Relationship Id="rId16" Type="http://schemas.openxmlformats.org/officeDocument/2006/relationships/image" Target="../media/image28.jpeg"/><Relationship Id="rId17" Type="http://schemas.openxmlformats.org/officeDocument/2006/relationships/image" Target="../media/image28.jpeg"/><Relationship Id="rId18" Type="http://schemas.openxmlformats.org/officeDocument/2006/relationships/image" Target="../media/image28.jpeg"/><Relationship Id="rId19" Type="http://schemas.openxmlformats.org/officeDocument/2006/relationships/image" Target="../media/image28.jpeg"/><Relationship Id="rId20" Type="http://schemas.openxmlformats.org/officeDocument/2006/relationships/image" Target="../media/image28.jpeg"/><Relationship Id="rId21" Type="http://schemas.openxmlformats.org/officeDocument/2006/relationships/image" Target="../media/image28.jpeg"/><Relationship Id="rId22" Type="http://schemas.openxmlformats.org/officeDocument/2006/relationships/image" Target="../media/image28.jpeg"/><Relationship Id="rId23" Type="http://schemas.openxmlformats.org/officeDocument/2006/relationships/image" Target="../media/image28.jpeg"/><Relationship Id="rId24" Type="http://schemas.openxmlformats.org/officeDocument/2006/relationships/image" Target="../media/image28.jpeg"/><Relationship Id="rId25" Type="http://schemas.openxmlformats.org/officeDocument/2006/relationships/image" Target="../media/image28.jpeg"/><Relationship Id="rId26" Type="http://schemas.openxmlformats.org/officeDocument/2006/relationships/image" Target="../media/image28.jpeg"/><Relationship Id="rId27" Type="http://schemas.openxmlformats.org/officeDocument/2006/relationships/image" Target="../media/image28.jpeg"/><Relationship Id="rId28" Type="http://schemas.openxmlformats.org/officeDocument/2006/relationships/image" Target="../media/image28.jpeg"/><Relationship Id="rId29" Type="http://schemas.openxmlformats.org/officeDocument/2006/relationships/image" Target="../media/image28.jpeg"/><Relationship Id="rId30" Type="http://schemas.openxmlformats.org/officeDocument/2006/relationships/image" Target="../media/image28.jpeg"/><Relationship Id="rId31" Type="http://schemas.openxmlformats.org/officeDocument/2006/relationships/image" Target="../media/image28.jpeg"/><Relationship Id="rId32" Type="http://schemas.openxmlformats.org/officeDocument/2006/relationships/image" Target="../media/image28.jpeg"/><Relationship Id="rId33" Type="http://schemas.openxmlformats.org/officeDocument/2006/relationships/image" Target="../media/image28.jpeg"/><Relationship Id="rId34" Type="http://schemas.openxmlformats.org/officeDocument/2006/relationships/image" Target="../media/image28.jpeg"/><Relationship Id="rId35" Type="http://schemas.openxmlformats.org/officeDocument/2006/relationships/image" Target="../media/image28.jpeg"/><Relationship Id="rId36" Type="http://schemas.openxmlformats.org/officeDocument/2006/relationships/image" Target="../media/image28.jpeg"/><Relationship Id="rId37" Type="http://schemas.openxmlformats.org/officeDocument/2006/relationships/image" Target="../media/image28.jpeg"/><Relationship Id="rId38" Type="http://schemas.openxmlformats.org/officeDocument/2006/relationships/image" Target="../media/image28.jpeg"/><Relationship Id="rId39" Type="http://schemas.openxmlformats.org/officeDocument/2006/relationships/image" Target="../media/image28.jpeg"/><Relationship Id="rId40" Type="http://schemas.openxmlformats.org/officeDocument/2006/relationships/image" Target="../media/image28.jpeg"/><Relationship Id="rId41" Type="http://schemas.openxmlformats.org/officeDocument/2006/relationships/image" Target="../media/image28.jpeg"/><Relationship Id="rId42" Type="http://schemas.openxmlformats.org/officeDocument/2006/relationships/image" Target="../media/image28.jpeg"/><Relationship Id="rId43" Type="http://schemas.openxmlformats.org/officeDocument/2006/relationships/image" Target="../media/image28.jpeg"/><Relationship Id="rId44" Type="http://schemas.openxmlformats.org/officeDocument/2006/relationships/image" Target="../media/image28.jpeg"/><Relationship Id="rId45" Type="http://schemas.openxmlformats.org/officeDocument/2006/relationships/image" Target="../media/image28.jpeg"/><Relationship Id="rId46" Type="http://schemas.openxmlformats.org/officeDocument/2006/relationships/image" Target="../media/image28.jpeg"/><Relationship Id="rId47" Type="http://schemas.openxmlformats.org/officeDocument/2006/relationships/image" Target="../media/image28.jpeg"/><Relationship Id="rId48" Type="http://schemas.openxmlformats.org/officeDocument/2006/relationships/image" Target="../media/image28.jpeg"/><Relationship Id="rId49" Type="http://schemas.openxmlformats.org/officeDocument/2006/relationships/image" Target="../media/image28.jpeg"/><Relationship Id="rId50" Type="http://schemas.openxmlformats.org/officeDocument/2006/relationships/image" Target="../media/image29.gif"/><Relationship Id="rId5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image" Target="../media/image30.jpeg"/><Relationship Id="rId5" Type="http://schemas.openxmlformats.org/officeDocument/2006/relationships/image" Target="../media/image30.jpeg"/><Relationship Id="rId6" Type="http://schemas.openxmlformats.org/officeDocument/2006/relationships/image" Target="../media/image30.jpeg"/><Relationship Id="rId7" Type="http://schemas.openxmlformats.org/officeDocument/2006/relationships/image" Target="../media/image30.jpeg"/><Relationship Id="rId8" Type="http://schemas.openxmlformats.org/officeDocument/2006/relationships/image" Target="../media/image30.jpeg"/><Relationship Id="rId9" Type="http://schemas.openxmlformats.org/officeDocument/2006/relationships/image" Target="../media/image31.gif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00cc"/>
                </a:solidFill>
                <a:latin typeface="Times New Roman"/>
              </a:rPr>
              <a:t>Килти кай</a:t>
            </a:r>
            <a:r>
              <a:rPr b="0" lang="en-US" sz="6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ă</a:t>
            </a:r>
            <a:r>
              <a:rPr b="0" lang="ru-RU" sz="6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к - к</a:t>
            </a:r>
            <a:r>
              <a:rPr b="0" lang="en-US" sz="6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ĕ</a:t>
            </a:r>
            <a:r>
              <a:rPr b="0" lang="ru-RU" sz="6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ш</a:t>
            </a:r>
            <a:r>
              <a:rPr b="0" lang="en-US" sz="6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ĕ</a:t>
            </a:r>
            <a:r>
              <a:rPr b="0" lang="ru-RU" sz="6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843280" y="2349360"/>
            <a:ext cx="2808360" cy="2097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859280" y="4868640"/>
            <a:ext cx="38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Ĕç</a:t>
            </a:r>
            <a:r>
              <a:rPr b="1" i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е пурн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ăç</a:t>
            </a:r>
            <a:r>
              <a:rPr b="1" i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лакан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ĕ</a:t>
            </a:r>
            <a:r>
              <a:rPr b="1" i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2Л класра в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ĕ</a:t>
            </a:r>
            <a:r>
              <a:rPr b="1" i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ренекен Мария Корот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1640" y="1413000"/>
            <a:ext cx="34671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Шип-шип-шип! т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ççĕ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2920" y="4581360"/>
            <a:ext cx="36831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рт-нарт-нарт! т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ççĕ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39640" y="4221000"/>
            <a:ext cx="3527640" cy="2176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11280" y="1484280"/>
            <a:ext cx="3384360" cy="2212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8720" y="333000"/>
            <a:ext cx="799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</a:rPr>
              <a:t>Мĕнле с</a:t>
            </a:r>
            <a:r>
              <a:rPr b="1" i="1" lang="en-US" sz="3600" spc="-1" strike="noStrike">
                <a:solidFill>
                  <a:srgbClr val="0033cc"/>
                </a:solidFill>
                <a:latin typeface="Times New Roman"/>
              </a:rPr>
              <a:t>ă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</a:rPr>
              <a:t>махсем пытаннă-ши?  П</a:t>
            </a:r>
            <a:r>
              <a:rPr b="1" i="1" lang="en-US" sz="3600" spc="-1" strike="noStrike">
                <a:solidFill>
                  <a:srgbClr val="0033cc"/>
                </a:solidFill>
                <a:latin typeface="Times New Roman"/>
              </a:rPr>
              <a:t>ĕ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</a:rPr>
              <a:t>лĕ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88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Шутне кал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ă</a:t>
            </a:r>
            <a:r>
              <a:rPr b="1" i="1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211640" y="1773360"/>
            <a:ext cx="1512720" cy="1441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588000" y="3716280"/>
            <a:ext cx="1513080" cy="1441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79280" y="549360"/>
            <a:ext cx="1838520" cy="1512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3851280" y="5345280"/>
            <a:ext cx="1838160" cy="1512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5867280" y="907920"/>
            <a:ext cx="1838520" cy="1513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6588000" y="2205000"/>
            <a:ext cx="1800360" cy="1467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7343640" y="2708280"/>
            <a:ext cx="1800360" cy="1467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9"/>
          <a:stretch/>
        </p:blipFill>
        <p:spPr>
          <a:xfrm>
            <a:off x="468360" y="2060640"/>
            <a:ext cx="1165320" cy="1728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0"/>
          <a:stretch/>
        </p:blipFill>
        <p:spPr>
          <a:xfrm>
            <a:off x="4932360" y="3500280"/>
            <a:ext cx="1165320" cy="1729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1"/>
          <a:stretch/>
        </p:blipFill>
        <p:spPr>
          <a:xfrm>
            <a:off x="250920" y="4941720"/>
            <a:ext cx="1163520" cy="1727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2"/>
          <a:stretch/>
        </p:blipFill>
        <p:spPr>
          <a:xfrm>
            <a:off x="2556000" y="260280"/>
            <a:ext cx="728640" cy="1081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3"/>
          <a:stretch/>
        </p:blipFill>
        <p:spPr>
          <a:xfrm>
            <a:off x="1835280" y="1773360"/>
            <a:ext cx="649080" cy="649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4"/>
          <a:stretch/>
        </p:blipFill>
        <p:spPr>
          <a:xfrm>
            <a:off x="2843280" y="2852640"/>
            <a:ext cx="649080" cy="649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5"/>
          <a:stretch/>
        </p:blipFill>
        <p:spPr>
          <a:xfrm>
            <a:off x="2843280" y="522936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6"/>
          <a:stretch/>
        </p:blipFill>
        <p:spPr>
          <a:xfrm>
            <a:off x="2556000" y="42210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7"/>
          <a:stretch/>
        </p:blipFill>
        <p:spPr>
          <a:xfrm>
            <a:off x="1763640" y="515772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8"/>
          <a:stretch/>
        </p:blipFill>
        <p:spPr>
          <a:xfrm>
            <a:off x="1619280" y="3645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9"/>
          <a:stretch/>
        </p:blipFill>
        <p:spPr>
          <a:xfrm>
            <a:off x="7956720" y="5516640"/>
            <a:ext cx="718920" cy="7189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0"/>
          <a:stretch/>
        </p:blipFill>
        <p:spPr>
          <a:xfrm>
            <a:off x="6588000" y="5373720"/>
            <a:ext cx="1293840" cy="1484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1"/>
          <a:stretch/>
        </p:blipFill>
        <p:spPr>
          <a:xfrm>
            <a:off x="241128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2"/>
          <a:stretch/>
        </p:blipFill>
        <p:spPr>
          <a:xfrm>
            <a:off x="3276720" y="4797360"/>
            <a:ext cx="1838160" cy="1513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3"/>
          <a:stretch/>
        </p:blipFill>
        <p:spPr>
          <a:xfrm>
            <a:off x="5867280" y="4581360"/>
            <a:ext cx="1293840" cy="1484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4"/>
          <a:stretch/>
        </p:blipFill>
        <p:spPr>
          <a:xfrm>
            <a:off x="7850160" y="0"/>
            <a:ext cx="1293840" cy="1484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5"/>
          <a:stretch/>
        </p:blipFill>
        <p:spPr>
          <a:xfrm>
            <a:off x="8201160" y="4292640"/>
            <a:ext cx="942840" cy="108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94264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ff"/>
                </a:solidFill>
                <a:latin typeface="Times New Roman"/>
              </a:rPr>
              <a:t>Тавтапу</a:t>
            </a:r>
            <a:r>
              <a:rPr b="1" i="1" lang="en-US" sz="4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2349360"/>
            <a:ext cx="2700000" cy="2700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 rot="802200">
            <a:off x="2626920" y="1988640"/>
            <a:ext cx="3456000" cy="3456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4356000" y="3357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79960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549360"/>
            <a:ext cx="7488360" cy="5619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Т</a:t>
            </a:r>
            <a:r>
              <a:rPr b="0" lang="en-US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ĕ</a:t>
            </a:r>
            <a:r>
              <a:rPr b="0" lang="ru-RU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ллев</a:t>
            </a:r>
            <a:r>
              <a:rPr b="0" lang="en-US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ĕ</a:t>
            </a:r>
            <a:r>
              <a:rPr b="0" lang="ru-RU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99"/>
                </a:solidFill>
                <a:latin typeface="Times New Roman"/>
              </a:rPr>
              <a:t>Килти кай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ă</a:t>
            </a:r>
            <a:r>
              <a:rPr b="0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-к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ĕ</a:t>
            </a:r>
            <a:r>
              <a:rPr b="0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ш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ĕ</a:t>
            </a:r>
            <a:r>
              <a:rPr b="0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 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ç</a:t>
            </a:r>
            <a:r>
              <a:rPr b="0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нчен каласа парас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06640" cy="1557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3357720"/>
            <a:ext cx="2987640" cy="2133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728640" cy="1081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5229360"/>
            <a:ext cx="1833480" cy="1387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68360" y="115920"/>
            <a:ext cx="3627360" cy="533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4427640" y="115920"/>
            <a:ext cx="3627360" cy="533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4788000" y="765000"/>
            <a:ext cx="1473120" cy="1200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395280" y="1773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7326360" y="2565360"/>
            <a:ext cx="1817640" cy="1104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1258920" y="422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7093080" y="4076640"/>
            <a:ext cx="1488960" cy="1422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0" y="3068640"/>
            <a:ext cx="1247760" cy="1871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1619280" y="3860640"/>
            <a:ext cx="1838160" cy="1513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3"/>
          <a:stretch/>
        </p:blipFill>
        <p:spPr>
          <a:xfrm>
            <a:off x="3276720" y="4941720"/>
            <a:ext cx="1839960" cy="1320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2050920" y="1125360"/>
            <a:ext cx="1513080" cy="1441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5292720" y="350028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6"/>
          <a:stretch/>
        </p:blipFill>
        <p:spPr>
          <a:xfrm>
            <a:off x="4572000" y="2637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7"/>
          <a:stretch/>
        </p:blipFill>
        <p:spPr>
          <a:xfrm>
            <a:off x="5508720" y="2349360"/>
            <a:ext cx="934920" cy="935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8"/>
          <a:stretch/>
        </p:blipFill>
        <p:spPr>
          <a:xfrm>
            <a:off x="4140360" y="3573360"/>
            <a:ext cx="1144440" cy="1144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9"/>
          <a:stretch/>
        </p:blipFill>
        <p:spPr>
          <a:xfrm>
            <a:off x="3348000" y="299736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0"/>
          <a:stretch/>
        </p:blipFill>
        <p:spPr>
          <a:xfrm>
            <a:off x="5148360" y="5029200"/>
            <a:ext cx="1272960" cy="1424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1"/>
          <a:stretch/>
        </p:blipFill>
        <p:spPr>
          <a:xfrm>
            <a:off x="7164360" y="5373720"/>
            <a:ext cx="1293840" cy="1484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32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815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92360" y="3213000"/>
            <a:ext cx="1512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а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6237000"/>
            <a:ext cx="3538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ал 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ĕ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пис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115920"/>
            <a:ext cx="3708360" cy="2935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68360" y="3500280"/>
            <a:ext cx="3851280" cy="2708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003640" y="367560"/>
            <a:ext cx="345600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Кăвак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рт-нарт кăвак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ÿ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ĕ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вр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ç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ь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к çунатне шарт! çап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рт-нарт кăвак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Шыва чăмать, çухал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ăпкă шыва хумха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рт-нарт кăвак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Шывран тухать, са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р 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не выля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рт-нарт кăвак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ĕпписене йыхăр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иле ертсе таврăна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 В. Давыдов-Анатри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076720" y="476280"/>
            <a:ext cx="2808360" cy="2095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508720" y="3933720"/>
            <a:ext cx="3095640" cy="2084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042920" y="620640"/>
            <a:ext cx="3024360" cy="2270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228720" y="2851920"/>
            <a:ext cx="79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82160" y="306792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в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14880" y="6165000"/>
            <a:ext cx="24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ăх чĕппис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94240" y="4003560"/>
            <a:ext cx="38199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Ав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ирĕн пысă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втан пу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ăл кăнтăр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апа çине хăпарать 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Кик-ки-ри-ку!» - тесе авă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сси аван, хÿри илемлĕ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иккирикĕ пыс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. Я. Яковлев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3456000" cy="2605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24000" y="3284640"/>
            <a:ext cx="3528720" cy="2636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70520" y="278064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75600" y="6020640"/>
            <a:ext cx="24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ур чĕппис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98440" y="7560"/>
            <a:ext cx="3503160" cy="69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Хур чĕппис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ллех ак çитрĕ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ç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кунн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аваслăн курăк ешер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ртсе сап-сар чĕппис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мран шур хур ами ирт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Çитеççĕ çеç шыв хĕррине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ĕл-вĕл выляççĕ çунатс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ĕр хăрамасăр пĕв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кеççĕ харсăр чĕпĕс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к хăвалаççĕ пĕр-пĕрне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Шывра выляççĕ тытмал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ĕри чăмать пĕве тĕпне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Ыттисенчен пытанмал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Шур хур амийĕ çыра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чи-пăчишĕн хĕпĕрт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Çерçи пек çеç пулсассăн 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ăн-чăн хурсем ÿсеççĕ, - т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 Д. Ислам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187280" y="115920"/>
            <a:ext cx="2727360" cy="3645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258920" y="4292640"/>
            <a:ext cx="2724120" cy="2057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765440" y="3715560"/>
            <a:ext cx="140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ăрк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6520" y="6338160"/>
            <a:ext cx="30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ăркка чĕппис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86280" y="258480"/>
            <a:ext cx="31723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Кăрк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ăркка тăснă та мăй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лллĕ-маллĕ чупкал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ча сачĕн картиш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ăл кĕресшĕн кăрла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Ан тивсемĕр, ачасе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нта манăн чĕппĕмсем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руçпа Таруç, Ив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р сăмсаллă чĕпс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чашларĕç кăмăлта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чĕç амăшĕ пат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Кунĕпе те çĕрĕ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ĕрле пулăр аннĕр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 Н. Прокопьев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Ç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ак т</a:t>
            </a:r>
            <a:r>
              <a:rPr b="1" i="1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ÿ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рк</a:t>
            </a:r>
            <a:r>
              <a:rPr b="1" i="1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ĕ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тесл</a:t>
            </a:r>
            <a:r>
              <a:rPr b="1" i="1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ĕ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хре м</a:t>
            </a:r>
            <a:r>
              <a:rPr b="1" i="1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ĕ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ле с</a:t>
            </a:r>
            <a:r>
              <a:rPr b="1" i="1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ă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ахсем</a:t>
            </a:r>
            <a:br>
              <a:rPr sz="3600"/>
            </a:b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ытанн</a:t>
            </a:r>
            <a:r>
              <a:rPr b="1" i="1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ă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-ш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619280" y="2421000"/>
          <a:ext cx="5760720" cy="2142720"/>
        </p:xfrm>
        <a:graphic>
          <a:graphicData uri="http://schemas.openxmlformats.org/drawingml/2006/table">
            <a:tbl>
              <a:tblPr/>
              <a:tblGrid>
                <a:gridCol w="478440"/>
                <a:gridCol w="482400"/>
                <a:gridCol w="478800"/>
                <a:gridCol w="480240"/>
                <a:gridCol w="479160"/>
                <a:gridCol w="482400"/>
                <a:gridCol w="480600"/>
                <a:gridCol w="478440"/>
                <a:gridCol w="480960"/>
                <a:gridCol w="480240"/>
                <a:gridCol w="480600"/>
                <a:gridCol w="47844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92" name="" descr=""/>
          <p:cNvPicPr/>
          <p:nvPr/>
        </p:nvPicPr>
        <p:blipFill>
          <a:blip r:embed="rId50"/>
          <a:stretch/>
        </p:blipFill>
        <p:spPr>
          <a:xfrm>
            <a:off x="7596360" y="5084640"/>
            <a:ext cx="888840" cy="108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ff"/>
                </a:solidFill>
                <a:latin typeface="Times New Roman"/>
              </a:rPr>
              <a:t>М</a:t>
            </a:r>
            <a:r>
              <a:rPr b="1" i="1" lang="en-US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ĕ</a:t>
            </a:r>
            <a:r>
              <a:rPr b="1" i="1" lang="ru-RU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нле с</a:t>
            </a:r>
            <a:r>
              <a:rPr b="1" i="1" lang="en-US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ă</a:t>
            </a:r>
            <a:r>
              <a:rPr b="1" i="1" lang="ru-RU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мах вуланать-ш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4149720"/>
            <a:ext cx="72072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03280" y="5084640"/>
            <a:ext cx="72072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11280" y="5661000"/>
            <a:ext cx="72072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80000" y="5805360"/>
            <a:ext cx="72072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19640" y="5661000"/>
            <a:ext cx="72072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16720" y="5373720"/>
            <a:ext cx="72072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96360" y="4508640"/>
            <a:ext cx="72072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4292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0" y="573408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47640" y="5229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64000" y="5661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24360" y="587700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59640" y="544500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740720" y="4581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963800">
            <a:off x="971280" y="2060280"/>
            <a:ext cx="863640" cy="792000"/>
          </a:xfrm>
          <a:prstGeom prst="star5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963800">
            <a:off x="1618920" y="2781000"/>
            <a:ext cx="863640" cy="792000"/>
          </a:xfrm>
          <a:prstGeom prst="star5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963800">
            <a:off x="3995280" y="3428640"/>
            <a:ext cx="863640" cy="792000"/>
          </a:xfrm>
          <a:prstGeom prst="star5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963800">
            <a:off x="2771280" y="3212640"/>
            <a:ext cx="863640" cy="792360"/>
          </a:xfrm>
          <a:prstGeom prst="star5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963800">
            <a:off x="5292720" y="3429000"/>
            <a:ext cx="863640" cy="863640"/>
          </a:xfrm>
          <a:prstGeom prst="star5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963800">
            <a:off x="7596000" y="2707920"/>
            <a:ext cx="863280" cy="792000"/>
          </a:xfrm>
          <a:prstGeom prst="star5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220500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8000" y="29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87640" y="3357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11640" y="3573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963800">
            <a:off x="6372000" y="3068280"/>
            <a:ext cx="863640" cy="792000"/>
          </a:xfrm>
          <a:prstGeom prst="star5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08720" y="3645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88000" y="321300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812000" y="2852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98640" y="3998880"/>
            <a:ext cx="3218040" cy="1674720"/>
          </a:xfrm>
          <a:custGeom>
            <a:avLst/>
            <a:gdLst/>
            <a:ahLst/>
            <a:rect l="l" t="t" r="r" b="b"/>
            <a:pathLst>
              <a:path w="2027" h="1055">
                <a:moveTo>
                  <a:pt x="1096" y="0"/>
                </a:moveTo>
                <a:cubicBezTo>
                  <a:pt x="1112" y="48"/>
                  <a:pt x="1118" y="87"/>
                  <a:pt x="1124" y="139"/>
                </a:cubicBezTo>
                <a:cubicBezTo>
                  <a:pt x="1121" y="224"/>
                  <a:pt x="1148" y="400"/>
                  <a:pt x="1027" y="430"/>
                </a:cubicBezTo>
                <a:cubicBezTo>
                  <a:pt x="932" y="428"/>
                  <a:pt x="837" y="429"/>
                  <a:pt x="742" y="423"/>
                </a:cubicBezTo>
                <a:cubicBezTo>
                  <a:pt x="725" y="422"/>
                  <a:pt x="693" y="401"/>
                  <a:pt x="673" y="396"/>
                </a:cubicBezTo>
                <a:cubicBezTo>
                  <a:pt x="624" y="384"/>
                  <a:pt x="579" y="369"/>
                  <a:pt x="534" y="347"/>
                </a:cubicBezTo>
                <a:cubicBezTo>
                  <a:pt x="474" y="317"/>
                  <a:pt x="404" y="313"/>
                  <a:pt x="340" y="292"/>
                </a:cubicBezTo>
                <a:cubicBezTo>
                  <a:pt x="294" y="295"/>
                  <a:pt x="245" y="289"/>
                  <a:pt x="201" y="305"/>
                </a:cubicBezTo>
                <a:cubicBezTo>
                  <a:pt x="131" y="330"/>
                  <a:pt x="71" y="398"/>
                  <a:pt x="21" y="451"/>
                </a:cubicBezTo>
                <a:cubicBezTo>
                  <a:pt x="5" y="514"/>
                  <a:pt x="13" y="489"/>
                  <a:pt x="0" y="528"/>
                </a:cubicBezTo>
                <a:cubicBezTo>
                  <a:pt x="2" y="567"/>
                  <a:pt x="1" y="607"/>
                  <a:pt x="7" y="646"/>
                </a:cubicBezTo>
                <a:cubicBezTo>
                  <a:pt x="16" y="706"/>
                  <a:pt x="92" y="758"/>
                  <a:pt x="138" y="784"/>
                </a:cubicBezTo>
                <a:cubicBezTo>
                  <a:pt x="184" y="810"/>
                  <a:pt x="221" y="827"/>
                  <a:pt x="270" y="847"/>
                </a:cubicBezTo>
                <a:cubicBezTo>
                  <a:pt x="303" y="860"/>
                  <a:pt x="326" y="885"/>
                  <a:pt x="361" y="895"/>
                </a:cubicBezTo>
                <a:cubicBezTo>
                  <a:pt x="437" y="915"/>
                  <a:pt x="517" y="929"/>
                  <a:pt x="590" y="958"/>
                </a:cubicBezTo>
                <a:cubicBezTo>
                  <a:pt x="636" y="953"/>
                  <a:pt x="682" y="950"/>
                  <a:pt x="728" y="944"/>
                </a:cubicBezTo>
                <a:cubicBezTo>
                  <a:pt x="772" y="938"/>
                  <a:pt x="804" y="896"/>
                  <a:pt x="846" y="881"/>
                </a:cubicBezTo>
                <a:cubicBezTo>
                  <a:pt x="873" y="861"/>
                  <a:pt x="901" y="848"/>
                  <a:pt x="930" y="833"/>
                </a:cubicBezTo>
                <a:cubicBezTo>
                  <a:pt x="972" y="812"/>
                  <a:pt x="1007" y="779"/>
                  <a:pt x="1048" y="757"/>
                </a:cubicBezTo>
                <a:cubicBezTo>
                  <a:pt x="1079" y="740"/>
                  <a:pt x="1114" y="731"/>
                  <a:pt x="1145" y="715"/>
                </a:cubicBezTo>
                <a:cubicBezTo>
                  <a:pt x="1231" y="671"/>
                  <a:pt x="1319" y="617"/>
                  <a:pt x="1415" y="597"/>
                </a:cubicBezTo>
                <a:cubicBezTo>
                  <a:pt x="1472" y="569"/>
                  <a:pt x="1533" y="551"/>
                  <a:pt x="1589" y="521"/>
                </a:cubicBezTo>
                <a:cubicBezTo>
                  <a:pt x="1604" y="513"/>
                  <a:pt x="1617" y="502"/>
                  <a:pt x="1631" y="493"/>
                </a:cubicBezTo>
                <a:cubicBezTo>
                  <a:pt x="1651" y="480"/>
                  <a:pt x="1700" y="479"/>
                  <a:pt x="1700" y="479"/>
                </a:cubicBezTo>
                <a:cubicBezTo>
                  <a:pt x="1864" y="486"/>
                  <a:pt x="1830" y="479"/>
                  <a:pt x="1936" y="514"/>
                </a:cubicBezTo>
                <a:cubicBezTo>
                  <a:pt x="1950" y="528"/>
                  <a:pt x="1964" y="541"/>
                  <a:pt x="1978" y="555"/>
                </a:cubicBezTo>
                <a:cubicBezTo>
                  <a:pt x="1985" y="562"/>
                  <a:pt x="1998" y="576"/>
                  <a:pt x="1998" y="576"/>
                </a:cubicBezTo>
                <a:cubicBezTo>
                  <a:pt x="2027" y="662"/>
                  <a:pt x="2017" y="772"/>
                  <a:pt x="1936" y="826"/>
                </a:cubicBezTo>
                <a:cubicBezTo>
                  <a:pt x="1927" y="840"/>
                  <a:pt x="1922" y="859"/>
                  <a:pt x="1908" y="868"/>
                </a:cubicBezTo>
                <a:cubicBezTo>
                  <a:pt x="1887" y="881"/>
                  <a:pt x="1883" y="882"/>
                  <a:pt x="1866" y="902"/>
                </a:cubicBezTo>
                <a:cubicBezTo>
                  <a:pt x="1861" y="908"/>
                  <a:pt x="1859" y="917"/>
                  <a:pt x="1853" y="923"/>
                </a:cubicBezTo>
                <a:cubicBezTo>
                  <a:pt x="1847" y="929"/>
                  <a:pt x="1838" y="932"/>
                  <a:pt x="1832" y="937"/>
                </a:cubicBezTo>
                <a:cubicBezTo>
                  <a:pt x="1824" y="943"/>
                  <a:pt x="1817" y="950"/>
                  <a:pt x="1811" y="958"/>
                </a:cubicBezTo>
                <a:cubicBezTo>
                  <a:pt x="1795" y="977"/>
                  <a:pt x="1773" y="998"/>
                  <a:pt x="1762" y="1020"/>
                </a:cubicBezTo>
                <a:cubicBezTo>
                  <a:pt x="1744" y="1055"/>
                  <a:pt x="1764" y="1031"/>
                  <a:pt x="1749" y="10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90440" y="3941640"/>
            <a:ext cx="4505400" cy="614520"/>
          </a:xfrm>
          <a:custGeom>
            <a:avLst/>
            <a:gdLst/>
            <a:ahLst/>
            <a:rect l="l" t="t" r="r" b="b"/>
            <a:pathLst>
              <a:path w="2838" h="387">
                <a:moveTo>
                  <a:pt x="2838" y="85"/>
                </a:moveTo>
                <a:cubicBezTo>
                  <a:pt x="2788" y="135"/>
                  <a:pt x="2753" y="198"/>
                  <a:pt x="2679" y="217"/>
                </a:cubicBezTo>
                <a:cubicBezTo>
                  <a:pt x="2656" y="231"/>
                  <a:pt x="2634" y="236"/>
                  <a:pt x="2609" y="244"/>
                </a:cubicBezTo>
                <a:cubicBezTo>
                  <a:pt x="2070" y="242"/>
                  <a:pt x="1503" y="387"/>
                  <a:pt x="992" y="217"/>
                </a:cubicBezTo>
                <a:cubicBezTo>
                  <a:pt x="972" y="196"/>
                  <a:pt x="958" y="184"/>
                  <a:pt x="930" y="175"/>
                </a:cubicBezTo>
                <a:cubicBezTo>
                  <a:pt x="871" y="116"/>
                  <a:pt x="780" y="105"/>
                  <a:pt x="701" y="85"/>
                </a:cubicBezTo>
                <a:cubicBezTo>
                  <a:pt x="640" y="70"/>
                  <a:pt x="584" y="56"/>
                  <a:pt x="521" y="50"/>
                </a:cubicBezTo>
                <a:cubicBezTo>
                  <a:pt x="111" y="58"/>
                  <a:pt x="228" y="0"/>
                  <a:pt x="35" y="119"/>
                </a:cubicBezTo>
                <a:cubicBezTo>
                  <a:pt x="30" y="126"/>
                  <a:pt x="26" y="134"/>
                  <a:pt x="21" y="140"/>
                </a:cubicBezTo>
                <a:cubicBezTo>
                  <a:pt x="15" y="148"/>
                  <a:pt x="0" y="161"/>
                  <a:pt x="0" y="1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06800" y="3624120"/>
            <a:ext cx="2955960" cy="2181240"/>
          </a:xfrm>
          <a:custGeom>
            <a:avLst/>
            <a:gdLst/>
            <a:ahLst/>
            <a:rect l="l" t="t" r="r" b="b"/>
            <a:pathLst>
              <a:path w="1862" h="1374">
                <a:moveTo>
                  <a:pt x="1813" y="0"/>
                </a:moveTo>
                <a:cubicBezTo>
                  <a:pt x="1815" y="14"/>
                  <a:pt x="1815" y="29"/>
                  <a:pt x="1820" y="42"/>
                </a:cubicBezTo>
                <a:cubicBezTo>
                  <a:pt x="1827" y="61"/>
                  <a:pt x="1848" y="97"/>
                  <a:pt x="1848" y="97"/>
                </a:cubicBezTo>
                <a:cubicBezTo>
                  <a:pt x="1862" y="198"/>
                  <a:pt x="1860" y="158"/>
                  <a:pt x="1848" y="326"/>
                </a:cubicBezTo>
                <a:cubicBezTo>
                  <a:pt x="1846" y="357"/>
                  <a:pt x="1816" y="388"/>
                  <a:pt x="1799" y="410"/>
                </a:cubicBezTo>
                <a:cubicBezTo>
                  <a:pt x="1764" y="456"/>
                  <a:pt x="1741" y="509"/>
                  <a:pt x="1709" y="555"/>
                </a:cubicBezTo>
                <a:cubicBezTo>
                  <a:pt x="1690" y="611"/>
                  <a:pt x="1674" y="660"/>
                  <a:pt x="1640" y="708"/>
                </a:cubicBezTo>
                <a:cubicBezTo>
                  <a:pt x="1624" y="731"/>
                  <a:pt x="1591" y="777"/>
                  <a:pt x="1591" y="777"/>
                </a:cubicBezTo>
                <a:cubicBezTo>
                  <a:pt x="1576" y="821"/>
                  <a:pt x="1556" y="864"/>
                  <a:pt x="1529" y="902"/>
                </a:cubicBezTo>
                <a:cubicBezTo>
                  <a:pt x="1521" y="936"/>
                  <a:pt x="1509" y="953"/>
                  <a:pt x="1480" y="972"/>
                </a:cubicBezTo>
                <a:cubicBezTo>
                  <a:pt x="1423" y="1086"/>
                  <a:pt x="1210" y="1052"/>
                  <a:pt x="1126" y="1055"/>
                </a:cubicBezTo>
                <a:cubicBezTo>
                  <a:pt x="911" y="1127"/>
                  <a:pt x="665" y="1107"/>
                  <a:pt x="446" y="1111"/>
                </a:cubicBezTo>
                <a:cubicBezTo>
                  <a:pt x="350" y="1131"/>
                  <a:pt x="405" y="1123"/>
                  <a:pt x="280" y="1131"/>
                </a:cubicBezTo>
                <a:cubicBezTo>
                  <a:pt x="237" y="1140"/>
                  <a:pt x="199" y="1147"/>
                  <a:pt x="155" y="1152"/>
                </a:cubicBezTo>
                <a:cubicBezTo>
                  <a:pt x="104" y="1186"/>
                  <a:pt x="128" y="1172"/>
                  <a:pt x="85" y="1194"/>
                </a:cubicBezTo>
                <a:cubicBezTo>
                  <a:pt x="66" y="1214"/>
                  <a:pt x="53" y="1233"/>
                  <a:pt x="30" y="1249"/>
                </a:cubicBezTo>
                <a:cubicBezTo>
                  <a:pt x="24" y="1258"/>
                  <a:pt x="3" y="1288"/>
                  <a:pt x="2" y="1298"/>
                </a:cubicBezTo>
                <a:cubicBezTo>
                  <a:pt x="0" y="1323"/>
                  <a:pt x="9" y="1374"/>
                  <a:pt x="9" y="137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64400" y="3271680"/>
            <a:ext cx="1387440" cy="2125800"/>
          </a:xfrm>
          <a:custGeom>
            <a:avLst/>
            <a:gdLst/>
            <a:ahLst/>
            <a:rect l="l" t="t" r="r" b="b"/>
            <a:pathLst>
              <a:path w="874" h="1339">
                <a:moveTo>
                  <a:pt x="847" y="0"/>
                </a:moveTo>
                <a:cubicBezTo>
                  <a:pt x="834" y="38"/>
                  <a:pt x="853" y="78"/>
                  <a:pt x="874" y="111"/>
                </a:cubicBezTo>
                <a:cubicBezTo>
                  <a:pt x="872" y="176"/>
                  <a:pt x="873" y="241"/>
                  <a:pt x="867" y="305"/>
                </a:cubicBezTo>
                <a:cubicBezTo>
                  <a:pt x="866" y="313"/>
                  <a:pt x="857" y="318"/>
                  <a:pt x="854" y="326"/>
                </a:cubicBezTo>
                <a:cubicBezTo>
                  <a:pt x="832" y="380"/>
                  <a:pt x="813" y="411"/>
                  <a:pt x="777" y="458"/>
                </a:cubicBezTo>
                <a:cubicBezTo>
                  <a:pt x="750" y="494"/>
                  <a:pt x="728" y="539"/>
                  <a:pt x="694" y="569"/>
                </a:cubicBezTo>
                <a:cubicBezTo>
                  <a:pt x="612" y="641"/>
                  <a:pt x="512" y="690"/>
                  <a:pt x="423" y="750"/>
                </a:cubicBezTo>
                <a:cubicBezTo>
                  <a:pt x="405" y="775"/>
                  <a:pt x="383" y="785"/>
                  <a:pt x="361" y="805"/>
                </a:cubicBezTo>
                <a:cubicBezTo>
                  <a:pt x="339" y="825"/>
                  <a:pt x="319" y="847"/>
                  <a:pt x="298" y="868"/>
                </a:cubicBezTo>
                <a:cubicBezTo>
                  <a:pt x="273" y="893"/>
                  <a:pt x="262" y="930"/>
                  <a:pt x="243" y="958"/>
                </a:cubicBezTo>
                <a:cubicBezTo>
                  <a:pt x="221" y="990"/>
                  <a:pt x="185" y="1034"/>
                  <a:pt x="153" y="1055"/>
                </a:cubicBezTo>
                <a:cubicBezTo>
                  <a:pt x="120" y="1104"/>
                  <a:pt x="53" y="1169"/>
                  <a:pt x="35" y="1222"/>
                </a:cubicBezTo>
                <a:cubicBezTo>
                  <a:pt x="24" y="1255"/>
                  <a:pt x="16" y="1309"/>
                  <a:pt x="0" y="13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9240" y="2676600"/>
            <a:ext cx="6629400" cy="2206440"/>
          </a:xfrm>
          <a:custGeom>
            <a:avLst/>
            <a:gdLst/>
            <a:ahLst/>
            <a:rect l="l" t="t" r="r" b="b"/>
            <a:pathLst>
              <a:path w="4176" h="1390">
                <a:moveTo>
                  <a:pt x="121" y="0"/>
                </a:moveTo>
                <a:cubicBezTo>
                  <a:pt x="110" y="28"/>
                  <a:pt x="102" y="52"/>
                  <a:pt x="86" y="77"/>
                </a:cubicBezTo>
                <a:cubicBezTo>
                  <a:pt x="78" y="116"/>
                  <a:pt x="62" y="152"/>
                  <a:pt x="44" y="188"/>
                </a:cubicBezTo>
                <a:cubicBezTo>
                  <a:pt x="27" y="282"/>
                  <a:pt x="0" y="449"/>
                  <a:pt x="72" y="521"/>
                </a:cubicBezTo>
                <a:cubicBezTo>
                  <a:pt x="89" y="572"/>
                  <a:pt x="65" y="510"/>
                  <a:pt x="100" y="562"/>
                </a:cubicBezTo>
                <a:cubicBezTo>
                  <a:pt x="109" y="575"/>
                  <a:pt x="113" y="591"/>
                  <a:pt x="121" y="604"/>
                </a:cubicBezTo>
                <a:cubicBezTo>
                  <a:pt x="148" y="647"/>
                  <a:pt x="197" y="687"/>
                  <a:pt x="239" y="715"/>
                </a:cubicBezTo>
                <a:cubicBezTo>
                  <a:pt x="261" y="748"/>
                  <a:pt x="305" y="768"/>
                  <a:pt x="336" y="791"/>
                </a:cubicBezTo>
                <a:cubicBezTo>
                  <a:pt x="347" y="799"/>
                  <a:pt x="354" y="810"/>
                  <a:pt x="364" y="819"/>
                </a:cubicBezTo>
                <a:cubicBezTo>
                  <a:pt x="392" y="843"/>
                  <a:pt x="426" y="859"/>
                  <a:pt x="454" y="882"/>
                </a:cubicBezTo>
                <a:cubicBezTo>
                  <a:pt x="543" y="955"/>
                  <a:pt x="623" y="1039"/>
                  <a:pt x="738" y="1069"/>
                </a:cubicBezTo>
                <a:cubicBezTo>
                  <a:pt x="779" y="1096"/>
                  <a:pt x="779" y="1105"/>
                  <a:pt x="829" y="1118"/>
                </a:cubicBezTo>
                <a:cubicBezTo>
                  <a:pt x="856" y="1132"/>
                  <a:pt x="876" y="1145"/>
                  <a:pt x="905" y="1152"/>
                </a:cubicBezTo>
                <a:cubicBezTo>
                  <a:pt x="1069" y="1261"/>
                  <a:pt x="1274" y="1299"/>
                  <a:pt x="1460" y="1354"/>
                </a:cubicBezTo>
                <a:cubicBezTo>
                  <a:pt x="1539" y="1377"/>
                  <a:pt x="1470" y="1363"/>
                  <a:pt x="1592" y="1374"/>
                </a:cubicBezTo>
                <a:cubicBezTo>
                  <a:pt x="1638" y="1378"/>
                  <a:pt x="1731" y="1388"/>
                  <a:pt x="1731" y="1388"/>
                </a:cubicBezTo>
                <a:cubicBezTo>
                  <a:pt x="2027" y="1384"/>
                  <a:pt x="2110" y="1390"/>
                  <a:pt x="2328" y="1354"/>
                </a:cubicBezTo>
                <a:cubicBezTo>
                  <a:pt x="2410" y="1312"/>
                  <a:pt x="2511" y="1299"/>
                  <a:pt x="2598" y="1270"/>
                </a:cubicBezTo>
                <a:cubicBezTo>
                  <a:pt x="2698" y="1236"/>
                  <a:pt x="2800" y="1201"/>
                  <a:pt x="2904" y="1180"/>
                </a:cubicBezTo>
                <a:cubicBezTo>
                  <a:pt x="3005" y="1138"/>
                  <a:pt x="3115" y="1119"/>
                  <a:pt x="3223" y="1111"/>
                </a:cubicBezTo>
                <a:cubicBezTo>
                  <a:pt x="3307" y="1094"/>
                  <a:pt x="3387" y="1077"/>
                  <a:pt x="3473" y="1069"/>
                </a:cubicBezTo>
                <a:cubicBezTo>
                  <a:pt x="3609" y="1034"/>
                  <a:pt x="3675" y="1058"/>
                  <a:pt x="3861" y="1062"/>
                </a:cubicBezTo>
                <a:cubicBezTo>
                  <a:pt x="3894" y="1070"/>
                  <a:pt x="3915" y="1077"/>
                  <a:pt x="3945" y="1090"/>
                </a:cubicBezTo>
                <a:cubicBezTo>
                  <a:pt x="3979" y="1105"/>
                  <a:pt x="3975" y="1087"/>
                  <a:pt x="4014" y="1111"/>
                </a:cubicBezTo>
                <a:cubicBezTo>
                  <a:pt x="4055" y="1136"/>
                  <a:pt x="4036" y="1128"/>
                  <a:pt x="4070" y="1138"/>
                </a:cubicBezTo>
                <a:cubicBezTo>
                  <a:pt x="4098" y="1157"/>
                  <a:pt x="4125" y="1175"/>
                  <a:pt x="4153" y="1194"/>
                </a:cubicBezTo>
                <a:cubicBezTo>
                  <a:pt x="4176" y="1209"/>
                  <a:pt x="4174" y="1191"/>
                  <a:pt x="4174" y="1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17640" y="3382920"/>
            <a:ext cx="924120" cy="2279520"/>
          </a:xfrm>
          <a:custGeom>
            <a:avLst/>
            <a:gdLst/>
            <a:ahLst/>
            <a:rect l="l" t="t" r="r" b="b"/>
            <a:pathLst>
              <a:path w="582" h="1436">
                <a:moveTo>
                  <a:pt x="63" y="0"/>
                </a:moveTo>
                <a:cubicBezTo>
                  <a:pt x="56" y="41"/>
                  <a:pt x="41" y="72"/>
                  <a:pt x="28" y="111"/>
                </a:cubicBezTo>
                <a:cubicBezTo>
                  <a:pt x="20" y="164"/>
                  <a:pt x="9" y="217"/>
                  <a:pt x="0" y="270"/>
                </a:cubicBezTo>
                <a:cubicBezTo>
                  <a:pt x="2" y="365"/>
                  <a:pt x="3" y="460"/>
                  <a:pt x="7" y="555"/>
                </a:cubicBezTo>
                <a:cubicBezTo>
                  <a:pt x="12" y="662"/>
                  <a:pt x="113" y="748"/>
                  <a:pt x="187" y="811"/>
                </a:cubicBezTo>
                <a:cubicBezTo>
                  <a:pt x="210" y="831"/>
                  <a:pt x="214" y="850"/>
                  <a:pt x="243" y="860"/>
                </a:cubicBezTo>
                <a:cubicBezTo>
                  <a:pt x="283" y="900"/>
                  <a:pt x="325" y="943"/>
                  <a:pt x="382" y="957"/>
                </a:cubicBezTo>
                <a:cubicBezTo>
                  <a:pt x="434" y="992"/>
                  <a:pt x="480" y="1044"/>
                  <a:pt x="514" y="1096"/>
                </a:cubicBezTo>
                <a:cubicBezTo>
                  <a:pt x="528" y="1117"/>
                  <a:pt x="534" y="1138"/>
                  <a:pt x="548" y="1158"/>
                </a:cubicBezTo>
                <a:cubicBezTo>
                  <a:pt x="582" y="1259"/>
                  <a:pt x="569" y="1299"/>
                  <a:pt x="569" y="14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73200" y="3772080"/>
            <a:ext cx="1533600" cy="1388880"/>
          </a:xfrm>
          <a:custGeom>
            <a:avLst/>
            <a:gdLst/>
            <a:ahLst/>
            <a:rect l="l" t="t" r="r" b="b"/>
            <a:pathLst>
              <a:path w="966" h="875">
                <a:moveTo>
                  <a:pt x="966" y="18"/>
                </a:moveTo>
                <a:cubicBezTo>
                  <a:pt x="911" y="0"/>
                  <a:pt x="882" y="39"/>
                  <a:pt x="841" y="67"/>
                </a:cubicBezTo>
                <a:cubicBezTo>
                  <a:pt x="830" y="101"/>
                  <a:pt x="810" y="125"/>
                  <a:pt x="786" y="150"/>
                </a:cubicBezTo>
                <a:cubicBezTo>
                  <a:pt x="779" y="178"/>
                  <a:pt x="781" y="180"/>
                  <a:pt x="765" y="206"/>
                </a:cubicBezTo>
                <a:cubicBezTo>
                  <a:pt x="756" y="220"/>
                  <a:pt x="737" y="247"/>
                  <a:pt x="737" y="247"/>
                </a:cubicBezTo>
                <a:cubicBezTo>
                  <a:pt x="730" y="276"/>
                  <a:pt x="721" y="291"/>
                  <a:pt x="709" y="317"/>
                </a:cubicBezTo>
                <a:cubicBezTo>
                  <a:pt x="690" y="360"/>
                  <a:pt x="694" y="387"/>
                  <a:pt x="654" y="414"/>
                </a:cubicBezTo>
                <a:cubicBezTo>
                  <a:pt x="624" y="458"/>
                  <a:pt x="587" y="446"/>
                  <a:pt x="529" y="448"/>
                </a:cubicBezTo>
                <a:cubicBezTo>
                  <a:pt x="432" y="451"/>
                  <a:pt x="334" y="453"/>
                  <a:pt x="237" y="455"/>
                </a:cubicBezTo>
                <a:cubicBezTo>
                  <a:pt x="179" y="475"/>
                  <a:pt x="142" y="511"/>
                  <a:pt x="92" y="546"/>
                </a:cubicBezTo>
                <a:cubicBezTo>
                  <a:pt x="72" y="575"/>
                  <a:pt x="49" y="599"/>
                  <a:pt x="29" y="629"/>
                </a:cubicBezTo>
                <a:cubicBezTo>
                  <a:pt x="24" y="636"/>
                  <a:pt x="15" y="650"/>
                  <a:pt x="15" y="650"/>
                </a:cubicBezTo>
                <a:cubicBezTo>
                  <a:pt x="0" y="709"/>
                  <a:pt x="10" y="766"/>
                  <a:pt x="29" y="823"/>
                </a:cubicBezTo>
                <a:cubicBezTo>
                  <a:pt x="33" y="835"/>
                  <a:pt x="33" y="875"/>
                  <a:pt x="50" y="85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9"/>
          <a:stretch/>
        </p:blipFill>
        <p:spPr>
          <a:xfrm>
            <a:off x="7524720" y="5805360"/>
            <a:ext cx="1224000" cy="87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8T12:55:34Z</dcterms:created>
  <dc:creator>Admin</dc:creator>
  <dc:description/>
  <dc:language>en-US</dc:language>
  <cp:lastModifiedBy>user</cp:lastModifiedBy>
  <dcterms:modified xsi:type="dcterms:W3CDTF">2009-04-21T03:55:25Z</dcterms:modified>
  <cp:revision>12</cp:revision>
  <dc:subject/>
  <dc:title>Килти кайăк - кĕшĕк</dc:title>
</cp:coreProperties>
</file>