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png" ContentType="image/png"/>
  <Override PartName="/ppt/media/image14.wmf" ContentType="image/x-wmf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29.gif" ContentType="image/gif"/>
  <Override PartName="/ppt/media/image17.wmf" ContentType="image/x-wmf"/>
  <Override PartName="/ppt/media/image3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5.wmf" ContentType="image/x-wmf"/>
  <Override PartName="/ppt/media/image19.jpeg" ContentType="image/jpeg"/>
  <Override PartName="/ppt/media/image32.gif" ContentType="image/gif"/>
  <Override PartName="/ppt/media/image11.wmf" ContentType="image/x-wmf"/>
  <Override PartName="/ppt/media/image34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25.jpeg" ContentType="image/jpeg"/>
  <Override PartName="/ppt/media/image27.jpeg" ContentType="image/jpeg"/>
  <Override PartName="/ppt/media/image13.wmf" ContentType="image/x-wmf"/>
  <Override PartName="/ppt/media/image23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2EF-0B74-49F6-8749-607A541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261-90A4-409C-BAC4-23E4223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9E8-223C-4AC6-80DC-E9FE0B1F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96D-0DC2-4596-BAC3-6DA2EA58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1DE-32BE-4C18-B779-9845C27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89D-EBBA-449F-8EC6-20FB3944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78C-DF7F-4AC5-B7AC-FF583DB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40D-77D1-4E8D-A069-89FF6295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B16-4B61-46C7-9D99-6A421F3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187-0A26-42FC-BD3D-5CEBEEE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696-DB69-4B5A-B83B-95D4A64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471-D0A7-4339-B64B-6F46373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63CA-6A50-43A1-8967-5A0D48D4A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8.wmf"/><Relationship Id="rId21" Type="http://schemas.openxmlformats.org/officeDocument/2006/relationships/image" Target="../media/image9.png"/><Relationship Id="rId22" Type="http://schemas.openxmlformats.org/officeDocument/2006/relationships/image" Target="../media/image13.wmf"/><Relationship Id="rId23" Type="http://schemas.openxmlformats.org/officeDocument/2006/relationships/image" Target="../media/image18.wmf"/><Relationship Id="rId24" Type="http://schemas.openxmlformats.org/officeDocument/2006/relationships/image" Target="../media/image18.wmf"/><Relationship Id="rId25" Type="http://schemas.openxmlformats.org/officeDocument/2006/relationships/image" Target="../media/image18.wmf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tid=33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cards.mail.ru/dwp/dwp_view.html?did=44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go.mail.ru/frame.html?imgurl=http://www.umka.by/cms/images/6(3).jpg&amp;pageurl=http://mrart.ru%2Fsticker%2Ffarm-yard%2F&amp;id=23072399&amp;iid=5&amp;imgwidth=450&amp;imgheight=321&amp;imgsize=85861&amp;images_links=b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9.pn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wmf"/><Relationship Id="rId21" Type="http://schemas.openxmlformats.org/officeDocument/2006/relationships/image" Target="../media/image18.wmf"/><Relationship Id="rId2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image" Target="../media/image28.jpeg"/><Relationship Id="rId19" Type="http://schemas.openxmlformats.org/officeDocument/2006/relationships/image" Target="../media/image28.jpeg"/><Relationship Id="rId20" Type="http://schemas.openxmlformats.org/officeDocument/2006/relationships/image" Target="../media/image28.jpeg"/><Relationship Id="rId21" Type="http://schemas.openxmlformats.org/officeDocument/2006/relationships/image" Target="../media/image28.jpeg"/><Relationship Id="rId22" Type="http://schemas.openxmlformats.org/officeDocument/2006/relationships/image" Target="../media/image28.jpeg"/><Relationship Id="rId23" Type="http://schemas.openxmlformats.org/officeDocument/2006/relationships/image" Target="../media/image28.jpeg"/><Relationship Id="rId24" Type="http://schemas.openxmlformats.org/officeDocument/2006/relationships/image" Target="../media/image28.jpeg"/><Relationship Id="rId25" Type="http://schemas.openxmlformats.org/officeDocument/2006/relationships/image" Target="../media/image28.jpeg"/><Relationship Id="rId26" Type="http://schemas.openxmlformats.org/officeDocument/2006/relationships/image" Target="../media/image28.jpeg"/><Relationship Id="rId27" Type="http://schemas.openxmlformats.org/officeDocument/2006/relationships/image" Target="../media/image28.jpeg"/><Relationship Id="rId28" Type="http://schemas.openxmlformats.org/officeDocument/2006/relationships/image" Target="../media/image28.jpeg"/><Relationship Id="rId29" Type="http://schemas.openxmlformats.org/officeDocument/2006/relationships/image" Target="../media/image28.jpeg"/><Relationship Id="rId30" Type="http://schemas.openxmlformats.org/officeDocument/2006/relationships/image" Target="../media/image28.jpeg"/><Relationship Id="rId31" Type="http://schemas.openxmlformats.org/officeDocument/2006/relationships/image" Target="../media/image28.jpeg"/><Relationship Id="rId32" Type="http://schemas.openxmlformats.org/officeDocument/2006/relationships/image" Target="../media/image28.jpeg"/><Relationship Id="rId33" Type="http://schemas.openxmlformats.org/officeDocument/2006/relationships/image" Target="../media/image28.jpeg"/><Relationship Id="rId34" Type="http://schemas.openxmlformats.org/officeDocument/2006/relationships/image" Target="../media/image28.jpeg"/><Relationship Id="rId35" Type="http://schemas.openxmlformats.org/officeDocument/2006/relationships/image" Target="../media/image28.jpeg"/><Relationship Id="rId36" Type="http://schemas.openxmlformats.org/officeDocument/2006/relationships/image" Target="../media/image28.jpeg"/><Relationship Id="rId37" Type="http://schemas.openxmlformats.org/officeDocument/2006/relationships/image" Target="../media/image28.jpeg"/><Relationship Id="rId38" Type="http://schemas.openxmlformats.org/officeDocument/2006/relationships/image" Target="../media/image28.jpeg"/><Relationship Id="rId39" Type="http://schemas.openxmlformats.org/officeDocument/2006/relationships/image" Target="../media/image28.jpeg"/><Relationship Id="rId40" Type="http://schemas.openxmlformats.org/officeDocument/2006/relationships/image" Target="../media/image28.jpeg"/><Relationship Id="rId41" Type="http://schemas.openxmlformats.org/officeDocument/2006/relationships/image" Target="../media/image28.jpeg"/><Relationship Id="rId42" Type="http://schemas.openxmlformats.org/officeDocument/2006/relationships/image" Target="../media/image28.jpeg"/><Relationship Id="rId43" Type="http://schemas.openxmlformats.org/officeDocument/2006/relationships/image" Target="../media/image28.jpeg"/><Relationship Id="rId44" Type="http://schemas.openxmlformats.org/officeDocument/2006/relationships/image" Target="../media/image28.jpeg"/><Relationship Id="rId45" Type="http://schemas.openxmlformats.org/officeDocument/2006/relationships/image" Target="../media/image28.jpeg"/><Relationship Id="rId46" Type="http://schemas.openxmlformats.org/officeDocument/2006/relationships/image" Target="../media/image28.jpeg"/><Relationship Id="rId47" Type="http://schemas.openxmlformats.org/officeDocument/2006/relationships/image" Target="../media/image28.jpeg"/><Relationship Id="rId48" Type="http://schemas.openxmlformats.org/officeDocument/2006/relationships/image" Target="../media/image28.jpeg"/><Relationship Id="rId49" Type="http://schemas.openxmlformats.org/officeDocument/2006/relationships/image" Target="../media/image28.jpeg"/><Relationship Id="rId50" Type="http://schemas.openxmlformats.org/officeDocument/2006/relationships/image" Target="../media/image29.gif"/><Relationship Id="rId5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cc"/>
                </a:solidFill>
                <a:latin typeface="Times New Roman"/>
              </a:rPr>
              <a:t>Килти кай</a:t>
            </a:r>
            <a:r>
              <a:rPr b="0" lang="en-US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ă</a:t>
            </a:r>
            <a:r>
              <a:rPr b="0" lang="ru-RU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к - к</a:t>
            </a:r>
            <a:r>
              <a:rPr b="0" lang="en-US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ĕ</a:t>
            </a:r>
            <a:r>
              <a:rPr b="0" lang="ru-RU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ш</a:t>
            </a:r>
            <a:r>
              <a:rPr b="0" lang="en-US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ĕ</a:t>
            </a:r>
            <a:r>
              <a:rPr b="0" lang="ru-RU" sz="6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43280" y="2349360"/>
            <a:ext cx="2808360" cy="209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9280" y="486864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ç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е пурн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ăç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акан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Л класра в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некен Мария Корот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1640" y="1413000"/>
            <a:ext cx="346716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п-шип-шип! 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ç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2920" y="4581360"/>
            <a:ext cx="3683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т-нарт-нарт! 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ç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3527640" cy="2176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384360" cy="2212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8720" y="33300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Мĕнле с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махсем пытаннă-ши?  П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лĕ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8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Шутне кал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1512720" cy="14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588000" y="3716280"/>
            <a:ext cx="1513080" cy="144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183852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851280" y="5345280"/>
            <a:ext cx="1838160" cy="151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867280" y="907920"/>
            <a:ext cx="1838520" cy="15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88000" y="2205000"/>
            <a:ext cx="1800360" cy="1467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7343640" y="2708280"/>
            <a:ext cx="180036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468360" y="2060640"/>
            <a:ext cx="116532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4932360" y="3500280"/>
            <a:ext cx="1165320" cy="172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250920" y="4941720"/>
            <a:ext cx="116352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556000" y="260280"/>
            <a:ext cx="728640" cy="1081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1835280" y="177336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2843280" y="28526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2843280" y="5229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255600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1763640" y="5157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1619280" y="3645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7956720" y="551664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0"/>
          <a:stretch/>
        </p:blipFill>
        <p:spPr>
          <a:xfrm>
            <a:off x="6588000" y="5373720"/>
            <a:ext cx="1293840" cy="148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2411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2"/>
          <a:stretch/>
        </p:blipFill>
        <p:spPr>
          <a:xfrm>
            <a:off x="3276720" y="4797360"/>
            <a:ext cx="1838160" cy="151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3"/>
          <a:stretch/>
        </p:blipFill>
        <p:spPr>
          <a:xfrm>
            <a:off x="5867280" y="4581360"/>
            <a:ext cx="1293840" cy="1484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7850160" y="0"/>
            <a:ext cx="1293840" cy="148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5"/>
          <a:stretch/>
        </p:blipFill>
        <p:spPr>
          <a:xfrm>
            <a:off x="8201160" y="4292640"/>
            <a:ext cx="942840" cy="10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426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Times New Roman"/>
              </a:rPr>
              <a:t>Тавтапу</a:t>
            </a:r>
            <a:r>
              <a:rPr b="1" i="1" lang="en-US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349360"/>
            <a:ext cx="270000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802200">
            <a:off x="2626920" y="19886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996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549360"/>
            <a:ext cx="7488360" cy="561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Т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ĕ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ллев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ĕ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Килти кай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ă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-к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ĕ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ĕ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ç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чен каласа парас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6640" cy="15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98764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28640" cy="10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33480" cy="138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68360" y="115920"/>
            <a:ext cx="362736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427640" y="115920"/>
            <a:ext cx="36273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88000" y="765000"/>
            <a:ext cx="147312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9528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7326360" y="2565360"/>
            <a:ext cx="18176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258920" y="422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7093080" y="4076640"/>
            <a:ext cx="1488960" cy="14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0" y="3068640"/>
            <a:ext cx="124776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1619280" y="3860640"/>
            <a:ext cx="183816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3276720" y="4941720"/>
            <a:ext cx="183996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2050920" y="1125360"/>
            <a:ext cx="1513080" cy="144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92720" y="35002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4572000" y="2637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5508720" y="23493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140360" y="3573360"/>
            <a:ext cx="11444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34800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148360" y="5029200"/>
            <a:ext cx="1272960" cy="1424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164360" y="5373720"/>
            <a:ext cx="1293840" cy="148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1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213000"/>
            <a:ext cx="151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а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6237000"/>
            <a:ext cx="353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ал 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3708360" cy="293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851280" cy="2708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367560"/>
            <a:ext cx="34560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в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ь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к çунатне шарт! çа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ыва чăмать, çухал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ăпкă шыва хумха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ывран тухать, са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не выля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т-нарт кăв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ĕпписене йыхăр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ле ертсе таврăн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В. Давыдов-Анат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2808360" cy="2095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08720" y="3933720"/>
            <a:ext cx="3095640" cy="208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2920" y="620640"/>
            <a:ext cx="3024360" cy="22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28720" y="285192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2160" y="306792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4880" y="616500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ăх чĕ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4240" y="4003560"/>
            <a:ext cx="38199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в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рĕн пысă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ан п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ăл кăнтăр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па çине хăпарать 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ик-ки-ри-ку!» - тесе авă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сси аван, хÿри илемлĕ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ккирикĕ пыс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. Я. Яковлев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456000" cy="2605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528720" cy="263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70520" y="2780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5600" y="602064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р чĕ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98440" y="7560"/>
            <a:ext cx="350316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Хур чĕппи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ллех ак çитрĕ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кун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васлăн курăк еш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ртсе сап-сар чĕппис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ран шур хур ами ир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Çитеççĕ çеç шыв хĕрри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ĕл-вĕл выляççĕ çунат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ĕр хăрамасăр пĕ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кеççĕ харсăр чĕпĕ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 хăвалаççĕ пĕр-пĕр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ывра выляççĕ тытм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ĕри чăмать пĕве тĕп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Ыттисенчен пытанм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ур хур амийĕ çыра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чи-пăчишĕн хĕпĕрт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Çерçи пек çеç пулсассăн 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ăн-чăн хурсем ÿсеççĕ, - 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Д. Исла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2727360" cy="364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58920" y="4292640"/>
            <a:ext cx="2724120" cy="205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65440" y="3715560"/>
            <a:ext cx="14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ăрк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6520" y="633816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ăркка чĕпп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86280" y="258480"/>
            <a:ext cx="3172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Кăр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ăркка тăснă та мă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лллĕ-маллĕ чупкал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ча сачĕн карти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ăл кĕресшĕн кăрла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Ан тивсемĕр, ача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та манăн чĕппĕмсе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руçпа Таруç,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р сăмсаллă чĕпс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чашларĕç кăмăлт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чĕç амăшĕ пат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унĕпе те çĕрĕ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ĕрле пулăр аннĕр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Н. Прокопьев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Ç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к т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ÿ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к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есл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хре м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ле с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ахсе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ытанн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19280" y="2421000"/>
          <a:ext cx="5760720" cy="2142720"/>
        </p:xfrm>
        <a:graphic>
          <a:graphicData uri="http://schemas.openxmlformats.org/drawingml/2006/table">
            <a:tbl>
              <a:tblPr/>
              <a:tblGrid>
                <a:gridCol w="478440"/>
                <a:gridCol w="482400"/>
                <a:gridCol w="478800"/>
                <a:gridCol w="480240"/>
                <a:gridCol w="479160"/>
                <a:gridCol w="482400"/>
                <a:gridCol w="480600"/>
                <a:gridCol w="478440"/>
                <a:gridCol w="480960"/>
                <a:gridCol w="480240"/>
                <a:gridCol w="480600"/>
                <a:gridCol w="47844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50"/>
          <a:stretch/>
        </p:blipFill>
        <p:spPr>
          <a:xfrm>
            <a:off x="7596360" y="5084640"/>
            <a:ext cx="888840" cy="10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ĕ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ле с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ă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мах вуланать-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4972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508464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566100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580536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66100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37372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96360" y="4508640"/>
            <a:ext cx="720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29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522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66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58770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5445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45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63800">
            <a:off x="971280" y="2060280"/>
            <a:ext cx="863640" cy="792000"/>
          </a:xfrm>
          <a:prstGeom prst="star5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63800">
            <a:off x="1618920" y="2781000"/>
            <a:ext cx="863640" cy="792000"/>
          </a:xfrm>
          <a:prstGeom prst="star5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63800">
            <a:off x="3995280" y="3428640"/>
            <a:ext cx="863640" cy="792000"/>
          </a:xfrm>
          <a:prstGeom prst="star5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63800">
            <a:off x="2771280" y="3212640"/>
            <a:ext cx="863640" cy="792360"/>
          </a:xfrm>
          <a:prstGeom prst="star5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63800">
            <a:off x="5292720" y="3429000"/>
            <a:ext cx="863640" cy="863640"/>
          </a:xfrm>
          <a:prstGeom prst="star5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63800">
            <a:off x="7596000" y="2707920"/>
            <a:ext cx="863280" cy="792000"/>
          </a:xfrm>
          <a:prstGeom prst="star5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205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357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63800">
            <a:off x="6372000" y="3068280"/>
            <a:ext cx="863640" cy="792000"/>
          </a:xfrm>
          <a:prstGeom prst="star5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364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3213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98640" y="3998880"/>
            <a:ext cx="3218040" cy="1674720"/>
          </a:xfrm>
          <a:custGeom>
            <a:avLst/>
            <a:gdLst/>
            <a:ahLst/>
            <a:rect l="l" t="t" r="r" b="b"/>
            <a:pathLst>
              <a:path w="2027" h="1055">
                <a:moveTo>
                  <a:pt x="1096" y="0"/>
                </a:moveTo>
                <a:cubicBezTo>
                  <a:pt x="1112" y="48"/>
                  <a:pt x="1118" y="87"/>
                  <a:pt x="1124" y="139"/>
                </a:cubicBezTo>
                <a:cubicBezTo>
                  <a:pt x="1121" y="224"/>
                  <a:pt x="1148" y="400"/>
                  <a:pt x="1027" y="430"/>
                </a:cubicBezTo>
                <a:cubicBezTo>
                  <a:pt x="932" y="428"/>
                  <a:pt x="837" y="429"/>
                  <a:pt x="742" y="423"/>
                </a:cubicBezTo>
                <a:cubicBezTo>
                  <a:pt x="725" y="422"/>
                  <a:pt x="693" y="401"/>
                  <a:pt x="673" y="396"/>
                </a:cubicBezTo>
                <a:cubicBezTo>
                  <a:pt x="624" y="384"/>
                  <a:pt x="579" y="369"/>
                  <a:pt x="534" y="347"/>
                </a:cubicBezTo>
                <a:cubicBezTo>
                  <a:pt x="474" y="317"/>
                  <a:pt x="404" y="313"/>
                  <a:pt x="340" y="292"/>
                </a:cubicBezTo>
                <a:cubicBezTo>
                  <a:pt x="294" y="295"/>
                  <a:pt x="245" y="289"/>
                  <a:pt x="201" y="305"/>
                </a:cubicBezTo>
                <a:cubicBezTo>
                  <a:pt x="131" y="330"/>
                  <a:pt x="71" y="398"/>
                  <a:pt x="21" y="451"/>
                </a:cubicBezTo>
                <a:cubicBezTo>
                  <a:pt x="5" y="514"/>
                  <a:pt x="13" y="489"/>
                  <a:pt x="0" y="528"/>
                </a:cubicBezTo>
                <a:cubicBezTo>
                  <a:pt x="2" y="567"/>
                  <a:pt x="1" y="607"/>
                  <a:pt x="7" y="646"/>
                </a:cubicBezTo>
                <a:cubicBezTo>
                  <a:pt x="16" y="706"/>
                  <a:pt x="92" y="758"/>
                  <a:pt x="138" y="784"/>
                </a:cubicBezTo>
                <a:cubicBezTo>
                  <a:pt x="184" y="810"/>
                  <a:pt x="221" y="827"/>
                  <a:pt x="270" y="847"/>
                </a:cubicBezTo>
                <a:cubicBezTo>
                  <a:pt x="303" y="860"/>
                  <a:pt x="326" y="885"/>
                  <a:pt x="361" y="895"/>
                </a:cubicBezTo>
                <a:cubicBezTo>
                  <a:pt x="437" y="915"/>
                  <a:pt x="517" y="929"/>
                  <a:pt x="590" y="958"/>
                </a:cubicBezTo>
                <a:cubicBezTo>
                  <a:pt x="636" y="953"/>
                  <a:pt x="682" y="950"/>
                  <a:pt x="728" y="944"/>
                </a:cubicBezTo>
                <a:cubicBezTo>
                  <a:pt x="772" y="938"/>
                  <a:pt x="804" y="896"/>
                  <a:pt x="846" y="881"/>
                </a:cubicBezTo>
                <a:cubicBezTo>
                  <a:pt x="873" y="861"/>
                  <a:pt x="901" y="848"/>
                  <a:pt x="930" y="833"/>
                </a:cubicBezTo>
                <a:cubicBezTo>
                  <a:pt x="972" y="812"/>
                  <a:pt x="1007" y="779"/>
                  <a:pt x="1048" y="757"/>
                </a:cubicBezTo>
                <a:cubicBezTo>
                  <a:pt x="1079" y="740"/>
                  <a:pt x="1114" y="731"/>
                  <a:pt x="1145" y="715"/>
                </a:cubicBezTo>
                <a:cubicBezTo>
                  <a:pt x="1231" y="671"/>
                  <a:pt x="1319" y="617"/>
                  <a:pt x="1415" y="597"/>
                </a:cubicBezTo>
                <a:cubicBezTo>
                  <a:pt x="1472" y="569"/>
                  <a:pt x="1533" y="551"/>
                  <a:pt x="1589" y="521"/>
                </a:cubicBezTo>
                <a:cubicBezTo>
                  <a:pt x="1604" y="513"/>
                  <a:pt x="1617" y="502"/>
                  <a:pt x="1631" y="493"/>
                </a:cubicBezTo>
                <a:cubicBezTo>
                  <a:pt x="1651" y="480"/>
                  <a:pt x="1700" y="479"/>
                  <a:pt x="1700" y="479"/>
                </a:cubicBezTo>
                <a:cubicBezTo>
                  <a:pt x="1864" y="486"/>
                  <a:pt x="1830" y="479"/>
                  <a:pt x="1936" y="514"/>
                </a:cubicBezTo>
                <a:cubicBezTo>
                  <a:pt x="1950" y="528"/>
                  <a:pt x="1964" y="541"/>
                  <a:pt x="1978" y="555"/>
                </a:cubicBezTo>
                <a:cubicBezTo>
                  <a:pt x="1985" y="562"/>
                  <a:pt x="1998" y="576"/>
                  <a:pt x="1998" y="576"/>
                </a:cubicBezTo>
                <a:cubicBezTo>
                  <a:pt x="2027" y="662"/>
                  <a:pt x="2017" y="772"/>
                  <a:pt x="1936" y="826"/>
                </a:cubicBezTo>
                <a:cubicBezTo>
                  <a:pt x="1927" y="840"/>
                  <a:pt x="1922" y="859"/>
                  <a:pt x="1908" y="868"/>
                </a:cubicBezTo>
                <a:cubicBezTo>
                  <a:pt x="1887" y="881"/>
                  <a:pt x="1883" y="882"/>
                  <a:pt x="1866" y="902"/>
                </a:cubicBezTo>
                <a:cubicBezTo>
                  <a:pt x="1861" y="908"/>
                  <a:pt x="1859" y="917"/>
                  <a:pt x="1853" y="923"/>
                </a:cubicBezTo>
                <a:cubicBezTo>
                  <a:pt x="1847" y="929"/>
                  <a:pt x="1838" y="932"/>
                  <a:pt x="1832" y="937"/>
                </a:cubicBezTo>
                <a:cubicBezTo>
                  <a:pt x="1824" y="943"/>
                  <a:pt x="1817" y="950"/>
                  <a:pt x="1811" y="958"/>
                </a:cubicBezTo>
                <a:cubicBezTo>
                  <a:pt x="1795" y="977"/>
                  <a:pt x="1773" y="998"/>
                  <a:pt x="1762" y="1020"/>
                </a:cubicBezTo>
                <a:cubicBezTo>
                  <a:pt x="1744" y="1055"/>
                  <a:pt x="1764" y="1031"/>
                  <a:pt x="1749" y="10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90440" y="3941640"/>
            <a:ext cx="4505400" cy="614520"/>
          </a:xfrm>
          <a:custGeom>
            <a:avLst/>
            <a:gdLst/>
            <a:ahLst/>
            <a:rect l="l" t="t" r="r" b="b"/>
            <a:pathLst>
              <a:path w="2838" h="387">
                <a:moveTo>
                  <a:pt x="2838" y="85"/>
                </a:moveTo>
                <a:cubicBezTo>
                  <a:pt x="2788" y="135"/>
                  <a:pt x="2753" y="198"/>
                  <a:pt x="2679" y="217"/>
                </a:cubicBezTo>
                <a:cubicBezTo>
                  <a:pt x="2656" y="231"/>
                  <a:pt x="2634" y="236"/>
                  <a:pt x="2609" y="244"/>
                </a:cubicBezTo>
                <a:cubicBezTo>
                  <a:pt x="2070" y="242"/>
                  <a:pt x="1503" y="387"/>
                  <a:pt x="992" y="217"/>
                </a:cubicBezTo>
                <a:cubicBezTo>
                  <a:pt x="972" y="196"/>
                  <a:pt x="958" y="184"/>
                  <a:pt x="930" y="175"/>
                </a:cubicBezTo>
                <a:cubicBezTo>
                  <a:pt x="871" y="116"/>
                  <a:pt x="780" y="105"/>
                  <a:pt x="701" y="85"/>
                </a:cubicBezTo>
                <a:cubicBezTo>
                  <a:pt x="640" y="70"/>
                  <a:pt x="584" y="56"/>
                  <a:pt x="521" y="50"/>
                </a:cubicBezTo>
                <a:cubicBezTo>
                  <a:pt x="111" y="58"/>
                  <a:pt x="228" y="0"/>
                  <a:pt x="35" y="119"/>
                </a:cubicBezTo>
                <a:cubicBezTo>
                  <a:pt x="30" y="126"/>
                  <a:pt x="26" y="134"/>
                  <a:pt x="21" y="140"/>
                </a:cubicBezTo>
                <a:cubicBezTo>
                  <a:pt x="15" y="148"/>
                  <a:pt x="0" y="161"/>
                  <a:pt x="0" y="1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6800" y="3624120"/>
            <a:ext cx="2955960" cy="2181240"/>
          </a:xfrm>
          <a:custGeom>
            <a:avLst/>
            <a:gdLst/>
            <a:ahLst/>
            <a:rect l="l" t="t" r="r" b="b"/>
            <a:pathLst>
              <a:path w="1862" h="1374">
                <a:moveTo>
                  <a:pt x="1813" y="0"/>
                </a:moveTo>
                <a:cubicBezTo>
                  <a:pt x="1815" y="14"/>
                  <a:pt x="1815" y="29"/>
                  <a:pt x="1820" y="42"/>
                </a:cubicBezTo>
                <a:cubicBezTo>
                  <a:pt x="1827" y="61"/>
                  <a:pt x="1848" y="97"/>
                  <a:pt x="1848" y="97"/>
                </a:cubicBezTo>
                <a:cubicBezTo>
                  <a:pt x="1862" y="198"/>
                  <a:pt x="1860" y="158"/>
                  <a:pt x="1848" y="326"/>
                </a:cubicBezTo>
                <a:cubicBezTo>
                  <a:pt x="1846" y="357"/>
                  <a:pt x="1816" y="388"/>
                  <a:pt x="1799" y="410"/>
                </a:cubicBezTo>
                <a:cubicBezTo>
                  <a:pt x="1764" y="456"/>
                  <a:pt x="1741" y="509"/>
                  <a:pt x="1709" y="555"/>
                </a:cubicBezTo>
                <a:cubicBezTo>
                  <a:pt x="1690" y="611"/>
                  <a:pt x="1674" y="660"/>
                  <a:pt x="1640" y="708"/>
                </a:cubicBezTo>
                <a:cubicBezTo>
                  <a:pt x="1624" y="731"/>
                  <a:pt x="1591" y="777"/>
                  <a:pt x="1591" y="777"/>
                </a:cubicBezTo>
                <a:cubicBezTo>
                  <a:pt x="1576" y="821"/>
                  <a:pt x="1556" y="864"/>
                  <a:pt x="1529" y="902"/>
                </a:cubicBezTo>
                <a:cubicBezTo>
                  <a:pt x="1521" y="936"/>
                  <a:pt x="1509" y="953"/>
                  <a:pt x="1480" y="972"/>
                </a:cubicBezTo>
                <a:cubicBezTo>
                  <a:pt x="1423" y="1086"/>
                  <a:pt x="1210" y="1052"/>
                  <a:pt x="1126" y="1055"/>
                </a:cubicBezTo>
                <a:cubicBezTo>
                  <a:pt x="911" y="1127"/>
                  <a:pt x="665" y="1107"/>
                  <a:pt x="446" y="1111"/>
                </a:cubicBezTo>
                <a:cubicBezTo>
                  <a:pt x="350" y="1131"/>
                  <a:pt x="405" y="1123"/>
                  <a:pt x="280" y="1131"/>
                </a:cubicBezTo>
                <a:cubicBezTo>
                  <a:pt x="237" y="1140"/>
                  <a:pt x="199" y="1147"/>
                  <a:pt x="155" y="1152"/>
                </a:cubicBezTo>
                <a:cubicBezTo>
                  <a:pt x="104" y="1186"/>
                  <a:pt x="128" y="1172"/>
                  <a:pt x="85" y="1194"/>
                </a:cubicBezTo>
                <a:cubicBezTo>
                  <a:pt x="66" y="1214"/>
                  <a:pt x="53" y="1233"/>
                  <a:pt x="30" y="1249"/>
                </a:cubicBezTo>
                <a:cubicBezTo>
                  <a:pt x="24" y="1258"/>
                  <a:pt x="3" y="1288"/>
                  <a:pt x="2" y="1298"/>
                </a:cubicBezTo>
                <a:cubicBezTo>
                  <a:pt x="0" y="1323"/>
                  <a:pt x="9" y="1374"/>
                  <a:pt x="9" y="13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4400" y="3271680"/>
            <a:ext cx="1387440" cy="2125800"/>
          </a:xfrm>
          <a:custGeom>
            <a:avLst/>
            <a:gdLst/>
            <a:ahLst/>
            <a:rect l="l" t="t" r="r" b="b"/>
            <a:pathLst>
              <a:path w="874" h="1339">
                <a:moveTo>
                  <a:pt x="847" y="0"/>
                </a:moveTo>
                <a:cubicBezTo>
                  <a:pt x="834" y="38"/>
                  <a:pt x="853" y="78"/>
                  <a:pt x="874" y="111"/>
                </a:cubicBezTo>
                <a:cubicBezTo>
                  <a:pt x="872" y="176"/>
                  <a:pt x="873" y="241"/>
                  <a:pt x="867" y="305"/>
                </a:cubicBezTo>
                <a:cubicBezTo>
                  <a:pt x="866" y="313"/>
                  <a:pt x="857" y="318"/>
                  <a:pt x="854" y="326"/>
                </a:cubicBezTo>
                <a:cubicBezTo>
                  <a:pt x="832" y="380"/>
                  <a:pt x="813" y="411"/>
                  <a:pt x="777" y="458"/>
                </a:cubicBezTo>
                <a:cubicBezTo>
                  <a:pt x="750" y="494"/>
                  <a:pt x="728" y="539"/>
                  <a:pt x="694" y="569"/>
                </a:cubicBezTo>
                <a:cubicBezTo>
                  <a:pt x="612" y="641"/>
                  <a:pt x="512" y="690"/>
                  <a:pt x="423" y="750"/>
                </a:cubicBezTo>
                <a:cubicBezTo>
                  <a:pt x="405" y="775"/>
                  <a:pt x="383" y="785"/>
                  <a:pt x="361" y="805"/>
                </a:cubicBezTo>
                <a:cubicBezTo>
                  <a:pt x="339" y="825"/>
                  <a:pt x="319" y="847"/>
                  <a:pt x="298" y="868"/>
                </a:cubicBezTo>
                <a:cubicBezTo>
                  <a:pt x="273" y="893"/>
                  <a:pt x="262" y="930"/>
                  <a:pt x="243" y="958"/>
                </a:cubicBezTo>
                <a:cubicBezTo>
                  <a:pt x="221" y="990"/>
                  <a:pt x="185" y="1034"/>
                  <a:pt x="153" y="1055"/>
                </a:cubicBezTo>
                <a:cubicBezTo>
                  <a:pt x="120" y="1104"/>
                  <a:pt x="53" y="1169"/>
                  <a:pt x="35" y="1222"/>
                </a:cubicBezTo>
                <a:cubicBezTo>
                  <a:pt x="24" y="1255"/>
                  <a:pt x="16" y="1309"/>
                  <a:pt x="0" y="1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9240" y="2676600"/>
            <a:ext cx="6629400" cy="2206440"/>
          </a:xfrm>
          <a:custGeom>
            <a:avLst/>
            <a:gdLst/>
            <a:ahLst/>
            <a:rect l="l" t="t" r="r" b="b"/>
            <a:pathLst>
              <a:path w="4176" h="1390">
                <a:moveTo>
                  <a:pt x="121" y="0"/>
                </a:moveTo>
                <a:cubicBezTo>
                  <a:pt x="110" y="28"/>
                  <a:pt x="102" y="52"/>
                  <a:pt x="86" y="77"/>
                </a:cubicBezTo>
                <a:cubicBezTo>
                  <a:pt x="78" y="116"/>
                  <a:pt x="62" y="152"/>
                  <a:pt x="44" y="188"/>
                </a:cubicBezTo>
                <a:cubicBezTo>
                  <a:pt x="27" y="282"/>
                  <a:pt x="0" y="449"/>
                  <a:pt x="72" y="521"/>
                </a:cubicBezTo>
                <a:cubicBezTo>
                  <a:pt x="89" y="572"/>
                  <a:pt x="65" y="510"/>
                  <a:pt x="100" y="562"/>
                </a:cubicBezTo>
                <a:cubicBezTo>
                  <a:pt x="109" y="575"/>
                  <a:pt x="113" y="591"/>
                  <a:pt x="121" y="604"/>
                </a:cubicBezTo>
                <a:cubicBezTo>
                  <a:pt x="148" y="647"/>
                  <a:pt x="197" y="687"/>
                  <a:pt x="239" y="715"/>
                </a:cubicBezTo>
                <a:cubicBezTo>
                  <a:pt x="261" y="748"/>
                  <a:pt x="305" y="768"/>
                  <a:pt x="336" y="791"/>
                </a:cubicBezTo>
                <a:cubicBezTo>
                  <a:pt x="347" y="799"/>
                  <a:pt x="354" y="810"/>
                  <a:pt x="364" y="819"/>
                </a:cubicBezTo>
                <a:cubicBezTo>
                  <a:pt x="392" y="843"/>
                  <a:pt x="426" y="859"/>
                  <a:pt x="454" y="882"/>
                </a:cubicBezTo>
                <a:cubicBezTo>
                  <a:pt x="543" y="955"/>
                  <a:pt x="623" y="1039"/>
                  <a:pt x="738" y="1069"/>
                </a:cubicBezTo>
                <a:cubicBezTo>
                  <a:pt x="779" y="1096"/>
                  <a:pt x="779" y="1105"/>
                  <a:pt x="829" y="1118"/>
                </a:cubicBezTo>
                <a:cubicBezTo>
                  <a:pt x="856" y="1132"/>
                  <a:pt x="876" y="1145"/>
                  <a:pt x="905" y="1152"/>
                </a:cubicBezTo>
                <a:cubicBezTo>
                  <a:pt x="1069" y="1261"/>
                  <a:pt x="1274" y="1299"/>
                  <a:pt x="1460" y="1354"/>
                </a:cubicBezTo>
                <a:cubicBezTo>
                  <a:pt x="1539" y="1377"/>
                  <a:pt x="1470" y="1363"/>
                  <a:pt x="1592" y="1374"/>
                </a:cubicBezTo>
                <a:cubicBezTo>
                  <a:pt x="1638" y="1378"/>
                  <a:pt x="1731" y="1388"/>
                  <a:pt x="1731" y="1388"/>
                </a:cubicBezTo>
                <a:cubicBezTo>
                  <a:pt x="2027" y="1384"/>
                  <a:pt x="2110" y="1390"/>
                  <a:pt x="2328" y="1354"/>
                </a:cubicBezTo>
                <a:cubicBezTo>
                  <a:pt x="2410" y="1312"/>
                  <a:pt x="2511" y="1299"/>
                  <a:pt x="2598" y="1270"/>
                </a:cubicBezTo>
                <a:cubicBezTo>
                  <a:pt x="2698" y="1236"/>
                  <a:pt x="2800" y="1201"/>
                  <a:pt x="2904" y="1180"/>
                </a:cubicBezTo>
                <a:cubicBezTo>
                  <a:pt x="3005" y="1138"/>
                  <a:pt x="3115" y="1119"/>
                  <a:pt x="3223" y="1111"/>
                </a:cubicBezTo>
                <a:cubicBezTo>
                  <a:pt x="3307" y="1094"/>
                  <a:pt x="3387" y="1077"/>
                  <a:pt x="3473" y="1069"/>
                </a:cubicBezTo>
                <a:cubicBezTo>
                  <a:pt x="3609" y="1034"/>
                  <a:pt x="3675" y="1058"/>
                  <a:pt x="3861" y="1062"/>
                </a:cubicBezTo>
                <a:cubicBezTo>
                  <a:pt x="3894" y="1070"/>
                  <a:pt x="3915" y="1077"/>
                  <a:pt x="3945" y="1090"/>
                </a:cubicBezTo>
                <a:cubicBezTo>
                  <a:pt x="3979" y="1105"/>
                  <a:pt x="3975" y="1087"/>
                  <a:pt x="4014" y="1111"/>
                </a:cubicBezTo>
                <a:cubicBezTo>
                  <a:pt x="4055" y="1136"/>
                  <a:pt x="4036" y="1128"/>
                  <a:pt x="4070" y="1138"/>
                </a:cubicBezTo>
                <a:cubicBezTo>
                  <a:pt x="4098" y="1157"/>
                  <a:pt x="4125" y="1175"/>
                  <a:pt x="4153" y="1194"/>
                </a:cubicBezTo>
                <a:cubicBezTo>
                  <a:pt x="4176" y="1209"/>
                  <a:pt x="4174" y="1191"/>
                  <a:pt x="4174" y="1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7640" y="3382920"/>
            <a:ext cx="924120" cy="2279520"/>
          </a:xfrm>
          <a:custGeom>
            <a:avLst/>
            <a:gdLst/>
            <a:ahLst/>
            <a:rect l="l" t="t" r="r" b="b"/>
            <a:pathLst>
              <a:path w="582" h="1436">
                <a:moveTo>
                  <a:pt x="63" y="0"/>
                </a:moveTo>
                <a:cubicBezTo>
                  <a:pt x="56" y="41"/>
                  <a:pt x="41" y="72"/>
                  <a:pt x="28" y="111"/>
                </a:cubicBezTo>
                <a:cubicBezTo>
                  <a:pt x="20" y="164"/>
                  <a:pt x="9" y="217"/>
                  <a:pt x="0" y="270"/>
                </a:cubicBezTo>
                <a:cubicBezTo>
                  <a:pt x="2" y="365"/>
                  <a:pt x="3" y="460"/>
                  <a:pt x="7" y="555"/>
                </a:cubicBezTo>
                <a:cubicBezTo>
                  <a:pt x="12" y="662"/>
                  <a:pt x="113" y="748"/>
                  <a:pt x="187" y="811"/>
                </a:cubicBezTo>
                <a:cubicBezTo>
                  <a:pt x="210" y="831"/>
                  <a:pt x="214" y="850"/>
                  <a:pt x="243" y="860"/>
                </a:cubicBezTo>
                <a:cubicBezTo>
                  <a:pt x="283" y="900"/>
                  <a:pt x="325" y="943"/>
                  <a:pt x="382" y="957"/>
                </a:cubicBezTo>
                <a:cubicBezTo>
                  <a:pt x="434" y="992"/>
                  <a:pt x="480" y="1044"/>
                  <a:pt x="514" y="1096"/>
                </a:cubicBezTo>
                <a:cubicBezTo>
                  <a:pt x="528" y="1117"/>
                  <a:pt x="534" y="1138"/>
                  <a:pt x="548" y="1158"/>
                </a:cubicBezTo>
                <a:cubicBezTo>
                  <a:pt x="582" y="1259"/>
                  <a:pt x="569" y="1299"/>
                  <a:pt x="569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73200" y="3772080"/>
            <a:ext cx="1533600" cy="1388880"/>
          </a:xfrm>
          <a:custGeom>
            <a:avLst/>
            <a:gdLst/>
            <a:ahLst/>
            <a:rect l="l" t="t" r="r" b="b"/>
            <a:pathLst>
              <a:path w="966" h="875">
                <a:moveTo>
                  <a:pt x="966" y="18"/>
                </a:moveTo>
                <a:cubicBezTo>
                  <a:pt x="911" y="0"/>
                  <a:pt x="882" y="39"/>
                  <a:pt x="841" y="67"/>
                </a:cubicBezTo>
                <a:cubicBezTo>
                  <a:pt x="830" y="101"/>
                  <a:pt x="810" y="125"/>
                  <a:pt x="786" y="150"/>
                </a:cubicBezTo>
                <a:cubicBezTo>
                  <a:pt x="779" y="178"/>
                  <a:pt x="781" y="180"/>
                  <a:pt x="765" y="206"/>
                </a:cubicBezTo>
                <a:cubicBezTo>
                  <a:pt x="756" y="220"/>
                  <a:pt x="737" y="247"/>
                  <a:pt x="737" y="247"/>
                </a:cubicBezTo>
                <a:cubicBezTo>
                  <a:pt x="730" y="276"/>
                  <a:pt x="721" y="291"/>
                  <a:pt x="709" y="317"/>
                </a:cubicBezTo>
                <a:cubicBezTo>
                  <a:pt x="690" y="360"/>
                  <a:pt x="694" y="387"/>
                  <a:pt x="654" y="414"/>
                </a:cubicBezTo>
                <a:cubicBezTo>
                  <a:pt x="624" y="458"/>
                  <a:pt x="587" y="446"/>
                  <a:pt x="529" y="448"/>
                </a:cubicBezTo>
                <a:cubicBezTo>
                  <a:pt x="432" y="451"/>
                  <a:pt x="334" y="453"/>
                  <a:pt x="237" y="455"/>
                </a:cubicBezTo>
                <a:cubicBezTo>
                  <a:pt x="179" y="475"/>
                  <a:pt x="142" y="511"/>
                  <a:pt x="92" y="546"/>
                </a:cubicBezTo>
                <a:cubicBezTo>
                  <a:pt x="72" y="575"/>
                  <a:pt x="49" y="599"/>
                  <a:pt x="29" y="629"/>
                </a:cubicBezTo>
                <a:cubicBezTo>
                  <a:pt x="24" y="636"/>
                  <a:pt x="15" y="650"/>
                  <a:pt x="15" y="650"/>
                </a:cubicBezTo>
                <a:cubicBezTo>
                  <a:pt x="0" y="709"/>
                  <a:pt x="10" y="766"/>
                  <a:pt x="29" y="823"/>
                </a:cubicBezTo>
                <a:cubicBezTo>
                  <a:pt x="33" y="835"/>
                  <a:pt x="33" y="875"/>
                  <a:pt x="50" y="8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7524720" y="5805360"/>
            <a:ext cx="1224000" cy="8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2:55:34Z</dcterms:created>
  <dc:creator>Admin</dc:creator>
  <dc:description/>
  <dc:language>en-US</dc:language>
  <cp:lastModifiedBy>user</cp:lastModifiedBy>
  <dcterms:modified xsi:type="dcterms:W3CDTF">2009-04-21T03:55:25Z</dcterms:modified>
  <cp:revision>12</cp:revision>
  <dc:subject/>
  <dc:title>Килти кайăк - кĕшĕк</dc:title>
</cp:coreProperties>
</file>