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6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EB2-C87A-46E9-B7A1-7C39838B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F00-BE6E-4EB8-9016-7D0B72F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DC8-7774-4DC0-8995-C6FB6978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8C7-4670-4289-9841-CC9160A6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AF85-2025-428D-B7C4-92EA01B4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6640-CD14-44DF-A4D9-B47F651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FC8-BC58-4E98-BD70-FB91B62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6E2-2C43-417B-83EF-67AB409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E2E0-B7C5-4484-9AE9-AC5DC134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876-E667-4D84-91A7-BC63239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91A9-6B20-4F88-94D9-57DBB54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6FF-8CF9-4948-9296-FB71C477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FF5-B755-4141-B578-E69C844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8CC-8EFC-4628-A80D-B98F0BD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85B7-BE19-40A3-91F2-1CA58232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57FE-487D-4910-83B1-9B343AFA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CCD-DF29-4F8B-AC9F-FCB188BC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981-E50E-439C-9979-CA1C7A13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6177-3DF0-41DC-8882-8D41E36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0161-4E12-4AE6-8E75-E24A6416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FDCD-3337-486C-A64B-F854184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4F75-6275-4708-B3B6-564B53E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FEA-2712-4A4F-BFD8-47F42741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318A-297F-4581-81C7-11E29EC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4A18-0A80-4D6F-9F5A-13FE790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4676-1E22-41D7-849F-4C93C04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5769-4006-4E52-93FC-0F4B70FF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EA7B-F33F-45BB-AA37-3804456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08CD-CF25-44D8-8A4D-42367297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DE40-8B51-44AF-B588-9F5BE90A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4564-4DEC-4D16-B49B-70CA085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9DAE-21DB-44CB-88D6-2E83C7F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3B72-B3E4-4960-9FA3-22780E6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02C-3CBD-4029-8AB0-FE832909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29E1-7B30-455B-AF50-D848AAF6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7D02-45FA-4A49-9AE9-9D0848F1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B491-7919-450E-8573-3C29C99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E7E3-81A4-417E-994E-9C34C03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8AB5-C2E8-40A7-83C6-2727E3F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87E4-9B94-4B89-968F-6AE590C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5588-6D3A-44FE-BFE5-9F94F4B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36AF-6C31-4FE5-A562-42B52EF7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A30D-C074-4253-8E19-AB400092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B839-48B4-43BE-8ED6-3BC9E70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365-C665-4579-9E51-D1A550D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AEBC-682A-4208-8F3E-FCCEE33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1CCE-3848-4F3B-894F-8A8331D7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7D93-A084-441C-AD5E-CFFBB65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1B8D-DD4A-405E-84E6-E7BDB0E9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5FFA-E5B2-4697-8D7F-D95C7A3A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6B58-BA46-4AC1-958F-95D84D1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B498-47A3-44EF-AE5A-DA65BB1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949A-A037-4A33-BC8A-D801D70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EBFC-45C4-4550-8045-D6110C90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98EA-796C-42DD-BBF9-5995CC13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524-EEC4-4064-8E8A-611535A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2D8B-7F79-4040-99FC-59E3462B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DFD5-2DB9-4E66-9211-C86AC38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30B2-6D73-4752-A03F-3540A7B7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C026-70F2-430A-8C3E-82A430D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4369-DD7B-4A54-A0C4-5D1476A6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7FD69-A6ED-4E21-ACEB-E9B7B2B9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D50F-B20B-4530-94DA-D23DD57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8C985-3D52-45CA-9248-0773941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0D3E6-B92F-428D-929A-AADDA40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A227C-F204-47AA-B1A1-53D9BD5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581-348A-43B8-9E49-9A48FE6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59A8-801E-4AAF-BEF5-FDBE2BA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D40C-1B8E-4B01-B597-8356FA6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1354-BE5C-4912-9D11-2E528DAE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AE00-FE64-44FE-AAA5-2DF375F4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4D8E-D3CD-4CCE-BAF5-D99EB3C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120D-B889-4ECC-9FF0-5D25B24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3B40-B67F-4245-A6E2-CF1501F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4DA0-4801-4EB5-89FA-1FEA43E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E41A-6C31-4F52-8F57-801197E3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2807-E5D2-411F-8B7E-03AF778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05B-5984-4068-B492-533A3138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59D6-EBE8-4B07-B10B-7071F67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0C2B-3349-498D-8C68-C52FFDC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DB5B3-52F6-488C-A6AF-8545159A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60F41-C709-4A6B-81B9-C2655F4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A426-BFA1-4E33-A695-0BFA74B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1EC-6C1E-40C0-8FAF-5E8C2D3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872-A84A-42BC-AFEB-00C723A7EC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E32-D194-4AD2-A7F7-5DEF31A715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F0B-DF41-4258-95A8-3C829F0640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A79-9EBE-4115-9BEC-1CE328ADF1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1648-ACEC-4584-99E5-48BA799C7FD7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F07-F629-4824-A43E-9027CB8EEA1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94A9-E958-4C3A-93A1-6E0B9AC09C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hyperlink" Target="http://nsportal.ru/" TargetMode="External"/><Relationship Id="rId5" Type="http://schemas.openxmlformats.org/officeDocument/2006/relationships/hyperlink" Target="http://nsportal.ru/" TargetMode="External"/><Relationship Id="rId6" Type="http://schemas.openxmlformats.org/officeDocument/2006/relationships/hyperlink" Target="http://nsportal.ru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11240" y="433440"/>
            <a:ext cx="10001520" cy="28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«Затруднения в обучении ребенка с тяжелыми множественными нарушениями развития и пути их решения »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Рисунок 6" descr=""/>
          <p:cNvPicPr/>
          <p:nvPr/>
        </p:nvPicPr>
        <p:blipFill>
          <a:blip r:embed="rId2"/>
          <a:stretch/>
        </p:blipFill>
        <p:spPr>
          <a:xfrm>
            <a:off x="260280" y="210960"/>
            <a:ext cx="1360440" cy="13003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4"/>
          <p:cNvSpPr/>
          <p:nvPr/>
        </p:nvSpPr>
        <p:spPr>
          <a:xfrm>
            <a:off x="6654960" y="3639960"/>
            <a:ext cx="48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педагог ГБОУ СО ЦПМСС « Эх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23880" y="4330440"/>
            <a:ext cx="914400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7052"/>
                </a:solidFill>
                <a:latin typeface="Calibri Light"/>
              </a:rPr>
              <a:t>ВСЕРОССИЙСКАЯ НАУЧНО-ПРАКТИЧЕСКАЯ КОНФЕРЕНЦИЯ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7052"/>
                </a:solidFill>
                <a:latin typeface="Arial"/>
              </a:rPr>
              <a:t>«Социализация детей с интеллектуальными нарушениями в контексте модернизации системы образования: опыт проблемы, перспективы»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7052"/>
                </a:solidFill>
                <a:latin typeface="Calibri Light"/>
              </a:rPr>
              <a:t>26 МАРТА 2015 ГОД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8" name="Рисунок 5" descr="echo_logo_top_1175.png"/>
          <p:cNvPicPr/>
          <p:nvPr/>
        </p:nvPicPr>
        <p:blipFill>
          <a:blip r:embed="rId3"/>
          <a:stretch/>
        </p:blipFill>
        <p:spPr>
          <a:xfrm>
            <a:off x="2840040" y="185760"/>
            <a:ext cx="8394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КР.png"/>
          <p:cNvPicPr/>
          <p:nvPr/>
        </p:nvPicPr>
        <p:blipFill>
          <a:blip r:embed="rId2"/>
          <a:stretch/>
        </p:blipFill>
        <p:spPr>
          <a:xfrm>
            <a:off x="277920" y="1762200"/>
            <a:ext cx="6040440" cy="4551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&amp;Gcy;&amp;rcy;&amp;iecy;&amp;bcy;&amp;iecy;&amp;ncy;&amp;kcy;&amp;icy;&amp;ncy;&amp;acy; &amp;Icy;&amp;rcy;&amp;icy;&amp;ncy;&amp;acy;. &amp;Bcy;&amp;lcy;&amp;ocy;&amp;gcy; - &amp;Dcy;&amp;lcy;&amp;yacy; &amp;vcy;&amp;ocy;&amp;scy;&amp;pcy;&amp;icy;&amp;tcy;&amp;acy;&amp;tcy;&amp;iecy;&amp;lcy;&amp;iecy;&amp;jcy; &amp;dcy;&amp;iecy;&amp;tcy;&amp;scy;&amp;kcy;&amp;icy;&amp;khcy; &amp;scy;&amp;acy;&amp;dcy;&amp;ocy;&amp;vcy; - &amp;Mcy;&amp;acy;&amp;acy;&amp;acy;&amp;mcy;.&amp;rcy;&amp;ucy;"/>
          <p:cNvPicPr/>
          <p:nvPr/>
        </p:nvPicPr>
        <p:blipFill>
          <a:blip r:embed="rId3"/>
          <a:stretch/>
        </p:blipFill>
        <p:spPr>
          <a:xfrm>
            <a:off x="6545160" y="2251080"/>
            <a:ext cx="5276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4"/>
          <p:cNvSpPr/>
          <p:nvPr/>
        </p:nvSpPr>
        <p:spPr>
          <a:xfrm>
            <a:off x="3462480" y="18622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Дополнительная 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7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8" descr="но.png"/>
          <p:cNvPicPr/>
          <p:nvPr/>
        </p:nvPicPr>
        <p:blipFill>
          <a:blip r:embed="rId2"/>
          <a:stretch/>
        </p:blipFill>
        <p:spPr>
          <a:xfrm>
            <a:off x="173160" y="2549520"/>
            <a:ext cx="5533920" cy="30243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но2.png"/>
          <p:cNvPicPr/>
          <p:nvPr/>
        </p:nvPicPr>
        <p:blipFill>
          <a:blip r:embed="rId3"/>
          <a:stretch/>
        </p:blipFill>
        <p:spPr>
          <a:xfrm>
            <a:off x="5964120" y="2533680"/>
            <a:ext cx="5718240" cy="310356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0"/>
          <p:cNvSpPr/>
          <p:nvPr/>
        </p:nvSpPr>
        <p:spPr>
          <a:xfrm>
            <a:off x="1108080" y="5791320"/>
            <a:ext cx="9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Социальная сеть работников образования   </a:t>
            </a:r>
            <a:r>
              <a:rPr b="1" lang="en-US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1" lang="ru-RU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5"/>
              </a:rPr>
              <a:t>  </a:t>
            </a:r>
            <a:r>
              <a:rPr b="1" lang="en-US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6"/>
              </a:rPr>
              <a:t>nsportal.ru</a:t>
            </a: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569880" y="1920960"/>
            <a:ext cx="10933200" cy="43401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1081080" y="2038320"/>
            <a:ext cx="697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620e"/>
                </a:solidFill>
                <a:latin typeface="Monotype Corsiva"/>
              </a:rPr>
              <a:t>Благодарю  за 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Рисунок 6" descr="C:\Documents and Settings\User\Рабочий стол\логотип центра\Копия ПЕРЕДЕЛАННЫЙ2.jpg"/>
          <p:cNvPicPr/>
          <p:nvPr/>
        </p:nvPicPr>
        <p:blipFill>
          <a:blip r:embed="rId3"/>
          <a:stretch/>
        </p:blipFill>
        <p:spPr>
          <a:xfrm>
            <a:off x="10134720" y="1789200"/>
            <a:ext cx="176508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06280" y="1941120"/>
            <a:ext cx="1061244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труктура дефекта при </a:t>
            </a:r>
            <a:br>
              <a:rPr sz="2800"/>
            </a:b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тяжелых множественных нарушениях развития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0" name="Рисунок 6" descr=""/>
          <p:cNvPicPr/>
          <p:nvPr/>
        </p:nvPicPr>
        <p:blipFill>
          <a:blip r:embed="rId1"/>
          <a:stretch/>
        </p:blipFill>
        <p:spPr>
          <a:xfrm>
            <a:off x="281160" y="182520"/>
            <a:ext cx="126504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Схема 7" descr=""/>
          <p:cNvPicPr/>
          <p:nvPr/>
        </p:nvPicPr>
        <p:blipFill>
          <a:blip r:embed="rId2"/>
          <a:stretch/>
        </p:blipFill>
        <p:spPr>
          <a:xfrm>
            <a:off x="3529080" y="2719440"/>
            <a:ext cx="5919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5480" y="1784520"/>
            <a:ext cx="11906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нее существовавшая модель образования детей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4" name="Picture 6" descr="new_page612_01_215x142"/>
          <p:cNvPicPr/>
          <p:nvPr/>
        </p:nvPicPr>
        <p:blipFill>
          <a:blip r:embed="rId1"/>
          <a:stretch/>
        </p:blipFill>
        <p:spPr>
          <a:xfrm>
            <a:off x="2270160" y="2567160"/>
            <a:ext cx="2130480" cy="251136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15" name="Picture 7" descr="new_page612_02_215x142"/>
          <p:cNvPicPr/>
          <p:nvPr/>
        </p:nvPicPr>
        <p:blipFill>
          <a:blip r:embed="rId2"/>
          <a:stretch/>
        </p:blipFill>
        <p:spPr>
          <a:xfrm>
            <a:off x="5133960" y="2583000"/>
            <a:ext cx="2112840" cy="245412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16" name="Picture 9" descr="new_page612_04_215x142"/>
          <p:cNvPicPr/>
          <p:nvPr/>
        </p:nvPicPr>
        <p:blipFill>
          <a:blip r:embed="rId3"/>
          <a:stretch/>
        </p:blipFill>
        <p:spPr>
          <a:xfrm>
            <a:off x="7850160" y="2573280"/>
            <a:ext cx="2144880" cy="252720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sp>
        <p:nvSpPr>
          <p:cNvPr id="317" name="AutoShape 48"/>
          <p:cNvSpPr/>
          <p:nvPr/>
        </p:nvSpPr>
        <p:spPr>
          <a:xfrm flipV="1">
            <a:off x="7962840" y="5387400"/>
            <a:ext cx="2148120" cy="65556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ти вне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48"/>
          <p:cNvSpPr/>
          <p:nvPr/>
        </p:nvSpPr>
        <p:spPr>
          <a:xfrm flipV="1">
            <a:off x="5079960" y="5370480"/>
            <a:ext cx="2222640" cy="6732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альное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8"/>
          <p:cNvSpPr/>
          <p:nvPr/>
        </p:nvSpPr>
        <p:spPr>
          <a:xfrm flipV="1">
            <a:off x="2149560" y="5396760"/>
            <a:ext cx="2197080" cy="6714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Рисунок 6" descr=""/>
          <p:cNvPicPr/>
          <p:nvPr/>
        </p:nvPicPr>
        <p:blipFill>
          <a:blip r:embed="rId4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9"/>
          <p:cNvSpPr/>
          <p:nvPr/>
        </p:nvSpPr>
        <p:spPr>
          <a:xfrm>
            <a:off x="1800360" y="2840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51080" y="1579320"/>
            <a:ext cx="10353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временная модель структуры содержания образования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325" name="Group 35"/>
          <p:cNvGrpSpPr/>
          <p:nvPr/>
        </p:nvGrpSpPr>
        <p:grpSpPr>
          <a:xfrm>
            <a:off x="506520" y="2390400"/>
            <a:ext cx="11186640" cy="3865680"/>
            <a:chOff x="506520" y="2390400"/>
            <a:chExt cx="11186640" cy="3865680"/>
          </a:xfrm>
        </p:grpSpPr>
        <p:grpSp>
          <p:nvGrpSpPr>
            <p:cNvPr id="326" name="Group 36"/>
            <p:cNvGrpSpPr/>
            <p:nvPr/>
          </p:nvGrpSpPr>
          <p:grpSpPr>
            <a:xfrm>
              <a:off x="506520" y="2390400"/>
              <a:ext cx="11186640" cy="3865680"/>
              <a:chOff x="506520" y="2390400"/>
              <a:chExt cx="11186640" cy="3865680"/>
            </a:xfrm>
          </p:grpSpPr>
          <p:grpSp>
            <p:nvGrpSpPr>
              <p:cNvPr id="327" name="Group 37"/>
              <p:cNvGrpSpPr/>
              <p:nvPr/>
            </p:nvGrpSpPr>
            <p:grpSpPr>
              <a:xfrm>
                <a:off x="1294200" y="2390400"/>
                <a:ext cx="10398960" cy="3865680"/>
                <a:chOff x="1294200" y="2390400"/>
                <a:chExt cx="10398960" cy="3865680"/>
              </a:xfrm>
            </p:grpSpPr>
            <p:grpSp>
              <p:nvGrpSpPr>
                <p:cNvPr id="328" name="Group 38"/>
                <p:cNvGrpSpPr/>
                <p:nvPr/>
              </p:nvGrpSpPr>
              <p:grpSpPr>
                <a:xfrm>
                  <a:off x="4727520" y="2741760"/>
                  <a:ext cx="1713600" cy="1289880"/>
                  <a:chOff x="4727520" y="2741760"/>
                  <a:chExt cx="1713600" cy="1289880"/>
                </a:xfrm>
              </p:grpSpPr>
              <p:sp>
                <p:nvSpPr>
                  <p:cNvPr id="329" name="Oval 39"/>
                  <p:cNvSpPr/>
                  <p:nvPr/>
                </p:nvSpPr>
                <p:spPr>
                  <a:xfrm>
                    <a:off x="4727520" y="274176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Oval 40"/>
                  <p:cNvSpPr/>
                  <p:nvPr/>
                </p:nvSpPr>
                <p:spPr>
                  <a:xfrm>
                    <a:off x="4835520" y="2831760"/>
                    <a:ext cx="1501200" cy="1119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Oval 41"/>
                  <p:cNvSpPr/>
                  <p:nvPr/>
                </p:nvSpPr>
                <p:spPr>
                  <a:xfrm>
                    <a:off x="5028120" y="2996280"/>
                    <a:ext cx="1086840" cy="810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2" name="Oval 42"/>
                  <p:cNvSpPr/>
                  <p:nvPr/>
                </p:nvSpPr>
                <p:spPr>
                  <a:xfrm>
                    <a:off x="5156280" y="3084480"/>
                    <a:ext cx="861120" cy="62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3" name="Group 43"/>
                <p:cNvGrpSpPr/>
                <p:nvPr/>
              </p:nvGrpSpPr>
              <p:grpSpPr>
                <a:xfrm>
                  <a:off x="6646680" y="2734200"/>
                  <a:ext cx="1713600" cy="1289880"/>
                  <a:chOff x="6646680" y="2734200"/>
                  <a:chExt cx="1713600" cy="1289880"/>
                </a:xfrm>
              </p:grpSpPr>
              <p:sp>
                <p:nvSpPr>
                  <p:cNvPr id="334" name="Oval 44"/>
                  <p:cNvSpPr/>
                  <p:nvPr/>
                </p:nvSpPr>
                <p:spPr>
                  <a:xfrm>
                    <a:off x="6646680" y="273420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5" name="Oval 45"/>
                  <p:cNvSpPr/>
                  <p:nvPr/>
                </p:nvSpPr>
                <p:spPr>
                  <a:xfrm>
                    <a:off x="6771960" y="2845080"/>
                    <a:ext cx="1455840" cy="1083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Oval 46"/>
                  <p:cNvSpPr/>
                  <p:nvPr/>
                </p:nvSpPr>
                <p:spPr>
                  <a:xfrm>
                    <a:off x="6850800" y="2921760"/>
                    <a:ext cx="1289520" cy="936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Oval 47"/>
                  <p:cNvSpPr/>
                  <p:nvPr/>
                </p:nvSpPr>
                <p:spPr>
                  <a:xfrm>
                    <a:off x="7068240" y="3076560"/>
                    <a:ext cx="860400" cy="622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8" name="AutoShape 48"/>
                <p:cNvSpPr/>
                <p:nvPr/>
              </p:nvSpPr>
              <p:spPr>
                <a:xfrm flipV="1">
                  <a:off x="8342640" y="2402640"/>
                  <a:ext cx="3321360" cy="690480"/>
                </a:xfrm>
                <a:prstGeom prst="wedgeRectCallout">
                  <a:avLst>
                    <a:gd name="adj1" fmla="val -55203"/>
                    <a:gd name="adj2" fmla="val -94787"/>
                  </a:avLst>
                </a:prstGeom>
                <a:solidFill>
                  <a:srgbClr val="f7ce9d"/>
                </a:solidFill>
                <a:ln w="9360">
                  <a:solidFill>
                    <a:srgbClr val="ab62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AutoShape 49"/>
                <p:cNvSpPr/>
                <p:nvPr/>
              </p:nvSpPr>
              <p:spPr>
                <a:xfrm flipV="1">
                  <a:off x="1294200" y="2389680"/>
                  <a:ext cx="3438000" cy="674280"/>
                </a:xfrm>
                <a:prstGeom prst="wedgeRectCallout">
                  <a:avLst>
                    <a:gd name="adj1" fmla="val 68675"/>
                    <a:gd name="adj2" fmla="val -17750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0" name="Group 50"/>
                <p:cNvGrpSpPr/>
                <p:nvPr/>
              </p:nvGrpSpPr>
              <p:grpSpPr>
                <a:xfrm>
                  <a:off x="4834800" y="4419720"/>
                  <a:ext cx="1713600" cy="1289880"/>
                  <a:chOff x="4834800" y="4419720"/>
                  <a:chExt cx="1713600" cy="1289880"/>
                </a:xfrm>
              </p:grpSpPr>
              <p:sp>
                <p:nvSpPr>
                  <p:cNvPr id="341" name="Oval 51"/>
                  <p:cNvSpPr/>
                  <p:nvPr/>
                </p:nvSpPr>
                <p:spPr>
                  <a:xfrm>
                    <a:off x="4834800" y="441972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Oval 52"/>
                  <p:cNvSpPr/>
                  <p:nvPr/>
                </p:nvSpPr>
                <p:spPr>
                  <a:xfrm>
                    <a:off x="4997880" y="4568400"/>
                    <a:ext cx="1374480" cy="102348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Oval 53"/>
                  <p:cNvSpPr/>
                  <p:nvPr/>
                </p:nvSpPr>
                <p:spPr>
                  <a:xfrm>
                    <a:off x="5080320" y="4626360"/>
                    <a:ext cx="1204560" cy="909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Oval 54"/>
                  <p:cNvSpPr/>
                  <p:nvPr/>
                </p:nvSpPr>
                <p:spPr>
                  <a:xfrm>
                    <a:off x="5379120" y="4859640"/>
                    <a:ext cx="586800" cy="44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5" name="AutoShape 55"/>
                <p:cNvSpPr/>
                <p:nvPr/>
              </p:nvSpPr>
              <p:spPr>
                <a:xfrm flipV="1">
                  <a:off x="1406160" y="5627520"/>
                  <a:ext cx="3649320" cy="601200"/>
                </a:xfrm>
                <a:prstGeom prst="wedgeRectCallout">
                  <a:avLst>
                    <a:gd name="adj1" fmla="val 65685"/>
                    <a:gd name="adj2" fmla="val 54953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Образование ниже цензового уровн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6" name="Group 56"/>
                <p:cNvGrpSpPr/>
                <p:nvPr/>
              </p:nvGrpSpPr>
              <p:grpSpPr>
                <a:xfrm>
                  <a:off x="6709320" y="4419720"/>
                  <a:ext cx="1713240" cy="1289880"/>
                  <a:chOff x="6709320" y="4419720"/>
                  <a:chExt cx="1713240" cy="1289880"/>
                </a:xfrm>
              </p:grpSpPr>
              <p:sp>
                <p:nvSpPr>
                  <p:cNvPr id="347" name="Oval 57"/>
                  <p:cNvSpPr/>
                  <p:nvPr/>
                </p:nvSpPr>
                <p:spPr>
                  <a:xfrm>
                    <a:off x="6709320" y="4419720"/>
                    <a:ext cx="171324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8" name="Oval 58"/>
                  <p:cNvSpPr/>
                  <p:nvPr/>
                </p:nvSpPr>
                <p:spPr>
                  <a:xfrm>
                    <a:off x="6998400" y="4683240"/>
                    <a:ext cx="1083960" cy="804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Oval 59"/>
                  <p:cNvSpPr/>
                  <p:nvPr/>
                </p:nvSpPr>
                <p:spPr>
                  <a:xfrm>
                    <a:off x="7153200" y="4810320"/>
                    <a:ext cx="774720" cy="550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0" name="AutoShape 60"/>
                <p:cNvSpPr/>
                <p:nvPr/>
              </p:nvSpPr>
              <p:spPr>
                <a:xfrm flipV="1">
                  <a:off x="7981200" y="5553360"/>
                  <a:ext cx="3711960" cy="702720"/>
                </a:xfrm>
                <a:prstGeom prst="wedgeRectCallout">
                  <a:avLst>
                    <a:gd name="adj1" fmla="val -38050"/>
                    <a:gd name="adj2" fmla="val 84791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14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4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Социальные навыки и элементы общег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1" name="AutoShape 61"/>
              <p:cNvSpPr/>
              <p:nvPr/>
            </p:nvSpPr>
            <p:spPr>
              <a:xfrm>
                <a:off x="520920" y="3847680"/>
                <a:ext cx="4149720" cy="403200"/>
              </a:xfrm>
              <a:prstGeom prst="borderCallout1">
                <a:avLst>
                  <a:gd name="adj1" fmla="val 18750"/>
                  <a:gd name="adj2" fmla="val -8333"/>
                  <a:gd name="adj3" fmla="val -32810"/>
                  <a:gd name="adj4" fmla="val 11725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724209"/>
                    </a:solidFill>
                    <a:latin typeface="Calibri"/>
                  </a:rPr>
                  <a:t>Коррек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AutoShape 62"/>
              <p:cNvSpPr/>
              <p:nvPr/>
            </p:nvSpPr>
            <p:spPr>
              <a:xfrm>
                <a:off x="506520" y="3368520"/>
                <a:ext cx="4103280" cy="387000"/>
              </a:xfrm>
              <a:prstGeom prst="borderCallout1">
                <a:avLst>
                  <a:gd name="adj1" fmla="val 18750"/>
                  <a:gd name="adj2" fmla="val -8333"/>
                  <a:gd name="adj3" fmla="val 22523"/>
                  <a:gd name="adj4" fmla="val 125499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Фундаментальное ядро 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63"/>
              <p:cNvSpPr/>
              <p:nvPr/>
            </p:nvSpPr>
            <p:spPr>
              <a:xfrm>
                <a:off x="576360" y="4782960"/>
                <a:ext cx="4074840" cy="393480"/>
              </a:xfrm>
              <a:prstGeom prst="borderCallout1">
                <a:avLst>
                  <a:gd name="adj1" fmla="val 18750"/>
                  <a:gd name="adj2" fmla="val -8333"/>
                  <a:gd name="adj3" fmla="val -217560"/>
                  <a:gd name="adj4" fmla="val 133375"/>
                </a:avLst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Социально-адапта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AutoShape 64"/>
              <p:cNvSpPr/>
              <p:nvPr/>
            </p:nvSpPr>
            <p:spPr>
              <a:xfrm>
                <a:off x="520920" y="4298760"/>
                <a:ext cx="4134960" cy="385560"/>
              </a:xfrm>
              <a:prstGeom prst="borderCallout1">
                <a:avLst>
                  <a:gd name="adj1" fmla="val 18750"/>
                  <a:gd name="adj2" fmla="val -8333"/>
                  <a:gd name="adj3" fmla="val 11828"/>
                  <a:gd name="adj4" fmla="val 94324"/>
                </a:avLst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Образовательно-воспитатель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Oval 65"/>
            <p:cNvSpPr/>
            <p:nvPr/>
          </p:nvSpPr>
          <p:spPr>
            <a:xfrm>
              <a:off x="7373880" y="4945320"/>
              <a:ext cx="346320" cy="250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58" name="Схема 8" descr=""/>
          <p:cNvPicPr/>
          <p:nvPr/>
        </p:nvPicPr>
        <p:blipFill>
          <a:blip r:embed="rId2"/>
          <a:stretch/>
        </p:blipFill>
        <p:spPr>
          <a:xfrm>
            <a:off x="371520" y="2955960"/>
            <a:ext cx="11187000" cy="33480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0"/>
          <p:cNvSpPr/>
          <p:nvPr/>
        </p:nvSpPr>
        <p:spPr>
          <a:xfrm>
            <a:off x="168120" y="1879560"/>
            <a:ext cx="12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Затруднения возникающие при  совместной деятельности педагога и ребёнка с тяжелыми множественными нарушениями 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62" name="Схема 5" descr=""/>
          <p:cNvPicPr/>
          <p:nvPr/>
        </p:nvPicPr>
        <p:blipFill>
          <a:blip r:embed="rId2"/>
          <a:stretch/>
        </p:blipFill>
        <p:spPr>
          <a:xfrm>
            <a:off x="231840" y="1779480"/>
            <a:ext cx="11636280" cy="452448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"/>
          <p:cNvPicPr/>
          <p:nvPr/>
        </p:nvPicPr>
        <p:blipFill>
          <a:blip r:embed="rId3"/>
          <a:stretch/>
        </p:blipFill>
        <p:spPr>
          <a:xfrm>
            <a:off x="-6480" y="2114640"/>
            <a:ext cx="10193400" cy="4889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7" descr="ЗВУК. АППАРАТУРА.jpg"/>
          <p:cNvPicPr/>
          <p:nvPr/>
        </p:nvPicPr>
        <p:blipFill>
          <a:blip r:embed="rId4"/>
          <a:stretch/>
        </p:blipFill>
        <p:spPr>
          <a:xfrm>
            <a:off x="9585360" y="3903840"/>
            <a:ext cx="2284200" cy="11048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СЕНСОРНАЯ КОМНАТА.jpg"/>
          <p:cNvPicPr/>
          <p:nvPr/>
        </p:nvPicPr>
        <p:blipFill>
          <a:blip r:embed="rId5"/>
          <a:stretch/>
        </p:blipFill>
        <p:spPr>
          <a:xfrm>
            <a:off x="9890280" y="5208480"/>
            <a:ext cx="1825560" cy="9669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25000" y="1950840"/>
            <a:ext cx="103539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Метод сенсорной интеграции</a:t>
            </a:r>
            <a:br>
              <a:rPr sz="2800"/>
            </a:br>
            <a:r>
              <a:rPr b="1" lang="ru-RU" sz="16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(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ан американским трудотерапевтом Джин Айрес (</a:t>
            </a:r>
            <a:r>
              <a:rPr b="1" lang="en-US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Jean Ayres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1923—1988)) 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7" name="Picture 5" descr="&amp;Mcy;&amp;ocy;&amp;zhcy;&amp;ncy;&amp;ocy; &amp;lcy;&amp;icy; &amp;icy;&amp;khcy; &amp;ncy;&amp;acy;&amp;zcy;&amp;ycy;&amp;vcy;&amp;acy;&amp;tcy;&amp;softcy; &amp;dcy;&amp;iecy;&amp;tcy;&amp;softcy;&amp;mcy;&amp;icy;-&amp;icy;&amp;ncy;&amp;dcy;&amp;icy;&amp;gcy;&amp;ocy;. - &amp;Pcy;&amp;ocy;&amp;gcy;&amp;ocy;&amp;vcy;&amp;ocy;&amp;rcy;&amp;icy;&amp;mcy; &amp;ocy;&amp;bcy; &amp;ocy;&amp;scy;&amp;ocy;&amp;bcy;&amp;iecy;&amp;ncy;&amp;ncy;&amp;ycy;&amp;khcy; &amp;dcy;&amp;iecy;&amp;tcy;&amp;yacy;&amp;khcy;, &amp;kcy;&amp;ocy;&amp;tcy;&amp;ocy;&amp;rcy;&amp;ycy;&amp;khcy; &amp;ncy;&amp;iecy;&amp;mcy;&amp;acy;&amp;lcy;&amp;ocy; &amp;ncy;&amp;acy; &amp;ncy;&amp;acy;&amp;shcy;&amp;iecy;&amp;jcy; &amp;pcy;&amp;lcy;&amp;acy;&amp;ncy;&amp;iecy;&amp;tcy;&amp;iecy; - &amp;Fcy;&amp;ocy;&amp;rcy;&amp;ucy;&amp;mcy;-&amp;Gcy;&amp;rcy;&amp;acy;&amp;dcy;"/>
          <p:cNvPicPr/>
          <p:nvPr/>
        </p:nvPicPr>
        <p:blipFill>
          <a:blip r:embed="rId6"/>
          <a:stretch/>
        </p:blipFill>
        <p:spPr>
          <a:xfrm>
            <a:off x="9872640" y="2647800"/>
            <a:ext cx="2001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3" descr=""/>
          <p:cNvPicPr/>
          <p:nvPr/>
        </p:nvPicPr>
        <p:blipFill>
          <a:blip r:embed="rId2"/>
          <a:stretch/>
        </p:blipFill>
        <p:spPr>
          <a:xfrm>
            <a:off x="401760" y="2614680"/>
            <a:ext cx="10418760" cy="4475160"/>
          </a:xfrm>
          <a:prstGeom prst="rect">
            <a:avLst/>
          </a:prstGeom>
          <a:ln w="0">
            <a:noFill/>
          </a:ln>
        </p:spPr>
      </p:pic>
      <p:pic>
        <p:nvPicPr>
          <p:cNvPr id="371" name="Схема 5" descr=""/>
          <p:cNvPicPr/>
          <p:nvPr/>
        </p:nvPicPr>
        <p:blipFill>
          <a:blip r:embed="rId3"/>
          <a:stretch/>
        </p:blipFill>
        <p:spPr>
          <a:xfrm>
            <a:off x="9564840" y="2876400"/>
            <a:ext cx="2315880" cy="3517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6" descr="шнуровка.jpg"/>
          <p:cNvPicPr/>
          <p:nvPr/>
        </p:nvPicPr>
        <p:blipFill>
          <a:blip r:embed="rId4"/>
          <a:stretch/>
        </p:blipFill>
        <p:spPr>
          <a:xfrm>
            <a:off x="9655200" y="2894040"/>
            <a:ext cx="1874880" cy="961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7" descr="шнуровки2.jpg"/>
          <p:cNvPicPr/>
          <p:nvPr/>
        </p:nvPicPr>
        <p:blipFill>
          <a:blip r:embed="rId5"/>
          <a:stretch/>
        </p:blipFill>
        <p:spPr>
          <a:xfrm>
            <a:off x="9885240" y="4156200"/>
            <a:ext cx="1905120" cy="965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8" descr="шнуровки3.jpg"/>
          <p:cNvPicPr/>
          <p:nvPr/>
        </p:nvPicPr>
        <p:blipFill>
          <a:blip r:embed="rId6"/>
          <a:stretch/>
        </p:blipFill>
        <p:spPr>
          <a:xfrm>
            <a:off x="9833040" y="5456160"/>
            <a:ext cx="2041560" cy="89208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9"/>
          <p:cNvSpPr/>
          <p:nvPr/>
        </p:nvSpPr>
        <p:spPr>
          <a:xfrm>
            <a:off x="941400" y="1766880"/>
            <a:ext cx="9501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Метод эрготерапи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ergon» - труд, занятие, « therapia»– леч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3" descr=""/>
          <p:cNvPicPr/>
          <p:nvPr/>
        </p:nvPicPr>
        <p:blipFill>
          <a:blip r:embed="rId2"/>
          <a:stretch/>
        </p:blipFill>
        <p:spPr>
          <a:xfrm>
            <a:off x="426960" y="2779560"/>
            <a:ext cx="11320560" cy="40849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404640" y="2536920"/>
            <a:ext cx="2908440" cy="1690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рисунок4.jpg"/>
          <p:cNvPicPr/>
          <p:nvPr/>
        </p:nvPicPr>
        <p:blipFill>
          <a:blip r:embed="rId4"/>
          <a:stretch/>
        </p:blipFill>
        <p:spPr>
          <a:xfrm>
            <a:off x="4200480" y="2476440"/>
            <a:ext cx="3075120" cy="1763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рисует сам2.jpg"/>
          <p:cNvPicPr/>
          <p:nvPr/>
        </p:nvPicPr>
        <p:blipFill>
          <a:blip r:embed="rId5"/>
          <a:stretch/>
        </p:blipFill>
        <p:spPr>
          <a:xfrm>
            <a:off x="8188200" y="2451240"/>
            <a:ext cx="3426120" cy="1714320"/>
          </a:xfrm>
          <a:prstGeom prst="rect">
            <a:avLst/>
          </a:prstGeom>
          <a:ln w="0">
            <a:noFill/>
          </a:ln>
        </p:spPr>
      </p:pic>
      <p:pic>
        <p:nvPicPr>
          <p:cNvPr id="382" name="Группа 8" descr=""/>
          <p:cNvPicPr/>
          <p:nvPr/>
        </p:nvPicPr>
        <p:blipFill>
          <a:blip r:embed="rId6"/>
          <a:stretch/>
        </p:blipFill>
        <p:spPr>
          <a:xfrm>
            <a:off x="3267000" y="4900680"/>
            <a:ext cx="1049400" cy="579240"/>
          </a:xfrm>
          <a:prstGeom prst="rect">
            <a:avLst/>
          </a:prstGeom>
          <a:ln w="0">
            <a:noFill/>
          </a:ln>
        </p:spPr>
      </p:pic>
      <p:pic>
        <p:nvPicPr>
          <p:cNvPr id="383" name="Группа 11" descr=""/>
          <p:cNvPicPr/>
          <p:nvPr/>
        </p:nvPicPr>
        <p:blipFill>
          <a:blip r:embed="rId7"/>
          <a:stretch/>
        </p:blipFill>
        <p:spPr>
          <a:xfrm>
            <a:off x="7175520" y="4821120"/>
            <a:ext cx="1047600" cy="5796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4"/>
          <p:cNvSpPr/>
          <p:nvPr/>
        </p:nvSpPr>
        <p:spPr>
          <a:xfrm>
            <a:off x="2533680" y="1825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овместно-разделён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ар.png"/>
          <p:cNvPicPr/>
          <p:nvPr/>
        </p:nvPicPr>
        <p:blipFill>
          <a:blip r:embed="rId2"/>
          <a:stretch/>
        </p:blipFill>
        <p:spPr>
          <a:xfrm>
            <a:off x="243000" y="1801800"/>
            <a:ext cx="5986440" cy="441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Админ\Мои документы\Downloads\сканирование0015.jpg"/>
          <p:cNvPicPr/>
          <p:nvPr/>
        </p:nvPicPr>
        <p:blipFill>
          <a:blip r:embed="rId3"/>
          <a:stretch/>
        </p:blipFill>
        <p:spPr>
          <a:xfrm>
            <a:off x="6321600" y="1741320"/>
            <a:ext cx="1820520" cy="2108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4"/>
          <a:stretch/>
        </p:blipFill>
        <p:spPr>
          <a:xfrm>
            <a:off x="8451720" y="1833480"/>
            <a:ext cx="3503880" cy="18637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10"/>
          <p:cNvSpPr/>
          <p:nvPr/>
        </p:nvSpPr>
        <p:spPr>
          <a:xfrm>
            <a:off x="6373800" y="3816360"/>
            <a:ext cx="1749600" cy="26496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6361200" y="5738760"/>
            <a:ext cx="2081160" cy="5302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Карточки с карти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8488440" y="3822840"/>
            <a:ext cx="3386160" cy="2854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Дактильн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&amp;Ocy;&amp;vcy;&amp;ocy;&amp;shchcy;&amp;ncy;&amp;ocy;&amp;iecy; &amp;lcy;&amp;ocy;&amp;tcy;&amp;ocy;"/>
          <p:cNvPicPr/>
          <p:nvPr/>
        </p:nvPicPr>
        <p:blipFill>
          <a:blip r:embed="rId5"/>
          <a:stretch/>
        </p:blipFill>
        <p:spPr>
          <a:xfrm>
            <a:off x="6310440" y="4183200"/>
            <a:ext cx="2116080" cy="1501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&amp;Tcy;&amp;iecy;&amp;mcy;&amp;acy; &amp;Ncy;&amp;iecy;&amp;vcy;&amp;iecy;&amp;rcy;&amp;bcy;&amp;acy;&amp;lcy;&amp;softcy;&amp;ncy;&amp;ycy;&amp;iecy; &amp;scy;&amp;rcy;&amp;iecy;&amp;dcy;&amp;scy;&amp;tcy;&amp;vcy;&amp;acy; &amp;ocy;&amp;bcy;&amp;shchcy;&amp;iecy;&amp;ncy;&amp;icy;&amp;yacy;"/>
          <p:cNvPicPr/>
          <p:nvPr/>
        </p:nvPicPr>
        <p:blipFill>
          <a:blip r:embed="rId6"/>
          <a:stretch/>
        </p:blipFill>
        <p:spPr>
          <a:xfrm>
            <a:off x="8561520" y="4280040"/>
            <a:ext cx="3433680" cy="15238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5"/>
          <p:cNvSpPr/>
          <p:nvPr/>
        </p:nvSpPr>
        <p:spPr>
          <a:xfrm>
            <a:off x="8561520" y="5937120"/>
            <a:ext cx="3386160" cy="28440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Жестов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9:41:38Z</dcterms:created>
  <dc:creator>Соловьева Светлана Викторовна</dc:creator>
  <dc:description/>
  <dc:language>en-US</dc:language>
  <cp:lastModifiedBy>Адм</cp:lastModifiedBy>
  <dcterms:modified xsi:type="dcterms:W3CDTF">2015-10-16T08:28:10Z</dcterms:modified>
  <cp:revision>63</cp:revision>
  <dc:subject/>
  <dc:title>«Социализация детей с интеллектуальными нарушениями в контексте модернизации системы образования: опыт, проблемы, перспективы»</dc:title>
</cp:coreProperties>
</file>