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31.jpeg" ContentType="image/jpeg"/>
  <Override PartName="/ppt/media/image19.jpeg" ContentType="image/jpeg"/>
  <Override PartName="/ppt/media/image25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6.png" ContentType="image/png"/>
  <Override PartName="/ppt/media/image18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883-EE4A-4EE8-A697-35A38050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E83-AB74-4B27-869F-36AAE0FC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B1C1-10A1-43A9-B5B9-E6557C38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681-92AE-4241-B621-A953FCF1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EC66-ABED-4EAC-8CB2-86E3F3BE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974E-474E-4265-A606-8BFD4874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C624-EAF8-4274-920D-0BBAAD60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6285-0B62-45CC-B987-3486AAFA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B913-DBB9-443F-8530-6C15FA36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A9CC-205A-4422-97E2-09ED9B9B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621C-5241-4E5C-B5E1-F60CB14B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B01-F0C1-4DC4-BB6E-5250CBB2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889C-C848-4DA7-961B-750F84AA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8261-C27A-4D4E-8385-971C3CF3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A43E-D14B-4396-A802-A359C27B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527F-7231-4FE4-9D9A-218EF767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B1FE-7711-424A-8006-CB6632E5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7B29D-1769-4451-9D72-951673FC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F8295-E79F-4D1F-B691-265231F5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B0BCE-4027-4DA0-9CE0-54A403DE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82B7F-E929-4E44-8C1D-B1F20A0E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AC7D3-F482-448A-B93B-4441723E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DDD-9240-4DA7-BD8E-5A779B44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B176A-5721-4093-8889-9845D8A7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6CBC1-A21C-4893-8DCC-1915F00E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CA3BC-9CD6-4071-8A50-9DF3C30B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979AC-7465-4B4C-947D-28CB1D4B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43173-FA89-4C80-9A59-5E6AE920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ACB8B-AD5D-4883-88A0-033B9182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94750-3068-41D7-B5F2-099372CE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A4219-FC5E-4922-A1B2-D32F65D7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7C8F5-721E-4CD6-A749-56D490B4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FCFE3-5814-41DD-B28C-0953B646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6753-96A4-4DE4-AF75-8FEF8FFA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71D14-FBED-47AF-9449-1C7E8DF3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BD3AD-ECBB-4C2F-97DF-E83F8753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27EF5-62A8-4D43-A9AA-74C58AA7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BF2E9-5FEF-47E7-9E05-FADFB1E4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A0B69-2F39-494C-9FBE-A1A66D83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11733-FC5A-4120-89F7-33F3BA34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2D887-8BB7-4A44-BF71-E3983C4B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89FF6-CF46-400C-886E-051BE306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701BB-6C77-480F-AA22-ADAF563E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A7235-1F92-46E1-90FB-4510A98B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AF2-801C-4F37-BE1A-94BC3DBD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570D1-2EB5-466A-A123-5E21B6DF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DBE39-6539-42B4-97C1-03324612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267C2-CBAE-42C6-9D6E-DBF54093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31D58-B4C1-4EA0-A80E-8E42D6C6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05C2A-1587-4261-A03E-28C3D33F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2E932-B672-4947-8F36-E02255B1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07A4A-461B-471B-998E-5ECDB8D2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9154B-67B9-4773-9F90-18368CCA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9B4ED-CD91-4A34-8C4C-B902805E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DAC8C-AD75-4D16-A30D-5E665916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243-B915-4CEF-B68E-B269C4F3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DFE15-3C89-4102-A239-FDABB9FF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DA542-49B1-4EDB-88E6-5457B2D7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B2F33-B08E-4646-BE85-9FC0A9FE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D716C-47AD-47E0-8D4B-1BFBC566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9EA74-8084-4585-B89B-1493D137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8502B-672B-495E-85D3-6993CEC4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BE970-B3F0-44B0-A60A-4CA131C4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68DC3-22B1-4DD0-8866-C0B0E79B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D5F57-8DFB-4416-A50B-63E83DD8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661B6-BDE5-4D35-BE64-6E620553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DE5-1A0B-4F49-AD6B-D4C80A92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6F455-547D-437C-8ADE-F08B4412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861EA-B727-43B9-9061-BA14EB70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43D36-3314-4021-8FE8-688DF0FF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E2630-3A72-4081-A322-AF6692DD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54697-235A-4F7C-8186-C420B39F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3721F-5FD9-49FF-B169-FCAFE756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26D4E-F327-4D41-B635-44526191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9145C-B7B5-4E11-88A3-CA2A9626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ED2F7-843A-4E7E-B9A9-84EEABEE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EECC6-5FC6-4678-A8FF-3769365D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A4D-A4F3-410D-9CBA-5650BE9F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585B3-C09D-4FBB-B147-BB266664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BDEEC-FC28-4F93-A471-0A8452D6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29157-CC40-41AA-82DF-70E606C4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49F87-00A8-4D1B-8FE0-66C1E78B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82FFE-DBE4-403A-8148-E0DA1FA1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1E8-22DB-40F0-A6D5-A55173C8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3181-5D35-4D3E-AC1C-5FECB44C50E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254E-37E8-4348-91D2-9B007952783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25F3-CF40-433F-BA46-7B652878523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27E2-9522-4ABB-AC7A-BC1EE847D44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1809-0046-4B90-8AA0-965FF45913D3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E15D-C7D2-49FA-8AFD-2A58BBA9ED8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13C6-446B-4F65-9F94-D47A402A956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hyperlink" Target="http://nsportal.ru/" TargetMode="External"/><Relationship Id="rId5" Type="http://schemas.openxmlformats.org/officeDocument/2006/relationships/hyperlink" Target="http://nsportal.ru/" TargetMode="External"/><Relationship Id="rId6" Type="http://schemas.openxmlformats.org/officeDocument/2006/relationships/hyperlink" Target="http://nsportal.ru/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11240" y="433440"/>
            <a:ext cx="10001520" cy="28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e4221"/>
                </a:solidFill>
                <a:latin typeface="Times New Roman"/>
                <a:ea typeface="Times New Roman"/>
              </a:rPr>
              <a:t>«Затруднения в обучении ребенка с тяжелыми множественными нарушениями развития и пути их решения »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05" name="Рисунок 6" descr=""/>
          <p:cNvPicPr/>
          <p:nvPr/>
        </p:nvPicPr>
        <p:blipFill>
          <a:blip r:embed="rId2"/>
          <a:stretch/>
        </p:blipFill>
        <p:spPr>
          <a:xfrm>
            <a:off x="260280" y="210960"/>
            <a:ext cx="1360440" cy="130032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4"/>
          <p:cNvSpPr/>
          <p:nvPr/>
        </p:nvSpPr>
        <p:spPr>
          <a:xfrm>
            <a:off x="6654960" y="3639960"/>
            <a:ext cx="48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749b"/>
                </a:solidFill>
                <a:latin typeface="Calibri"/>
              </a:rPr>
              <a:t>Составитель: Аристова Галина Александ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749b"/>
                </a:solidFill>
                <a:latin typeface="Calibri"/>
              </a:rPr>
              <a:t>педагог ГБОУ СО ЦПМСС « Эх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523880" y="4330440"/>
            <a:ext cx="914400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7052"/>
                </a:solidFill>
                <a:latin typeface="Calibri Light"/>
              </a:rPr>
              <a:t>ВСЕРОССИЙСКАЯ НАУЧНО-ПРАКТИЧЕСКАЯ КОНФЕРЕНЦИЯ</a:t>
            </a:r>
            <a:br>
              <a:rPr sz="1400"/>
            </a:b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7052"/>
                </a:solidFill>
                <a:latin typeface="Arial"/>
              </a:rPr>
              <a:t>«Социализация детей с интеллектуальными нарушениями в контексте модернизации системы образования: опыт проблемы, перспективы»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7052"/>
                </a:solidFill>
                <a:latin typeface="Calibri Light"/>
              </a:rPr>
              <a:t>26 МАРТА 2015 ГОД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08" name="Рисунок 5" descr="echo_logo_top_1175.png"/>
          <p:cNvPicPr/>
          <p:nvPr/>
        </p:nvPicPr>
        <p:blipFill>
          <a:blip r:embed="rId3"/>
          <a:stretch/>
        </p:blipFill>
        <p:spPr>
          <a:xfrm>
            <a:off x="2840040" y="185760"/>
            <a:ext cx="8394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4"/>
          <p:cNvSpPr/>
          <p:nvPr/>
        </p:nvSpPr>
        <p:spPr>
          <a:xfrm>
            <a:off x="1927080" y="21420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Рисунок 6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1265400" cy="130968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5" descr="КР.png"/>
          <p:cNvPicPr/>
          <p:nvPr/>
        </p:nvPicPr>
        <p:blipFill>
          <a:blip r:embed="rId2"/>
          <a:stretch/>
        </p:blipFill>
        <p:spPr>
          <a:xfrm>
            <a:off x="277920" y="1762200"/>
            <a:ext cx="6040440" cy="4551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&amp;Gcy;&amp;rcy;&amp;iecy;&amp;bcy;&amp;iecy;&amp;ncy;&amp;kcy;&amp;icy;&amp;ncy;&amp;acy; &amp;Icy;&amp;rcy;&amp;icy;&amp;ncy;&amp;acy;. &amp;Bcy;&amp;lcy;&amp;ocy;&amp;gcy; - &amp;Dcy;&amp;lcy;&amp;yacy; &amp;vcy;&amp;ocy;&amp;scy;&amp;pcy;&amp;icy;&amp;tcy;&amp;acy;&amp;tcy;&amp;iecy;&amp;lcy;&amp;iecy;&amp;jcy; &amp;dcy;&amp;iecy;&amp;tcy;&amp;scy;&amp;kcy;&amp;icy;&amp;khcy; &amp;scy;&amp;acy;&amp;dcy;&amp;ocy;&amp;vcy; - &amp;Mcy;&amp;acy;&amp;acy;&amp;acy;&amp;mcy;.&amp;rcy;&amp;ucy;"/>
          <p:cNvPicPr/>
          <p:nvPr/>
        </p:nvPicPr>
        <p:blipFill>
          <a:blip r:embed="rId3"/>
          <a:stretch/>
        </p:blipFill>
        <p:spPr>
          <a:xfrm>
            <a:off x="6545160" y="2251080"/>
            <a:ext cx="5276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4"/>
          <p:cNvSpPr/>
          <p:nvPr/>
        </p:nvSpPr>
        <p:spPr>
          <a:xfrm>
            <a:off x="3462480" y="1862280"/>
            <a:ext cx="50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4209"/>
                </a:solidFill>
                <a:latin typeface="Times New Roman"/>
                <a:ea typeface="Times New Roman"/>
              </a:rPr>
              <a:t>Дополнительная информ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Рисунок 6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1265400" cy="130968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7"/>
          <p:cNvSpPr/>
          <p:nvPr/>
        </p:nvSpPr>
        <p:spPr>
          <a:xfrm>
            <a:off x="1927080" y="21420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Рисунок 8" descr="но.png"/>
          <p:cNvPicPr/>
          <p:nvPr/>
        </p:nvPicPr>
        <p:blipFill>
          <a:blip r:embed="rId2"/>
          <a:stretch/>
        </p:blipFill>
        <p:spPr>
          <a:xfrm>
            <a:off x="173160" y="2549520"/>
            <a:ext cx="5533920" cy="302436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9" descr="но2.png"/>
          <p:cNvPicPr/>
          <p:nvPr/>
        </p:nvPicPr>
        <p:blipFill>
          <a:blip r:embed="rId3"/>
          <a:stretch/>
        </p:blipFill>
        <p:spPr>
          <a:xfrm>
            <a:off x="5964120" y="2533680"/>
            <a:ext cx="5718240" cy="310356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10"/>
          <p:cNvSpPr/>
          <p:nvPr/>
        </p:nvSpPr>
        <p:spPr>
          <a:xfrm>
            <a:off x="1108080" y="5791320"/>
            <a:ext cx="98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4209"/>
                </a:solidFill>
                <a:latin typeface="Times New Roman"/>
                <a:ea typeface="Times New Roman"/>
              </a:rPr>
              <a:t>Социальная сеть работников образования   </a:t>
            </a:r>
            <a:r>
              <a:rPr b="1" lang="en-US" sz="2800" spc="-1" strike="noStrike" u="sng">
                <a:solidFill>
                  <a:srgbClr val="2998e3"/>
                </a:solidFill>
                <a:uFillTx/>
                <a:latin typeface="Times New Roman"/>
                <a:ea typeface="Times New Roman"/>
                <a:hlinkClick r:id="rId4"/>
              </a:rPr>
              <a:t> </a:t>
            </a:r>
            <a:r>
              <a:rPr b="1" lang="ru-RU" sz="2800" spc="-1" strike="noStrike" u="sng">
                <a:solidFill>
                  <a:srgbClr val="2998e3"/>
                </a:solidFill>
                <a:uFillTx/>
                <a:latin typeface="Times New Roman"/>
                <a:ea typeface="Times New Roman"/>
                <a:hlinkClick r:id="rId5"/>
              </a:rPr>
              <a:t>  </a:t>
            </a:r>
            <a:r>
              <a:rPr b="1" lang="en-US" sz="2800" spc="-1" strike="noStrike" u="sng">
                <a:solidFill>
                  <a:srgbClr val="2998e3"/>
                </a:solidFill>
                <a:uFillTx/>
                <a:latin typeface="Times New Roman"/>
                <a:ea typeface="Times New Roman"/>
                <a:hlinkClick r:id="rId6"/>
              </a:rPr>
              <a:t>nsportal.ru</a:t>
            </a:r>
            <a:r>
              <a:rPr b="1" lang="ru-RU" sz="2800" spc="-1" strike="noStrike">
                <a:solidFill>
                  <a:srgbClr val="724209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4"/>
          <p:cNvSpPr/>
          <p:nvPr/>
        </p:nvSpPr>
        <p:spPr>
          <a:xfrm>
            <a:off x="1927080" y="21420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Рисунок 6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1265400" cy="1309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"/>
          <p:cNvPicPr/>
          <p:nvPr/>
        </p:nvPicPr>
        <p:blipFill>
          <a:blip r:embed="rId2"/>
          <a:stretch/>
        </p:blipFill>
        <p:spPr>
          <a:xfrm>
            <a:off x="569880" y="1920960"/>
            <a:ext cx="10933200" cy="434016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5"/>
          <p:cNvSpPr/>
          <p:nvPr/>
        </p:nvSpPr>
        <p:spPr>
          <a:xfrm>
            <a:off x="1081080" y="2038320"/>
            <a:ext cx="697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b620e"/>
                </a:solidFill>
                <a:latin typeface="Monotype Corsiva"/>
              </a:rPr>
              <a:t>Благодарю  за  вним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Рисунок 6" descr="C:\Documents and Settings\User\Рабочий стол\логотип центра\Копия ПЕРЕДЕЛАННЫЙ2.jpg"/>
          <p:cNvPicPr/>
          <p:nvPr/>
        </p:nvPicPr>
        <p:blipFill>
          <a:blip r:embed="rId3"/>
          <a:stretch/>
        </p:blipFill>
        <p:spPr>
          <a:xfrm>
            <a:off x="10134720" y="1789200"/>
            <a:ext cx="1765080" cy="12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06280" y="1941120"/>
            <a:ext cx="10612440" cy="10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Структура дефекта при </a:t>
            </a:r>
            <a:br>
              <a:rPr sz="2800"/>
            </a:br>
            <a:r>
              <a:rPr b="1" lang="ru-RU" sz="28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 тяжелых множественных нарушениях развития</a:t>
            </a: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0" name="Рисунок 6" descr=""/>
          <p:cNvPicPr/>
          <p:nvPr/>
        </p:nvPicPr>
        <p:blipFill>
          <a:blip r:embed="rId1"/>
          <a:stretch/>
        </p:blipFill>
        <p:spPr>
          <a:xfrm>
            <a:off x="281160" y="182520"/>
            <a:ext cx="126504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5"/>
          <p:cNvSpPr/>
          <p:nvPr/>
        </p:nvSpPr>
        <p:spPr>
          <a:xfrm>
            <a:off x="1927080" y="21420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Схема 7" descr=""/>
          <p:cNvPicPr/>
          <p:nvPr/>
        </p:nvPicPr>
        <p:blipFill>
          <a:blip r:embed="rId2"/>
          <a:stretch/>
        </p:blipFill>
        <p:spPr>
          <a:xfrm>
            <a:off x="3529080" y="2719440"/>
            <a:ext cx="591984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85480" y="1784520"/>
            <a:ext cx="1190628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Ранее существовавшая модель образования детей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4" name="Picture 6" descr="new_page612_01_215x142"/>
          <p:cNvPicPr/>
          <p:nvPr/>
        </p:nvPicPr>
        <p:blipFill>
          <a:blip r:embed="rId1"/>
          <a:stretch/>
        </p:blipFill>
        <p:spPr>
          <a:xfrm>
            <a:off x="2270160" y="2567160"/>
            <a:ext cx="2130480" cy="2511360"/>
          </a:xfrm>
          <a:prstGeom prst="rect">
            <a:avLst/>
          </a:prstGeom>
          <a:ln w="76320">
            <a:solidFill>
              <a:srgbClr val="b88800"/>
            </a:solidFill>
            <a:miter/>
          </a:ln>
        </p:spPr>
      </p:pic>
      <p:pic>
        <p:nvPicPr>
          <p:cNvPr id="315" name="Picture 7" descr="new_page612_02_215x142"/>
          <p:cNvPicPr/>
          <p:nvPr/>
        </p:nvPicPr>
        <p:blipFill>
          <a:blip r:embed="rId2"/>
          <a:stretch/>
        </p:blipFill>
        <p:spPr>
          <a:xfrm>
            <a:off x="5133960" y="2583000"/>
            <a:ext cx="2112840" cy="2454120"/>
          </a:xfrm>
          <a:prstGeom prst="rect">
            <a:avLst/>
          </a:prstGeom>
          <a:ln w="76320">
            <a:solidFill>
              <a:srgbClr val="b88800"/>
            </a:solidFill>
            <a:miter/>
          </a:ln>
        </p:spPr>
      </p:pic>
      <p:pic>
        <p:nvPicPr>
          <p:cNvPr id="316" name="Picture 9" descr="new_page612_04_215x142"/>
          <p:cNvPicPr/>
          <p:nvPr/>
        </p:nvPicPr>
        <p:blipFill>
          <a:blip r:embed="rId3"/>
          <a:stretch/>
        </p:blipFill>
        <p:spPr>
          <a:xfrm>
            <a:off x="7850160" y="2573280"/>
            <a:ext cx="2144880" cy="2527200"/>
          </a:xfrm>
          <a:prstGeom prst="rect">
            <a:avLst/>
          </a:prstGeom>
          <a:ln w="76320">
            <a:solidFill>
              <a:srgbClr val="b88800"/>
            </a:solidFill>
            <a:miter/>
          </a:ln>
        </p:spPr>
      </p:pic>
      <p:sp>
        <p:nvSpPr>
          <p:cNvPr id="317" name="AutoShape 48"/>
          <p:cNvSpPr/>
          <p:nvPr/>
        </p:nvSpPr>
        <p:spPr>
          <a:xfrm flipV="1">
            <a:off x="7962840" y="5387400"/>
            <a:ext cx="2148120" cy="655560"/>
          </a:xfrm>
          <a:prstGeom prst="wedgeRectCallout">
            <a:avLst>
              <a:gd name="adj1" fmla="val -39111"/>
              <a:gd name="adj2" fmla="val 78949"/>
            </a:avLst>
          </a:prstGeom>
          <a:solidFill>
            <a:srgbClr val="f3b56c"/>
          </a:solidFill>
          <a:ln w="9360">
            <a:solidFill>
              <a:srgbClr val="5f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Дети вне образов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48"/>
          <p:cNvSpPr/>
          <p:nvPr/>
        </p:nvSpPr>
        <p:spPr>
          <a:xfrm flipV="1">
            <a:off x="5079960" y="5370480"/>
            <a:ext cx="2222640" cy="673200"/>
          </a:xfrm>
          <a:prstGeom prst="wedgeRectCallout">
            <a:avLst>
              <a:gd name="adj1" fmla="val -39111"/>
              <a:gd name="adj2" fmla="val 78949"/>
            </a:avLst>
          </a:prstGeom>
          <a:solidFill>
            <a:srgbClr val="f3b56c"/>
          </a:solidFill>
          <a:ln w="9360">
            <a:solidFill>
              <a:srgbClr val="5f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Специальное образ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8"/>
          <p:cNvSpPr/>
          <p:nvPr/>
        </p:nvSpPr>
        <p:spPr>
          <a:xfrm flipV="1">
            <a:off x="2149560" y="5396760"/>
            <a:ext cx="2197080" cy="671400"/>
          </a:xfrm>
          <a:prstGeom prst="wedgeRectCallout">
            <a:avLst>
              <a:gd name="adj1" fmla="val -39111"/>
              <a:gd name="adj2" fmla="val 78949"/>
            </a:avLst>
          </a:prstGeom>
          <a:solidFill>
            <a:srgbClr val="f3b56c"/>
          </a:solidFill>
          <a:ln w="9360">
            <a:solidFill>
              <a:srgbClr val="5f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ще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Рисунок 6" descr=""/>
          <p:cNvPicPr/>
          <p:nvPr/>
        </p:nvPicPr>
        <p:blipFill>
          <a:blip r:embed="rId4"/>
          <a:stretch/>
        </p:blipFill>
        <p:spPr>
          <a:xfrm>
            <a:off x="210960" y="295200"/>
            <a:ext cx="1265400" cy="130968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9"/>
          <p:cNvSpPr/>
          <p:nvPr/>
        </p:nvSpPr>
        <p:spPr>
          <a:xfrm>
            <a:off x="1800360" y="284040"/>
            <a:ext cx="87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4"/>
          <p:cNvSpPr/>
          <p:nvPr/>
        </p:nvSpPr>
        <p:spPr>
          <a:xfrm>
            <a:off x="1927080" y="21420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Рисунок 6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1265400" cy="130968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51080" y="1579320"/>
            <a:ext cx="1035360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Современная модель структуры содержания образования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grpSp>
        <p:nvGrpSpPr>
          <p:cNvPr id="325" name="Group 35"/>
          <p:cNvGrpSpPr/>
          <p:nvPr/>
        </p:nvGrpSpPr>
        <p:grpSpPr>
          <a:xfrm>
            <a:off x="506520" y="2390400"/>
            <a:ext cx="11186640" cy="3865680"/>
            <a:chOff x="506520" y="2390400"/>
            <a:chExt cx="11186640" cy="3865680"/>
          </a:xfrm>
        </p:grpSpPr>
        <p:grpSp>
          <p:nvGrpSpPr>
            <p:cNvPr id="326" name="Group 36"/>
            <p:cNvGrpSpPr/>
            <p:nvPr/>
          </p:nvGrpSpPr>
          <p:grpSpPr>
            <a:xfrm>
              <a:off x="506520" y="2390400"/>
              <a:ext cx="11186640" cy="3865680"/>
              <a:chOff x="506520" y="2390400"/>
              <a:chExt cx="11186640" cy="3865680"/>
            </a:xfrm>
          </p:grpSpPr>
          <p:grpSp>
            <p:nvGrpSpPr>
              <p:cNvPr id="327" name="Group 37"/>
              <p:cNvGrpSpPr/>
              <p:nvPr/>
            </p:nvGrpSpPr>
            <p:grpSpPr>
              <a:xfrm>
                <a:off x="1294200" y="2390400"/>
                <a:ext cx="10398960" cy="3865680"/>
                <a:chOff x="1294200" y="2390400"/>
                <a:chExt cx="10398960" cy="3865680"/>
              </a:xfrm>
            </p:grpSpPr>
            <p:grpSp>
              <p:nvGrpSpPr>
                <p:cNvPr id="328" name="Group 38"/>
                <p:cNvGrpSpPr/>
                <p:nvPr/>
              </p:nvGrpSpPr>
              <p:grpSpPr>
                <a:xfrm>
                  <a:off x="4727520" y="2741760"/>
                  <a:ext cx="1713600" cy="1289880"/>
                  <a:chOff x="4727520" y="2741760"/>
                  <a:chExt cx="1713600" cy="1289880"/>
                </a:xfrm>
              </p:grpSpPr>
              <p:sp>
                <p:nvSpPr>
                  <p:cNvPr id="329" name="Oval 39"/>
                  <p:cNvSpPr/>
                  <p:nvPr/>
                </p:nvSpPr>
                <p:spPr>
                  <a:xfrm>
                    <a:off x="4727520" y="2741760"/>
                    <a:ext cx="1713600" cy="128988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0" name="Oval 40"/>
                  <p:cNvSpPr/>
                  <p:nvPr/>
                </p:nvSpPr>
                <p:spPr>
                  <a:xfrm>
                    <a:off x="4835520" y="2831760"/>
                    <a:ext cx="1501200" cy="1119960"/>
                  </a:xfrm>
                  <a:prstGeom prst="ellipse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1" name="Oval 41"/>
                  <p:cNvSpPr/>
                  <p:nvPr/>
                </p:nvSpPr>
                <p:spPr>
                  <a:xfrm>
                    <a:off x="5028120" y="2996280"/>
                    <a:ext cx="1086840" cy="81072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2" name="Oval 42"/>
                  <p:cNvSpPr/>
                  <p:nvPr/>
                </p:nvSpPr>
                <p:spPr>
                  <a:xfrm>
                    <a:off x="5156280" y="3084480"/>
                    <a:ext cx="861120" cy="62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3000" rIns="63000" tIns="31320" bIns="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33" name="Group 43"/>
                <p:cNvGrpSpPr/>
                <p:nvPr/>
              </p:nvGrpSpPr>
              <p:grpSpPr>
                <a:xfrm>
                  <a:off x="6646680" y="2734200"/>
                  <a:ext cx="1713600" cy="1289880"/>
                  <a:chOff x="6646680" y="2734200"/>
                  <a:chExt cx="1713600" cy="1289880"/>
                </a:xfrm>
              </p:grpSpPr>
              <p:sp>
                <p:nvSpPr>
                  <p:cNvPr id="334" name="Oval 44"/>
                  <p:cNvSpPr/>
                  <p:nvPr/>
                </p:nvSpPr>
                <p:spPr>
                  <a:xfrm>
                    <a:off x="6646680" y="2734200"/>
                    <a:ext cx="1713600" cy="128988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5" name="Oval 45"/>
                  <p:cNvSpPr/>
                  <p:nvPr/>
                </p:nvSpPr>
                <p:spPr>
                  <a:xfrm>
                    <a:off x="6771960" y="2845080"/>
                    <a:ext cx="1455840" cy="1083960"/>
                  </a:xfrm>
                  <a:prstGeom prst="ellipse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6" name="Oval 46"/>
                  <p:cNvSpPr/>
                  <p:nvPr/>
                </p:nvSpPr>
                <p:spPr>
                  <a:xfrm>
                    <a:off x="6850800" y="2921760"/>
                    <a:ext cx="1289520" cy="9363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7" name="Oval 47"/>
                  <p:cNvSpPr/>
                  <p:nvPr/>
                </p:nvSpPr>
                <p:spPr>
                  <a:xfrm>
                    <a:off x="7068240" y="3076560"/>
                    <a:ext cx="860400" cy="622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3000" rIns="63000" tIns="31320" bIns="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8" name="AutoShape 48"/>
                <p:cNvSpPr/>
                <p:nvPr/>
              </p:nvSpPr>
              <p:spPr>
                <a:xfrm flipV="1">
                  <a:off x="8342640" y="2402640"/>
                  <a:ext cx="3321360" cy="690480"/>
                </a:xfrm>
                <a:prstGeom prst="wedgeRectCallout">
                  <a:avLst>
                    <a:gd name="adj1" fmla="val -55203"/>
                    <a:gd name="adj2" fmla="val -94787"/>
                  </a:avLst>
                </a:prstGeom>
                <a:solidFill>
                  <a:srgbClr val="f7ce9d"/>
                </a:solidFill>
                <a:ln w="9360">
                  <a:solidFill>
                    <a:srgbClr val="ab620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000" rIns="63000" tIns="31680" bIns="3168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 u="sng">
                      <a:solidFill>
                        <a:srgbClr val="5f2c16"/>
                      </a:solidFill>
                      <a:uFillTx/>
                      <a:latin typeface="Calibri"/>
                      <a:ea typeface="Times New Roman"/>
                    </a:rPr>
                    <a:t>Вариант  2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5f2c16"/>
                      </a:solidFill>
                      <a:latin typeface="Calibri"/>
                      <a:ea typeface="Times New Roman"/>
                    </a:rPr>
                    <a:t>Цензовый уровень  образования 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9" name="AutoShape 49"/>
                <p:cNvSpPr/>
                <p:nvPr/>
              </p:nvSpPr>
              <p:spPr>
                <a:xfrm flipV="1">
                  <a:off x="1294200" y="2389680"/>
                  <a:ext cx="3438000" cy="674280"/>
                </a:xfrm>
                <a:prstGeom prst="wedgeRectCallout">
                  <a:avLst>
                    <a:gd name="adj1" fmla="val 68675"/>
                    <a:gd name="adj2" fmla="val -17750"/>
                  </a:avLst>
                </a:prstGeom>
                <a:solidFill>
                  <a:srgbClr val="f7ce9d"/>
                </a:solidFill>
                <a:ln w="9360">
                  <a:solidFill>
                    <a:srgbClr val="8e42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000" rIns="63000" tIns="31680" bIns="3168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 u="sng">
                      <a:solidFill>
                        <a:srgbClr val="5f2c16"/>
                      </a:solidFill>
                      <a:uFillTx/>
                      <a:latin typeface="Calibri"/>
                      <a:ea typeface="Times New Roman"/>
                    </a:rPr>
                    <a:t>Вариант  1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5f2c16"/>
                      </a:solidFill>
                      <a:latin typeface="Calibri"/>
                      <a:ea typeface="Times New Roman"/>
                    </a:rPr>
                    <a:t>Цензовый уровень  образования</a:t>
                  </a:r>
                  <a:r>
                    <a:rPr b="1" lang="ru-RU" sz="1600" spc="-1" strike="noStrike">
                      <a:solidFill>
                        <a:srgbClr val="ffffff"/>
                      </a:solidFill>
                      <a:latin typeface="Calibri"/>
                      <a:ea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40" name="Group 50"/>
                <p:cNvGrpSpPr/>
                <p:nvPr/>
              </p:nvGrpSpPr>
              <p:grpSpPr>
                <a:xfrm>
                  <a:off x="4834800" y="4419720"/>
                  <a:ext cx="1713600" cy="1289880"/>
                  <a:chOff x="4834800" y="4419720"/>
                  <a:chExt cx="1713600" cy="1289880"/>
                </a:xfrm>
              </p:grpSpPr>
              <p:sp>
                <p:nvSpPr>
                  <p:cNvPr id="341" name="Oval 51"/>
                  <p:cNvSpPr/>
                  <p:nvPr/>
                </p:nvSpPr>
                <p:spPr>
                  <a:xfrm>
                    <a:off x="4834800" y="4419720"/>
                    <a:ext cx="1713600" cy="128988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2" name="Oval 52"/>
                  <p:cNvSpPr/>
                  <p:nvPr/>
                </p:nvSpPr>
                <p:spPr>
                  <a:xfrm>
                    <a:off x="4997880" y="4568400"/>
                    <a:ext cx="1374480" cy="1023480"/>
                  </a:xfrm>
                  <a:prstGeom prst="ellipse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3" name="Oval 53"/>
                  <p:cNvSpPr/>
                  <p:nvPr/>
                </p:nvSpPr>
                <p:spPr>
                  <a:xfrm>
                    <a:off x="5080320" y="4626360"/>
                    <a:ext cx="1204560" cy="9093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4" name="Oval 54"/>
                  <p:cNvSpPr/>
                  <p:nvPr/>
                </p:nvSpPr>
                <p:spPr>
                  <a:xfrm>
                    <a:off x="5379120" y="4859640"/>
                    <a:ext cx="586800" cy="44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3000" rIns="63000" tIns="31320" bIns="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45" name="AutoShape 55"/>
                <p:cNvSpPr/>
                <p:nvPr/>
              </p:nvSpPr>
              <p:spPr>
                <a:xfrm flipV="1">
                  <a:off x="1406160" y="5627520"/>
                  <a:ext cx="3649320" cy="601200"/>
                </a:xfrm>
                <a:prstGeom prst="wedgeRectCallout">
                  <a:avLst>
                    <a:gd name="adj1" fmla="val 65685"/>
                    <a:gd name="adj2" fmla="val 54953"/>
                  </a:avLst>
                </a:prstGeom>
                <a:solidFill>
                  <a:srgbClr val="f7ce9d"/>
                </a:solidFill>
                <a:ln w="9360">
                  <a:solidFill>
                    <a:srgbClr val="8e42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000" rIns="63000" tIns="31680" bIns="3168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 u="sng">
                      <a:solidFill>
                        <a:srgbClr val="5f2c16"/>
                      </a:solidFill>
                      <a:uFillTx/>
                      <a:latin typeface="Calibri"/>
                      <a:ea typeface="Times New Roman"/>
                    </a:rPr>
                    <a:t>Вариант  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5f2c16"/>
                      </a:solidFill>
                      <a:latin typeface="Calibri"/>
                      <a:ea typeface="Times New Roman"/>
                    </a:rPr>
                    <a:t>Образование ниже цензового уровня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46" name="Group 56"/>
                <p:cNvGrpSpPr/>
                <p:nvPr/>
              </p:nvGrpSpPr>
              <p:grpSpPr>
                <a:xfrm>
                  <a:off x="6709320" y="4419720"/>
                  <a:ext cx="1713240" cy="1289880"/>
                  <a:chOff x="6709320" y="4419720"/>
                  <a:chExt cx="1713240" cy="1289880"/>
                </a:xfrm>
              </p:grpSpPr>
              <p:sp>
                <p:nvSpPr>
                  <p:cNvPr id="347" name="Oval 57"/>
                  <p:cNvSpPr/>
                  <p:nvPr/>
                </p:nvSpPr>
                <p:spPr>
                  <a:xfrm>
                    <a:off x="6709320" y="4419720"/>
                    <a:ext cx="1713240" cy="128988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5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8" name="Oval 58"/>
                  <p:cNvSpPr/>
                  <p:nvPr/>
                </p:nvSpPr>
                <p:spPr>
                  <a:xfrm>
                    <a:off x="6998400" y="4683240"/>
                    <a:ext cx="1083960" cy="804960"/>
                  </a:xfrm>
                  <a:prstGeom prst="ellipse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9" name="Oval 59"/>
                  <p:cNvSpPr/>
                  <p:nvPr/>
                </p:nvSpPr>
                <p:spPr>
                  <a:xfrm>
                    <a:off x="7153200" y="4810320"/>
                    <a:ext cx="774720" cy="550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514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50" name="AutoShape 60"/>
                <p:cNvSpPr/>
                <p:nvPr/>
              </p:nvSpPr>
              <p:spPr>
                <a:xfrm flipV="1">
                  <a:off x="7981200" y="5553360"/>
                  <a:ext cx="3711960" cy="702720"/>
                </a:xfrm>
                <a:prstGeom prst="wedgeRectCallout">
                  <a:avLst>
                    <a:gd name="adj1" fmla="val -38050"/>
                    <a:gd name="adj2" fmla="val 84791"/>
                  </a:avLst>
                </a:prstGeom>
                <a:solidFill>
                  <a:srgbClr val="f7ce9d"/>
                </a:solidFill>
                <a:ln w="9360">
                  <a:solidFill>
                    <a:srgbClr val="8e42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3000" rIns="63000" tIns="31680" bIns="3168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5f2c16"/>
                      </a:solidFill>
                      <a:latin typeface="Calibri"/>
                      <a:ea typeface="Times New Roman"/>
                    </a:rPr>
                    <a:t> </a:t>
                  </a:r>
                  <a:r>
                    <a:rPr b="1" lang="ru-RU" sz="1400" spc="-1" strike="noStrike" u="sng">
                      <a:solidFill>
                        <a:srgbClr val="5f2c16"/>
                      </a:solidFill>
                      <a:uFillTx/>
                      <a:latin typeface="Calibri"/>
                      <a:ea typeface="Times New Roman"/>
                    </a:rPr>
                    <a:t>Вариант  4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5f2c16"/>
                      </a:solidFill>
                      <a:latin typeface="Calibri"/>
                      <a:ea typeface="Times New Roman"/>
                    </a:rPr>
                    <a:t>Социальные навыки и элементы общего образования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51" name="AutoShape 61"/>
              <p:cNvSpPr/>
              <p:nvPr/>
            </p:nvSpPr>
            <p:spPr>
              <a:xfrm>
                <a:off x="520920" y="3847680"/>
                <a:ext cx="4149720" cy="403200"/>
              </a:xfrm>
              <a:prstGeom prst="borderCallout1">
                <a:avLst>
                  <a:gd name="adj1" fmla="val 18750"/>
                  <a:gd name="adj2" fmla="val -8333"/>
                  <a:gd name="adj3" fmla="val -32810"/>
                  <a:gd name="adj4" fmla="val 117250"/>
                </a:avLst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724209"/>
                    </a:solidFill>
                    <a:latin typeface="Calibri"/>
                  </a:rPr>
                  <a:t>Коррекционная работ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AutoShape 62"/>
              <p:cNvSpPr/>
              <p:nvPr/>
            </p:nvSpPr>
            <p:spPr>
              <a:xfrm>
                <a:off x="506520" y="3368520"/>
                <a:ext cx="4103280" cy="387000"/>
              </a:xfrm>
              <a:prstGeom prst="borderCallout1">
                <a:avLst>
                  <a:gd name="adj1" fmla="val 18750"/>
                  <a:gd name="adj2" fmla="val -8333"/>
                  <a:gd name="adj3" fmla="val 22523"/>
                  <a:gd name="adj4" fmla="val 125499"/>
                </a:avLst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5f2c16"/>
                    </a:solidFill>
                    <a:latin typeface="Calibri"/>
                  </a:rPr>
                  <a:t>Фундаментальное ядро образования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AutoShape 63"/>
              <p:cNvSpPr/>
              <p:nvPr/>
            </p:nvSpPr>
            <p:spPr>
              <a:xfrm>
                <a:off x="576360" y="4782960"/>
                <a:ext cx="4074840" cy="393480"/>
              </a:xfrm>
              <a:prstGeom prst="borderCallout1">
                <a:avLst>
                  <a:gd name="adj1" fmla="val 18750"/>
                  <a:gd name="adj2" fmla="val -8333"/>
                  <a:gd name="adj3" fmla="val -217560"/>
                  <a:gd name="adj4" fmla="val 133375"/>
                </a:avLst>
              </a:prstGeom>
              <a:solidFill>
                <a:srgbClr val="ff7c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5f2c16"/>
                    </a:solidFill>
                    <a:latin typeface="Calibri"/>
                  </a:rPr>
                  <a:t>Социально-адаптационная работ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AutoShape 64"/>
              <p:cNvSpPr/>
              <p:nvPr/>
            </p:nvSpPr>
            <p:spPr>
              <a:xfrm>
                <a:off x="520920" y="4298760"/>
                <a:ext cx="4134960" cy="385560"/>
              </a:xfrm>
              <a:prstGeom prst="borderCallout1">
                <a:avLst>
                  <a:gd name="adj1" fmla="val 18750"/>
                  <a:gd name="adj2" fmla="val -8333"/>
                  <a:gd name="adj3" fmla="val 11828"/>
                  <a:gd name="adj4" fmla="val 94324"/>
                </a:avLst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5f2c16"/>
                    </a:solidFill>
                    <a:latin typeface="Calibri"/>
                  </a:rPr>
                  <a:t>Образовательно-воспитательная работ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5" name="Oval 65"/>
            <p:cNvSpPr/>
            <p:nvPr/>
          </p:nvSpPr>
          <p:spPr>
            <a:xfrm>
              <a:off x="7373880" y="4945320"/>
              <a:ext cx="346320" cy="2505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4"/>
          <p:cNvSpPr/>
          <p:nvPr/>
        </p:nvSpPr>
        <p:spPr>
          <a:xfrm>
            <a:off x="1927080" y="21420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Рисунок 6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1265400" cy="1309680"/>
          </a:xfrm>
          <a:prstGeom prst="rect">
            <a:avLst/>
          </a:prstGeom>
          <a:ln w="0">
            <a:noFill/>
          </a:ln>
        </p:spPr>
      </p:pic>
      <p:pic>
        <p:nvPicPr>
          <p:cNvPr id="358" name="Схема 8" descr=""/>
          <p:cNvPicPr/>
          <p:nvPr/>
        </p:nvPicPr>
        <p:blipFill>
          <a:blip r:embed="rId2"/>
          <a:stretch/>
        </p:blipFill>
        <p:spPr>
          <a:xfrm>
            <a:off x="371520" y="2955960"/>
            <a:ext cx="11187000" cy="334800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10"/>
          <p:cNvSpPr/>
          <p:nvPr/>
        </p:nvSpPr>
        <p:spPr>
          <a:xfrm>
            <a:off x="168120" y="1879560"/>
            <a:ext cx="120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Затруднения возникающие при  совместной деятельности педагога и ребёнка с тяжелыми множественными нарушениями 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4"/>
          <p:cNvSpPr/>
          <p:nvPr/>
        </p:nvSpPr>
        <p:spPr>
          <a:xfrm>
            <a:off x="1927080" y="21420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Рисунок 6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1265400" cy="1309680"/>
          </a:xfrm>
          <a:prstGeom prst="rect">
            <a:avLst/>
          </a:prstGeom>
          <a:ln w="0">
            <a:noFill/>
          </a:ln>
        </p:spPr>
      </p:pic>
      <p:pic>
        <p:nvPicPr>
          <p:cNvPr id="362" name="Схема 5" descr=""/>
          <p:cNvPicPr/>
          <p:nvPr/>
        </p:nvPicPr>
        <p:blipFill>
          <a:blip r:embed="rId2"/>
          <a:stretch/>
        </p:blipFill>
        <p:spPr>
          <a:xfrm>
            <a:off x="231840" y="1779480"/>
            <a:ext cx="11636280" cy="4524480"/>
          </a:xfrm>
          <a:prstGeom prst="rect">
            <a:avLst/>
          </a:prstGeom>
          <a:ln w="0">
            <a:noFill/>
          </a:ln>
        </p:spPr>
      </p:pic>
      <p:pic>
        <p:nvPicPr>
          <p:cNvPr id="363" name="Содержимое 3" descr=""/>
          <p:cNvPicPr/>
          <p:nvPr/>
        </p:nvPicPr>
        <p:blipFill>
          <a:blip r:embed="rId3"/>
          <a:stretch/>
        </p:blipFill>
        <p:spPr>
          <a:xfrm>
            <a:off x="-6480" y="2114640"/>
            <a:ext cx="10193400" cy="488952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7" descr="ЗВУК. АППАРАТУРА.jpg"/>
          <p:cNvPicPr/>
          <p:nvPr/>
        </p:nvPicPr>
        <p:blipFill>
          <a:blip r:embed="rId4"/>
          <a:stretch/>
        </p:blipFill>
        <p:spPr>
          <a:xfrm>
            <a:off x="9585360" y="3903840"/>
            <a:ext cx="2284200" cy="110484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8" descr="СЕНСОРНАЯ КОМНАТА.jpg"/>
          <p:cNvPicPr/>
          <p:nvPr/>
        </p:nvPicPr>
        <p:blipFill>
          <a:blip r:embed="rId5"/>
          <a:stretch/>
        </p:blipFill>
        <p:spPr>
          <a:xfrm>
            <a:off x="9890280" y="5208480"/>
            <a:ext cx="1825560" cy="9669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25000" y="1950840"/>
            <a:ext cx="1035396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Метод сенсорной интеграции</a:t>
            </a:r>
            <a:br>
              <a:rPr sz="2800"/>
            </a:br>
            <a:r>
              <a:rPr b="1" lang="ru-RU" sz="1600" spc="-1" strike="noStrike">
                <a:solidFill>
                  <a:srgbClr val="5f2c16"/>
                </a:solidFill>
                <a:latin typeface="Times New Roman"/>
                <a:ea typeface="Times New Roman"/>
              </a:rPr>
              <a:t> (</a:t>
            </a: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аботан американским трудотерапевтом Джин Айрес (</a:t>
            </a:r>
            <a:r>
              <a:rPr b="1" lang="en-US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Jean Ayres</a:t>
            </a: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1923—1988)) 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67" name="Picture 5" descr="&amp;Mcy;&amp;ocy;&amp;zhcy;&amp;ncy;&amp;ocy; &amp;lcy;&amp;icy; &amp;icy;&amp;khcy; &amp;ncy;&amp;acy;&amp;zcy;&amp;ycy;&amp;vcy;&amp;acy;&amp;tcy;&amp;softcy; &amp;dcy;&amp;iecy;&amp;tcy;&amp;softcy;&amp;mcy;&amp;icy;-&amp;icy;&amp;ncy;&amp;dcy;&amp;icy;&amp;gcy;&amp;ocy;. - &amp;Pcy;&amp;ocy;&amp;gcy;&amp;ocy;&amp;vcy;&amp;ocy;&amp;rcy;&amp;icy;&amp;mcy; &amp;ocy;&amp;bcy; &amp;ocy;&amp;scy;&amp;ocy;&amp;bcy;&amp;iecy;&amp;ncy;&amp;ncy;&amp;ycy;&amp;khcy; &amp;dcy;&amp;iecy;&amp;tcy;&amp;yacy;&amp;khcy;, &amp;kcy;&amp;ocy;&amp;tcy;&amp;ocy;&amp;rcy;&amp;ycy;&amp;khcy; &amp;ncy;&amp;iecy;&amp;mcy;&amp;acy;&amp;lcy;&amp;ocy; &amp;ncy;&amp;acy; &amp;ncy;&amp;acy;&amp;shcy;&amp;iecy;&amp;jcy; &amp;pcy;&amp;lcy;&amp;acy;&amp;ncy;&amp;iecy;&amp;tcy;&amp;iecy; - &amp;Fcy;&amp;ocy;&amp;rcy;&amp;ucy;&amp;mcy;-&amp;Gcy;&amp;rcy;&amp;acy;&amp;dcy;"/>
          <p:cNvPicPr/>
          <p:nvPr/>
        </p:nvPicPr>
        <p:blipFill>
          <a:blip r:embed="rId6"/>
          <a:stretch/>
        </p:blipFill>
        <p:spPr>
          <a:xfrm>
            <a:off x="9872640" y="2647800"/>
            <a:ext cx="20019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4"/>
          <p:cNvSpPr/>
          <p:nvPr/>
        </p:nvSpPr>
        <p:spPr>
          <a:xfrm>
            <a:off x="1927080" y="21420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Рисунок 6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1265400" cy="1309680"/>
          </a:xfrm>
          <a:prstGeom prst="rect">
            <a:avLst/>
          </a:prstGeom>
          <a:ln w="0">
            <a:noFill/>
          </a:ln>
        </p:spPr>
      </p:pic>
      <p:pic>
        <p:nvPicPr>
          <p:cNvPr id="370" name="Содержимое 3" descr=""/>
          <p:cNvPicPr/>
          <p:nvPr/>
        </p:nvPicPr>
        <p:blipFill>
          <a:blip r:embed="rId2"/>
          <a:stretch/>
        </p:blipFill>
        <p:spPr>
          <a:xfrm>
            <a:off x="401760" y="2614680"/>
            <a:ext cx="10418760" cy="4475160"/>
          </a:xfrm>
          <a:prstGeom prst="rect">
            <a:avLst/>
          </a:prstGeom>
          <a:ln w="0">
            <a:noFill/>
          </a:ln>
        </p:spPr>
      </p:pic>
      <p:pic>
        <p:nvPicPr>
          <p:cNvPr id="371" name="Схема 5" descr=""/>
          <p:cNvPicPr/>
          <p:nvPr/>
        </p:nvPicPr>
        <p:blipFill>
          <a:blip r:embed="rId3"/>
          <a:stretch/>
        </p:blipFill>
        <p:spPr>
          <a:xfrm>
            <a:off x="9564840" y="2876400"/>
            <a:ext cx="2315880" cy="35179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6" descr="шнуровка.jpg"/>
          <p:cNvPicPr/>
          <p:nvPr/>
        </p:nvPicPr>
        <p:blipFill>
          <a:blip r:embed="rId4"/>
          <a:stretch/>
        </p:blipFill>
        <p:spPr>
          <a:xfrm>
            <a:off x="9655200" y="2894040"/>
            <a:ext cx="1874880" cy="9619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7" descr="шнуровки2.jpg"/>
          <p:cNvPicPr/>
          <p:nvPr/>
        </p:nvPicPr>
        <p:blipFill>
          <a:blip r:embed="rId5"/>
          <a:stretch/>
        </p:blipFill>
        <p:spPr>
          <a:xfrm>
            <a:off x="9885240" y="4156200"/>
            <a:ext cx="1905120" cy="96516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8" descr="шнуровки3.jpg"/>
          <p:cNvPicPr/>
          <p:nvPr/>
        </p:nvPicPr>
        <p:blipFill>
          <a:blip r:embed="rId6"/>
          <a:stretch/>
        </p:blipFill>
        <p:spPr>
          <a:xfrm>
            <a:off x="9833040" y="5456160"/>
            <a:ext cx="2041560" cy="89208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9"/>
          <p:cNvSpPr/>
          <p:nvPr/>
        </p:nvSpPr>
        <p:spPr>
          <a:xfrm>
            <a:off x="941400" y="1766880"/>
            <a:ext cx="9501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4209"/>
                </a:solidFill>
                <a:latin typeface="Times New Roman"/>
                <a:ea typeface="Times New Roman"/>
              </a:rPr>
              <a:t>Метод эрготерапии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ergon» - труд, занятие, « therapia»– лече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4"/>
          <p:cNvSpPr/>
          <p:nvPr/>
        </p:nvSpPr>
        <p:spPr>
          <a:xfrm>
            <a:off x="1927080" y="21420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Рисунок 6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1265400" cy="1309680"/>
          </a:xfrm>
          <a:prstGeom prst="rect">
            <a:avLst/>
          </a:prstGeom>
          <a:ln w="0">
            <a:noFill/>
          </a:ln>
        </p:spPr>
      </p:pic>
      <p:pic>
        <p:nvPicPr>
          <p:cNvPr id="378" name="Содержимое 3" descr=""/>
          <p:cNvPicPr/>
          <p:nvPr/>
        </p:nvPicPr>
        <p:blipFill>
          <a:blip r:embed="rId2"/>
          <a:stretch/>
        </p:blipFill>
        <p:spPr>
          <a:xfrm>
            <a:off x="426960" y="2779560"/>
            <a:ext cx="11320560" cy="408492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5" descr="рисунок1.jpg"/>
          <p:cNvPicPr/>
          <p:nvPr/>
        </p:nvPicPr>
        <p:blipFill>
          <a:blip r:embed="rId3"/>
          <a:stretch/>
        </p:blipFill>
        <p:spPr>
          <a:xfrm>
            <a:off x="404640" y="2536920"/>
            <a:ext cx="2908440" cy="169056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6" descr="рисунок4.jpg"/>
          <p:cNvPicPr/>
          <p:nvPr/>
        </p:nvPicPr>
        <p:blipFill>
          <a:blip r:embed="rId4"/>
          <a:stretch/>
        </p:blipFill>
        <p:spPr>
          <a:xfrm>
            <a:off x="4200480" y="2476440"/>
            <a:ext cx="3075120" cy="17636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7" descr="рисует сам2.jpg"/>
          <p:cNvPicPr/>
          <p:nvPr/>
        </p:nvPicPr>
        <p:blipFill>
          <a:blip r:embed="rId5"/>
          <a:stretch/>
        </p:blipFill>
        <p:spPr>
          <a:xfrm>
            <a:off x="8188200" y="2451240"/>
            <a:ext cx="3426120" cy="1714320"/>
          </a:xfrm>
          <a:prstGeom prst="rect">
            <a:avLst/>
          </a:prstGeom>
          <a:ln w="0">
            <a:noFill/>
          </a:ln>
        </p:spPr>
      </p:pic>
      <p:pic>
        <p:nvPicPr>
          <p:cNvPr id="382" name="Группа 8" descr=""/>
          <p:cNvPicPr/>
          <p:nvPr/>
        </p:nvPicPr>
        <p:blipFill>
          <a:blip r:embed="rId6"/>
          <a:stretch/>
        </p:blipFill>
        <p:spPr>
          <a:xfrm>
            <a:off x="3267000" y="4900680"/>
            <a:ext cx="1049400" cy="579240"/>
          </a:xfrm>
          <a:prstGeom prst="rect">
            <a:avLst/>
          </a:prstGeom>
          <a:ln w="0">
            <a:noFill/>
          </a:ln>
        </p:spPr>
      </p:pic>
      <p:pic>
        <p:nvPicPr>
          <p:cNvPr id="383" name="Группа 11" descr=""/>
          <p:cNvPicPr/>
          <p:nvPr/>
        </p:nvPicPr>
        <p:blipFill>
          <a:blip r:embed="rId7"/>
          <a:stretch/>
        </p:blipFill>
        <p:spPr>
          <a:xfrm>
            <a:off x="7175520" y="4821120"/>
            <a:ext cx="1047600" cy="57960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4"/>
          <p:cNvSpPr/>
          <p:nvPr/>
        </p:nvSpPr>
        <p:spPr>
          <a:xfrm>
            <a:off x="2533680" y="1825560"/>
            <a:ext cx="69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совместно-разделённых дейст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4"/>
          <p:cNvSpPr/>
          <p:nvPr/>
        </p:nvSpPr>
        <p:spPr>
          <a:xfrm>
            <a:off x="1927080" y="21420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сероссийская научно-практическая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«Социализация детей с интеллектуальными нарушениями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в контексте модернизации системы образования: опыт, проблемы, перспективы»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26 марта 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Рисунок 6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1265400" cy="130968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6" descr="ар.png"/>
          <p:cNvPicPr/>
          <p:nvPr/>
        </p:nvPicPr>
        <p:blipFill>
          <a:blip r:embed="rId2"/>
          <a:stretch/>
        </p:blipFill>
        <p:spPr>
          <a:xfrm>
            <a:off x="243000" y="1801800"/>
            <a:ext cx="5986440" cy="4413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Documents and Settings\Админ\Мои документы\Downloads\сканирование0015.jpg"/>
          <p:cNvPicPr/>
          <p:nvPr/>
        </p:nvPicPr>
        <p:blipFill>
          <a:blip r:embed="rId3"/>
          <a:stretch/>
        </p:blipFill>
        <p:spPr>
          <a:xfrm>
            <a:off x="6321600" y="1741320"/>
            <a:ext cx="1820520" cy="21085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4"/>
          <a:stretch/>
        </p:blipFill>
        <p:spPr>
          <a:xfrm>
            <a:off x="8451720" y="1833480"/>
            <a:ext cx="3503880" cy="186372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10"/>
          <p:cNvSpPr/>
          <p:nvPr/>
        </p:nvSpPr>
        <p:spPr>
          <a:xfrm>
            <a:off x="6373800" y="3816360"/>
            <a:ext cx="1749600" cy="264960"/>
          </a:xfrm>
          <a:prstGeom prst="rect">
            <a:avLst/>
          </a:prstGeom>
          <a:solidFill>
            <a:srgbClr val="f7ce9d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4209"/>
                </a:solidFill>
                <a:latin typeface="Calibri"/>
              </a:rPr>
              <a:t>Пикт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Прямоугольник 11"/>
          <p:cNvSpPr/>
          <p:nvPr/>
        </p:nvSpPr>
        <p:spPr>
          <a:xfrm>
            <a:off x="6361200" y="5738760"/>
            <a:ext cx="2081160" cy="530280"/>
          </a:xfrm>
          <a:prstGeom prst="rect">
            <a:avLst/>
          </a:prstGeom>
          <a:solidFill>
            <a:srgbClr val="f7ce9d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4209"/>
                </a:solidFill>
                <a:latin typeface="Calibri"/>
              </a:rPr>
              <a:t>Карточки с картин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Прямоугольник 12"/>
          <p:cNvSpPr/>
          <p:nvPr/>
        </p:nvSpPr>
        <p:spPr>
          <a:xfrm>
            <a:off x="8488440" y="3822840"/>
            <a:ext cx="3386160" cy="285480"/>
          </a:xfrm>
          <a:prstGeom prst="rect">
            <a:avLst/>
          </a:prstGeom>
          <a:solidFill>
            <a:srgbClr val="f7ce9d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4209"/>
                </a:solidFill>
                <a:latin typeface="Calibri"/>
              </a:rPr>
              <a:t>Дактильная реч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7" descr="&amp;Ocy;&amp;vcy;&amp;ocy;&amp;shchcy;&amp;ncy;&amp;ocy;&amp;iecy; &amp;lcy;&amp;ocy;&amp;tcy;&amp;ocy;"/>
          <p:cNvPicPr/>
          <p:nvPr/>
        </p:nvPicPr>
        <p:blipFill>
          <a:blip r:embed="rId5"/>
          <a:stretch/>
        </p:blipFill>
        <p:spPr>
          <a:xfrm>
            <a:off x="6310440" y="4183200"/>
            <a:ext cx="2116080" cy="15015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&amp;Tcy;&amp;iecy;&amp;mcy;&amp;acy; &amp;Ncy;&amp;iecy;&amp;vcy;&amp;iecy;&amp;rcy;&amp;bcy;&amp;acy;&amp;lcy;&amp;softcy;&amp;ncy;&amp;ycy;&amp;iecy; &amp;scy;&amp;rcy;&amp;iecy;&amp;dcy;&amp;scy;&amp;tcy;&amp;vcy;&amp;acy; &amp;ocy;&amp;bcy;&amp;shchcy;&amp;iecy;&amp;ncy;&amp;icy;&amp;yacy;"/>
          <p:cNvPicPr/>
          <p:nvPr/>
        </p:nvPicPr>
        <p:blipFill>
          <a:blip r:embed="rId6"/>
          <a:stretch/>
        </p:blipFill>
        <p:spPr>
          <a:xfrm>
            <a:off x="8561520" y="4280040"/>
            <a:ext cx="3433680" cy="152388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15"/>
          <p:cNvSpPr/>
          <p:nvPr/>
        </p:nvSpPr>
        <p:spPr>
          <a:xfrm>
            <a:off x="8561520" y="5937120"/>
            <a:ext cx="3386160" cy="284400"/>
          </a:xfrm>
          <a:prstGeom prst="rect">
            <a:avLst/>
          </a:prstGeom>
          <a:solidFill>
            <a:srgbClr val="f7ce9d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4209"/>
                </a:solidFill>
                <a:latin typeface="Calibri"/>
              </a:rPr>
              <a:t>Жестовая реч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09:41:38Z</dcterms:created>
  <dc:creator>Соловьева Светлана Викторовна</dc:creator>
  <dc:description/>
  <dc:language>en-US</dc:language>
  <cp:lastModifiedBy>Адм</cp:lastModifiedBy>
  <dcterms:modified xsi:type="dcterms:W3CDTF">2015-10-16T08:28:10Z</dcterms:modified>
  <cp:revision>63</cp:revision>
  <dc:subject/>
  <dc:title>«Социализация детей с интеллектуальными нарушениями в контексте модернизации системы образования: опыт, проблемы, перспективы»</dc:title>
</cp:coreProperties>
</file>