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7.jpeg" ContentType="image/jpeg"/>
  <Override PartName="/ppt/media/image1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572-4860-45D9-A9A0-709D84BF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D4D5-45E5-4025-8964-5424CBFD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107D-9AAB-4A60-B99A-6E4E7291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5401-52AE-4E21-B671-B53148DB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6E1E-3257-482D-9C48-3687273F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F459-E45E-4C4F-AFE4-D1730395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FC2-EB13-4635-B80A-43D48A6A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17D-2701-4883-9DC2-C8BAEA91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DAEA-D9BA-46A7-8650-B8F71260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3A93-D4BF-430F-A217-46759630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ABB4-7994-4F9F-97E3-9A558A73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654-3AB6-4ADA-B534-54EB70E6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F693-9F2A-463B-B2BA-7C0047C965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omic Sans MS"/>
              </a:rPr>
              <a:t>Рисуем вместе с </a:t>
            </a: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Pa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32360" y="4868640"/>
            <a:ext cx="4038480" cy="15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шк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ерия Роман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ОУ №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А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DSC02019"/>
          <p:cNvPicPr/>
          <p:nvPr/>
        </p:nvPicPr>
        <p:blipFill>
          <a:blip r:embed="rId2"/>
          <a:stretch/>
        </p:blipFill>
        <p:spPr>
          <a:xfrm>
            <a:off x="468360" y="33577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85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85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85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85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85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85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стровые изоб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ровое изображение создается с использованием точек различного цвета (пикселей), которые образуют строки и столбцы. Совокупность точечных строк образует графическую сетку или рас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ждый пиксель может принимать любой цвет из палитры, содержащей десятки тысяч или даже десятки миллионов цветов, поэтому растровые изображения обеспечивают высокую точность передачи цветов и полут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растровая1"/>
          <p:cNvPicPr/>
          <p:nvPr/>
        </p:nvPicPr>
        <p:blipFill>
          <a:blip r:embed="rId2"/>
          <a:stretch/>
        </p:blipFill>
        <p:spPr>
          <a:xfrm>
            <a:off x="7093080" y="501336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екторные изоб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кторные графические изображения используются для хранения высокоточных графических объектов (чертежей, схем), для которых имеет значение сохранение четких и ярких конту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кторные изображения формируются из элементов – точка, линия, окружность, прямоугольник и др. Для каждого элемента задаются координаты, а также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векторная"/>
          <p:cNvPicPr/>
          <p:nvPr/>
        </p:nvPicPr>
        <p:blipFill>
          <a:blip r:embed="rId2"/>
          <a:stretch/>
        </p:blipFill>
        <p:spPr>
          <a:xfrm>
            <a:off x="5508720" y="3284640"/>
            <a:ext cx="3190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Paint"/>
          <p:cNvPicPr/>
          <p:nvPr/>
        </p:nvPicPr>
        <p:blipFill>
          <a:blip r:embed="rId2"/>
          <a:stretch/>
        </p:blipFill>
        <p:spPr>
          <a:xfrm>
            <a:off x="6046920" y="3760920"/>
            <a:ext cx="3097080" cy="3097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рафический редактор – программа, предназначенная для создания, редактирования графических  изобра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ументом графического редактора является рисунок. 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aint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ростейший графический редактор, предназначенный для создания и редактирования растровых графических изобра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приемлем для создания простейших  графических иллюстраций, в основном схем, диаграмм и графиков, которые можно встраивать в текстовые документы; в Paint можно создавать рекламу, буклеты, объявления, приглашения, поздравления и др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ческий редактор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6" descr="4"/>
          <p:cNvPicPr/>
          <p:nvPr/>
        </p:nvPicPr>
        <p:blipFill>
          <a:blip r:embed="rId3"/>
          <a:srcRect l="3137" t="11766" r="36004" b="51142"/>
          <a:stretch/>
        </p:blipFill>
        <p:spPr>
          <a:xfrm>
            <a:off x="0" y="404640"/>
            <a:ext cx="133344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ческий редактор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ашем распоряжении различные средства и инструменты для “художественного” творчества – палитра цветов, кисть, аэрозольный баллончик, ластики для стирания, “карандаши” для рисования геометрических фигур (линий, прямоугольников, эллипсов, многоугольников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актор позволяет вводить тексты, и богатый набор шрифтов из комплекта Windows дают возможность выполнять на картинках эффектные надписи. Имеются и “ножницы” для вырезания фрагментов картинки, - вырезанный элемент можно переместить, скопировать, уменьшить, увеличить, развернуть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4"/>
          <p:cNvPicPr/>
          <p:nvPr/>
        </p:nvPicPr>
        <p:blipFill>
          <a:blip r:embed="rId2"/>
          <a:srcRect l="3137" t="11766" r="36004" b="51142"/>
          <a:stretch/>
        </p:blipFill>
        <p:spPr>
          <a:xfrm>
            <a:off x="0" y="404640"/>
            <a:ext cx="133344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зможности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возможности Pa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дение прямых и кривых линий различной толщины и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кистей различной формы, ширины и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ение различных фигур - прямоугольников, многоугольников, овалов, эллипсов - закрашенных и не закрашен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ещение текста на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преобразований - поворотов, отражений, растяжений и наклон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6" descr="4"/>
          <p:cNvPicPr/>
          <p:nvPr/>
        </p:nvPicPr>
        <p:blipFill>
          <a:blip r:embed="rId2"/>
          <a:srcRect l="3137" t="11766" r="36004" b="51142"/>
          <a:stretch/>
        </p:blipFill>
        <p:spPr>
          <a:xfrm>
            <a:off x="7020000" y="5661000"/>
            <a:ext cx="1333440" cy="1004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images (6)"/>
          <p:cNvPicPr/>
          <p:nvPr/>
        </p:nvPicPr>
        <p:blipFill>
          <a:blip r:embed="rId3"/>
          <a:stretch/>
        </p:blipFill>
        <p:spPr>
          <a:xfrm>
            <a:off x="0" y="0"/>
            <a:ext cx="17892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руктура окна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08d880fe-a592-483d-8a31-b508716750ea_0"/>
          <p:cNvPicPr/>
          <p:nvPr/>
        </p:nvPicPr>
        <p:blipFill>
          <a:blip r:embed="rId2"/>
          <a:stretch/>
        </p:blipFill>
        <p:spPr>
          <a:xfrm>
            <a:off x="1979640" y="1146240"/>
            <a:ext cx="486396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ню окна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задание нового файла, загрузка файла, запись файла с текущим и измененным именем, распечатка файла принт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ав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редактирование файла, отмена предыдущих действий и повтор результатов отмененного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управление выводом меню инструментов и цветов, панелью атрибутов текста, управление масштабом и обзором изобра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исун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перации с выделенными изображениями (поворот, инверсия, изменение атрибутов, очистка, изменение параметров рисун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лит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установка опций графического редактора (установка и запись палитры цвет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правка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бращение к справке по графическому редакт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8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нструменты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инстрменты"/>
          <p:cNvPicPr/>
          <p:nvPr/>
        </p:nvPicPr>
        <p:blipFill>
          <a:blip r:embed="rId2"/>
          <a:stretch/>
        </p:blipFill>
        <p:spPr>
          <a:xfrm>
            <a:off x="684360" y="1268280"/>
            <a:ext cx="2158920" cy="537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instrumenty_paint"/>
          <p:cNvPicPr/>
          <p:nvPr/>
        </p:nvPicPr>
        <p:blipFill>
          <a:blip r:embed="rId3"/>
          <a:stretch/>
        </p:blipFill>
        <p:spPr>
          <a:xfrm>
            <a:off x="1979640" y="1989000"/>
            <a:ext cx="6551640" cy="878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veta_paint"/>
          <p:cNvPicPr/>
          <p:nvPr/>
        </p:nvPicPr>
        <p:blipFill>
          <a:blip r:embed="rId4"/>
          <a:stretch/>
        </p:blipFill>
        <p:spPr>
          <a:xfrm>
            <a:off x="2627280" y="3284640"/>
            <a:ext cx="55087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я создаю рису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с детства люблю рисовать. Меня вдохновляет природа. Она полна необычных образов, загадок, красок,  солнечных переливов, игры света и тен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уляя по разным местам, я вижу прекрасные пейзажи, которые вдохновляют меня на создание карт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 я нарисовала «Коптевский овраг», «Краски осени», великую русскую реку Волгу. Мои  картины  создаются при помощи компьютерной графики. Это необычный способ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и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Волга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1433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48000" y="6021360"/>
            <a:ext cx="1451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лг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карандаш"/>
          <p:cNvPicPr/>
          <p:nvPr/>
        </p:nvPicPr>
        <p:blipFill>
          <a:blip r:embed="rId2"/>
          <a:stretch/>
        </p:blipFill>
        <p:spPr>
          <a:xfrm>
            <a:off x="468360" y="333360"/>
            <a:ext cx="3240000" cy="2716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сунок – это высша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честность искусства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совать – это вовсе не значит просто обводить контуры, рисунок не состоит только из линий. Рисунок – это еще и выразительность, внутренняя форма, план, моделировка. Надо рисовать беспрестанно, рисовать глазами, когда нет возможности рисовать карандашом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ан Огюст Доминик Энг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ранцузский художни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Зима"/>
          <p:cNvPicPr/>
          <p:nvPr/>
        </p:nvPicPr>
        <p:blipFill>
          <a:blip r:embed="rId1"/>
          <a:stretch/>
        </p:blipFill>
        <p:spPr>
          <a:xfrm>
            <a:off x="-1019160" y="506520"/>
            <a:ext cx="10163160" cy="63514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и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66920" y="5805000"/>
            <a:ext cx="43894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птев овра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и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Краски осени"/>
          <p:cNvPicPr/>
          <p:nvPr/>
        </p:nvPicPr>
        <p:blipFill>
          <a:blip r:embed="rId1"/>
          <a:stretch/>
        </p:blipFill>
        <p:spPr>
          <a:xfrm>
            <a:off x="684360" y="1125360"/>
            <a:ext cx="8231040" cy="51436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56000" y="5950080"/>
            <a:ext cx="2746440" cy="4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раски осе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и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3" descr="весна"/>
          <p:cNvPicPr/>
          <p:nvPr/>
        </p:nvPicPr>
        <p:blipFill>
          <a:blip r:embed="rId1"/>
          <a:stretch/>
        </p:blipFill>
        <p:spPr>
          <a:xfrm>
            <a:off x="900000" y="1484280"/>
            <a:ext cx="7858080" cy="4915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2920" y="5589720"/>
            <a:ext cx="1594080" cy="4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ес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и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6037200"/>
            <a:ext cx="281952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етка сакур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сакура"/>
          <p:cNvPicPr/>
          <p:nvPr/>
        </p:nvPicPr>
        <p:blipFill>
          <a:blip r:embed="rId1"/>
          <a:stretch/>
        </p:blipFill>
        <p:spPr>
          <a:xfrm>
            <a:off x="1042920" y="1197000"/>
            <a:ext cx="734400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и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03280" y="5733720"/>
            <a:ext cx="3899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Чудо-дере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Вашкова Валерия 12 лет 6 класс школа № 127"/>
          <p:cNvPicPr/>
          <p:nvPr/>
        </p:nvPicPr>
        <p:blipFill>
          <a:blip r:embed="rId1"/>
          <a:stretch/>
        </p:blipFill>
        <p:spPr>
          <a:xfrm>
            <a:off x="684360" y="1197000"/>
            <a:ext cx="756108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36003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и работы приняли участие в третьем открытом конкурсе компьютерной графики «Разноцветный мир», где заня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ес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Изображение 003"/>
          <p:cNvPicPr/>
          <p:nvPr/>
        </p:nvPicPr>
        <p:blipFill>
          <a:blip r:embed="rId2"/>
          <a:stretch/>
        </p:blipFill>
        <p:spPr>
          <a:xfrm>
            <a:off x="3984480" y="0"/>
            <a:ext cx="515952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3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провела исследование возможностей графического редактор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, используя его функции и инструменты, создала несколько графических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мпьютер стал универсальным инструментом художников, оформителей и дизайнеров. При работе в графическом редакторе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карандаш никогда не ломается, ластик не стирается, а краски не заканчиваются. Руки и одежда всегда остаются чистыми. Если рисунок на бумаге не удался, его остаётся только выбросить в корзину и начать всё заново. Зато компьютерный рисунок можно исправлять сколько уго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а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- самая подходящая для начинающих художников, которые знакомятся с компьютером. Она яркая и простая, к тому же создание рисунков отлично развивает эстетическое мыш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9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деюсь, проведенное мной исследование будет полезно тем, кто только приобщается к миру компьютерной графики, и поможет юным художникам создать множество замечательных карти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глав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ьютерная граф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афический редактор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можнос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румент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ы техники рисования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сс создания рисунка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5472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унок всегда занимал очень важное место в жизни человека. Древние племена, не имевшие письменности, рассказали нам о своей жизни при помощи наскальных рисунков. С давних времен люди стремились передать свое восприятие мира  в виде рисунка, картины. Первое умение, приобретенное человеком в своей жизни – это умение рисовать. Люди с раннего детства рисуют на бумаге, на асфальте во дворе, на доске в школе, на холс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загруженное"/>
          <p:cNvPicPr/>
          <p:nvPr/>
        </p:nvPicPr>
        <p:blipFill>
          <a:blip r:embed="rId2"/>
          <a:stretch/>
        </p:blipFill>
        <p:spPr>
          <a:xfrm>
            <a:off x="5724360" y="4076640"/>
            <a:ext cx="3071880" cy="213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naskalnii_risunok"/>
          <p:cNvPicPr/>
          <p:nvPr/>
        </p:nvPicPr>
        <p:blipFill>
          <a:blip r:embed="rId3"/>
          <a:stretch/>
        </p:blipFill>
        <p:spPr>
          <a:xfrm>
            <a:off x="6156360" y="907920"/>
            <a:ext cx="257184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40384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но рисовать кистями и красками, можно карандашами. Можно рисовать на бумаге, холсте, ткани. А можно рисовать на экране компьютера. Известен, например, случай, когда компьютер запрограммировали так, что из символов составлялось изображение известной картины Леонардо да Винчи «Мона Лиз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Mona%20ASCII"/>
          <p:cNvPicPr/>
          <p:nvPr/>
        </p:nvPicPr>
        <p:blipFill>
          <a:blip r:embed="rId2"/>
          <a:stretch/>
        </p:blipFill>
        <p:spPr>
          <a:xfrm>
            <a:off x="4932360" y="836640"/>
            <a:ext cx="402912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моей работы является изучение возможностей графического редактор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t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его применение при создании художественных р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для этого нуж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изучу теоретический материал по компьютерной графи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 компьютерной граф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можности графических редакт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чую область и инструменты рисован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При помощи полученных знаний создам картину в графическом редак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ктуальност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ывая, какое количество различных программ создано для создания и редактирования графических изображений, на мой взгляд, обязательно нужно научиться их использовать. Это очень интересная  и обширная область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mages (2)"/>
          <p:cNvPicPr/>
          <p:nvPr/>
        </p:nvPicPr>
        <p:blipFill>
          <a:blip r:embed="rId2"/>
          <a:stretch/>
        </p:blipFill>
        <p:spPr>
          <a:xfrm>
            <a:off x="6227640" y="4653000"/>
            <a:ext cx="2592360" cy="1949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images"/>
          <p:cNvPicPr/>
          <p:nvPr/>
        </p:nvPicPr>
        <p:blipFill>
          <a:blip r:embed="rId3"/>
          <a:stretch/>
        </p:blipFill>
        <p:spPr>
          <a:xfrm>
            <a:off x="395280" y="4508640"/>
            <a:ext cx="2362320" cy="1933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images (10)"/>
          <p:cNvPicPr/>
          <p:nvPr/>
        </p:nvPicPr>
        <p:blipFill>
          <a:blip r:embed="rId4"/>
          <a:stretch/>
        </p:blipFill>
        <p:spPr>
          <a:xfrm>
            <a:off x="2987640" y="5008680"/>
            <a:ext cx="295128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684720" y="1600200"/>
            <a:ext cx="5180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ьютер в руках обычного человека может превратиться в послушный инструмент воплощения его художественной мысли — той самой, которую он не может воплотить на бума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ществует специальная область информатики, изучающая методы и средства создания и обработки изображений с помощью программно-аппаратных вычислительных комплексов, –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мпьютерная граф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images (3)"/>
          <p:cNvPicPr/>
          <p:nvPr/>
        </p:nvPicPr>
        <p:blipFill>
          <a:blip r:embed="rId2"/>
          <a:stretch/>
        </p:blipFill>
        <p:spPr>
          <a:xfrm>
            <a:off x="5410080" y="3933720"/>
            <a:ext cx="373392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0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компьютерной граф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24000" y="1599840"/>
            <a:ext cx="521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и любая другая информация в ЭВМ, графические изображения хранятся, обрабатываются и передаются по линиям связи в закодированном виде - т.е. в виде большого числа бит- нулей и едини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зависимости от способа формирования изображений компьютерную графику принято подразделять на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тровую и векторн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растовая"/>
          <p:cNvPicPr/>
          <p:nvPr/>
        </p:nvPicPr>
        <p:blipFill>
          <a:blip r:embed="rId2"/>
          <a:stretch/>
        </p:blipFill>
        <p:spPr>
          <a:xfrm>
            <a:off x="611280" y="1449360"/>
            <a:ext cx="3384360" cy="2255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векторная"/>
          <p:cNvPicPr/>
          <p:nvPr/>
        </p:nvPicPr>
        <p:blipFill>
          <a:blip r:embed="rId3"/>
          <a:stretch/>
        </p:blipFill>
        <p:spPr>
          <a:xfrm>
            <a:off x="826920" y="3933720"/>
            <a:ext cx="2953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11:22:02Z</dcterms:created>
  <dc:creator>Владимир </dc:creator>
  <dc:description/>
  <dc:language>en-US</dc:language>
  <cp:lastModifiedBy>school127</cp:lastModifiedBy>
  <dcterms:modified xsi:type="dcterms:W3CDTF">2014-11-27T12:32:56Z</dcterms:modified>
  <cp:revision>36</cp:revision>
  <dc:subject/>
  <dc:title>Рисуем вместе с Paint</dc:title>
</cp:coreProperties>
</file>