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A95-77D0-4C18-BF70-824D6F1E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519-6B5A-4B16-8334-7AD667A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A08-AD94-434F-B605-12A0C114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E58-5AE7-42AA-BC1F-A86DE6D0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44E-6027-4BA3-9902-5FEF9802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145-A2A0-4961-BEDE-2A2E1241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0EC-237A-497A-B79B-5C99557E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847-3FDD-411B-B216-F845537B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B5A-46F4-49EF-8273-535DF855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2C8-E0E6-4EAE-A00D-602469B3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F71-EEB2-411C-8DBE-03017B96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14F-6904-4793-AEBB-7E17725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8E6-7633-4965-A71C-BC2BCD593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Рисуем вместе с 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Pa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32360" y="4868640"/>
            <a:ext cx="403848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ш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я Роман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№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А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DSC02019"/>
          <p:cNvPicPr/>
          <p:nvPr/>
        </p:nvPicPr>
        <p:blipFill>
          <a:blip r:embed="rId2"/>
          <a:stretch/>
        </p:blipFill>
        <p:spPr>
          <a:xfrm>
            <a:off x="468360" y="33577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5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85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85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85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5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85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тровые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ровое изображение создается с использованием точек различного цвета (пикселей), которые образуют строки и столбцы. Совокупность точечных строк образует графическую сетку или ра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пиксель может принимать любой цвет из палитры, содержащей десятки тысяч или даже десятки миллионов цветов, поэтому растровые изображения обеспечивают высокую точность передачи цветов и полут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растровая1"/>
          <p:cNvPicPr/>
          <p:nvPr/>
        </p:nvPicPr>
        <p:blipFill>
          <a:blip r:embed="rId2"/>
          <a:stretch/>
        </p:blipFill>
        <p:spPr>
          <a:xfrm>
            <a:off x="7093080" y="501336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екторные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ные графические изображения используются для хранения высокоточных графических объектов (чертежей, схем), для которых имеет значение сохранение четких и ярких конту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ные изображения формируются из элементов – точка, линия, окружность, прямоугольник и др. Для каждого элемента задаются координаты, а также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векторная"/>
          <p:cNvPicPr/>
          <p:nvPr/>
        </p:nvPicPr>
        <p:blipFill>
          <a:blip r:embed="rId2"/>
          <a:stretch/>
        </p:blipFill>
        <p:spPr>
          <a:xfrm>
            <a:off x="5508720" y="3284640"/>
            <a:ext cx="3190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aint"/>
          <p:cNvPicPr/>
          <p:nvPr/>
        </p:nvPicPr>
        <p:blipFill>
          <a:blip r:embed="rId2"/>
          <a:stretch/>
        </p:blipFill>
        <p:spPr>
          <a:xfrm>
            <a:off x="6046920" y="376092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афический редактор – программа, предназначенная для создания, редактирования графических  изоб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ументом графического редактора является рисунок. 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ain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ростейший графический редактор, предназначенный для создания и редактирования растровых графических изоб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приемлем для создания простейших  графических иллюстраций, в основном схем, диаграмм и графиков, которые можно встраивать в текстовые документы; в Paint можно создавать рекламу, буклеты, объявления, приглашения, поздравления и д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4"/>
          <p:cNvPicPr/>
          <p:nvPr/>
        </p:nvPicPr>
        <p:blipFill>
          <a:blip r:embed="rId3"/>
          <a:srcRect l="3137" t="11766" r="36004" b="51142"/>
          <a:stretch/>
        </p:blipFill>
        <p:spPr>
          <a:xfrm>
            <a:off x="0" y="404640"/>
            <a:ext cx="133344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ашем распоряжении различные средства и инструменты для “художественного” творчества – палитра цветов, кисть, аэрозольный баллончик, ластики для стирания, “карандаши” для рисования геометрических фигур (линий, прямоугольников, эллипсов, многоугольник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актор позволяет вводить тексты, и богатый набор шрифтов из комплекта Windows дают возможность выполнять на картинках эффектные надписи. Имеются и “ножницы” для вырезания фрагментов картинки, - вырезанный элемент можно переместить, скопировать, уменьшить, увеличить, развернуть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4"/>
          <p:cNvPicPr/>
          <p:nvPr/>
        </p:nvPicPr>
        <p:blipFill>
          <a:blip r:embed="rId2"/>
          <a:srcRect l="3137" t="11766" r="36004" b="51142"/>
          <a:stretch/>
        </p:blipFill>
        <p:spPr>
          <a:xfrm>
            <a:off x="0" y="404640"/>
            <a:ext cx="133344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можности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возможности Pa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 прямых и кривых линий различной толщины и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кистей различной формы, ширины и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ение различных фигур - прямоугольников, многоугольников, овалов, эллипсов - закрашенных и не закраш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ещение текста на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преобразований - поворотов, отражений, растяжений и наклон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4"/>
          <p:cNvPicPr/>
          <p:nvPr/>
        </p:nvPicPr>
        <p:blipFill>
          <a:blip r:embed="rId2"/>
          <a:srcRect l="3137" t="11766" r="36004" b="51142"/>
          <a:stretch/>
        </p:blipFill>
        <p:spPr>
          <a:xfrm>
            <a:off x="7020000" y="5661000"/>
            <a:ext cx="1333440" cy="1004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ages (6)"/>
          <p:cNvPicPr/>
          <p:nvPr/>
        </p:nvPicPr>
        <p:blipFill>
          <a:blip r:embed="rId3"/>
          <a:stretch/>
        </p:blipFill>
        <p:spPr>
          <a:xfrm>
            <a:off x="0" y="0"/>
            <a:ext cx="1789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окн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8d880fe-a592-483d-8a31-b508716750ea_0"/>
          <p:cNvPicPr/>
          <p:nvPr/>
        </p:nvPicPr>
        <p:blipFill>
          <a:blip r:embed="rId2"/>
          <a:stretch/>
        </p:blipFill>
        <p:spPr>
          <a:xfrm>
            <a:off x="1979640" y="1146240"/>
            <a:ext cx="48639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ню окн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задание нового файла, загрузка файла, запись файла с текущим и измененным именем, распечатка файла прин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редактирование файла, отмена предыдущих действий и повтор результатов отмененного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правление выводом меню инструментов и цветов, панелью атрибутов текста, управление масштабом и обзором изоб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ерации с выделенными изображениями (поворот, инверсия, изменение атрибутов, очистка, изменение параметров рисун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лит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становка опций графического редактора (установка и запись палитры цвет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правк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ращение к справке по графическому редак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инстрменты"/>
          <p:cNvPicPr/>
          <p:nvPr/>
        </p:nvPicPr>
        <p:blipFill>
          <a:blip r:embed="rId2"/>
          <a:stretch/>
        </p:blipFill>
        <p:spPr>
          <a:xfrm>
            <a:off x="684360" y="1268280"/>
            <a:ext cx="215892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instrumenty_paint"/>
          <p:cNvPicPr/>
          <p:nvPr/>
        </p:nvPicPr>
        <p:blipFill>
          <a:blip r:embed="rId3"/>
          <a:stretch/>
        </p:blipFill>
        <p:spPr>
          <a:xfrm>
            <a:off x="1979640" y="1989000"/>
            <a:ext cx="6551640" cy="87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veta_paint"/>
          <p:cNvPicPr/>
          <p:nvPr/>
        </p:nvPicPr>
        <p:blipFill>
          <a:blip r:embed="rId4"/>
          <a:stretch/>
        </p:blipFill>
        <p:spPr>
          <a:xfrm>
            <a:off x="2627280" y="3284640"/>
            <a:ext cx="5508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я создаю рису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 детства люблю рисовать. Меня вдохновляет природа. Она полна необычных образов, загадок, красок,  солнечных переливов, игры света и те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ляя по разным местам, я вижу прекрасные пейзажи, которые вдохновляют меня на создание кар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я нарисовала «Коптевский овраг», «Краски осени», великую русскую реку Волгу. Мои  картины  создаются при помощи компьютерной графики. Это необычный способ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Волга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1433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48000" y="6021360"/>
            <a:ext cx="1451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лг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карандаш"/>
          <p:cNvPicPr/>
          <p:nvPr/>
        </p:nvPicPr>
        <p:blipFill>
          <a:blip r:embed="rId2"/>
          <a:stretch/>
        </p:blipFill>
        <p:spPr>
          <a:xfrm>
            <a:off x="468360" y="333360"/>
            <a:ext cx="3240000" cy="271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унок – это высша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честность искусства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овать – это вовсе не значит просто обводить контуры, рисунок не состоит только из линий. Рисунок – это еще и выразительность, внутренняя форма, план, моделировка. Надо рисовать беспрестанно, рисовать глазами, когда нет возможности рисовать карандашом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Огюст Доминик Энг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нцузский худож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Зима"/>
          <p:cNvPicPr/>
          <p:nvPr/>
        </p:nvPicPr>
        <p:blipFill>
          <a:blip r:embed="rId1"/>
          <a:stretch/>
        </p:blipFill>
        <p:spPr>
          <a:xfrm>
            <a:off x="-1019160" y="506520"/>
            <a:ext cx="10163160" cy="6351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66920" y="5805000"/>
            <a:ext cx="4389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птев овра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Краски осени"/>
          <p:cNvPicPr/>
          <p:nvPr/>
        </p:nvPicPr>
        <p:blipFill>
          <a:blip r:embed="rId1"/>
          <a:stretch/>
        </p:blipFill>
        <p:spPr>
          <a:xfrm>
            <a:off x="684360" y="1125360"/>
            <a:ext cx="823104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56000" y="5950080"/>
            <a:ext cx="274644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раски ос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весна"/>
          <p:cNvPicPr/>
          <p:nvPr/>
        </p:nvPicPr>
        <p:blipFill>
          <a:blip r:embed="rId1"/>
          <a:stretch/>
        </p:blipFill>
        <p:spPr>
          <a:xfrm>
            <a:off x="900000" y="1484280"/>
            <a:ext cx="7858080" cy="4915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920" y="5589720"/>
            <a:ext cx="1594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6037200"/>
            <a:ext cx="28195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етка саку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акура"/>
          <p:cNvPicPr/>
          <p:nvPr/>
        </p:nvPicPr>
        <p:blipFill>
          <a:blip r:embed="rId1"/>
          <a:stretch/>
        </p:blipFill>
        <p:spPr>
          <a:xfrm>
            <a:off x="1042920" y="1197000"/>
            <a:ext cx="73440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03280" y="5733720"/>
            <a:ext cx="3899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удо-дере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Вашкова Валерия 12 лет 6 класс школа № 127"/>
          <p:cNvPicPr/>
          <p:nvPr/>
        </p:nvPicPr>
        <p:blipFill>
          <a:blip r:embed="rId1"/>
          <a:stretch/>
        </p:blipFill>
        <p:spPr>
          <a:xfrm>
            <a:off x="684360" y="1197000"/>
            <a:ext cx="75610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3600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и работы приняли участие в третьем открытом конкурсе компьютерной графики «Разноцветный мир», где заня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ес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Изображение 003"/>
          <p:cNvPicPr/>
          <p:nvPr/>
        </p:nvPicPr>
        <p:blipFill>
          <a:blip r:embed="rId2"/>
          <a:stretch/>
        </p:blipFill>
        <p:spPr>
          <a:xfrm>
            <a:off x="3984480" y="0"/>
            <a:ext cx="51595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3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провела исследование возможностей графического реда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, используя его функции и инструменты, создала несколько графи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мпьютер стал универсальным инструментом художников, оформителей и дизайнеров. При работе в графическом редакторе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карандаш никогда не ломается, ластик не стирается, а краски не заканчиваются. Руки и одежда всегда остаются чистыми. Если рисунок на бумаге не удался, его остаётся только выбросить в корзину и начать всё заново. Зато компьютерный рисунок можно исправлять сколько уг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- самая подходящая для начинающих художников, которые знакомятся с компьютером. Она яркая и простая, к тому же создание рисунков отлично развивает эсте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деюсь, проведенное мной исследование будет полезно тем, кто только приобщается к миру компьютерной графики, и поможет юным художникам создать множество замечательных карти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глав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ьютерная г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мен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 техники рисования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 создания рисунка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5472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унок всегда занимал очень важное место в жизни человека. Древние племена, не имевшие письменности, рассказали нам о своей жизни при помощи наскальных рисунков. С давних времен люди стремились передать свое восприятие мира  в виде рисунка, картины. Первое умение, приобретенное человеком в своей жизни – это умение рисовать. Люди с раннего детства рисуют на бумаге, на асфальте во дворе, на доске в школе, на холс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загруженное"/>
          <p:cNvPicPr/>
          <p:nvPr/>
        </p:nvPicPr>
        <p:blipFill>
          <a:blip r:embed="rId2"/>
          <a:stretch/>
        </p:blipFill>
        <p:spPr>
          <a:xfrm>
            <a:off x="5724360" y="4076640"/>
            <a:ext cx="3071880" cy="213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askalnii_risunok"/>
          <p:cNvPicPr/>
          <p:nvPr/>
        </p:nvPicPr>
        <p:blipFill>
          <a:blip r:embed="rId3"/>
          <a:stretch/>
        </p:blipFill>
        <p:spPr>
          <a:xfrm>
            <a:off x="6156360" y="907920"/>
            <a:ext cx="25718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038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рисовать кистями и красками, можно карандашами. Можно рисовать на бумаге, холсте, ткани. А можно рисовать на экране компьютера. Известен, например, случай, когда компьютер запрограммировали так, что из символов составлялось изображение известной картины Леонардо да Винчи «Мона Лиз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Mona%20ASCII"/>
          <p:cNvPicPr/>
          <p:nvPr/>
        </p:nvPicPr>
        <p:blipFill>
          <a:blip r:embed="rId2"/>
          <a:stretch/>
        </p:blipFill>
        <p:spPr>
          <a:xfrm>
            <a:off x="4932360" y="836640"/>
            <a:ext cx="40291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оей работы является изучение возможностей графического редактор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t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его применение при создании художественны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ля этого нуж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зучу теоретический материал по компьютерной граф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компьютерной граф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и графических реда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ую область и инструменты рисова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помощи полученных знаний создам картину в графическом ред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ывая, какое количество различных программ создано для создания и редактирования графических изображений, на мой взгляд, обязательно нужно научиться их использовать. Это очень интересная  и обширная область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s (2)"/>
          <p:cNvPicPr/>
          <p:nvPr/>
        </p:nvPicPr>
        <p:blipFill>
          <a:blip r:embed="rId2"/>
          <a:stretch/>
        </p:blipFill>
        <p:spPr>
          <a:xfrm>
            <a:off x="6227640" y="465300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mages"/>
          <p:cNvPicPr/>
          <p:nvPr/>
        </p:nvPicPr>
        <p:blipFill>
          <a:blip r:embed="rId3"/>
          <a:stretch/>
        </p:blipFill>
        <p:spPr>
          <a:xfrm>
            <a:off x="395280" y="450864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images (10)"/>
          <p:cNvPicPr/>
          <p:nvPr/>
        </p:nvPicPr>
        <p:blipFill>
          <a:blip r:embed="rId4"/>
          <a:stretch/>
        </p:blipFill>
        <p:spPr>
          <a:xfrm>
            <a:off x="2987640" y="5008680"/>
            <a:ext cx="29512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684720" y="1600200"/>
            <a:ext cx="5180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 в руках обычного человека может превратиться в послушный инструмент воплощения его художественной мысли — той самой, которую он не может воплотить на бума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ществует специальная область информатики, изучающая методы и средства создания и обработки изображений с помощью программно-аппаратных вычислительных комплексов,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пьютерная г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images (3)"/>
          <p:cNvPicPr/>
          <p:nvPr/>
        </p:nvPicPr>
        <p:blipFill>
          <a:blip r:embed="rId2"/>
          <a:stretch/>
        </p:blipFill>
        <p:spPr>
          <a:xfrm>
            <a:off x="5410080" y="3933720"/>
            <a:ext cx="37339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1224922302_solnishko-1024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компьютерной граф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21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и любая другая информация в ЭВМ, графические изображения хранятся, обрабатываются и передаются по линиям связи в закодированном виде - т.е. в виде большого числа бит- нулей и едини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ависимости от способа формирования изображений компьютерную графику принято подразделять на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тровую и вектор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растовая"/>
          <p:cNvPicPr/>
          <p:nvPr/>
        </p:nvPicPr>
        <p:blipFill>
          <a:blip r:embed="rId2"/>
          <a:stretch/>
        </p:blipFill>
        <p:spPr>
          <a:xfrm>
            <a:off x="611280" y="1449360"/>
            <a:ext cx="3384360" cy="225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векторная"/>
          <p:cNvPicPr/>
          <p:nvPr/>
        </p:nvPicPr>
        <p:blipFill>
          <a:blip r:embed="rId3"/>
          <a:stretch/>
        </p:blipFill>
        <p:spPr>
          <a:xfrm>
            <a:off x="826920" y="3933720"/>
            <a:ext cx="2953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1:22:02Z</dcterms:created>
  <dc:creator>Владимир </dc:creator>
  <dc:description/>
  <dc:language>en-US</dc:language>
  <cp:lastModifiedBy>school127</cp:lastModifiedBy>
  <dcterms:modified xsi:type="dcterms:W3CDTF">2014-11-27T12:32:56Z</dcterms:modified>
  <cp:revision>36</cp:revision>
  <dc:subject/>
  <dc:title>Рисуем вместе с Paint</dc:title>
</cp:coreProperties>
</file>