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A19-2487-45A3-BBC5-020EB4FD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0EC-4AFB-456C-9A74-B4F11069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1D8-E023-4E88-B11E-AA7CCDBE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EF2-B9FE-49A2-8A47-AE5B3655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5BB-F95D-4ADC-9373-07216830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93B-3977-4426-8385-43681817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FBC-A385-4F3D-A51A-1A3E9F5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B75-1F28-445A-83E4-95B33CC0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D17-E3AA-4FDF-9A90-BA992208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BA4-F87F-491F-A77C-C65B08E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2A4-BB7D-4EAD-BB57-2E2C48F3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D1B-19E1-44CD-8342-74C620B7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6555-4221-48C3-9493-C7BEE4FDC3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499840"/>
            <a:ext cx="7772400" cy="24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b7e7ff"/>
                </a:solidFill>
                <a:latin typeface="Arial"/>
              </a:rPr>
              <a:t>Духовно-нравственное развитие личности ребенка в школе и в семье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480" y="571680"/>
            <a:ext cx="38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одительское собр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0946"/>
                </a:solidFill>
                <a:latin typeface="Arial"/>
              </a:rPr>
              <a:t>Воспитательная функция семь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ерв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аспек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формирование личности ребенка, развитие его способностей и интересов, передача детям взрослыми членами семьи накопленного обществом социального опыта; выработка  у них научного мировозз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торой аспек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истематическое воспитательное воздействие семейного коллектива на каждого его члена в течение всей его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и стиля семейного воспитания: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демократическом сти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ежде всего учитываются интересы ребенка. Стиль "согласия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авторитарном сти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одителями навязывается свое мнение ребенку. Стиль "подавления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попустительском  (либеральном) сти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ебенок предоставляется сам себ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500040"/>
            <a:ext cx="8510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тоды воспитания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етод убе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етод треб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етод – внуш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гра, 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ощрение и наказ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оль примера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Исследование психолога М.А.Ковальчук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тношения родителей к проблемам занятости ребенка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этой целью было опрошено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800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телей: 62,5% родителей имеют 2-х детей, 35% - одного ребенка и 25% - 3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70% опрошенных родителей ребенок предоставлен «сам себе» все 12 часов в день, у 22,5% - 8 часов и у 7,5% - 4 часа в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этом 75% опрошенных не знают, чем занимается ребенок в свободное  время, и только 25% иногда знают или догадываются, чем занят их ребенок дн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Функция досуга</a:t>
            </a:r>
            <a:br>
              <a:rPr sz="3600"/>
            </a:b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     и отдых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4640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амой доступной и легкой формой досуга является просмотр телевизионных пере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608360" cy="3281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5219640" y="692280"/>
            <a:ext cx="36734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тистика телевизионных программ свидетельствует: специальных детских программ осталось окол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бщего эфирного времени, в то время как 5 лет назад их был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%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тались мультфильмы и несколько тематических передач, а в основном дети смотрят те же программы, что и взрослая аудито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На просмотр телепередач человек тратит в среднем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3927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день – 3 ча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неделю – 21 ча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месяц – 84 часа – 3,5 су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год – 1008 часов – 42 суток – 1 месяц 12 д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10 лет – 10080 часов – 420 суток – 1 год 1 месяц 25 д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25 лет - 25200 часов – 1050 суток – 2 года 10 месяцев 16 д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7960" y="1628280"/>
            <a:ext cx="3927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За 60 лет – 60480 часов – 2520 суто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6 лет 11 месяцев 26 дн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157_tempo"/>
          <p:cNvPicPr/>
          <p:nvPr/>
        </p:nvPicPr>
        <p:blipFill>
          <a:blip r:embed="rId1"/>
          <a:stretch/>
        </p:blipFill>
        <p:spPr>
          <a:xfrm>
            <a:off x="5651640" y="3141720"/>
            <a:ext cx="2259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071360" y="928800"/>
            <a:ext cx="74689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гда родители дарят ребенку разумное доверие, воспитывают в нем  свободную личность, тогда он может прекрасно общаться с ровесниками, быть находчивым, остроумным, сообразительным, в меру самоуверенным, способным разобраться в различных  жизненных  ситуа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1214280"/>
            <a:ext cx="8510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42600"/>
            <a:ext cx="8510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нятие и сущность духовности</a:t>
            </a:r>
            <a:br>
              <a:rPr sz="4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2142720"/>
            <a:ext cx="854064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уховность–это  творческий интеграл человеческого бытия, высшая созидательная сила общества, универсальный критерий его исторической развит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вое начало – познавательное, интеллектуально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жнейшим признаком духовности является наличие мышления,мудрости, знания жизни, накопленного огромного жизненного оп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ние – это духовное воспроизводство индивидуальной и общественн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42600"/>
            <a:ext cx="8510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торое начало – нравственное, это сердцевина духовности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авственные ценности есть общечеловеческие цен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авственность есть не что иное, как деятельность, обусловленная идеей добра. Это жизнь на основе добра, справедливости, искренности, совести, бескорыстия, самых лучших, идеальных кач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ретье начало — эстетическо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стетическое воспитание – воспитание чувства красоты, способности видеть и понимать прекрасное в окружающе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жнейшие его формы – приобщение к различным видам искусства: литературе, музыке, изобразительному искусству, танцу, театру, ки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3240" y="571680"/>
            <a:ext cx="765360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.А.Сухомлински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ховность — это система интеллектуальных, нравственных и эстетических ценностей, реализующаяся в творческой созидательной деятельности, моральных принципах, нормах по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витие духовности и нравственности ребен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школа в лице педагогов не способна самостоятельно справиться с этой задач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щником должна быть семья! Так как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мь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это первая общественная ступень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мья - важный фактор формирования личности ребен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428920"/>
            <a:ext cx="91440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к испытывает воздействие семьи со дня рождения до конца своей жизни. Значит, семейному воспитанию свойственны непрерывность и продолжительность. И в этом с семьей не может сравниться ни один воспитательный общественный институ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кции семь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современном обществе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5840" y="17143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продуктивна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а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спитательна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муникативна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и досуга и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35:33Z</dcterms:created>
  <dc:creator>1</dc:creator>
  <dc:description/>
  <dc:language>en-US</dc:language>
  <cp:lastModifiedBy>Школа</cp:lastModifiedBy>
  <dcterms:modified xsi:type="dcterms:W3CDTF">2014-12-11T09:09:43Z</dcterms:modified>
  <cp:revision>32</cp:revision>
  <dc:subject/>
  <dc:title>Роль семьи в формировании  личности ребенка.</dc:title>
</cp:coreProperties>
</file>