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AABD-80EE-4ED8-B05D-1E41B6050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9A0B-C526-4D87-AFB5-50C18F947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5E96-42E0-4078-8D43-C6EF2ED8A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9219-CDAB-4618-A178-A0A496F61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6231-AC5A-43C1-BF00-D107A3844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AE51-5C55-4152-9BB5-D47339726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7C5B-F6B3-4AC8-9955-67A7293C9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83E4-4900-4EC1-B9B4-8E9801AE0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F0F3-CE78-445D-A129-6D04C69D9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9D1A-FAD3-4416-B504-CAB4BB236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50C8-80C0-40AA-BA3B-9EE9C520F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325B-D5F6-44E0-BD48-1687FAE36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66788-2492-429F-AB7D-E2392AA8004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71680" y="2499840"/>
            <a:ext cx="7772400" cy="245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800" spc="-1" strike="noStrike">
                <a:solidFill>
                  <a:srgbClr val="b7e7ff"/>
                </a:solidFill>
                <a:latin typeface="Arial"/>
              </a:rPr>
              <a:t>Духовно-нравственное развитие личности ребенка в школе и в семье.</a:t>
            </a: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71480" y="571680"/>
            <a:ext cx="3857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Родительское собран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56760" y="21420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d0946"/>
                </a:solidFill>
                <a:latin typeface="Arial"/>
              </a:rPr>
              <a:t>Воспитательная функция семьи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Первый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аспект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– формирование личности ребенка, развитие его способностей и интересов, передача детям взрослыми членами семьи накопленного обществом социального опыта; выработка  у них научного мировоззр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Второй аспект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– систематическое воспитательное воздействие семейного коллектива на каждого его члена в течение всей его жизн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Три стиля семейного воспитания: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При демократическом стиле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прежде всего учитываются интересы ребенка. Стиль "согласия"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При авторитарном стиле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родителями навязывается свое мнение ребенку. Стиль "подавления"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При попустительском  (либеральном) стиле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ребенок предоставляется сам себе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500040"/>
            <a:ext cx="851040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Методы воспитания.</a:t>
            </a:r>
            <a:br>
              <a:rPr sz="4000"/>
            </a:b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Метод убежд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Метод требова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Метод – внуш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Игра, режим дн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Поощрение и наказа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Роль примера родител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85840" y="2142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Arial"/>
              </a:rPr>
              <a:t>Исследование психолога М.А.Ковальчук </a:t>
            </a:r>
            <a:br>
              <a:rPr sz="2800"/>
            </a:br>
            <a:r>
              <a:rPr b="1" i="1" lang="ru-RU" sz="2800" spc="-1" strike="noStrike">
                <a:solidFill>
                  <a:srgbClr val="ffff00"/>
                </a:solidFill>
                <a:latin typeface="Arial"/>
              </a:rPr>
              <a:t>отношения родителей к проблемам занятости ребенка</a:t>
            </a: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 этой целью было опрошено </a:t>
            </a:r>
            <a:r>
              <a:rPr b="1" lang="ru-RU" sz="2400" spc="-1" strike="noStrike">
                <a:solidFill>
                  <a:srgbClr val="ffff66"/>
                </a:solidFill>
                <a:latin typeface="Times New Roman"/>
              </a:rPr>
              <a:t>800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родителей: 62,5% родителей имеют 2-х детей, 35% - одного ребенка и 25% - 3х дет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У 70% опрошенных родителей ребенок предоставлен «сам себе» все 12 часов в день, у 22,5% - 8 часов и у 7,5% - 4 часа в ден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ри этом 75% опрошенных не знают, чем занимается ребенок в свободное  время, и только 25% иногда знают или догадываются, чем занят их ребенок днем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3300"/>
                </a:solidFill>
                <a:latin typeface="Arial"/>
              </a:rPr>
              <a:t>Функция досуга</a:t>
            </a:r>
            <a:br>
              <a:rPr sz="3600"/>
            </a:br>
            <a:r>
              <a:rPr b="1" i="1" lang="ru-RU" sz="3600" spc="-1" strike="noStrike">
                <a:solidFill>
                  <a:srgbClr val="cc3300"/>
                </a:solidFill>
                <a:latin typeface="Arial"/>
              </a:rPr>
              <a:t>     и отдыха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24000" y="1700280"/>
            <a:ext cx="4464000" cy="43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амой доступной и легкой формой досуга является просмотр телевизионных передач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324000" y="3284640"/>
            <a:ext cx="4608360" cy="328140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5"/>
          <p:cNvSpPr/>
          <p:nvPr/>
        </p:nvSpPr>
        <p:spPr>
          <a:xfrm>
            <a:off x="5219640" y="692280"/>
            <a:ext cx="3673440" cy="60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татистика телевизионных программ свидетельствует: специальных детских программ осталось около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5%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общего эфирного времени, в то время как 5 лет назад их было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30%.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Остались мультфильмы и несколько тематических передач, а в основном дети смотрят те же программы, что и взрослая аудитор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3300"/>
                </a:solidFill>
                <a:latin typeface="Arial"/>
              </a:rPr>
              <a:t>На просмотр телепередач человек тратит в среднем: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1557360"/>
            <a:ext cx="392760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 день – 3 час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 неделю – 21 ча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 месяц – 84 часа – 3,5 суто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 год – 1008 часов – 42 суток – 1 месяц 12 дн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За 10 лет – 10080 часов – 420 суток – 1 год 1 месяц 25 дн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За 25 лет - 25200 часов – 1050 суток – 2 года 10 месяцев 16 дн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17960" y="1628280"/>
            <a:ext cx="392760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ff"/>
                </a:solidFill>
                <a:latin typeface="Arial"/>
              </a:rPr>
              <a:t>За 60 лет – 60480 часов – 2520 суток –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66ffff"/>
                </a:solidFill>
                <a:latin typeface="Arial"/>
              </a:rPr>
              <a:t>6 лет 11 месяцев 26 дне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Picture 5" descr="157_tempo"/>
          <p:cNvPicPr/>
          <p:nvPr/>
        </p:nvPicPr>
        <p:blipFill>
          <a:blip r:embed="rId1"/>
          <a:stretch/>
        </p:blipFill>
        <p:spPr>
          <a:xfrm>
            <a:off x="5651640" y="3141720"/>
            <a:ext cx="225900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1071360" y="928800"/>
            <a:ext cx="7468920" cy="51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гда родители дарят ребенку разумное доверие, воспитывают в нем  свободную личность, тогда он может прекрасно общаться с ровесниками, быть находчивым, остроумным, сообразительным, в меру самоуверенным, способным разобраться в различных  жизненных  ситуация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1680" y="1214280"/>
            <a:ext cx="8510400" cy="32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Спасибо за внимание!</a:t>
            </a:r>
            <a:endParaRPr b="0" lang="en-US" sz="5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680" y="642600"/>
            <a:ext cx="851040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Понятие и сущность духовности</a:t>
            </a:r>
            <a:br>
              <a:rPr sz="4800"/>
            </a:b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01680" y="2142720"/>
            <a:ext cx="8540640" cy="395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Духовность–это  творческий интеграл человеческого бытия, высшая созидательная сила общества, универсальный критерий его исторической развитост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7e7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Первое начало – познавательное, интеллектуальное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ажнейшим признаком духовности является наличие мышления,мудрости, знания жизни, накопленного огромного жизненного опыт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бразование – это духовное воспроизводство индивидуальной и общественной жизн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642600"/>
            <a:ext cx="8510400" cy="91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Второе начало – нравственное, это сердцевина духовности </a:t>
            </a:r>
            <a:br>
              <a:rPr sz="3600"/>
            </a:b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равственные ценности есть общечеловеческие ценност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равственность есть не что иное, как деятельность, обусловленная идеей добра. Это жизнь на основе добра, справедливости, искренности, совести, бескорыстия, самых лучших, идеальных качест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Третье начало — эстетическое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Эстетическое воспитание – воспитание чувства красоты, способности видеть и понимать прекрасное в окружающей жизн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ажнейшие его формы – приобщение к различным видам искусства: литературе, музыке, изобразительному искусству, танцу, театру, кин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33240" y="571680"/>
            <a:ext cx="7653600" cy="75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В.А.Сухомлинский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уховность — это система интеллектуальных, нравственных и эстетических ценностей, реализующаяся в творческой созидательной деятельности, моральных принципах, нормах поведе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Развитие духовности и нравственности ребенка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о школа в лице педагогов не способна самостоятельно справиться с этой задаче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мощником должна быть семья! Так как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емья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это первая общественная ступень в жизни челове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Семья - важный фактор формирования личности ребенка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2428920"/>
            <a:ext cx="9144000" cy="41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Человек испытывает воздействие семьи со дня рождения до конца своей жизни. Значит, семейному воспитанию свойственны непрерывность и продолжительность. И в этом с семьей не может сравниться ни один воспитательный общественный институ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Функции семьи </a:t>
            </a: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в современном обществе: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85840" y="171432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репродуктивная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экономическая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воспитательная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коммуникативная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организации досуга и отдыха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5T09:35:33Z</dcterms:created>
  <dc:creator>1</dc:creator>
  <dc:description/>
  <dc:language>en-US</dc:language>
  <cp:lastModifiedBy>Школа</cp:lastModifiedBy>
  <dcterms:modified xsi:type="dcterms:W3CDTF">2014-12-11T09:09:43Z</dcterms:modified>
  <cp:revision>32</cp:revision>
  <dc:subject/>
  <dc:title>Роль семьи в формировании  личности ребенка.</dc:title>
</cp:coreProperties>
</file>