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318-0407-472E-9EFA-09A799FF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C3-7569-433D-A3F8-8F15D8F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110-97F4-45A2-90DF-98E2DF0D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462-D8F5-4FF5-98BA-1F661A10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24E-7C8C-42ED-B1DA-F181EAAD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898-7860-4CE3-9871-1403241B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327-FF59-45A5-800D-9EFC6D7B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35F-D0CA-42BD-88CB-2DD6E2B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942-DA7C-46F6-82FA-9895131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768-3CC4-4126-B922-6B3DE9E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554-E9F1-44BA-A618-0410633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613-BC39-468D-922E-8EA1241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8FBDD-2F2B-46C1-8C49-6D3D4034B6A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5:42:14Z</dcterms:created>
  <dc:creator>пользователь</dc:creator>
  <dc:description/>
  <dc:language>en-US</dc:language>
  <cp:lastModifiedBy>таймир</cp:lastModifiedBy>
  <dcterms:modified xsi:type="dcterms:W3CDTF">2014-04-07T00:49:31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