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987-7A52-438C-8C7F-2ED071EC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DF9-CE26-4569-9AB2-EE6B87D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65F-52C2-4C3B-B922-C02D6148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81B-7F8E-4DF7-9F37-B73AFC53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E27-8E39-46AB-AEE6-0F9B1C65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664-0E0A-4DA9-B6DF-74E8D6D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F8D-2045-41B2-AEA0-4532C43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A6D-D508-4F30-ACE4-FFC71BE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DE2-E27C-43E1-9787-4B54DED0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721-A082-4446-B375-9F477FC0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665-D62E-4B83-9400-8A36BCC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AE6-3F7A-449F-BBBB-371A073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C096C2-5E06-43D5-8968-25F72F9D92F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5:42:14Z</dcterms:created>
  <dc:creator>пользователь</dc:creator>
  <dc:description/>
  <dc:language>en-US</dc:language>
  <cp:lastModifiedBy>таймир</cp:lastModifiedBy>
  <dcterms:modified xsi:type="dcterms:W3CDTF">2014-04-07T00:49:31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