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C1C-BE68-406D-91E0-32CBB3F6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59D-7915-4AD1-93A5-BFC7A55C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D49-4D4A-42C8-8343-74080E1F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557-BF26-4512-BA0E-F50A1C3E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955-6503-4DD5-9A0D-894EC964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CF6-7167-4E2B-A317-E7BC021C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432-6841-48E6-906B-2D6BDBBA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17A-2594-406F-AF96-C3EB85D9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99D-A70F-4988-9C85-C3BD6EEA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17C-679A-4484-9327-72D358C1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CAB-45DF-47A4-9502-A6A0FE15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FA8-AAE8-476C-ABB4-B7FFECFB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1924F1-A251-4918-AF8C-8AA4F6C0FB5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5:42:14Z</dcterms:created>
  <dc:creator>пользователь</dc:creator>
  <dc:description/>
  <dc:language>en-US</dc:language>
  <cp:lastModifiedBy>таймир</cp:lastModifiedBy>
  <dcterms:modified xsi:type="dcterms:W3CDTF">2014-04-07T00:49:31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