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8883-DF37-4041-9D5A-474407DB297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9386-68EE-4A75-86FE-01EDAC0C7A4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868D-A244-41AD-8112-9F3DBACBDF2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4E04-9D23-4A4B-A172-9E1BDD57FB3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68F1-3123-48DE-9CE8-797E9FACBB0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4957-0F9A-405D-89D0-63B67A0F0FF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mailto:novikova201@yandex.ru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ze.az/photo/examen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3280" y="2260440"/>
            <a:ext cx="890136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d1114"/>
                </a:solidFill>
                <a:latin typeface="Calibri"/>
                <a:ea typeface="Calibri"/>
              </a:rPr>
              <a:t>Система оценивания итогового сочинения.</a:t>
            </a:r>
            <a:br>
              <a:rPr sz="3200"/>
            </a:br>
            <a:r>
              <a:rPr b="1" lang="ru-RU" sz="3200" spc="-1" strike="noStrike">
                <a:solidFill>
                  <a:srgbClr val="7d1114"/>
                </a:solidFill>
                <a:latin typeface="Calibri"/>
                <a:ea typeface="Calibri"/>
              </a:rPr>
              <a:t>Типичные ошибки и пути их преодо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609480" y="386064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84360" y="52293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в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1547640" y="115920"/>
            <a:ext cx="59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Tahoma"/>
              </a:rPr>
              <a:t>Федеральная служба по надзору в сфере образования и науки РФ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1" descr=""/>
          <p:cNvPicPr/>
          <p:nvPr/>
        </p:nvPicPr>
        <p:blipFill>
          <a:blip r:embed="rId1"/>
          <a:stretch/>
        </p:blipFill>
        <p:spPr>
          <a:xfrm>
            <a:off x="8028000" y="-27000"/>
            <a:ext cx="1116000" cy="100800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6"/>
          <p:cNvSpPr/>
          <p:nvPr/>
        </p:nvSpPr>
        <p:spPr>
          <a:xfrm>
            <a:off x="1187280" y="942840"/>
            <a:ext cx="75614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мина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Итоговое сочинение 2016 год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водим итоги, исправляем недочеты и согласуем методики эффективной подготовки выпускников к сочинению нового форма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507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ероини остается единственный возможный для нее путь – самоубийство. Для религиозной Катерины этот шаг – большой грех. Но другого выхода нет. В пьесе сталкиваются два мира, две позиции – старый патриархальный уклад и новый,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временны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 молодого поколения. В этом произведении конфликт «отцов» и «детей» оказался неразре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пор между старым и новым поколением неизбежен. Поэтому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ршее поколение так редко бывает довольно молодежью. Молодые стремятся к новому, часто отвергая испытанные веками традиции. Старое старается ограничить молодых, направить в нужное русло их энергию. Необходимо искать золотую середину, строить новое, не разрушая того полезного, что предлагают люди старшего поко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5075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"/>
          <p:cNvSpPr/>
          <p:nvPr/>
        </p:nvSpPr>
        <p:spPr>
          <a:xfrm>
            <a:off x="1116000" y="1508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мые критерии оценивания итогового сочинения организациями, реализующими образовательные программы высш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68360" y="1535040"/>
          <a:ext cx="8424720" cy="4908600"/>
        </p:xfrm>
        <a:graphic>
          <a:graphicData uri="http://schemas.openxmlformats.org/drawingml/2006/table">
            <a:tbl>
              <a:tblPr/>
              <a:tblGrid>
                <a:gridCol w="7662960"/>
                <a:gridCol w="761760"/>
              </a:tblGrid>
              <a:tr h="213480">
                <a:tc gridSpan="2"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1. Соответствие те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в той или иной форме рассуждает на предложенную тему, выбрав убедительный путь её раскрытия (например, отвечает на вопрос, поставленный в теме, или размышляет над предложенной проблемой, или строит высказывание на основе связанных с темой тезисов и т.п.), коммуникативный замысел сочинения выражен яс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поверхностно рассуждает на предложенную тему, коммуникативный замысел сочинения прослеживае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ение не соответствует теме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коммуникативный замысел сочинения не прослеживае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gridSpan="2"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2. Аргументация. Привлечение литературного материа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904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при раскрытии темы сочинения строит рассуждение на основе не менее одного произведения отечественной или мировой литературы по собственному выбору, определяя свой путь использования литературного материала; показывает разный уровень его осмысления: от элементов смыслового анализа (например, тематика, проблематика, сюжет, характеры и т.п.) до комплексного анализа художественного текста в единстве формы и содержа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не более 1 фактической ошибки, связанной со знанием литературного материала (ошибка в написании автора и названия произведения, имен персонажей и топонимов произведения, в изложении сюжетной линии, литературных и исторических фактов и т.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строит рассуждение с опорой на литературный материал, но ограничивается общими высказываниями по поводу художественного произвед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ограничивается простым пересказом художественного произвед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допущены 2-4 фактические ошибки, связанные со знанием литературного материа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ение написано без привлечения литературного материал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литературные произведения лишь упоминаются в работе, не становясь опорой для рассуждени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сочинение содержит 5 и более фактических ошиб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507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39640" y="404640"/>
          <a:ext cx="8280360" cy="5867640"/>
        </p:xfrm>
        <a:graphic>
          <a:graphicData uri="http://schemas.openxmlformats.org/drawingml/2006/table">
            <a:tbl>
              <a:tblPr/>
              <a:tblGrid>
                <a:gridCol w="7532640"/>
                <a:gridCol w="747720"/>
              </a:tblGrid>
              <a:tr h="328680">
                <a:tc gridSpan="2"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3. Компози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440"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ение отличается композиционной цельностью, логичностью изложения мыслей и соразмерностью частей, внутри смысловых частей нет нарушений последовательности и необоснованных повтор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ение отличается композиционной цельностью, его части логически связаны между собой, но внутри смысловых частей есть нарушения последовательности и необоснованные повтор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в сочинении прослеживается композиционный замысел, но есть нарушения композиционной связи между смысловыми частям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мысль повторяется и не развивае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е логические нарушения мешают пониманию смысла написанного, или отсутствует тезисно-доказательная часть, или аргументация не убедитель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 gridSpan="2"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4. Качество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440"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точно выражает мысли, используя разнообразную лексику и различные грамматические конструкции, при необходимости уместно употребляет термины, избегает штамп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точно выражает мысли, но его речь характеризуется бедностью словаря и однообразием грамматического строя ре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 качество речи существенно затрудняет понимание смысла, или сочинение написано бедным, примитивным языком, или изобилует просторечными выражениями и вульгариз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507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11280" y="1413000"/>
          <a:ext cx="8281800" cy="3492360"/>
        </p:xfrm>
        <a:graphic>
          <a:graphicData uri="http://schemas.openxmlformats.org/drawingml/2006/table">
            <a:tbl>
              <a:tblPr/>
              <a:tblGrid>
                <a:gridCol w="7532640"/>
                <a:gridCol w="749160"/>
              </a:tblGrid>
              <a:tr h="625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d1114"/>
                          </a:solidFill>
                          <a:latin typeface="Times New Roman"/>
                          <a:ea typeface="Times New Roman"/>
                        </a:rPr>
                        <a:t>К5. Оригинальность сочи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демонстрирует творческий, нестандартный подход к раскрытию темы (в сочинении отмечаются интересные мысли, или неожиданные и вместе с тем убедительные аргументы, или свежие наблюдения и проч.) или яркость сти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не демонстрирует самостоятельности мышления, и/или творческого, нестандартного подхода, и/или оригинальности сти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d1114"/>
                          </a:solidFill>
                          <a:latin typeface="Times New Roman"/>
                          <a:ea typeface="Times New Roman"/>
                        </a:rPr>
                        <a:t>К6. Речевые нор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не более 2 речевых ошиб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3-4 речевые ошиб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5 и более речевых ошиб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9" name="Picture 1" descr=""/>
          <p:cNvPicPr/>
          <p:nvPr/>
        </p:nvPicPr>
        <p:blipFill>
          <a:blip r:embed="rId1"/>
          <a:stretch/>
        </p:blipFill>
        <p:spPr>
          <a:xfrm>
            <a:off x="2987640" y="4900680"/>
            <a:ext cx="3749760" cy="1795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1116000" y="1890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уг литературных произведений, использованных для аргум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95280" y="1654200"/>
            <a:ext cx="367668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чинение позволяет учащимся с  хорошим уровнем общего и речевого развития свободно выходить за рамки школьной программы по литературе в выборе произведений для аргум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4554360" y="1685880"/>
            <a:ext cx="4210200" cy="13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кзаменуемые, не привыкшие много читать и затрудняющиеся в создании развернутого письменного высказывания на заданную ему, чаще обращаются к  произведениям из школьной программы и «внеклассного чтения» второй половин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44680" y="3984480"/>
            <a:ext cx="2668320" cy="10112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краткого пересказа литературного произ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124160" y="3965400"/>
            <a:ext cx="648000" cy="4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36840" y="5181480"/>
            <a:ext cx="2314800" cy="12272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сылка на  экранизацию, театральную постано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5770440" y="4130640"/>
            <a:ext cx="2833920" cy="108432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щение к произведениям массов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7" descr=""/>
          <p:cNvPicPr/>
          <p:nvPr/>
        </p:nvPicPr>
        <p:blipFill>
          <a:blip r:embed="rId1"/>
          <a:stretch/>
        </p:blipFill>
        <p:spPr>
          <a:xfrm rot="19083000">
            <a:off x="3191040" y="4465800"/>
            <a:ext cx="731520" cy="274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8" descr=""/>
          <p:cNvPicPr/>
          <p:nvPr/>
        </p:nvPicPr>
        <p:blipFill>
          <a:blip r:embed="rId2"/>
          <a:stretch/>
        </p:blipFill>
        <p:spPr>
          <a:xfrm rot="11499600">
            <a:off x="4933440" y="3490560"/>
            <a:ext cx="689040" cy="744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"/>
          <p:cNvPicPr/>
          <p:nvPr/>
        </p:nvPicPr>
        <p:blipFill>
          <a:blip r:embed="rId3"/>
          <a:stretch/>
        </p:blipFill>
        <p:spPr>
          <a:xfrm rot="3499200">
            <a:off x="3248280" y="3420360"/>
            <a:ext cx="689040" cy="744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"/>
          <p:cNvPicPr/>
          <p:nvPr/>
        </p:nvPicPr>
        <p:blipFill>
          <a:blip r:embed="rId4"/>
          <a:stretch/>
        </p:blipFill>
        <p:spPr>
          <a:xfrm rot="14476200">
            <a:off x="4934520" y="4199400"/>
            <a:ext cx="689040" cy="744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"/>
          <p:cNvPicPr/>
          <p:nvPr/>
        </p:nvPicPr>
        <p:blipFill>
          <a:blip r:embed="rId5"/>
          <a:stretch/>
        </p:blipFill>
        <p:spPr>
          <a:xfrm rot="18319800">
            <a:off x="4168440" y="4535640"/>
            <a:ext cx="547920" cy="592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17360" y="1413000"/>
            <a:ext cx="67071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ка к итоговому сочин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4"/>
          <p:cNvSpPr/>
          <p:nvPr/>
        </p:nvSpPr>
        <p:spPr>
          <a:xfrm>
            <a:off x="324000" y="1565280"/>
            <a:ext cx="8640720" cy="3697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24000" y="1565280"/>
          <a:ext cx="8572320" cy="472428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вое сочи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ГЭ по русскому язы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ГЭ по литера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35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ль - развитие речевой культуры обучающихся, стимул к чтен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нацелено на проверку уровня речевой культуры выпускн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ряет умения рассуждать по избранной теме с опорой на литературный материа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петентностный подход: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проверить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лингвистическую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петенцию, то есть умение проводить лингвистический анализ языковых явлени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языковую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петенцию, 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сть практическое владение русским языком, его словарём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амматическим строем, соблюдение языковых норм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4166f"/>
                          </a:solidFill>
                          <a:latin typeface="Arial"/>
                          <a:ea typeface="Arial"/>
                        </a:rPr>
                        <a:t>коммуникативную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омпетенцию, то есть владение разными видами речевой деятельност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мение воспринимать чужую речь и создавать собств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казыва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культуроведческую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 есть осознание языка как формы выражения национальной культуры, взаимосвязи языка и ис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рода, национально-культурной специфики русского языка»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из «Спецификации…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…при сдаче ЕГЭ по литературе от экзаменуем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ебуется активизация наиболее значимых для предмета видов учеб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ятельности: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налитического осмысления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удожественного текста, 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терпретации, поиска оснований для сопоставления литературных яв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фактов, написания аргументированного ответа на проблемный вопро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из «Спецификации…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325" name="Прямоугольник 2"/>
          <p:cNvSpPr/>
          <p:nvPr/>
        </p:nvSpPr>
        <p:spPr>
          <a:xfrm>
            <a:off x="1116000" y="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тоговое сочинение  и задания с развернутым ответом в ЕГЭ по русскому языку и лит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7" descr="Здание_Гимназии_03"/>
          <p:cNvPicPr/>
          <p:nvPr/>
        </p:nvPicPr>
        <p:blipFill>
          <a:blip r:embed="rId1"/>
          <a:stretch/>
        </p:blipFill>
        <p:spPr>
          <a:xfrm>
            <a:off x="324000" y="1744560"/>
            <a:ext cx="3001680" cy="22608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355680" y="4086360"/>
            <a:ext cx="588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БОУ ордена Трудового Красного Знамени гимназия № 20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. Героев Советского Союза З. и А. Космодемьян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"/>
          <p:cNvSpPr/>
          <p:nvPr/>
        </p:nvSpPr>
        <p:spPr>
          <a:xfrm>
            <a:off x="324000" y="4869000"/>
            <a:ext cx="8580240" cy="1372320"/>
          </a:xfrm>
          <a:prstGeom prst="rect">
            <a:avLst/>
          </a:prstGeom>
          <a:solidFill>
            <a:srgbClr val="1e46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4df"/>
                </a:solidFill>
                <a:latin typeface="Arial"/>
                <a:ea typeface="Arial"/>
              </a:rPr>
              <a:t>Новикова Л.В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4df"/>
                </a:solidFill>
                <a:latin typeface="Arial"/>
                <a:ea typeface="Arial"/>
              </a:rPr>
              <a:t>кандидат педагогических наук, Почетный работник общего образования РФ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4df"/>
                </a:solidFill>
                <a:latin typeface="Arial"/>
                <a:ea typeface="Arial"/>
              </a:rPr>
              <a:t>член Федеральной предметной комиссии по литературе и рабочей группы по разработке тематики и критериев оценивания итогового соч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novikova201@yandex.ru</a:t>
            </a:r>
            <a:r>
              <a:rPr b="1" lang="ru-RU" sz="2000" spc="-1" strike="noStrike">
                <a:solidFill>
                  <a:srgbClr val="e5e4d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8" descr="http://knigibz.ru/image/cache/data/metodicheskie-posobi/6/p-ru-product-2-130-1292205-350x350.jpg"/>
          <p:cNvPicPr/>
          <p:nvPr/>
        </p:nvPicPr>
        <p:blipFill>
          <a:blip r:embed="rId3"/>
          <a:stretch/>
        </p:blipFill>
        <p:spPr>
          <a:xfrm>
            <a:off x="7085160" y="728640"/>
            <a:ext cx="1228680" cy="1227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http://www.knidky.ru/organizatsiya-obrazovaniya/logisticheskie-protsessy-v-obrazovanii/logisticheskie-protsessy-v-obrazovanii.jpg"/>
          <p:cNvPicPr/>
          <p:nvPr/>
        </p:nvPicPr>
        <p:blipFill>
          <a:blip r:embed="rId4"/>
          <a:stretch/>
        </p:blipFill>
        <p:spPr>
          <a:xfrm>
            <a:off x="7908840" y="403200"/>
            <a:ext cx="1041480" cy="1443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http://eway.ru/img/books_covers/1008801149.jpg"/>
          <p:cNvPicPr/>
          <p:nvPr/>
        </p:nvPicPr>
        <p:blipFill>
          <a:blip r:embed="rId5"/>
          <a:stretch/>
        </p:blipFill>
        <p:spPr>
          <a:xfrm rot="20917200">
            <a:off x="6710400" y="733320"/>
            <a:ext cx="907920" cy="11746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2"/>
          <p:cNvSpPr/>
          <p:nvPr/>
        </p:nvSpPr>
        <p:spPr>
          <a:xfrm>
            <a:off x="1187280" y="998640"/>
            <a:ext cx="518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d1114"/>
                </a:solidFill>
                <a:latin typeface="Times New Roman"/>
                <a:ea typeface="Times New Roman"/>
              </a:rPr>
              <a:t>ИТОГОВОЕ СОЧИН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d1114"/>
                </a:solidFill>
                <a:latin typeface="Times New Roman"/>
                <a:ea typeface="Times New Roman"/>
              </a:rPr>
              <a:t>МЕТОДИЧЕСКИЕ РЕКОМЕНДАЦИИ ДЛЯ ВЫПУСКНИКОВ, УЧИТЕЛЕЙ, ОБРАЗОВАТЕЛЬНЫХ ОРГАНИЗА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3635280" y="2135160"/>
            <a:ext cx="520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d1114"/>
                </a:solidFill>
                <a:latin typeface="Times New Roman"/>
                <a:ea typeface="Times New Roman"/>
              </a:rPr>
              <a:t>3 ноября, 11.00 – 1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од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чтения имени  З. Н. Кула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Информация об итоговом сочинении на сайте ФИ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000" y="1557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-144360" y="1147680"/>
            <a:ext cx="9288360" cy="5222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117360" y="1484280"/>
            <a:ext cx="8918640" cy="20142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чинение носит надпредметный характер и нацелено на проверку уровня речевой культуры выпускни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итературоцентричность экзамена связана с традициями российского школьного образования,  где чтение и изучение литературы всегда уделялось особое вним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ора на литературное  произведение подразумевает не только ссылку на текст, но и обращение к нему на уровне аргум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755640" y="404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вухуровневая система оценивания итогового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http://www.uralinform.ru/media/photo/big/sochinenie.jpg"/>
          <p:cNvPicPr/>
          <p:nvPr/>
        </p:nvPicPr>
        <p:blipFill>
          <a:blip r:embed="rId1"/>
          <a:stretch/>
        </p:blipFill>
        <p:spPr>
          <a:xfrm>
            <a:off x="7164360" y="189000"/>
            <a:ext cx="1712880" cy="11253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"/>
          <p:cNvSpPr/>
          <p:nvPr/>
        </p:nvSpPr>
        <p:spPr>
          <a:xfrm>
            <a:off x="117360" y="351648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1114"/>
                </a:solidFill>
                <a:latin typeface="Arial"/>
              </a:rPr>
              <a:t>Условия получения зачета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117360" y="4167360"/>
            <a:ext cx="3097440" cy="2040840"/>
          </a:xfrm>
          <a:prstGeom prst="rect">
            <a:avLst/>
          </a:prstGeom>
          <a:solidFill>
            <a:srgbClr val="b1c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ложительный результат по трем критериям (по критериям 1 и 2 – обязательно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бъем сочинение не менее 250 сл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амостоятельность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3348000" y="3498840"/>
            <a:ext cx="56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1114"/>
                </a:solidFill>
                <a:latin typeface="Arial"/>
              </a:rPr>
              <a:t>Критерии, рекомендованные для  вузов (макс. балл  по каждому – 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3348000" y="4162320"/>
            <a:ext cx="5796000" cy="2527560"/>
          </a:xfrm>
          <a:prstGeom prst="rect">
            <a:avLst/>
          </a:prstGeom>
          <a:solidFill>
            <a:srgbClr val="b1c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1. Соответствие 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2. Аргументация. Привлечение лит. 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3. Композиция и логика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4. Качество письменной р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5. Оригинальность соч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6. Речевые н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7. Орфографические н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8. Пунктуационные н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9. Грамматические н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10. Фактическая точность в фоновом матери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3"/>
          <p:cNvSpPr/>
          <p:nvPr/>
        </p:nvSpPr>
        <p:spPr>
          <a:xfrm>
            <a:off x="1258920" y="404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ритерии оценки итогового сочинения в шко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Картинка 25 из 1605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00160"/>
            <a:ext cx="2585880" cy="17161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250920" y="1487520"/>
            <a:ext cx="8707320" cy="520452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1. Соответствие тем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пускник отвечает на вопрос, или размышляет на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ной проблемой, или высказывается на основе связанных с темой тезисов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Незачет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работа не соответствует теме или в ней отсутствует конкретная цель высказы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2. Аргументация. Привлечение литературного материа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пускник  привлекает для аргументации хотя бы один литературный тек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Незачет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литературный материал не привлечен, или искажено содержание книг, или они лишь упомянуты, но не являются опорой для рассу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3. Композиция и логика рассу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пускник аргументирует свои мысли, соотнося тезисы и доказатель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Незачет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грубые логические ошибки мешают пониманию смысла фраз или отсутствует тезисно-доказательная ч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4. Качество письменн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пускник точно выражает мысли, используя разнообразную лексику и  грамматические конструкции, уместно употребляет термины, избегает речевых штампов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Незачет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низкое качество речи и речевые ошибки мешают пониманию смысла раб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5. Грамот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Незачет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грамматические, орфографические и пунктуационные ошибки мешают чтению и пониманию сочинения  (более 5 ошибок на 100 сл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Учёт итогового сочинения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на разных уровнях системы образ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560" y="1341360"/>
            <a:ext cx="4321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щее среднее образ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 рамках промежуточной аттестации как допуск к ГИ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истема оценива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1e4649"/>
                </a:solidFill>
                <a:latin typeface="Arial"/>
              </a:rPr>
              <a:t>зачёт/незачё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бязательность участ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роки проведения:</a:t>
            </a:r>
            <a:br>
              <a:rPr sz="2100"/>
            </a:br>
            <a:r>
              <a:rPr b="0" lang="ru-RU" sz="2000" spc="-1" strike="noStrike">
                <a:solidFill>
                  <a:srgbClr val="0c1c1d"/>
                </a:solidFill>
                <a:latin typeface="Arial"/>
              </a:rPr>
              <a:t>декабрь 2014 г.,</a:t>
            </a:r>
            <a:r>
              <a:rPr b="1" lang="ru-RU" sz="2000" spc="-1" strike="noStrike">
                <a:solidFill>
                  <a:srgbClr val="0c1c1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1c1d"/>
                </a:solidFill>
                <a:latin typeface="Arial"/>
              </a:rPr>
              <a:t>февраль, апрель., май 2015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c1c1d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4716360" y="1268280"/>
            <a:ext cx="44276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сшее профессиональное образ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спект индивидуальных достиж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истема оценивания:</a:t>
            </a:r>
            <a:br>
              <a:rPr sz="2400"/>
            </a:br>
            <a:r>
              <a:rPr b="0" lang="ru-RU" sz="2200" spc="-1" strike="noStrike">
                <a:solidFill>
                  <a:srgbClr val="1e4649"/>
                </a:solidFill>
                <a:latin typeface="Arial"/>
              </a:rPr>
              <a:t>разные формы по выбору ву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обровольность уче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роки рассмотрения:</a:t>
            </a:r>
            <a:br>
              <a:rPr sz="2100"/>
            </a:br>
            <a:r>
              <a:rPr b="0" lang="ru-RU" sz="2000" spc="-1" strike="noStrike">
                <a:solidFill>
                  <a:srgbClr val="0c1c1d"/>
                </a:solidFill>
                <a:latin typeface="Arial"/>
              </a:rPr>
              <a:t>вступительная кампания </a:t>
            </a:r>
            <a:br>
              <a:rPr sz="2000"/>
            </a:br>
            <a:r>
              <a:rPr b="0" lang="ru-RU" sz="2000" spc="-1" strike="noStrike">
                <a:solidFill>
                  <a:srgbClr val="0c1c1d"/>
                </a:solidFill>
                <a:latin typeface="Arial"/>
              </a:rPr>
              <a:t>2015-16 учебного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Прямая соединительная линия 6" descr=""/>
          <p:cNvPicPr/>
          <p:nvPr/>
        </p:nvPicPr>
        <p:blipFill>
          <a:blip r:embed="rId1"/>
          <a:stretch/>
        </p:blipFill>
        <p:spPr>
          <a:xfrm>
            <a:off x="4468680" y="1487520"/>
            <a:ext cx="24120" cy="454176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ая соединительная линия 8" descr=""/>
          <p:cNvPicPr/>
          <p:nvPr/>
        </p:nvPicPr>
        <p:blipFill>
          <a:blip r:embed="rId2"/>
          <a:stretch/>
        </p:blipFill>
        <p:spPr>
          <a:xfrm>
            <a:off x="396720" y="1884240"/>
            <a:ext cx="8498160" cy="23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3"/>
          <a:stretch/>
        </p:blipFill>
        <p:spPr>
          <a:xfrm>
            <a:off x="330120" y="5157720"/>
            <a:ext cx="8510760" cy="49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208080" y="5651640"/>
          <a:ext cx="8642160" cy="1055520"/>
        </p:xfrm>
        <a:graphic>
          <a:graphicData uri="http://schemas.openxmlformats.org/drawingml/2006/table">
            <a:tbl>
              <a:tblPr/>
              <a:tblGrid>
                <a:gridCol w="1954080"/>
                <a:gridCol w="465120"/>
                <a:gridCol w="565200"/>
                <a:gridCol w="565200"/>
                <a:gridCol w="668160"/>
                <a:gridCol w="682560"/>
                <a:gridCol w="771840"/>
                <a:gridCol w="772920"/>
                <a:gridCol w="495360"/>
                <a:gridCol w="576360"/>
                <a:gridCol w="495360"/>
                <a:gridCol w="630000"/>
              </a:tblGrid>
              <a:tr h="73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метка по десятибалльной систем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вич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Распределение вузов по наличию </a:t>
            </a:r>
            <a:br>
              <a:rPr sz="2700"/>
            </a:b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в правилах приема на 2015-2016 уч. г. информации об учете баллов за итоговое сочинение</a:t>
            </a:r>
            <a:br>
              <a:rPr sz="28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одные данные по всем федеральным округ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Диаграмма 3" descr=""/>
          <p:cNvPicPr/>
          <p:nvPr/>
        </p:nvPicPr>
        <p:blipFill>
          <a:blip r:embed="rId1"/>
          <a:stretch/>
        </p:blipFill>
        <p:spPr>
          <a:xfrm>
            <a:off x="128520" y="930240"/>
            <a:ext cx="8705880" cy="3773520"/>
          </a:xfrm>
          <a:prstGeom prst="rect">
            <a:avLst/>
          </a:prstGeom>
          <a:ln w="0">
            <a:noFill/>
          </a:ln>
        </p:spPr>
      </p:pic>
      <p:pic>
        <p:nvPicPr>
          <p:cNvPr id="295" name="Диаграмма 5" descr=""/>
          <p:cNvPicPr/>
          <p:nvPr/>
        </p:nvPicPr>
        <p:blipFill>
          <a:blip r:embed="rId2"/>
          <a:stretch/>
        </p:blipFill>
        <p:spPr>
          <a:xfrm>
            <a:off x="-50760" y="4386240"/>
            <a:ext cx="6113520" cy="2522520"/>
          </a:xfrm>
          <a:prstGeom prst="rect">
            <a:avLst/>
          </a:prstGeom>
          <a:ln w="0">
            <a:noFill/>
          </a:ln>
        </p:spPr>
      </p:pic>
      <p:pic>
        <p:nvPicPr>
          <p:cNvPr id="296" name="Диаграмма 6" descr=""/>
          <p:cNvPicPr/>
          <p:nvPr/>
        </p:nvPicPr>
        <p:blipFill>
          <a:blip r:embed="rId3"/>
          <a:stretch/>
        </p:blipFill>
        <p:spPr>
          <a:xfrm>
            <a:off x="4665600" y="4341960"/>
            <a:ext cx="4513320" cy="2377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Распределение количества вузов по значениям баллов за итоговое сочинение, учитываемых при приеме абитуриентов на 2015-2016 уч.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Диаграмма 3" descr=""/>
          <p:cNvPicPr/>
          <p:nvPr/>
        </p:nvPicPr>
        <p:blipFill>
          <a:blip r:embed="rId1"/>
          <a:stretch/>
        </p:blipFill>
        <p:spPr>
          <a:xfrm>
            <a:off x="-50760" y="1722600"/>
            <a:ext cx="9245520" cy="4165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0" y="33300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Неизбежен ли конфликт «отцов» и «детей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заимоотношений родителей и детей волновала писателей и поэтов во все времена. Об отношениях представителей старшего и младшего поколений писали А.С. Грибоедов, И.С. Тургенев, В.П. Распутин. Эта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блем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одной из самых главных в пьесе А.Н. Островского «Гроз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ский изучал быт и нравы русского купечества во время этнографической поездки по Волге. Основой сюжета пьесы могла послужить реальная история, произошедшая в одном из приволжских городков. Молодая девушка была отдана замуж в чужую жестокую семью. Она терпела унижения и притеснения со стороны свекрови, тихий и забитый муж был не в состоянии защитить жену. Не выдержав постоянных обид и сплетен вокруг своего имени, девушка бросилась с Вол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ьесе Островского Катерина – чистая, открытая, искренняя и романтичная девушка.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важительно относится к окружающим, готова всех любить, но в отве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ет такого же отношения к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277920" y="259920"/>
            <a:ext cx="8856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ре кабановых и диких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цвет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баниха –             полно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на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зяйка дома. Она считает, что жизнь в семь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жн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итьс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домостроевским законам: главной в дом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ж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свекровь, все члены семь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жн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ть ее распоряжения, отношения между мужем и женой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жны строитьс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страхе со стороны жены, на власти со стороны мужа. Марфа Игнатьевна набожна, привечает странницу Феклушу, но при этом очень деспотична, придирчива, властолюбива. Дикой груб и жесток по отношению к окружающим. Он безнаказанно оскорбляет всех вокруг, а тех, кому должен платить деньги за работу обирает  и обделяет.  В среде ханжества, лицемерия, самодурства Катерине, Тихону, Варваре и Борису живется очень тяжело. Но последние смогли приспособиться к такому образу жизни. Они научились лгать, притворяться, выкручиваться. Катерина же не способна на ложь. Она до поры до времени терпит деспотизм, высокомерие, жестокость, равнодушие. А потом начинает протестовать. В те времена у замужней женщины было немного способов защитить свою честь и достоинство. Она не могла уйти от мужа, да и человек, которого полюбила Катерина, боится встать на ее защиту, взять за нее ответ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Христина</cp:lastModifiedBy>
  <cp:lastPrinted>2015-09-09T07:35:24Z</cp:lastPrinted>
  <dcterms:modified xsi:type="dcterms:W3CDTF">2015-10-16T04:25:11Z</dcterms:modified>
  <cp:revision>521</cp:revision>
  <dc:subject/>
  <dc:title>Презентация PowerPoint</dc:title>
</cp:coreProperties>
</file>