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png" ContentType="image/png"/>
  <Override PartName="/ppt/media/image5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9.png" ContentType="image/png"/>
  <Override PartName="/ppt/media/image13.gif" ContentType="image/gif"/>
  <Override PartName="/ppt/media/image16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B91-F6AA-4D78-9179-2691F867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C18-037C-42BB-BF61-341B6C26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647-0A8B-4835-85E9-50E906B9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BC5-1C80-459F-B4F7-D1585EF6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C98-FB25-4E3F-8F65-FD31D88D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B16-FC8C-4CD3-AD8C-926C3596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E1D-58C7-4CE0-9EB2-82F9C068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174-BD88-4639-8339-2B1F31A1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538-9CC4-4F10-A882-91B9B12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1F1-1716-455F-9E6D-9CB87B9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F24-9885-4319-B3E1-7652A00D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B2B-EED9-4809-B835-11D68A84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4A29-F1C5-4DC6-AB0B-0F89D60D4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gi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www.yantik-yaltch.edu.cap.ru/home/4203/839688d55411.jpg"/>
          <p:cNvPicPr/>
          <p:nvPr/>
        </p:nvPicPr>
        <p:blipFill>
          <a:blip r:embed="rId2"/>
          <a:stretch/>
        </p:blipFill>
        <p:spPr>
          <a:xfrm>
            <a:off x="611280" y="2276640"/>
            <a:ext cx="4824360" cy="41227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530280" y="762120"/>
            <a:ext cx="803412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213720" y="836640"/>
            <a:ext cx="31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Сегодня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я\Desktop\мероприятие сердитые странички\chitalka780773.jpg"/>
          <p:cNvPicPr/>
          <p:nvPr/>
        </p:nvPicPr>
        <p:blipFill>
          <a:blip r:embed="rId2"/>
          <a:stretch/>
        </p:blipFill>
        <p:spPr>
          <a:xfrm>
            <a:off x="971640" y="1628640"/>
            <a:ext cx="5832360" cy="4372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627280" y="907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ка  «Опоздание на ур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я\Desktop\мероприятие сердитые странички\34.gif"/>
          <p:cNvPicPr/>
          <p:nvPr/>
        </p:nvPicPr>
        <p:blipFill>
          <a:blip r:embed="rId3"/>
          <a:stretch/>
        </p:blipFill>
        <p:spPr>
          <a:xfrm>
            <a:off x="1403280" y="981000"/>
            <a:ext cx="24480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я\Desktop\мероприятие сердитые странички\chitalka780773.jpg"/>
          <p:cNvPicPr/>
          <p:nvPr/>
        </p:nvPicPr>
        <p:blipFill>
          <a:blip r:embed="rId2"/>
          <a:stretch/>
        </p:blipFill>
        <p:spPr>
          <a:xfrm>
            <a:off x="971640" y="3625920"/>
            <a:ext cx="3168720" cy="2374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1715040" y="549360"/>
            <a:ext cx="63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Arial"/>
              </a:rPr>
              <a:t>Нарушенные правила уч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054080" y="1268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опаздывать н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1042920" y="1700280"/>
            <a:ext cx="74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оров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просила извине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я се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4500720" y="299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Arial"/>
              </a:rPr>
              <a:t>Дурные манеры</a:t>
            </a:r>
            <a:r>
              <a:rPr b="0" lang="ru-RU" sz="3600" spc="-1" strike="noStrike">
                <a:solidFill>
                  <a:srgbClr val="77933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655520" y="3799080"/>
            <a:ext cx="381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ать зат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еть в пот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ить вместо т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полн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ьбу учите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я\Desktop\мероприятие сердитые странички\2782077-2df820b55171fa61.png"/>
          <p:cNvPicPr/>
          <p:nvPr/>
        </p:nvPicPr>
        <p:blipFill>
          <a:blip r:embed="rId3"/>
          <a:stretch/>
        </p:blipFill>
        <p:spPr>
          <a:xfrm>
            <a:off x="900000" y="2924280"/>
            <a:ext cx="3311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124000" y="83664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«Перемена»    Борис Заход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C:\Users\я\Desktop\мероприятие сердитые странички\peremenka.jpg"/>
          <p:cNvPicPr/>
          <p:nvPr/>
        </p:nvPicPr>
        <p:blipFill>
          <a:blip r:embed="rId2"/>
          <a:stretch/>
        </p:blipFill>
        <p:spPr>
          <a:xfrm>
            <a:off x="1547640" y="2205000"/>
            <a:ext cx="4211640" cy="341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Users\я\Desktop\мероприятие сердитые странички\1666762-a522a50b5714cd4f.gif"/>
          <p:cNvPicPr/>
          <p:nvPr/>
        </p:nvPicPr>
        <p:blipFill>
          <a:blip r:embed="rId3"/>
          <a:stretch/>
        </p:blipFill>
        <p:spPr>
          <a:xfrm>
            <a:off x="1403280" y="1628640"/>
            <a:ext cx="4608720" cy="435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я\Desktop\мероприятие сердитые странички\mage36.gif"/>
          <p:cNvPicPr/>
          <p:nvPr/>
        </p:nvPicPr>
        <p:blipFill>
          <a:blip r:embed="rId4"/>
          <a:stretch/>
        </p:blipFill>
        <p:spPr>
          <a:xfrm>
            <a:off x="1258920" y="1557360"/>
            <a:ext cx="5473800" cy="439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я\Desktop\мероприятие сердитые странички\34.gif"/>
          <p:cNvPicPr/>
          <p:nvPr/>
        </p:nvPicPr>
        <p:blipFill>
          <a:blip r:embed="rId5"/>
          <a:stretch/>
        </p:blipFill>
        <p:spPr>
          <a:xfrm>
            <a:off x="1403280" y="981000"/>
            <a:ext cx="2448000" cy="271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Users\я\Desktop\мероприятие сердитые странички\1.jpg"/>
          <p:cNvPicPr/>
          <p:nvPr/>
        </p:nvPicPr>
        <p:blipFill>
          <a:blip r:embed="rId6"/>
          <a:stretch/>
        </p:blipFill>
        <p:spPr>
          <a:xfrm>
            <a:off x="755640" y="836640"/>
            <a:ext cx="756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826920" y="555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77933c"/>
                </a:solidFill>
                <a:latin typeface="Arial"/>
                <a:ea typeface="Times New Roman"/>
              </a:rPr>
              <a:t>Правила поведения на перемене</a:t>
            </a:r>
            <a:r>
              <a:rPr b="0" lang="ru-RU" sz="3200" spc="-1" strike="noStrike">
                <a:solidFill>
                  <a:srgbClr val="77933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26920" y="95472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перемен в школьном помещении учащиеся должны вести себя спокойно, дисциплиниров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826920" y="1773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еремен учащиеся питаются в столовой в установле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826920" y="2493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я по коридору, не бегать и не кри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755640" y="29271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емене разрешается играть в игры, но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мешать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55640" y="36478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те в учительскую, кабинет директора без раз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755640" y="4365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еремены в классе остаются только дежурные, которые приводят класс в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826920" y="5100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мену зайди в туалетную комнату, чтобы не отпрашиваться с уроков, в туалете будь аккуратен, не забудь помыть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я\Desktop\мероприятие сердитые странички\2.gif"/>
          <p:cNvPicPr/>
          <p:nvPr/>
        </p:nvPicPr>
        <p:blipFill>
          <a:blip r:embed="rId2"/>
          <a:stretch/>
        </p:blipFill>
        <p:spPr>
          <a:xfrm>
            <a:off x="1116000" y="2205000"/>
            <a:ext cx="3724200" cy="409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я\Desktop\мероприятие сердитые странички\93778930238992608433.jpg"/>
          <p:cNvPicPr/>
          <p:nvPr/>
        </p:nvPicPr>
        <p:blipFill>
          <a:blip r:embed="rId3"/>
          <a:stretch/>
        </p:blipFill>
        <p:spPr>
          <a:xfrm>
            <a:off x="2987640" y="1989000"/>
            <a:ext cx="2120760" cy="159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я\Desktop\мероприятие сердитые странички\p1.gif"/>
          <p:cNvPicPr/>
          <p:nvPr/>
        </p:nvPicPr>
        <p:blipFill>
          <a:blip r:embed="rId4"/>
          <a:stretch/>
        </p:blipFill>
        <p:spPr>
          <a:xfrm rot="21102000">
            <a:off x="2371320" y="3622680"/>
            <a:ext cx="1809720" cy="158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я\Desktop\мероприятие сердитые странички\7774a437e668.gif"/>
          <p:cNvPicPr/>
          <p:nvPr/>
        </p:nvPicPr>
        <p:blipFill>
          <a:blip r:embed="rId5"/>
          <a:stretch/>
        </p:blipFill>
        <p:spPr>
          <a:xfrm>
            <a:off x="2916360" y="1432080"/>
            <a:ext cx="2950920" cy="2260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я\Desktop\мероприятие сердитые странички\i (7).jpg"/>
          <p:cNvPicPr/>
          <p:nvPr/>
        </p:nvPicPr>
        <p:blipFill>
          <a:blip r:embed="rId6"/>
          <a:stretch/>
        </p:blipFill>
        <p:spPr>
          <a:xfrm>
            <a:off x="2916360" y="1413000"/>
            <a:ext cx="3024000" cy="2350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я\Desktop\мероприятие сердитые странички\books_BW.png"/>
          <p:cNvPicPr/>
          <p:nvPr/>
        </p:nvPicPr>
        <p:blipFill>
          <a:blip r:embed="rId7"/>
          <a:stretch/>
        </p:blipFill>
        <p:spPr>
          <a:xfrm>
            <a:off x="2916360" y="1413000"/>
            <a:ext cx="3024000" cy="2368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Users\я\Desktop\мероприятие сердитые странички\100.png"/>
          <p:cNvPicPr/>
          <p:nvPr/>
        </p:nvPicPr>
        <p:blipFill>
          <a:blip r:embed="rId8"/>
          <a:stretch/>
        </p:blipFill>
        <p:spPr>
          <a:xfrm>
            <a:off x="2484360" y="907920"/>
            <a:ext cx="5400720" cy="4326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я\Desktop\мероприятие сердитые странички\34.gif"/>
          <p:cNvPicPr/>
          <p:nvPr/>
        </p:nvPicPr>
        <p:blipFill>
          <a:blip r:embed="rId9"/>
          <a:stretch/>
        </p:blipFill>
        <p:spPr>
          <a:xfrm>
            <a:off x="1403280" y="981000"/>
            <a:ext cx="244800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1692360" y="836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Arial"/>
              </a:rPr>
              <a:t>Стыдитесь время зря тер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501560" y="765000"/>
            <a:ext cx="61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Сокровищница народной мудр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116000" y="170352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Слово лечит, слово и ранит»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послов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826920" y="292932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Великие достоинства и слава идут на убыль от дурного нра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ким Фирдоуси персидский поэт Х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187280" y="440244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ичто не даётся нам так дёшев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ценится так дорого, как вежливо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ель де Сервантес испанский пис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971640" y="69228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Достойны уважени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Достойны осужд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Users\я\Desktop\мероприятие сердитые странички\36422196.jpg"/>
          <p:cNvPicPr/>
          <p:nvPr/>
        </p:nvPicPr>
        <p:blipFill>
          <a:blip r:embed="rId2"/>
          <a:stretch/>
        </p:blipFill>
        <p:spPr>
          <a:xfrm>
            <a:off x="971640" y="1341360"/>
            <a:ext cx="1806480" cy="194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я\Desktop\мероприятие сердитые странички\img8.jpg"/>
          <p:cNvPicPr/>
          <p:nvPr/>
        </p:nvPicPr>
        <p:blipFill>
          <a:blip r:embed="rId3"/>
          <a:stretch/>
        </p:blipFill>
        <p:spPr>
          <a:xfrm>
            <a:off x="6948360" y="1844640"/>
            <a:ext cx="1668600" cy="216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я\Desktop\мероприятие сердитые странички\9.jpg"/>
          <p:cNvPicPr/>
          <p:nvPr/>
        </p:nvPicPr>
        <p:blipFill>
          <a:blip r:embed="rId4"/>
          <a:stretch/>
        </p:blipFill>
        <p:spPr>
          <a:xfrm>
            <a:off x="2771640" y="2708280"/>
            <a:ext cx="1944720" cy="220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я\Desktop\мероприятие сердитые странички\1324550275_fb0dfcba9a28.jpg"/>
          <p:cNvPicPr/>
          <p:nvPr/>
        </p:nvPicPr>
        <p:blipFill>
          <a:blip r:embed="rId5"/>
          <a:stretch/>
        </p:blipFill>
        <p:spPr>
          <a:xfrm>
            <a:off x="4788000" y="3213000"/>
            <a:ext cx="2184480" cy="171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:\Users\я\Desktop\мероприятие сердитые странички\1290405862_naklejka-na-pol.jpg"/>
          <p:cNvPicPr/>
          <p:nvPr/>
        </p:nvPicPr>
        <p:blipFill>
          <a:blip r:embed="rId6"/>
          <a:stretch/>
        </p:blipFill>
        <p:spPr>
          <a:xfrm>
            <a:off x="755640" y="4581360"/>
            <a:ext cx="2554200" cy="18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C:\Users\я\Desktop\мероприятие сердитые странички\40624_23.jpg"/>
          <p:cNvPicPr/>
          <p:nvPr/>
        </p:nvPicPr>
        <p:blipFill>
          <a:blip r:embed="rId7"/>
          <a:stretch/>
        </p:blipFill>
        <p:spPr>
          <a:xfrm>
            <a:off x="6012000" y="4941720"/>
            <a:ext cx="259236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player.myshared.ru/414263/data/images/img1.jpg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1547640" y="234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е занятие называлось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921400" y="981000"/>
            <a:ext cx="34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Подведение ит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1554120" y="335772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знаю, что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1638720" y="4437000"/>
            <a:ext cx="65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не только знать правила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и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41:59Z</dcterms:created>
  <dc:creator>я</dc:creator>
  <dc:description/>
  <dc:language>en-US</dc:language>
  <cp:lastModifiedBy>я</cp:lastModifiedBy>
  <dcterms:modified xsi:type="dcterms:W3CDTF">2015-10-16T07:52:08Z</dcterms:modified>
  <cp:revision>90</cp:revision>
  <dc:subject/>
  <dc:title>Слайд 1</dc:title>
</cp:coreProperties>
</file>