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png" ContentType="image/png"/>
  <Override PartName="/ppt/media/image5.gif" ContentType="image/gif"/>
  <Override PartName="/ppt/media/image12.jpeg" ContentType="image/jpeg"/>
  <Override PartName="/ppt/media/image7.jpeg" ContentType="image/jpeg"/>
  <Override PartName="/ppt/media/image6.png" ContentType="image/png"/>
  <Override PartName="/ppt/media/image9.png" ContentType="image/png"/>
  <Override PartName="/ppt/media/image13.gif" ContentType="image/gif"/>
  <Override PartName="/ppt/media/image16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gif" ContentType="image/gif"/>
  <Override PartName="/ppt/media/image17.png" ContentType="image/png"/>
  <Override PartName="/ppt/media/image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420-AD98-450C-AE3C-4FA79414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B2D-F9C9-481F-9A15-DBCD5E74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521C-56F3-4995-968D-62B67AA5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88F-FA6C-4C61-967E-A410DD91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441-95DB-457F-811A-62DEC5BF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3CA-1079-46C3-BC0D-7FF477B6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2F3-57A2-46BB-9111-C8F21262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F2F-0DA7-4C25-8E79-72C26953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407-3A60-479B-AB5D-DE1E38BD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D78-4C7B-40FB-B329-6C7D931D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1925-8F22-45EE-8785-40E711D7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625-CD41-4178-BD88-12331773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ED15-DCF3-488A-B79A-5B9DC6CCEE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gif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318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http://www.yantik-yaltch.edu.cap.ru/home/4203/839688d55411.jpg"/>
          <p:cNvPicPr/>
          <p:nvPr/>
        </p:nvPicPr>
        <p:blipFill>
          <a:blip r:embed="rId2"/>
          <a:stretch/>
        </p:blipFill>
        <p:spPr>
          <a:xfrm>
            <a:off x="611280" y="2276640"/>
            <a:ext cx="4824360" cy="41227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3"/>
          <a:stretch/>
        </p:blipFill>
        <p:spPr>
          <a:xfrm>
            <a:off x="530280" y="762120"/>
            <a:ext cx="803412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213720" y="836640"/>
            <a:ext cx="31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Arial"/>
              </a:rPr>
              <a:t>Сегодня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я\Desktop\мероприятие сердитые странички\chitalka780773.jpg"/>
          <p:cNvPicPr/>
          <p:nvPr/>
        </p:nvPicPr>
        <p:blipFill>
          <a:blip r:embed="rId2"/>
          <a:stretch/>
        </p:blipFill>
        <p:spPr>
          <a:xfrm>
            <a:off x="971640" y="1628640"/>
            <a:ext cx="5832360" cy="43722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627280" y="9079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нка  «Опоздание на ур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я\Desktop\мероприятие сердитые странички\34.gif"/>
          <p:cNvPicPr/>
          <p:nvPr/>
        </p:nvPicPr>
        <p:blipFill>
          <a:blip r:embed="rId3"/>
          <a:stretch/>
        </p:blipFill>
        <p:spPr>
          <a:xfrm>
            <a:off x="1403280" y="981000"/>
            <a:ext cx="24480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318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я\Desktop\мероприятие сердитые странички\chitalka780773.jpg"/>
          <p:cNvPicPr/>
          <p:nvPr/>
        </p:nvPicPr>
        <p:blipFill>
          <a:blip r:embed="rId2"/>
          <a:stretch/>
        </p:blipFill>
        <p:spPr>
          <a:xfrm>
            <a:off x="971640" y="3625920"/>
            <a:ext cx="3168720" cy="2374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1715040" y="549360"/>
            <a:ext cx="63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933c"/>
                </a:solidFill>
                <a:latin typeface="Arial"/>
              </a:rPr>
              <a:t>Нарушенные правила учен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1054080" y="12682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опаздывать на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1042920" y="1700280"/>
            <a:ext cx="747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орова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просила извинени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ия сест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4500720" y="2997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933c"/>
                </a:solidFill>
                <a:latin typeface="Arial"/>
              </a:rPr>
              <a:t>Дурные манеры</a:t>
            </a:r>
            <a:r>
              <a:rPr b="0" lang="ru-RU" sz="3600" spc="-1" strike="noStrike">
                <a:solidFill>
                  <a:srgbClr val="77933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655520" y="3799080"/>
            <a:ext cx="381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ать зат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еть в пото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ить вместо тог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ыполн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ьбу учител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я\Desktop\мероприятие сердитые странички\2782077-2df820b55171fa61.png"/>
          <p:cNvPicPr/>
          <p:nvPr/>
        </p:nvPicPr>
        <p:blipFill>
          <a:blip r:embed="rId3"/>
          <a:stretch/>
        </p:blipFill>
        <p:spPr>
          <a:xfrm>
            <a:off x="900000" y="2924280"/>
            <a:ext cx="3311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2124000" y="83664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Arial"/>
              </a:rPr>
              <a:t>«Перемена»    Борис Заход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C:\Users\я\Desktop\мероприятие сердитые странички\peremenka.jpg"/>
          <p:cNvPicPr/>
          <p:nvPr/>
        </p:nvPicPr>
        <p:blipFill>
          <a:blip r:embed="rId2"/>
          <a:stretch/>
        </p:blipFill>
        <p:spPr>
          <a:xfrm>
            <a:off x="1547640" y="2205000"/>
            <a:ext cx="4211640" cy="341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C:\Users\я\Desktop\мероприятие сердитые странички\1666762-a522a50b5714cd4f.gif"/>
          <p:cNvPicPr/>
          <p:nvPr/>
        </p:nvPicPr>
        <p:blipFill>
          <a:blip r:embed="rId3"/>
          <a:stretch/>
        </p:blipFill>
        <p:spPr>
          <a:xfrm>
            <a:off x="1403280" y="1628640"/>
            <a:ext cx="4608720" cy="4353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C:\Users\я\Desktop\мероприятие сердитые странички\mage36.gif"/>
          <p:cNvPicPr/>
          <p:nvPr/>
        </p:nvPicPr>
        <p:blipFill>
          <a:blip r:embed="rId4"/>
          <a:stretch/>
        </p:blipFill>
        <p:spPr>
          <a:xfrm>
            <a:off x="1258920" y="1557360"/>
            <a:ext cx="5473800" cy="439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я\Desktop\мероприятие сердитые странички\34.gif"/>
          <p:cNvPicPr/>
          <p:nvPr/>
        </p:nvPicPr>
        <p:blipFill>
          <a:blip r:embed="rId5"/>
          <a:stretch/>
        </p:blipFill>
        <p:spPr>
          <a:xfrm>
            <a:off x="1403280" y="981000"/>
            <a:ext cx="2448000" cy="271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:\Users\я\Desktop\мероприятие сердитые странички\1.jpg"/>
          <p:cNvPicPr/>
          <p:nvPr/>
        </p:nvPicPr>
        <p:blipFill>
          <a:blip r:embed="rId6"/>
          <a:stretch/>
        </p:blipFill>
        <p:spPr>
          <a:xfrm>
            <a:off x="755640" y="836640"/>
            <a:ext cx="7561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826920" y="555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77933c"/>
                </a:solidFill>
                <a:latin typeface="Arial"/>
                <a:ea typeface="Times New Roman"/>
              </a:rPr>
              <a:t>Правила поведения на перемене</a:t>
            </a:r>
            <a:r>
              <a:rPr b="0" lang="ru-RU" sz="3200" spc="-1" strike="noStrike">
                <a:solidFill>
                  <a:srgbClr val="77933c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26920" y="95472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ведении перемен в школьном помещении учащиеся должны вести себя спокойно, дисциплинирова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826920" y="1773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еремен учащиеся питаются в столовой в установле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826920" y="249336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яя по коридору, не бегать и не кри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755640" y="29271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емене разрешается играть в игры, но т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мешать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55640" y="364788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ходите в учительскую, кабинет директора без раз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1"/>
          <p:cNvSpPr/>
          <p:nvPr/>
        </p:nvSpPr>
        <p:spPr>
          <a:xfrm>
            <a:off x="755640" y="4365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еремены в классе остаются только дежурные, которые приводят класс в поря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826920" y="51001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емену зайди в туалетную комнату, чтобы не отпрашиваться с уроков, в туалете будь аккуратен, не забудь помыть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31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я\Desktop\мероприятие сердитые странички\2.gif"/>
          <p:cNvPicPr/>
          <p:nvPr/>
        </p:nvPicPr>
        <p:blipFill>
          <a:blip r:embed="rId2"/>
          <a:stretch/>
        </p:blipFill>
        <p:spPr>
          <a:xfrm>
            <a:off x="1116000" y="2205000"/>
            <a:ext cx="3724200" cy="409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я\Desktop\мероприятие сердитые странички\93778930238992608433.jpg"/>
          <p:cNvPicPr/>
          <p:nvPr/>
        </p:nvPicPr>
        <p:blipFill>
          <a:blip r:embed="rId3"/>
          <a:stretch/>
        </p:blipFill>
        <p:spPr>
          <a:xfrm>
            <a:off x="2987640" y="1989000"/>
            <a:ext cx="2120760" cy="1590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я\Desktop\мероприятие сердитые странички\p1.gif"/>
          <p:cNvPicPr/>
          <p:nvPr/>
        </p:nvPicPr>
        <p:blipFill>
          <a:blip r:embed="rId4"/>
          <a:stretch/>
        </p:blipFill>
        <p:spPr>
          <a:xfrm rot="21102000">
            <a:off x="2371320" y="3622680"/>
            <a:ext cx="1809720" cy="1581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я\Desktop\мероприятие сердитые странички\7774a437e668.gif"/>
          <p:cNvPicPr/>
          <p:nvPr/>
        </p:nvPicPr>
        <p:blipFill>
          <a:blip r:embed="rId5"/>
          <a:stretch/>
        </p:blipFill>
        <p:spPr>
          <a:xfrm>
            <a:off x="2916360" y="1432080"/>
            <a:ext cx="2950920" cy="2260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я\Desktop\мероприятие сердитые странички\i (7).jpg"/>
          <p:cNvPicPr/>
          <p:nvPr/>
        </p:nvPicPr>
        <p:blipFill>
          <a:blip r:embed="rId6"/>
          <a:stretch/>
        </p:blipFill>
        <p:spPr>
          <a:xfrm>
            <a:off x="2916360" y="1413000"/>
            <a:ext cx="3024000" cy="2350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Users\я\Desktop\мероприятие сердитые странички\books_BW.png"/>
          <p:cNvPicPr/>
          <p:nvPr/>
        </p:nvPicPr>
        <p:blipFill>
          <a:blip r:embed="rId7"/>
          <a:stretch/>
        </p:blipFill>
        <p:spPr>
          <a:xfrm>
            <a:off x="2916360" y="1413000"/>
            <a:ext cx="3024000" cy="2368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Users\я\Desktop\мероприятие сердитые странички\100.png"/>
          <p:cNvPicPr/>
          <p:nvPr/>
        </p:nvPicPr>
        <p:blipFill>
          <a:blip r:embed="rId8"/>
          <a:stretch/>
        </p:blipFill>
        <p:spPr>
          <a:xfrm>
            <a:off x="2484360" y="907920"/>
            <a:ext cx="5400720" cy="4326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я\Desktop\мероприятие сердитые странички\34.gif"/>
          <p:cNvPicPr/>
          <p:nvPr/>
        </p:nvPicPr>
        <p:blipFill>
          <a:blip r:embed="rId9"/>
          <a:stretch/>
        </p:blipFill>
        <p:spPr>
          <a:xfrm>
            <a:off x="1403280" y="981000"/>
            <a:ext cx="2448000" cy="2719440"/>
          </a:xfrm>
          <a:prstGeom prst="rect">
            <a:avLst/>
          </a:prstGeom>
          <a:ln w="0">
            <a:noFill/>
          </a:ln>
        </p:spPr>
      </p:pic>
      <p:sp>
        <p:nvSpPr>
          <p:cNvPr id="82" name="TextBox 10"/>
          <p:cNvSpPr/>
          <p:nvPr/>
        </p:nvSpPr>
        <p:spPr>
          <a:xfrm>
            <a:off x="1692360" y="8366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933c"/>
                </a:solidFill>
                <a:latin typeface="Arial"/>
              </a:rPr>
              <a:t>Стыдитесь время зря тер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501560" y="765000"/>
            <a:ext cx="61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Arial"/>
              </a:rPr>
              <a:t>Сокровищница народной мудр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116000" y="170352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 Слово лечит, слово и ранит»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ая послов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826920" y="292932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 Великие достоинства и слава идут на убыль от дурного нра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ким Фирдоуси персидский поэт Х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187280" y="440244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ичто не даётся нам так дёшево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ценится так дорого, как вежливос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ель де Сервантес испанский пис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971640" y="69228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Arial"/>
              </a:rPr>
              <a:t>Достойны уважения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77933c"/>
                </a:solidFill>
                <a:latin typeface="Arial"/>
              </a:rPr>
              <a:t>Достойны осужд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C:\Users\я\Desktop\мероприятие сердитые странички\36422196.jpg"/>
          <p:cNvPicPr/>
          <p:nvPr/>
        </p:nvPicPr>
        <p:blipFill>
          <a:blip r:embed="rId2"/>
          <a:stretch/>
        </p:blipFill>
        <p:spPr>
          <a:xfrm>
            <a:off x="971640" y="1341360"/>
            <a:ext cx="1806480" cy="194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я\Desktop\мероприятие сердитые странички\img8.jpg"/>
          <p:cNvPicPr/>
          <p:nvPr/>
        </p:nvPicPr>
        <p:blipFill>
          <a:blip r:embed="rId3"/>
          <a:stretch/>
        </p:blipFill>
        <p:spPr>
          <a:xfrm>
            <a:off x="6948360" y="1844640"/>
            <a:ext cx="1668600" cy="216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Users\я\Desktop\мероприятие сердитые странички\9.jpg"/>
          <p:cNvPicPr/>
          <p:nvPr/>
        </p:nvPicPr>
        <p:blipFill>
          <a:blip r:embed="rId4"/>
          <a:stretch/>
        </p:blipFill>
        <p:spPr>
          <a:xfrm>
            <a:off x="2771640" y="2708280"/>
            <a:ext cx="1944720" cy="2205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:\Users\я\Desktop\мероприятие сердитые странички\1324550275_fb0dfcba9a28.jpg"/>
          <p:cNvPicPr/>
          <p:nvPr/>
        </p:nvPicPr>
        <p:blipFill>
          <a:blip r:embed="rId5"/>
          <a:stretch/>
        </p:blipFill>
        <p:spPr>
          <a:xfrm>
            <a:off x="4788000" y="3213000"/>
            <a:ext cx="2184480" cy="171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C:\Users\я\Desktop\мероприятие сердитые странички\1290405862_naklejka-na-pol.jpg"/>
          <p:cNvPicPr/>
          <p:nvPr/>
        </p:nvPicPr>
        <p:blipFill>
          <a:blip r:embed="rId6"/>
          <a:stretch/>
        </p:blipFill>
        <p:spPr>
          <a:xfrm>
            <a:off x="755640" y="4581360"/>
            <a:ext cx="2554200" cy="180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C:\Users\я\Desktop\мероприятие сердитые странички\40624_23.jpg"/>
          <p:cNvPicPr/>
          <p:nvPr/>
        </p:nvPicPr>
        <p:blipFill>
          <a:blip r:embed="rId7"/>
          <a:stretch/>
        </p:blipFill>
        <p:spPr>
          <a:xfrm>
            <a:off x="6012000" y="4941720"/>
            <a:ext cx="259236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1547640" y="2349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е занятие называлось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2921400" y="981000"/>
            <a:ext cx="34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Arial"/>
              </a:rPr>
              <a:t>Подведение ит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1554120" y="335772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я знаю, что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1638720" y="4437000"/>
            <a:ext cx="65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о не только знать правила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и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41:59Z</dcterms:created>
  <dc:creator>я</dc:creator>
  <dc:description/>
  <dc:language>en-US</dc:language>
  <cp:lastModifiedBy>я</cp:lastModifiedBy>
  <dcterms:modified xsi:type="dcterms:W3CDTF">2015-10-16T07:52:08Z</dcterms:modified>
  <cp:revision>90</cp:revision>
  <dc:subject/>
  <dc:title>Слайд 1</dc:title>
</cp:coreProperties>
</file>