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E1A1-54BC-4645-A225-3AE6A7A2A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858-5393-4223-A374-F43D84F79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0718-17ED-447E-8CA5-3D83D4EB26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9B02-19BC-461D-A4AD-B4C24D739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4115-23BA-4CFA-ACC6-86813600D0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8534-0C52-4378-9D36-9F14410E0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E373-1AAE-4490-AC50-1A50CCE650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1B9-E555-4A14-AAA4-8EC2939C0C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720-0937-4FEF-811C-88B37F5D5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16B-FAB4-45D6-874D-D8846DAA54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553-C290-4BB7-AA54-BA6A6D29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3DC-FC12-4082-A4F3-D0C5C6E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795-E34D-4379-883B-514124CA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061-F41B-41B5-9980-542E99BB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615-294A-4084-ADFF-4C3E8323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B8E-5492-4EE9-BF80-FBBD267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362-FDA6-4B42-A8BC-9A4729A5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B58-F419-4201-959E-1D97569B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D23-D24E-474C-8501-7C58BD2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37E-CA64-4787-8786-6704598A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C1A-CB71-46E5-A30A-7EBB814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E1F-E772-4BAD-AF2B-61E7892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409-F642-43D3-BC9F-B3820CCE662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1DE-CE7D-4B59-A4C9-A782D1F61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истемная среда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360" y="4653000"/>
            <a:ext cx="3672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91636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www.balsas.lt/10/06/xp_px600.jpg"/>
          <p:cNvPicPr/>
          <p:nvPr/>
        </p:nvPicPr>
        <p:blipFill>
          <a:blip r:embed="rId1"/>
          <a:stretch/>
        </p:blipFill>
        <p:spPr>
          <a:xfrm>
            <a:off x="4572000" y="0"/>
            <a:ext cx="4788000" cy="189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cwer.ru/media/files/u273509/06/windows_7_ultimate__homebasic_sp1_v178_x86_x64_en_ru_game_748352.jpeg"/>
          <p:cNvPicPr/>
          <p:nvPr/>
        </p:nvPicPr>
        <p:blipFill>
          <a:blip r:embed="rId2"/>
          <a:srcRect l="42712" t="22904" r="11635" b="43979"/>
          <a:stretch/>
        </p:blipFill>
        <p:spPr>
          <a:xfrm>
            <a:off x="179280" y="3789360"/>
            <a:ext cx="3178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136520" indent="-11365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116000" y="1628640"/>
            <a:ext cx="6912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§ 2 (Файлы и папки) + раздаточный матер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Т: № 14,16,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ить работу №1 из компьютерного практикума учеб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ть готовым к проверочн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Дата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0A3D-5948-4CE4-B978-EA2C4CA8FA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62D-4394-4FE7-A43D-4254ADD42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765000"/>
            <a:ext cx="8569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я информация ПК хранится на носителях информации (дисках) в вид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ай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Файло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набор данных, хранящийся в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ешней памяти  и имеющий имя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может бы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текстовый докумен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рисун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програм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видео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B82-93FB-494D-99F0-B66D8BA5A1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F79F-26EE-48DB-B394-BF9EC4E76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79280" y="2781360"/>
            <a:ext cx="2998800" cy="8128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8440" indent="-568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юбо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ъект 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2195640" y="152280"/>
            <a:ext cx="6192360" cy="2974320"/>
            <a:chOff x="2195640" y="152280"/>
            <a:chExt cx="6192360" cy="2974320"/>
          </a:xfrm>
        </p:grpSpPr>
        <p:sp>
          <p:nvSpPr>
            <p:cNvPr id="59" name="Text Box 4"/>
            <p:cNvSpPr/>
            <p:nvPr/>
          </p:nvSpPr>
          <p:spPr>
            <a:xfrm>
              <a:off x="2195640" y="1066680"/>
              <a:ext cx="179028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Объек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4942440" y="152280"/>
              <a:ext cx="193428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5379120" y="765000"/>
              <a:ext cx="299844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характеристик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5383800" y="1752480"/>
              <a:ext cx="300420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Среда об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5015880" y="2666880"/>
              <a:ext cx="193284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V="1">
              <a:off x="3985920" y="1196640"/>
              <a:ext cx="1377720" cy="2196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 flipV="1">
              <a:off x="3985920" y="533160"/>
              <a:ext cx="95616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3985920" y="1447560"/>
              <a:ext cx="139752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3912480" y="1600200"/>
              <a:ext cx="1103400" cy="10666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2340000" y="3429000"/>
            <a:ext cx="6071760" cy="2974320"/>
            <a:chOff x="2340000" y="3429000"/>
            <a:chExt cx="6071760" cy="2974320"/>
          </a:xfrm>
        </p:grpSpPr>
        <p:sp>
          <p:nvSpPr>
            <p:cNvPr id="69" name="Text Box 15"/>
            <p:cNvSpPr/>
            <p:nvPr/>
          </p:nvSpPr>
          <p:spPr>
            <a:xfrm>
              <a:off x="2340000" y="4343400"/>
              <a:ext cx="173556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Фай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5043240" y="3429000"/>
              <a:ext cx="190440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5508360" y="4013280"/>
              <a:ext cx="290340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характеристик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5490000" y="5029200"/>
              <a:ext cx="289872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Среда об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5117760" y="5943600"/>
              <a:ext cx="204552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4075560" y="4495680"/>
              <a:ext cx="1432800" cy="208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V="1">
              <a:off x="4075560" y="3809880"/>
              <a:ext cx="96732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>
              <a:off x="4075560" y="4724280"/>
              <a:ext cx="1414080" cy="5335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4001040" y="4876920"/>
              <a:ext cx="1116360" cy="10666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Дата 2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3B2B-5840-45ED-A370-6DECDEF50E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Номер слайда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D4B1-F8FE-46F2-8491-A2439AC35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4"/>
          <p:cNvGrpSpPr/>
          <p:nvPr/>
        </p:nvGrpSpPr>
        <p:grpSpPr>
          <a:xfrm>
            <a:off x="380880" y="1066680"/>
            <a:ext cx="8610480" cy="4543920"/>
            <a:chOff x="380880" y="1066680"/>
            <a:chExt cx="8610480" cy="4543920"/>
          </a:xfrm>
        </p:grpSpPr>
        <p:sp>
          <p:nvSpPr>
            <p:cNvPr id="82" name="Text Box 14"/>
            <p:cNvSpPr/>
            <p:nvPr/>
          </p:nvSpPr>
          <p:spPr>
            <a:xfrm>
              <a:off x="380880" y="2279520"/>
              <a:ext cx="1523880" cy="58140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omic Sans MS"/>
                </a:rPr>
                <a:t>Фай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2895480" y="1066680"/>
              <a:ext cx="2971800" cy="82548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Имя.расшир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2916000" y="1844640"/>
              <a:ext cx="4572000" cy="82548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b050"/>
                  </a:solidFill>
                  <a:latin typeface="Comic Sans MS"/>
                </a:rPr>
                <a:t>Параметры (размер, тип, дата и время создания, 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3352680" y="3190680"/>
              <a:ext cx="2819160" cy="45972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omic Sans MS"/>
                </a:rPr>
                <a:t>Диск, пап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8"/>
            <p:cNvSpPr/>
            <p:nvPr/>
          </p:nvSpPr>
          <p:spPr>
            <a:xfrm>
              <a:off x="2971440" y="4419360"/>
              <a:ext cx="6019920" cy="1191240"/>
            </a:xfrm>
            <a:prstGeom prst="rect">
              <a:avLst/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omic Sans MS"/>
                </a:rPr>
                <a:t>Создавать, копировать, удалять, перемещать, переименовывать, вырезать, вставлять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"/>
            <p:cNvSpPr/>
            <p:nvPr/>
          </p:nvSpPr>
          <p:spPr>
            <a:xfrm>
              <a:off x="1904760" y="2482560"/>
              <a:ext cx="938160" cy="97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 flipV="1">
              <a:off x="1904760" y="1571040"/>
              <a:ext cx="990720" cy="7081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1"/>
            <p:cNvSpPr/>
            <p:nvPr/>
          </p:nvSpPr>
          <p:spPr>
            <a:xfrm>
              <a:off x="1904760" y="2666880"/>
              <a:ext cx="1447920" cy="82692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1904760" y="2819160"/>
              <a:ext cx="1066680" cy="158436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27"/>
          <p:cNvSpPr/>
          <p:nvPr/>
        </p:nvSpPr>
        <p:spPr>
          <a:xfrm>
            <a:off x="6477120" y="380880"/>
            <a:ext cx="2361960" cy="459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я о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7164360" y="1295280"/>
            <a:ext cx="197964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Парамет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659640" y="2997360"/>
            <a:ext cx="22860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реда об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093080" y="5791320"/>
            <a:ext cx="1693800" cy="8254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5"/>
          <p:cNvSpPr/>
          <p:nvPr/>
        </p:nvSpPr>
        <p:spPr>
          <a:xfrm flipH="1">
            <a:off x="5866920" y="836640"/>
            <a:ext cx="685800" cy="30492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6"/>
          <p:cNvSpPr/>
          <p:nvPr/>
        </p:nvSpPr>
        <p:spPr>
          <a:xfrm flipH="1">
            <a:off x="6553080" y="1557360"/>
            <a:ext cx="611280" cy="27144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7"/>
          <p:cNvSpPr/>
          <p:nvPr/>
        </p:nvSpPr>
        <p:spPr>
          <a:xfrm flipH="1" flipV="1">
            <a:off x="6372000" y="5660640"/>
            <a:ext cx="685800" cy="30492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8"/>
          <p:cNvSpPr/>
          <p:nvPr/>
        </p:nvSpPr>
        <p:spPr>
          <a:xfrm flipH="1">
            <a:off x="6156360" y="3429000"/>
            <a:ext cx="541440" cy="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Дата 1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59C-73E5-4156-AFB0-42B314458C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19D-363E-45DB-8FB1-0841431E90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03280" y="2924280"/>
            <a:ext cx="5832720" cy="100836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мя файла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сши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404640"/>
            <a:ext cx="3852720" cy="17096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м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уникальный набор  симво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за исключе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/ \* : “&lt; &gt; | + =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27640" y="404640"/>
            <a:ext cx="4483080" cy="22885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не менее трех латинских символа, указывающие на тип информации в файле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cx, txt, bmp, avi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т.д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16000" y="414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разделяет имя и расш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195640" y="2060280"/>
            <a:ext cx="0" cy="8636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435640" y="2708280"/>
            <a:ext cx="360360" cy="216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63640" y="54450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e.doc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мер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12345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79280" y="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ет  сам Пользов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4761000" y="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ет  операц.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Дата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9C33-3312-4407-8F5F-0745DB6A2E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8F3-0E65-4268-A353-BEED9CB55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1052640"/>
            <a:ext cx="3355920" cy="10688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арамет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651640" y="260280"/>
            <a:ext cx="3200400" cy="6080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796000" y="1197000"/>
            <a:ext cx="3095640" cy="8636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3564000" y="476280"/>
            <a:ext cx="2071800" cy="814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64000" y="1413000"/>
            <a:ext cx="2224080" cy="2142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3564000" y="1700280"/>
            <a:ext cx="2087640" cy="1224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5651640" y="249228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дата и время соз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6012000" y="1197000"/>
            <a:ext cx="239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Расширение (ти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6156360" y="331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раз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5651640" y="3716280"/>
            <a:ext cx="3286080" cy="64296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564000" y="1916280"/>
            <a:ext cx="2087640" cy="2160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012000" y="37879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зна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5651640" y="2421000"/>
            <a:ext cx="3241440" cy="9367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Дата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2AD-ACE5-4786-BE36-4A62A37C22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омер слайда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814-E7FE-4CDA-843E-CA84864E2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9" descr=""/>
          <p:cNvPicPr/>
          <p:nvPr/>
        </p:nvPicPr>
        <p:blipFill>
          <a:blip r:embed="rId1">
            <a:lum contrast="10000"/>
          </a:blip>
          <a:srcRect l="0" t="0" r="0" b="72648"/>
          <a:stretch/>
        </p:blipFill>
        <p:spPr>
          <a:xfrm>
            <a:off x="179280" y="4653000"/>
            <a:ext cx="8713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72200" y="1828800"/>
            <a:ext cx="1712880" cy="5814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72200" y="3124080"/>
            <a:ext cx="1676520" cy="6080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3924360" y="2133360"/>
            <a:ext cx="2232000" cy="718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924360" y="2924280"/>
            <a:ext cx="2247840" cy="5810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12560" y="2637000"/>
            <a:ext cx="3629520" cy="5814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реда об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84360" y="3860640"/>
            <a:ext cx="791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уть к файл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ск:\Папка1\…\Папк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\имя файла.расши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\Мои документы\Рисунки\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g.b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Дата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8384-2770-4763-8D33-A1A0FE2F88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1FD-582F-44F7-80F1-0E7E17B8D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6151320" y="314172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5003640" y="363600"/>
            <a:ext cx="38862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озда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откр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закр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копиров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удали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еремести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ереименова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проверить на вирус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отправить по электронной почт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124080" y="2420640"/>
            <a:ext cx="1663920" cy="7794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124080" y="3352680"/>
            <a:ext cx="1808280" cy="76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02160" y="2971800"/>
            <a:ext cx="2248920" cy="5814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3124080" y="1844280"/>
            <a:ext cx="1879560" cy="12034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3124080" y="2852640"/>
            <a:ext cx="1879560" cy="4240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132000" y="3429000"/>
            <a:ext cx="1871640" cy="576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3124080" y="1294920"/>
            <a:ext cx="1752840" cy="16765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3124080" y="3581280"/>
            <a:ext cx="1879560" cy="9273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 flipV="1">
            <a:off x="3143160" y="1285560"/>
            <a:ext cx="1752840" cy="16765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3071880" y="3643200"/>
            <a:ext cx="2004840" cy="14414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3071880" y="571680"/>
            <a:ext cx="2000160" cy="2357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16"/>
          <p:cNvCxnSpPr/>
          <p:nvPr/>
        </p:nvCxnSpPr>
        <p:spPr>
          <a:xfrm>
            <a:off x="3059280" y="3644640"/>
            <a:ext cx="2018160" cy="187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4" name="Дата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80B-EF76-458F-B250-12A36D9E64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3D68-A63B-4487-A6ED-8505462F1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89000"/>
            <a:ext cx="5834160" cy="4375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50920" y="4724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 файлы хранятся в специальных разделах дисков – пап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пк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это элемент организации файлов н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ске, в котором хранится информаци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    файл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пка может содержать файлы и другие пап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C2F-8808-4E47-84F7-A0C556E7B29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0DC-0E54-4ED2-8401-C299A9FB11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17:43Z</dcterms:created>
  <dc:creator>Poloz</dc:creator>
  <dc:description/>
  <dc:language>en-US</dc:language>
  <cp:lastModifiedBy>1</cp:lastModifiedBy>
  <dcterms:modified xsi:type="dcterms:W3CDTF">2014-09-02T16:37:18Z</dcterms:modified>
  <cp:revision>56</cp:revision>
  <dc:subject/>
  <dc:title>Системная среда Windows</dc:title>
</cp:coreProperties>
</file>