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774E-50C3-4CBC-8568-A26B6F22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1245-0937-4111-93C8-145D32C4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638D-B380-4BAC-8547-D471AD6E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0BEE-DE6D-4716-8E3A-A5AF9E07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EB89-E9E9-49E9-9D61-F383ED5C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2DE8-D31C-4BFE-9E31-9A4AF0C6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A69C-715B-486D-BF6B-91591D36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34AA-B90A-4824-A35F-D132F1FD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6E63-F7B7-4775-AE77-8ECF758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C800-4432-4B76-B8F9-F21151BF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809C-50B9-4530-8A8F-85B253F5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C90F-25AD-4147-834D-52527266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F0DB-253E-4B99-BF73-BA624819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8E69-E413-4633-B2C4-B8C99FFC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E60-77D7-4A64-9A80-AEBAEF7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CCB2-11F2-455B-A748-65A24A26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DA4A-E82F-4C25-BC72-FED9E4BB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C078-377B-4E56-A9DB-18A9CB37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8263-A50D-4F7E-8F11-9ACE58BC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611B-06F3-481C-AC97-674CCD88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C9D2-C2C5-4D89-A182-58FD1197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9798-C638-4595-B577-929CDF8D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F082-A507-477E-B2D4-93F87334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8442-5539-465E-AB60-9E38773C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5FCF-1FE8-4416-A76A-B13677407F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FF01-1E14-48F1-A0A0-D1A3CB016C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8dec6"/>
                </a:solidFill>
                <a:latin typeface="Tahoma"/>
              </a:rPr>
              <a:t>Что значит современность в музыке?</a:t>
            </a:r>
            <a:endParaRPr b="0" lang="en-US" sz="66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nhe,rf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Людвиг ван БЕТХОВЕН</a:t>
            </a:r>
            <a:br>
              <a:rPr sz="3800"/>
            </a:b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Соната № 14 (Лунная)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лушайтесь в неё не только своим слухом, но и всем сердц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20" descr="портрет Бетховена"/>
          <p:cNvPicPr/>
          <p:nvPr/>
        </p:nvPicPr>
        <p:blipFill>
          <a:blip r:embed="rId1"/>
          <a:stretch/>
        </p:blipFill>
        <p:spPr>
          <a:xfrm>
            <a:off x="681120" y="1936800"/>
            <a:ext cx="33861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b8dec6"/>
                </a:solidFill>
                <a:latin typeface="Tahoma"/>
              </a:rPr>
              <a:t>Многое меняется, сердце остаётся одно.</a:t>
            </a:r>
            <a:br>
              <a:rPr sz="5000"/>
            </a:br>
            <a:r>
              <a:rPr b="0" lang="en-US" sz="5000" spc="-1" strike="noStrike">
                <a:solidFill>
                  <a:srgbClr val="b8dec6"/>
                </a:solidFill>
                <a:latin typeface="Tahoma"/>
              </a:rPr>
              <a:t>           </a:t>
            </a:r>
            <a:br>
              <a:rPr sz="5000"/>
            </a:br>
            <a:r>
              <a:rPr b="0" lang="en-US" sz="5000" spc="-1" strike="noStrike">
                <a:solidFill>
                  <a:srgbClr val="b8dec6"/>
                </a:solidFill>
                <a:latin typeface="Tahoma"/>
              </a:rPr>
              <a:t>           Ф.М. Достоевский</a:t>
            </a:r>
            <a:endParaRPr b="0" lang="en-US" sz="50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Людям нужны все виды музыки – от простого напева свирели до звучания огромного симфонического оркестра, от незатейливой популярной песенки до Бетховенских сона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.Д. Шостак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кто-то проживёт свою жизнь, так и не познав всей красоты и богатства музыки Баха и Моцарта, Бетховена и Шопена, … - не станут от этого меньше ни Бах, ни Моцарт, ни Бетховен, ни Шопен…Они останутся такими же великими и могучими. А вот тот, кто пройдёт мимо них и не прикоснётся к их искусству, потеряет много, очень мног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ahoma"/>
              </a:rPr>
              <a:t>Всех благодарю за внимание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ЫПОЛНИЛ(А) : ХАФИЗОВА Е.А.                  ПРОВЕРИЛ(А): СОКОЛОВА Л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“ современность” имеет два значения: более узкое - то, что создано мастерами, живущими в одно время с нами, и более широкое - музыка, независимо от эпохи, в которую она была написана, отвечающая нашим современным идеалам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позиторы прошлого, с творчеством которых мы знакомы, не памятники истории, а во многом наши современники, потому что настоящее, высокое искусство существует вне времени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ой можно назвать ту музыку, которая порождает некий до этого не существовавший тип эстетического переживания. Новизна этого переживания обусловленна экзистенциальным и эстетическим опытом, присущим только данной эпохе. Выделяя черты современного в окружающем нас мире, мы отличаем настоящее от истории и заново формируем наше историческое сознание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им образом, можно сказать, что современна та музыка, которая заставляет нас по - новому взглянуть на историю и заново выстраивает связи в массе предшествующих ей художественных событий. Кроме того, она всегда отражает современное ей состояние общества (уже через формы ее презентации и социальные группы заказчиков и слушателей) и всегда связана как с его идеологическими настроениями, так и с его, общества, коллективным бессознательным, максимально выраженным как раз в поп-музыке (примеров положительного влияния последней на современную музыку больше, чем это принято считать) . 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Именно музыка призвана        пробуждать лучшее, что есть в человек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. Щедри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image3"/>
          <p:cNvPicPr/>
          <p:nvPr/>
        </p:nvPicPr>
        <p:blipFill>
          <a:blip r:embed="rId1"/>
          <a:stretch/>
        </p:blipFill>
        <p:spPr>
          <a:xfrm>
            <a:off x="324000" y="549360"/>
            <a:ext cx="83311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doncossacks"/>
          <p:cNvPicPr/>
          <p:nvPr/>
        </p:nvPicPr>
        <p:blipFill>
          <a:blip r:embed="rId1"/>
          <a:stretch/>
        </p:blipFill>
        <p:spPr>
          <a:xfrm>
            <a:off x="611280" y="404640"/>
            <a:ext cx="821664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346640" y="62064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Русская народная пес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Слово мама дорого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Исполняет семейный дуэт «Хмел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Organ"/>
          <p:cNvPicPr/>
          <p:nvPr/>
        </p:nvPicPr>
        <p:blipFill>
          <a:blip r:embed="rId1"/>
          <a:stretch/>
        </p:blipFill>
        <p:spPr>
          <a:xfrm>
            <a:off x="2195640" y="-2700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Иоганн Себастьян БАХ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1685 - 1750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35" name="Picture 6" descr="Graphic1"/>
          <p:cNvPicPr/>
          <p:nvPr/>
        </p:nvPicPr>
        <p:blipFill>
          <a:blip r:embed="rId1"/>
          <a:stretch/>
        </p:blipFill>
        <p:spPr>
          <a:xfrm>
            <a:off x="2773440" y="1600200"/>
            <a:ext cx="35971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Искусство Баха и учит, и радует, и заставляет думать, и утешает. В нём столько мудрости и веры в жизнь, столько человеческой и сердечной простоты, что, вероятно, ему суждено ещё привлекать к себе цепь будущих поко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хл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Graphic1"/>
          <p:cNvPicPr/>
          <p:nvPr/>
        </p:nvPicPr>
        <p:blipFill>
          <a:blip r:embed="rId1"/>
          <a:stretch/>
        </p:blipFill>
        <p:spPr>
          <a:xfrm>
            <a:off x="4118040" y="277920"/>
            <a:ext cx="906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fgj"/>
          <p:cNvPicPr/>
          <p:nvPr/>
        </p:nvPicPr>
        <p:blipFill>
          <a:blip r:embed="rId1"/>
          <a:stretch/>
        </p:blipFill>
        <p:spPr>
          <a:xfrm>
            <a:off x="2411280" y="333360"/>
            <a:ext cx="427356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17:28Z</dcterms:created>
  <dc:creator>PUTNIK</dc:creator>
  <dc:description/>
  <dc:language>en-US</dc:language>
  <cp:lastModifiedBy>Admin</cp:lastModifiedBy>
  <dcterms:modified xsi:type="dcterms:W3CDTF">2006-12-31T21:46:16Z</dcterms:modified>
  <cp:revision>20</cp:revision>
  <dc:subject/>
  <dc:title>Что значит современность в музыке?</dc:title>
</cp:coreProperties>
</file>