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9809-4A49-45AE-A491-14540774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6ED2-04FA-444A-AB6E-917910A3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CC4F-5A1D-4BA8-AD18-EED44B67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BC0D-631B-47D2-8A07-EE527793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AA7-6866-4985-A2F3-75514EC3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A31A-444D-4722-9343-425B634F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A01-FC91-4E0A-9AC3-B778BE8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DDDC-47A0-47CF-8AA8-543314A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93E0-17AE-4F2F-90EB-33391512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431B-961C-480A-AC0B-679177D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0277-F0FD-4691-9C0C-E9C53EE6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005D-D9FC-4261-BA14-2C1B997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AE21-9F2D-4985-A37F-AF9BFEB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613-D942-4ED9-A9E5-FEAFBC6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A2F-6BF5-4990-9CF5-296944C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A4DD-64A5-47A5-BDCB-75A338E5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28AF-B6D5-43A4-81E7-71CC4500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24BB-46C0-4052-85E3-578D658D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C14E-5DAD-4622-8311-1C22E21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9868-DEB1-41C0-81CD-50D6767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2D64-A28E-4278-81C4-1AA1AF35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36E5-8945-4E20-AB3E-F8D2637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A65D-F8AA-4276-BA0A-6768AEE0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7D40-DBB5-4501-819A-C11D118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AC3D-A615-4859-93EC-3B02132B0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51CF-A7CB-487E-A85E-344BFA001F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8dec6"/>
                </a:solidFill>
                <a:latin typeface="Tahoma"/>
              </a:rPr>
              <a:t>Что значит современность в музыке?</a:t>
            </a:r>
            <a:endParaRPr b="0" lang="en-US" sz="66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nhe,rf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Людвиг ван БЕТХОВЕН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Соната № 14 (Лунная)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лушайтесь в неё не только своим слухом, но и всем сердц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0" descr="портрет Бетховена"/>
          <p:cNvPicPr/>
          <p:nvPr/>
        </p:nvPicPr>
        <p:blipFill>
          <a:blip r:embed="rId1"/>
          <a:stretch/>
        </p:blipFill>
        <p:spPr>
          <a:xfrm>
            <a:off x="681120" y="1936800"/>
            <a:ext cx="3386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Многое меняется, сердце остаётся одно.</a:t>
            </a: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           </a:t>
            </a: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           Ф.М. Достоевский</a:t>
            </a:r>
            <a:endParaRPr b="0" lang="en-US" sz="50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юдям нужны все виды музыки – от простого напева свирели до звучания огромного симфонического оркестра, от незатейливой популярной песенки до Бетховенских сон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.Д.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кто-то проживёт свою жизнь, так и не познав всей красоты и богатства музыки Баха и Моцарта, Бетховена и Шопена, … - не станут от этого меньше ни Бах, ни Моцарт, ни Бетховен, ни Шопен…Они останутся такими же великими и могучими. А вот тот, кто пройдёт мимо них и не прикоснётся к их искусству, потеряет много, очень м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Всех благодарю за внимание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ЫПОЛНИЛ(А) : ХАФИЗОВА Е.А.                  ПРОВЕРИЛ(А): СОКОЛОВА Л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 современность” имеет два значения: более узкое - то, что создано мастерами, живущими в одно время с нами, и более широкое - музыка, независимо от эпохи, в которую она была написана, отвечающая нашим современным идеалам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позиторы прошлого, с творчеством которых мы знакомы, не памятники истории, а во многом наши современники, потому что настоящее, высокое искусство существует вне времени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ой можно назвать ту музыку, которая порождает некий до этого не существовавший тип эстетического переживания. Новизна этого переживания обусловленна экзистенциальным и эстетическим опытом, присущим только данной эпохе. Выделяя черты современного в окружающем нас мире, мы отличаем настоящее от истории и заново формируем наше историческое сознание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им образом, можно сказать, что современна та музыка, которая заставляет нас по - новому взглянуть на историю и заново выстраивает связи в массе предшествующих ей художественных событий. Кроме того, она всегда отражает современное ей состояние общества (уже через формы ее презентации и социальные группы заказчиков и слушателей) и всегда связана как с его идеологическими настроениями, так и с его, общества, коллективным бессознательным, максимально выраженным как раз в поп-музыке (примеров положительного влияния последней на современную музыку больше, чем это принято считать) 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Именно музыка призвана        пробуждать лучшее, что есть в человек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. Щедр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image3"/>
          <p:cNvPicPr/>
          <p:nvPr/>
        </p:nvPicPr>
        <p:blipFill>
          <a:blip r:embed="rId1"/>
          <a:stretch/>
        </p:blipFill>
        <p:spPr>
          <a:xfrm>
            <a:off x="324000" y="549360"/>
            <a:ext cx="8331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oncossacks"/>
          <p:cNvPicPr/>
          <p:nvPr/>
        </p:nvPicPr>
        <p:blipFill>
          <a:blip r:embed="rId1"/>
          <a:stretch/>
        </p:blipFill>
        <p:spPr>
          <a:xfrm>
            <a:off x="611280" y="404640"/>
            <a:ext cx="821664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46640" y="62064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Русская народная пес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Слово мама дорого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сполняет семейный дуэт «Хмел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Organ"/>
          <p:cNvPicPr/>
          <p:nvPr/>
        </p:nvPicPr>
        <p:blipFill>
          <a:blip r:embed="rId1"/>
          <a:stretch/>
        </p:blipFill>
        <p:spPr>
          <a:xfrm>
            <a:off x="2195640" y="-2700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Иоганн Себастьян БАХ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1685 - 1750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35" name="Picture 6" descr="Graphic1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скусство Баха и учит, и радует, и заставляет думать, и утешает. В нём столько мудрости и веры в жизнь, столько человеческой и сердечной простоты, что, вероятно, ему суждено ещё привлекать к себе цепь будущи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х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Graphic1"/>
          <p:cNvPicPr/>
          <p:nvPr/>
        </p:nvPicPr>
        <p:blipFill>
          <a:blip r:embed="rId1"/>
          <a:stretch/>
        </p:blipFill>
        <p:spPr>
          <a:xfrm>
            <a:off x="4118040" y="277920"/>
            <a:ext cx="906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gj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17:28Z</dcterms:created>
  <dc:creator>PUTNIK</dc:creator>
  <dc:description/>
  <dc:language>en-US</dc:language>
  <cp:lastModifiedBy>Admin</cp:lastModifiedBy>
  <dcterms:modified xsi:type="dcterms:W3CDTF">2006-12-31T21:46:16Z</dcterms:modified>
  <cp:revision>20</cp:revision>
  <dc:subject/>
  <dc:title>Что значит современность в музыке?</dc:title>
</cp:coreProperties>
</file>