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10B-0195-4C29-88FB-7B70D2D9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B54-77D5-4B71-9432-535263D0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736-7913-4B51-A67A-1E3D2B8B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6B6-CC6E-4D06-B9D1-339E4F6A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591-7C73-40CC-80D9-7AC2ED3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A5E-CC11-4DAE-9640-FD6DB97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3CB-387E-44C9-A122-14DA750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361-0F1E-4461-B5A1-E2A35FC2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F53-5DE0-4E56-828F-9077F78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514-ECC5-4683-B88A-6FD2B21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FC5-5C90-40ED-889F-D78510C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D06-8740-4B4D-B031-E4BEBB5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66E7-2029-4D58-ABAC-B19CEF01E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Прямоугольник 7"/>
          <p:cNvGrpSpPr/>
          <p:nvPr/>
        </p:nvGrpSpPr>
        <p:grpSpPr>
          <a:xfrm>
            <a:off x="165240" y="244440"/>
            <a:ext cx="968400" cy="968400"/>
            <a:chOff x="165240" y="244440"/>
            <a:chExt cx="968400" cy="968400"/>
          </a:xfrm>
        </p:grpSpPr>
        <p:pic>
          <p:nvPicPr>
            <p:cNvPr id="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65240" y="2444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79280" y="26028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Прямоугольник 8"/>
          <p:cNvGrpSpPr/>
          <p:nvPr/>
        </p:nvGrpSpPr>
        <p:grpSpPr>
          <a:xfrm>
            <a:off x="165240" y="1322280"/>
            <a:ext cx="968400" cy="970200"/>
            <a:chOff x="165240" y="1322280"/>
            <a:chExt cx="968400" cy="970200"/>
          </a:xfrm>
        </p:grpSpPr>
        <p:pic>
          <p:nvPicPr>
            <p:cNvPr id="1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65240" y="1322280"/>
              <a:ext cx="9684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179280" y="1341360"/>
              <a:ext cx="9367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Прямоугольник 9"/>
          <p:cNvGrpSpPr/>
          <p:nvPr/>
        </p:nvGrpSpPr>
        <p:grpSpPr>
          <a:xfrm>
            <a:off x="165240" y="2408400"/>
            <a:ext cx="968400" cy="963360"/>
            <a:chOff x="165240" y="2408400"/>
            <a:chExt cx="968400" cy="963360"/>
          </a:xfrm>
        </p:grpSpPr>
        <p:pic>
          <p:nvPicPr>
            <p:cNvPr id="13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65240" y="2408400"/>
              <a:ext cx="968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79280" y="242100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Прямоугольник 10"/>
          <p:cNvGrpSpPr/>
          <p:nvPr/>
        </p:nvGrpSpPr>
        <p:grpSpPr>
          <a:xfrm>
            <a:off x="165240" y="3486240"/>
            <a:ext cx="968400" cy="963360"/>
            <a:chOff x="165240" y="3486240"/>
            <a:chExt cx="968400" cy="963360"/>
          </a:xfrm>
        </p:grpSpPr>
        <p:pic>
          <p:nvPicPr>
            <p:cNvPr id="16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165240" y="3486240"/>
              <a:ext cx="968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79280" y="350028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Прямоугольник 11"/>
          <p:cNvGrpSpPr/>
          <p:nvPr/>
        </p:nvGrpSpPr>
        <p:grpSpPr>
          <a:xfrm>
            <a:off x="165240" y="4565520"/>
            <a:ext cx="968400" cy="970200"/>
            <a:chOff x="165240" y="4565520"/>
            <a:chExt cx="968400" cy="970200"/>
          </a:xfrm>
        </p:grpSpPr>
        <p:pic>
          <p:nvPicPr>
            <p:cNvPr id="19" name="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165240" y="4565520"/>
              <a:ext cx="9684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179280" y="4581360"/>
              <a:ext cx="9367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Прямоугольник 12"/>
          <p:cNvGrpSpPr/>
          <p:nvPr/>
        </p:nvGrpSpPr>
        <p:grpSpPr>
          <a:xfrm>
            <a:off x="165240" y="5645160"/>
            <a:ext cx="968400" cy="968400"/>
            <a:chOff x="165240" y="5645160"/>
            <a:chExt cx="968400" cy="968400"/>
          </a:xfrm>
        </p:grpSpPr>
        <p:pic>
          <p:nvPicPr>
            <p:cNvPr id="22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165240" y="5645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179280" y="566100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Прямоугольник 13"/>
          <p:cNvGrpSpPr/>
          <p:nvPr/>
        </p:nvGrpSpPr>
        <p:grpSpPr>
          <a:xfrm>
            <a:off x="1316160" y="244440"/>
            <a:ext cx="7589880" cy="6369120"/>
            <a:chOff x="1316160" y="244440"/>
            <a:chExt cx="7589880" cy="6369120"/>
          </a:xfrm>
        </p:grpSpPr>
        <p:pic>
          <p:nvPicPr>
            <p:cNvPr id="25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1316160" y="244440"/>
              <a:ext cx="7589880" cy="63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1332000" y="260280"/>
              <a:ext cx="756108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19964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84807"/>
                </a:solidFill>
                <a:latin typeface="Monotype Corsiva"/>
              </a:rPr>
              <a:t>Окружающий мир </a:t>
            </a:r>
            <a:br>
              <a:rPr sz="6600"/>
            </a:br>
            <a:r>
              <a:rPr b="1" lang="ru-RU" sz="6600" spc="-1" strike="noStrike">
                <a:solidFill>
                  <a:srgbClr val="984807"/>
                </a:solidFill>
                <a:latin typeface="Monotype Corsiva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393336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(тес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7. Что такое опылен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растения из с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цве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нос пыльцы с одного цветка на друг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547640" y="2852640"/>
            <a:ext cx="35748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154764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5"/>
          <p:cNvSpPr/>
          <p:nvPr/>
        </p:nvSpPr>
        <p:spPr>
          <a:xfrm>
            <a:off x="154764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8. Что не требуется для прорастания семян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п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61928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4"/>
          <p:cNvSpPr/>
          <p:nvPr/>
        </p:nvSpPr>
        <p:spPr>
          <a:xfrm>
            <a:off x="161928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5"/>
          <p:cNvSpPr/>
          <p:nvPr/>
        </p:nvSpPr>
        <p:spPr>
          <a:xfrm>
            <a:off x="154764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9. Для распространения ветром у плодов имею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ылы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убч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рашю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10. Какие растения распространяются с помощью человека и животны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пей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ере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984807"/>
                </a:solidFill>
                <a:latin typeface="Calibri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Равнобедренный треугольник 23"/>
          <p:cNvSpPr/>
          <p:nvPr/>
        </p:nvSpPr>
        <p:spPr>
          <a:xfrm>
            <a:off x="5651640" y="4508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6372360" y="5300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5"/>
          <p:cNvSpPr/>
          <p:nvPr/>
        </p:nvSpPr>
        <p:spPr>
          <a:xfrm>
            <a:off x="2195640" y="530064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1622160" y="1989000"/>
            <a:ext cx="47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5007600" y="1916280"/>
            <a:ext cx="67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29"/>
          <p:cNvSpPr/>
          <p:nvPr/>
        </p:nvSpPr>
        <p:spPr>
          <a:xfrm>
            <a:off x="2268360" y="2781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0"/>
          <p:cNvSpPr/>
          <p:nvPr/>
        </p:nvSpPr>
        <p:spPr>
          <a:xfrm>
            <a:off x="2195640" y="450864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31"/>
          <p:cNvSpPr/>
          <p:nvPr/>
        </p:nvSpPr>
        <p:spPr>
          <a:xfrm>
            <a:off x="5508720" y="278136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3"/>
          <p:cNvSpPr/>
          <p:nvPr/>
        </p:nvSpPr>
        <p:spPr>
          <a:xfrm>
            <a:off x="2268360" y="3716280"/>
            <a:ext cx="35748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36"/>
          <p:cNvSpPr/>
          <p:nvPr/>
        </p:nvSpPr>
        <p:spPr>
          <a:xfrm>
            <a:off x="226836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16"/>
          <p:cNvSpPr/>
          <p:nvPr/>
        </p:nvSpPr>
        <p:spPr>
          <a:xfrm>
            <a:off x="5724360" y="530064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7"/>
          <p:cNvSpPr/>
          <p:nvPr/>
        </p:nvSpPr>
        <p:spPr>
          <a:xfrm>
            <a:off x="558000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9"/>
          <p:cNvSpPr/>
          <p:nvPr/>
        </p:nvSpPr>
        <p:spPr>
          <a:xfrm>
            <a:off x="558000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0"/>
          <p:cNvSpPr/>
          <p:nvPr/>
        </p:nvSpPr>
        <p:spPr>
          <a:xfrm>
            <a:off x="6300720" y="443700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403280" y="148428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Monotype Corsiva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Monotype Corsiva"/>
              </a:rPr>
              <a:t>«Размножение и развитие растени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395280" y="260280"/>
            <a:ext cx="82915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403280" y="1125360"/>
            <a:ext cx="734544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 ,       ,      , 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564000" y="3860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4211640" y="3860640"/>
            <a:ext cx="428760" cy="4320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5"/>
          <p:cNvSpPr/>
          <p:nvPr/>
        </p:nvSpPr>
        <p:spPr>
          <a:xfrm>
            <a:off x="4932360" y="386064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1. Какие насекомые не опыляют цвет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рав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мели, пчё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б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61928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161928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5"/>
          <p:cNvSpPr/>
          <p:nvPr/>
        </p:nvSpPr>
        <p:spPr>
          <a:xfrm>
            <a:off x="161928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2. Что переносят насекомые –опылители с цветов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т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ме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ыль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5"/>
          <p:cNvSpPr/>
          <p:nvPr/>
        </p:nvSpPr>
        <p:spPr>
          <a:xfrm>
            <a:off x="1476360" y="22766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3. Что образуется на месте цветков после опыл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т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"/>
          <p:cNvSpPr/>
          <p:nvPr/>
        </p:nvSpPr>
        <p:spPr>
          <a:xfrm>
            <a:off x="147636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4. Какая часть растения развивается из семени перв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еб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5. Почему семена в пакетиках не прорастают зим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03280" y="2133360"/>
            <a:ext cx="7354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т поч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получают солнечного с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получают воды и теп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547640" y="2924280"/>
            <a:ext cx="35748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"/>
          <p:cNvSpPr/>
          <p:nvPr/>
        </p:nvSpPr>
        <p:spPr>
          <a:xfrm>
            <a:off x="154764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6. В каком порядке развиваются части растений из семен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, стебель, лист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, корень, стебель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лод, стебель, лист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23:06Z</dcterms:created>
  <dc:creator>Компас</dc:creator>
  <dc:description/>
  <dc:language>en-US</dc:language>
  <cp:lastModifiedBy>Пользователь</cp:lastModifiedBy>
  <dcterms:modified xsi:type="dcterms:W3CDTF">2012-11-26T17:38:24Z</dcterms:modified>
  <cp:revision>6</cp:revision>
  <dc:subject/>
  <dc:title>Окружающий мир  3 класс</dc:title>
</cp:coreProperties>
</file>