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BA9-3531-44A5-87A9-1F9F4F05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AE4-03A4-49CF-AE47-95050D8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3A8-416F-4B34-BD0F-AFFA7CE2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CA9-6BB4-4F41-AD25-E031B8BD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66C-8316-4690-8E5D-A154DA9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EDB-DA20-4A06-9082-12FE14D3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7AD-DC37-478E-BBA8-3E0FB41E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CBD-C1CF-4EAE-84CC-B1216AE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63A-45B8-4885-83D7-3185C23B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531-49F1-46B9-A58C-AF87CE25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423-F27B-4FD5-B252-74EA51A5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394-AEFB-4C36-8DD5-9739EF8F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615-3787-47E5-B9F2-B14DB7355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Прямоугольник 7"/>
          <p:cNvGrpSpPr/>
          <p:nvPr/>
        </p:nvGrpSpPr>
        <p:grpSpPr>
          <a:xfrm>
            <a:off x="165240" y="244440"/>
            <a:ext cx="968400" cy="968400"/>
            <a:chOff x="165240" y="244440"/>
            <a:chExt cx="968400" cy="968400"/>
          </a:xfrm>
        </p:grpSpPr>
        <p:pic>
          <p:nvPicPr>
            <p:cNvPr id="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65240" y="24444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79280" y="26028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Прямоугольник 8"/>
          <p:cNvGrpSpPr/>
          <p:nvPr/>
        </p:nvGrpSpPr>
        <p:grpSpPr>
          <a:xfrm>
            <a:off x="165240" y="1322280"/>
            <a:ext cx="968400" cy="970200"/>
            <a:chOff x="165240" y="1322280"/>
            <a:chExt cx="968400" cy="970200"/>
          </a:xfrm>
        </p:grpSpPr>
        <p:pic>
          <p:nvPicPr>
            <p:cNvPr id="1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65240" y="1322280"/>
              <a:ext cx="9684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179280" y="1341360"/>
              <a:ext cx="93672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Прямоугольник 9"/>
          <p:cNvGrpSpPr/>
          <p:nvPr/>
        </p:nvGrpSpPr>
        <p:grpSpPr>
          <a:xfrm>
            <a:off x="165240" y="2408400"/>
            <a:ext cx="968400" cy="963360"/>
            <a:chOff x="165240" y="2408400"/>
            <a:chExt cx="968400" cy="963360"/>
          </a:xfrm>
        </p:grpSpPr>
        <p:pic>
          <p:nvPicPr>
            <p:cNvPr id="13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65240" y="2408400"/>
              <a:ext cx="968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79280" y="242100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Прямоугольник 10"/>
          <p:cNvGrpSpPr/>
          <p:nvPr/>
        </p:nvGrpSpPr>
        <p:grpSpPr>
          <a:xfrm>
            <a:off x="165240" y="3486240"/>
            <a:ext cx="968400" cy="963360"/>
            <a:chOff x="165240" y="3486240"/>
            <a:chExt cx="968400" cy="963360"/>
          </a:xfrm>
        </p:grpSpPr>
        <p:pic>
          <p:nvPicPr>
            <p:cNvPr id="16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165240" y="3486240"/>
              <a:ext cx="968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79280" y="350028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Прямоугольник 11"/>
          <p:cNvGrpSpPr/>
          <p:nvPr/>
        </p:nvGrpSpPr>
        <p:grpSpPr>
          <a:xfrm>
            <a:off x="165240" y="4565520"/>
            <a:ext cx="968400" cy="970200"/>
            <a:chOff x="165240" y="4565520"/>
            <a:chExt cx="968400" cy="970200"/>
          </a:xfrm>
        </p:grpSpPr>
        <p:pic>
          <p:nvPicPr>
            <p:cNvPr id="19" name="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165240" y="4565520"/>
              <a:ext cx="9684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179280" y="4581360"/>
              <a:ext cx="93672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Прямоугольник 12"/>
          <p:cNvGrpSpPr/>
          <p:nvPr/>
        </p:nvGrpSpPr>
        <p:grpSpPr>
          <a:xfrm>
            <a:off x="165240" y="5645160"/>
            <a:ext cx="968400" cy="968400"/>
            <a:chOff x="165240" y="5645160"/>
            <a:chExt cx="968400" cy="968400"/>
          </a:xfrm>
        </p:grpSpPr>
        <p:pic>
          <p:nvPicPr>
            <p:cNvPr id="22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165240" y="564516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179280" y="5661000"/>
              <a:ext cx="936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Прямоугольник 13"/>
          <p:cNvGrpSpPr/>
          <p:nvPr/>
        </p:nvGrpSpPr>
        <p:grpSpPr>
          <a:xfrm>
            <a:off x="1316160" y="244440"/>
            <a:ext cx="7589880" cy="6369120"/>
            <a:chOff x="1316160" y="244440"/>
            <a:chExt cx="7589880" cy="6369120"/>
          </a:xfrm>
        </p:grpSpPr>
        <p:pic>
          <p:nvPicPr>
            <p:cNvPr id="25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1316160" y="244440"/>
              <a:ext cx="7589880" cy="63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1332000" y="260280"/>
              <a:ext cx="756108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1699920"/>
            <a:ext cx="719964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84807"/>
                </a:solidFill>
                <a:latin typeface="Monotype Corsiva"/>
              </a:rPr>
              <a:t>Окружающий мир </a:t>
            </a:r>
            <a:br>
              <a:rPr sz="6600"/>
            </a:br>
            <a:r>
              <a:rPr b="1" lang="ru-RU" sz="6600" spc="-1" strike="noStrike">
                <a:solidFill>
                  <a:srgbClr val="984807"/>
                </a:solidFill>
                <a:latin typeface="Monotype Corsiva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3933360"/>
            <a:ext cx="73436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(тес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7. Что такое опылени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6000" y="2133720"/>
            <a:ext cx="72817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растения из с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цвет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нос пыльцы с одного цветка на друг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1547640" y="2852640"/>
            <a:ext cx="35748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4"/>
          <p:cNvSpPr/>
          <p:nvPr/>
        </p:nvSpPr>
        <p:spPr>
          <a:xfrm>
            <a:off x="154764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5"/>
          <p:cNvSpPr/>
          <p:nvPr/>
        </p:nvSpPr>
        <p:spPr>
          <a:xfrm>
            <a:off x="154764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8. Что не требуется для прорастания семян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п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61928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4"/>
          <p:cNvSpPr/>
          <p:nvPr/>
        </p:nvSpPr>
        <p:spPr>
          <a:xfrm>
            <a:off x="161928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5"/>
          <p:cNvSpPr/>
          <p:nvPr/>
        </p:nvSpPr>
        <p:spPr>
          <a:xfrm>
            <a:off x="154764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9. Для распространения ветром у плодов имеютс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ылыш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убч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рашю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147636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272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10. Какие растения распространяются с помощью человека и животных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пей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ере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147636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984807"/>
                </a:solidFill>
                <a:latin typeface="Calibri"/>
              </a:rPr>
              <a:t>Ключ к ответам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Равнобедренный треугольник 23"/>
          <p:cNvSpPr/>
          <p:nvPr/>
        </p:nvSpPr>
        <p:spPr>
          <a:xfrm>
            <a:off x="5651640" y="4508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6372360" y="5300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5"/>
          <p:cNvSpPr/>
          <p:nvPr/>
        </p:nvSpPr>
        <p:spPr>
          <a:xfrm>
            <a:off x="2195640" y="5300640"/>
            <a:ext cx="42840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1622160" y="1989000"/>
            <a:ext cx="478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5007600" y="1916280"/>
            <a:ext cx="67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29"/>
          <p:cNvSpPr/>
          <p:nvPr/>
        </p:nvSpPr>
        <p:spPr>
          <a:xfrm>
            <a:off x="2268360" y="2781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0"/>
          <p:cNvSpPr/>
          <p:nvPr/>
        </p:nvSpPr>
        <p:spPr>
          <a:xfrm>
            <a:off x="2195640" y="4508640"/>
            <a:ext cx="42840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31"/>
          <p:cNvSpPr/>
          <p:nvPr/>
        </p:nvSpPr>
        <p:spPr>
          <a:xfrm>
            <a:off x="5508720" y="2781360"/>
            <a:ext cx="42840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3"/>
          <p:cNvSpPr/>
          <p:nvPr/>
        </p:nvSpPr>
        <p:spPr>
          <a:xfrm>
            <a:off x="2268360" y="3716280"/>
            <a:ext cx="35748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36"/>
          <p:cNvSpPr/>
          <p:nvPr/>
        </p:nvSpPr>
        <p:spPr>
          <a:xfrm>
            <a:off x="2268360" y="1916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16"/>
          <p:cNvSpPr/>
          <p:nvPr/>
        </p:nvSpPr>
        <p:spPr>
          <a:xfrm>
            <a:off x="5724360" y="530064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17"/>
          <p:cNvSpPr/>
          <p:nvPr/>
        </p:nvSpPr>
        <p:spPr>
          <a:xfrm>
            <a:off x="5580000" y="1916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9"/>
          <p:cNvSpPr/>
          <p:nvPr/>
        </p:nvSpPr>
        <p:spPr>
          <a:xfrm>
            <a:off x="5580000" y="3573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0"/>
          <p:cNvSpPr/>
          <p:nvPr/>
        </p:nvSpPr>
        <p:spPr>
          <a:xfrm>
            <a:off x="6300720" y="443700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403280" y="148428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Monotype Corsiva"/>
              </a:rPr>
              <a:t>Тест по те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Monotype Corsiva"/>
              </a:rPr>
              <a:t>«Размножение и развитие растени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395280" y="260280"/>
            <a:ext cx="82915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403280" y="1125360"/>
            <a:ext cx="734544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 геометрическую фигуру (или фигуры)       ,       ,      ,  соответствующую ваш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й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3564000" y="3860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4211640" y="3860640"/>
            <a:ext cx="428760" cy="4320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5"/>
          <p:cNvSpPr/>
          <p:nvPr/>
        </p:nvSpPr>
        <p:spPr>
          <a:xfrm>
            <a:off x="4932360" y="386064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1. Какие насекомые не опыляют цвет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76000" y="2133720"/>
            <a:ext cx="72817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рав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мели, пчё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б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61928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161928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5"/>
          <p:cNvSpPr/>
          <p:nvPr/>
        </p:nvSpPr>
        <p:spPr>
          <a:xfrm>
            <a:off x="161928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2. Что переносят насекомые –опылители с цветов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000" y="2133720"/>
            <a:ext cx="72817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т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ме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ыльц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47636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5"/>
          <p:cNvSpPr/>
          <p:nvPr/>
        </p:nvSpPr>
        <p:spPr>
          <a:xfrm>
            <a:off x="1476360" y="22766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3. Что образуется на месте цветков после опылени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л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т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47636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"/>
          <p:cNvSpPr/>
          <p:nvPr/>
        </p:nvSpPr>
        <p:spPr>
          <a:xfrm>
            <a:off x="1476360" y="3573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4. Какая часть растения развивается из семени перво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еб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476360" y="2852640"/>
            <a:ext cx="357120" cy="42876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5. Почему семена в пакетиках не прорастают зимо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03280" y="2133360"/>
            <a:ext cx="7354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т почв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получают солнечного св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получают воды и теп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547640" y="2924280"/>
            <a:ext cx="35748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"/>
          <p:cNvSpPr/>
          <p:nvPr/>
        </p:nvSpPr>
        <p:spPr>
          <a:xfrm>
            <a:off x="1547640" y="3573360"/>
            <a:ext cx="428760" cy="50004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19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6. В каком порядке развиваются части растений из семен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03280" y="2133720"/>
            <a:ext cx="7354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рень, стебель, лист,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, корень, стебель,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лод, стебель, лист,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1476360" y="2924280"/>
            <a:ext cx="357120" cy="428400"/>
          </a:xfrm>
          <a:prstGeom prst="rect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4"/>
          <p:cNvSpPr/>
          <p:nvPr/>
        </p:nvSpPr>
        <p:spPr>
          <a:xfrm>
            <a:off x="1476360" y="3500280"/>
            <a:ext cx="428760" cy="500400"/>
          </a:xfrm>
          <a:prstGeom prst="ellipse">
            <a:avLst/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Равнобедренный треугольник 5"/>
          <p:cNvSpPr/>
          <p:nvPr/>
        </p:nvSpPr>
        <p:spPr>
          <a:xfrm>
            <a:off x="1476360" y="220500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e18b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5:23:06Z</dcterms:created>
  <dc:creator>Компас</dc:creator>
  <dc:description/>
  <dc:language>en-US</dc:language>
  <cp:lastModifiedBy>Пользователь</cp:lastModifiedBy>
  <dcterms:modified xsi:type="dcterms:W3CDTF">2012-11-26T17:38:24Z</dcterms:modified>
  <cp:revision>6</cp:revision>
  <dc:subject/>
  <dc:title>Окружающий мир  3 класс</dc:title>
</cp:coreProperties>
</file>